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E2AE-9441-4A89-90B5-891660C39B6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89DC-9B1E-4662-8358-418167685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21B-0E56-427E-B197-92C6D01A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7A3-E2BE-4220-A69C-DB6C82F2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2DF-9117-4BC2-984B-AEF81983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BD0-7B74-484D-808C-D0F458A6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D791-90CF-4CDB-8DE9-F4AE49EA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7ABE-34D4-43EB-857F-F7E22182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B572-489E-42CA-8F45-10FC8768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2F7D-8048-4C39-A4B2-283EE127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064C-D8A0-4103-8AF6-3D369FD7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1C17-76A3-4476-BC40-D334B9ED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1ABA-E444-4190-BB40-68D82B83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9E5-B7B9-49AA-9CCF-2E1EFB17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66D6-C470-4A15-A9EF-9D5F73C8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8F91-1A11-40B5-B41E-80375175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94AA-48D8-448F-87A2-25483744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C4EB-C997-4557-97C2-8854073C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1B3E-4319-4888-AA2F-A6EC0631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73EED-1ED2-4EE1-A7D0-F024AB28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BD2AD-5237-4E5B-B92C-8EED7DC1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4C2D9-CFBC-44AE-B98E-2275F491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3D473-93E2-4999-92AC-732C9675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EF229-6989-4722-B28E-8874A4EA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A05C-17DD-420F-AA1F-641C49B8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B9DF2-B68C-416B-8B3A-B169856A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36133-6868-4304-B2D3-23D2C487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A6EA7-451B-4DA3-A99A-31BA771E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866DC-85FB-4310-9EA6-BAD0914D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87623-5B14-45E2-9019-2EADD764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2F352-5C2B-47CF-BAFB-F77D6EFC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E1881-F89F-4913-AFD9-D1C80C1A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69D5C-ABFE-48C6-B8EA-0748F136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18D8D-5996-4836-B58B-DEA4D8AF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B31F2-FE4C-44B7-82BB-4B0DB55C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660-FCD2-4AA5-A4FF-939C2FCD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BE3DA-82F2-4D11-A89A-4BF08A58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687D2-12E7-43D6-9C0F-BB7CEE66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61EB1-9D5E-40B7-BABB-B16ADD79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5BA39-E7C0-480C-AAB1-3186E761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C0552-0158-48C4-844B-F88B32D0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849DE-BD52-4480-B14B-F7380E5E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AE520-1C8F-4B70-8018-88554B13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3AE3D-6184-4C77-AAA5-069395EF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4A890-587E-4A89-987F-D2B06B07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1BF4-AF97-4A09-8B1D-5E77C8E7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BE6-A4F3-4268-B550-14D4A926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793C-C4AE-4C11-A41C-5BCF1360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D9F-141D-4014-80C1-3B10A1F0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FB37-514E-4A36-AD70-4725F44D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C5CB-996B-4649-8E0E-07AAE53694E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D099-2278-4D9F-AB2F-CFA7251DBE5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1A1A-1842-4804-9740-4A2B1B849EB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BEA2-3AC0-4870-BCFE-E952ECB05DE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42920" y="1557360"/>
            <a:ext cx="86868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are segmented coelomates with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oskeleton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cuticle)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jointed appenda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phylum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resented in nearly all habitats in the biosphe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are regarded as the most successful animal phy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versity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نوع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success of arthropods is largely due to three feat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- body segmentatio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عقل الجس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- a hard exoskeleto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جليد خارجي صلب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- and jointed appendag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زوائد مفصل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80880"/>
            <a:ext cx="8591400" cy="131292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7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7-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 Phylum: Arthropo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5228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7" descr="15-10"/>
          <p:cNvPicPr/>
          <p:nvPr/>
        </p:nvPicPr>
        <p:blipFill>
          <a:blip r:embed="rId1"/>
          <a:stretch/>
        </p:blipFill>
        <p:spPr>
          <a:xfrm>
            <a:off x="144360" y="692280"/>
            <a:ext cx="8820360" cy="42624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886680" y="522936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Incomplete or Hemimetabolous Metamorph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5"/>
          <p:cNvSpPr/>
          <p:nvPr/>
        </p:nvSpPr>
        <p:spPr>
          <a:xfrm>
            <a:off x="1403280" y="5373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te  or Holometabolous Metamorph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7" descr="15-11"/>
          <p:cNvPicPr/>
          <p:nvPr/>
        </p:nvPicPr>
        <p:blipFill>
          <a:blip r:embed="rId1"/>
          <a:stretch/>
        </p:blipFill>
        <p:spPr>
          <a:xfrm>
            <a:off x="144360" y="907920"/>
            <a:ext cx="8820360" cy="42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20_24"/>
          <p:cNvPicPr/>
          <p:nvPr/>
        </p:nvPicPr>
        <p:blipFill>
          <a:blip r:embed="rId1"/>
          <a:srcRect l="0" t="3542" r="0" b="0"/>
          <a:stretch/>
        </p:blipFill>
        <p:spPr>
          <a:xfrm>
            <a:off x="539640" y="189000"/>
            <a:ext cx="7936200" cy="6527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297180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ou Dec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07640" y="404640"/>
            <a:ext cx="8785080" cy="72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ody of an arthropod is completely covered by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utic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have well-developed sense organs, including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vision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olfactor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ceptors for smell,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ve sensory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قرون استشعا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usually a pair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ompoun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 addition to simple ey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have an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open circulatory system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which hemolymph fluid is propelled by a heart through short arter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195640" y="139680"/>
            <a:ext cx="487188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788080" y="333360"/>
            <a:ext cx="3031920" cy="3774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50480" y="402840"/>
            <a:ext cx="5429160" cy="57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1-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Class: Arachnid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طائفة العنكب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includ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corpion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Arial"/>
              </a:rPr>
              <a:t>العقارب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pider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ناكب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ick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راد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it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لم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have four pairs of walking le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arly all ticks are blood-sucking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ماص للدماء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rasites on the body surfaces of most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most spiders, respiratio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نفس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carried out by book lung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رئة الكتابي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08000" y="393480"/>
            <a:ext cx="8856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2-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class: Insect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طائفة الحشر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live in almost every terrestrial habitat and in fresh water, and flying insects fill the a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udy of insect, (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ntomolog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a vast field with many subspecialties, including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physiolog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colog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taxonom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….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ass Insecta is divided into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rders.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08000" y="3857760"/>
            <a:ext cx="422604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66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insects have one or two pairs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wing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at emerge from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orsal side of the thora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339966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have three pairs of le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6" descr="http://myrmecos.net/wp-content/uploads/2011/03/insect_wallpaper14.jpg"/>
          <p:cNvPicPr/>
          <p:nvPr/>
        </p:nvPicPr>
        <p:blipFill>
          <a:blip r:embed="rId1"/>
          <a:stretch/>
        </p:blipFill>
        <p:spPr>
          <a:xfrm>
            <a:off x="4309920" y="3787920"/>
            <a:ext cx="472608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96720"/>
            <a:ext cx="346716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The Insect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7640" y="1196640"/>
            <a:ext cx="542772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0,0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+ species insects described, but may b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illion species undescrib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adaptations make insects one of the most successful terrestrial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oskeleton for water conserv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heal System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morph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ypes of mouth par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4" descr="p:\bruscaircd\photos\ch17\117_17syrphid22.jpg"/>
          <p:cNvPicPr/>
          <p:nvPr/>
        </p:nvPicPr>
        <p:blipFill>
          <a:blip r:embed="rId1"/>
          <a:stretch/>
        </p:blipFill>
        <p:spPr>
          <a:xfrm>
            <a:off x="5724360" y="785880"/>
            <a:ext cx="3330720" cy="2498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" descr="p:\bruscaircd\photos\ch17\203_17antlfcttr3.jpg"/>
          <p:cNvPicPr/>
          <p:nvPr/>
        </p:nvPicPr>
        <p:blipFill>
          <a:blip r:embed="rId2"/>
          <a:stretch/>
        </p:blipFill>
        <p:spPr>
          <a:xfrm>
            <a:off x="5724360" y="353700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14200" y="396720"/>
            <a:ext cx="867888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omplete digestive syst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there are regionally specialized org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bolic wastes are removed from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hemolymph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د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alpighian tubul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نابيب ملبيج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out pockets of the digestive trac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piration is accomplished by a branched, chitin-lin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racheal system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جهاز القصب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carries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rom the spiracles directly to the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nsect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nervous syst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nsists of a pair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ventral nerve cord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حبلين عصبيين بطنيين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th several segmental gangli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609480" y="59436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10"/>
          <p:cNvGrpSpPr/>
          <p:nvPr/>
        </p:nvGrpSpPr>
        <p:grpSpPr>
          <a:xfrm>
            <a:off x="250920" y="331920"/>
            <a:ext cx="8564400" cy="6192360"/>
            <a:chOff x="250920" y="331920"/>
            <a:chExt cx="8564400" cy="6192360"/>
          </a:xfrm>
        </p:grpSpPr>
        <p:pic>
          <p:nvPicPr>
            <p:cNvPr id="220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250920" y="695160"/>
              <a:ext cx="8564400" cy="58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5"/>
            <p:cNvSpPr/>
            <p:nvPr/>
          </p:nvSpPr>
          <p:spPr>
            <a:xfrm>
              <a:off x="3457440" y="3319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2378160" y="3319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793800" y="3319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6194520" y="186660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9"/>
            <p:cNvSpPr/>
            <p:nvPr/>
          </p:nvSpPr>
          <p:spPr>
            <a:xfrm>
              <a:off x="6154560" y="234792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400" y="333000"/>
            <a:ext cx="738324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 Kinds of Insect Metamorphosi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7640" y="1125360"/>
            <a:ext cx="8785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Ametabolous Metamorphosi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nly difference between larvae and adult are size; both are wingles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Hemimetabolous (Incomplete) Metamorphosi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evelop from egg to adult has several stages with smaller versions of adult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ymph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 Immature nymphs ha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o wings or genitali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til adul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Holometabolous (complete) Metamorphosi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fter hatching from egg, immatures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larva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very different body form than adult).  After several instars, the last larval molt forms a pupa – undergoes radical body form 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1-16T18:49:28Z</dcterms:modified>
  <cp:revision>441</cp:revision>
  <dc:subject/>
  <dc:title>Nerve activates contraction</dc:title>
</cp:coreProperties>
</file>