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8A6-244C-4D4A-B9A4-BB9AC2F62A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144-7ED9-471D-B731-861873BC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AB1-3CD9-476B-ABCB-A9F4FE84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259-93CB-4A0B-9CB6-E05FE143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038-B423-4F07-B065-E991B4D8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382-9918-4698-9EAB-D1FF79EC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0D7D-971B-461E-BFC5-95D315FB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2152-67FA-47C6-861B-736B700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F047-EF83-4A86-B7C5-FC2BB10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82F2-49B8-4D00-991B-5C9646F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C190-6479-4049-924E-738DF5BA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AEE6-CB41-4709-909D-DE95D5F6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F3A9-1C61-4AF8-A262-4B9EC3D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A88-70BD-4146-858F-BA9A1C73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9FF-5745-47E6-977F-6D659628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9CF-882F-457F-B129-DB54CCD8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FFBA-95A7-4194-926F-891BCA9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58B-ED4E-4613-A16B-3DB737B0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3E5-B37E-49B0-9603-65BF5D42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F270-D0C7-44DE-9A97-A961E8AE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9D40-78FA-4618-915E-D5F6B4A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80E6-916A-4218-8674-A6D31384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62DD-03A9-4033-AD9A-5366A02C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2164-9DB4-4C40-A123-8C310EBC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64D-AE4C-4627-8572-5F33301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A5FB-14A7-4E76-95E7-FE1B44FD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215C-59AF-477E-9759-0BE0E6C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8E1E-EDB3-4168-9926-041A90A3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3B52-2A43-4CA8-AF50-03A66D1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DC7F-9864-40F2-8B18-A9FA1AE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85A8-B245-4857-BE8A-2F2EA328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0599-CF77-4E57-AB6C-1F5BDCA8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918B-D3ED-497B-BDAE-116D54D3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AA18-E40F-4D6D-A4D5-513519F8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C981-C47E-4309-9EEA-A3CEC6FE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474-1D35-4865-868D-4A2EDBF7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DDDE-186C-486F-A943-CAC54A85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741D-B140-4328-A2F0-2C13A6E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A7A5-1E48-4CE5-A5D6-AE93953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997F-D5B0-40FF-BE1F-A254E47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ED5C-1D01-40AC-8FF8-F80E751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7EB8-F95A-409E-AAEB-96E4FCC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E1CD-0D28-4FE2-968B-1E25D182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C975-11DB-4E90-9E7E-E307412D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53A4-5AB5-4C64-A562-0A467BD7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A4B-F29A-4BF6-A9EB-938EA3C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75A-A035-486E-8C68-D37654A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E08-795D-4185-9425-AFE32C0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19E-4C78-460F-91F0-32470AC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C5B-18DD-4668-8805-EAA09C2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C1D-FD1F-4879-B2FF-F45B527397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E17-E21C-4A56-AC25-3D22945FE6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56AD-1695-4CA7-8C20-1437880307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E1BB-4EBB-4631-8586-10A0A32422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42920" y="1557360"/>
            <a:ext cx="8686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cuticle)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jointed append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وع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uccess 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عقل الج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ليد خارجي صل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وائد مفص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80880"/>
            <a:ext cx="859140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Phylum: Arthrop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15-10"/>
          <p:cNvPicPr/>
          <p:nvPr/>
        </p:nvPicPr>
        <p:blipFill>
          <a:blip r:embed="rId1"/>
          <a:stretch/>
        </p:blipFill>
        <p:spPr>
          <a:xfrm>
            <a:off x="144360" y="692280"/>
            <a:ext cx="8820360" cy="4262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886680" y="52293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403280" y="5373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15-11"/>
          <p:cNvPicPr/>
          <p:nvPr/>
        </p:nvPicPr>
        <p:blipFill>
          <a:blip r:embed="rId1"/>
          <a:stretch/>
        </p:blipFill>
        <p:spPr>
          <a:xfrm>
            <a:off x="144360" y="907920"/>
            <a:ext cx="882036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539640" y="189000"/>
            <a:ext cx="7936200" cy="652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404640"/>
            <a:ext cx="8785080" cy="72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رون استشعا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addition to simple ey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39680"/>
            <a:ext cx="4871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788080" y="333360"/>
            <a:ext cx="3031920" cy="3774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0480" y="402840"/>
            <a:ext cx="5429160" cy="57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Arachnid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عنك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i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ناك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ick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four pairs of walking le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ئة الكتا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8000" y="39348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2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Insec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حشر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Insecta is divided into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3857760"/>
            <a:ext cx="42260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insects have one or two pairs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three pairs of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http://myrmecos.net/wp-content/uploads/2011/03/insect_wallpaper14.jpg"/>
          <p:cNvPicPr/>
          <p:nvPr/>
        </p:nvPicPr>
        <p:blipFill>
          <a:blip r:embed="rId1"/>
          <a:stretch/>
        </p:blipFill>
        <p:spPr>
          <a:xfrm>
            <a:off x="4309920" y="3787920"/>
            <a:ext cx="47260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96720"/>
            <a:ext cx="346716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he Insect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7640" y="1196640"/>
            <a:ext cx="54277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0,0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species insects described, but may b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species undescrib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5724360" y="7858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5724360" y="3537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396720"/>
            <a:ext cx="86788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re are regionally specializ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lpighian tubu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نابيب ملبيج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ut pockets of the digestive tra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racheal syste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قصب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ventral nerve cord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بلين عصبيين بطنيين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250920" y="331920"/>
            <a:ext cx="8564400" cy="6192360"/>
            <a:chOff x="250920" y="331920"/>
            <a:chExt cx="8564400" cy="619236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250920" y="695160"/>
              <a:ext cx="8564400" cy="58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/>
            <p:cNvSpPr/>
            <p:nvPr/>
          </p:nvSpPr>
          <p:spPr>
            <a:xfrm>
              <a:off x="3457440" y="331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237816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9380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6194520" y="186660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6154560" y="234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73832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Kinds of Insect Metamorpho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764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metabolous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 difference between larvae and adult are size; both are wingl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mimetabolous (In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velop from egg to adult has several stages with smaller versions of adult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olometabolous (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fter hatching from egg, immature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6T18:49:28Z</dcterms:modified>
  <cp:revision>441</cp:revision>
  <dc:subject/>
  <dc:title>Nerve activates contraction</dc:title>
</cp:coreProperties>
</file>