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9915-015C-44C6-A6F2-FB77CCC4A73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C869-802A-474E-9776-DC37FA515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C81F-6B68-480D-B686-13DCE77E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1DA-96A0-4B39-A6FB-57D75446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15FF-A912-43C8-B9D3-858E69EC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609B-3DEE-4C7B-ADDC-0051B6E9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5177-018E-4048-9CF7-F47E8347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AF2C-6F70-47E3-AFB0-0AD1DFC8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AA4C-D796-4DD1-A1A8-7F103508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CD50-06B0-472B-98C5-B1E6A1D3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4455-BB7C-4C3A-BBA1-503C0E52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DAF8-F97B-4787-B34D-83BBDBEC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DAAB-6054-4CAF-9D97-E7AA33BF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D082-8E5D-4E44-944D-7AFEC0BE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27D0-1A65-43B6-96A8-CC72175F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7D2F-CB47-428A-BBAD-424F5603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1BA6-F5AF-42BC-A7D3-BB5DD8EA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B836-86F1-432A-B8E5-C85B8612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3D48-BCBC-45B7-BFA6-31301A0A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91EAF-A2C1-422B-A293-8184D76A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E6AC8-2F18-4C4B-AC2B-5E801D7B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DE424-016E-4C70-A8F3-C4333256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640C1-99D8-459C-B41D-A3760A71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968F-6C91-457E-A956-10B817E1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0F8A-F605-4506-922B-DCBE6DBE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498F2-177A-4A26-B3DC-1B75B7E1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D9EBC-6F04-4860-8280-06E97DEE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1936F-12B1-4FC4-963F-59F600CD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2D8BE-47C8-4C8C-845C-21D93CCA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DAFF8-62AD-4328-A1E8-CFB44514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627EB-993D-4E26-82A3-C743F8A7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FFC88-DE36-4B4F-955B-85A454AF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3F1DA-ABF9-49FB-86E6-99C62AC1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381CE-EEC8-4373-94E0-4D8F7FE2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C3767-EF9B-4059-81DE-7B9CA09B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318-2E38-4FF5-B2D5-E8C8E5F7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FA423-F20D-4836-AD3D-AD592BEA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335E3-45B8-402C-A5E3-725F6659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8221A-872A-4112-BA61-1A4138FA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74F30-ED6B-4EC2-B8CD-3A978A65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DB4ED-3187-4714-B30A-9B12D5E7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32B15-7D28-4F2E-AA10-A769F101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6D258-28E4-404F-8040-F68E31B0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2C3D1-637B-4214-ACF6-F357E65C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C7C81-FF7D-4761-9510-15A3F7CF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082-D8DA-4CB1-88C3-55A6DB36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E86E-B205-4B7C-8744-11F3B0FC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E8B7-92DD-43C0-A982-15ACDD12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D7D-5C9E-430C-A977-08661796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71C4-89B3-481F-BE4D-ADEA73A5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D6FA-9D90-47E5-A7B8-83932E60ED8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E87F-C49A-479F-B3CF-6751E03BC8E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56B6-3570-4070-A3B2-DB715C7E6FC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89D1-F263-47B4-B067-3097355134D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42920" y="1557360"/>
            <a:ext cx="868680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thropods are segmented coelomates with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oskeleton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cuticle) an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jointed appendag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phylum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presented in nearly all habitats in the biosphe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thropods are regarded as the most successful animal phyl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iversity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نوع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success of arthropods is largely due to three featu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- body segmentation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عقل الجس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- a hard exoskeleton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جليد خارجي صلب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- and jointed appendage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زوائد مفصل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80880"/>
            <a:ext cx="8591400" cy="131292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7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: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7-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 Phylum: Arthropo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5228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7" descr="15-10"/>
          <p:cNvPicPr/>
          <p:nvPr/>
        </p:nvPicPr>
        <p:blipFill>
          <a:blip r:embed="rId1"/>
          <a:stretch/>
        </p:blipFill>
        <p:spPr>
          <a:xfrm>
            <a:off x="144360" y="692280"/>
            <a:ext cx="8820360" cy="42624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886680" y="522936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Incomplete or Hemimetabolous Metamorph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5"/>
          <p:cNvSpPr/>
          <p:nvPr/>
        </p:nvSpPr>
        <p:spPr>
          <a:xfrm>
            <a:off x="1403280" y="53737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te  or Holometabolous Metamorph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7" descr="15-11"/>
          <p:cNvPicPr/>
          <p:nvPr/>
        </p:nvPicPr>
        <p:blipFill>
          <a:blip r:embed="rId1"/>
          <a:stretch/>
        </p:blipFill>
        <p:spPr>
          <a:xfrm>
            <a:off x="144360" y="907920"/>
            <a:ext cx="8820360" cy="42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20_24"/>
          <p:cNvPicPr/>
          <p:nvPr/>
        </p:nvPicPr>
        <p:blipFill>
          <a:blip r:embed="rId1"/>
          <a:srcRect l="0" t="3542" r="0" b="0"/>
          <a:stretch/>
        </p:blipFill>
        <p:spPr>
          <a:xfrm>
            <a:off x="539640" y="189000"/>
            <a:ext cx="7936200" cy="6527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"/>
          <p:cNvSpPr/>
          <p:nvPr/>
        </p:nvSpPr>
        <p:spPr>
          <a:xfrm>
            <a:off x="2971800" y="3124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ou Dec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07640" y="404640"/>
            <a:ext cx="8785080" cy="72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ody of an arthropod is completely covered by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utic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nstructed from layers of protein and chit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arthropods is strong and relatively impermeable to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thropods have well-developed sense organs, including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y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vision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olfactor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receptors for smell, an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ntenna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touch and sm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ve sensory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ntenna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قرون استشعار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usually a pair 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ompoun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y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 addition to simple ey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thropods have an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open circulatory system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which hemolymph fluid is propelled by a heart through short arter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thropods have evolved a variety of specialized organs for gas ex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195640" y="139680"/>
            <a:ext cx="487188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rcRect l="0" t="0" r="50328" b="0"/>
          <a:stretch/>
        </p:blipFill>
        <p:spPr>
          <a:xfrm>
            <a:off x="5788080" y="333360"/>
            <a:ext cx="3031920" cy="3774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5643720" y="4300560"/>
            <a:ext cx="3376440" cy="2313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50480" y="402840"/>
            <a:ext cx="5429160" cy="57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1-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Class: Arachnid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طائفة العنكب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se includ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corpion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Arial"/>
              </a:rPr>
              <a:t>العقارب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pider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ناكب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ick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قراد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it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لم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have four pairs of walking le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arly all ticks are blood-sucking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ماص للدماء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rasites on the body surfaces of most ani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most spiders, respiration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نفس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carried out by book lung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رئة الكتابي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08000" y="393480"/>
            <a:ext cx="8856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2-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class: Insect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طائفة الحشر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live in almost every terrestrial habitat and in fresh water, and flying insects fill the a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tudy of insect, (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ntomolog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a vast field with many subspecialties, including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physiolog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colog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taxonom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….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ass Insecta is divided into abou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rders.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08000" y="3857760"/>
            <a:ext cx="422604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339966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insects have one or two pairs 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wing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at emerge from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orsal side of the thora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339966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have three pairs of le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6" descr="http://myrmecos.net/wp-content/uploads/2011/03/insect_wallpaper14.jpg"/>
          <p:cNvPicPr/>
          <p:nvPr/>
        </p:nvPicPr>
        <p:blipFill>
          <a:blip r:embed="rId1"/>
          <a:stretch/>
        </p:blipFill>
        <p:spPr>
          <a:xfrm>
            <a:off x="4309920" y="3787920"/>
            <a:ext cx="472608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96720"/>
            <a:ext cx="346716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The Insect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7640" y="1196640"/>
            <a:ext cx="542772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0,00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+ species insects described, but may b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illion species undescrib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adaptations make insects one of the most successful terrestrial ani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03640" indent="-250920" algn="just">
              <a:lnSpc>
                <a:spcPct val="120000"/>
              </a:lnSpc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oskeleton for water conserv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03640" indent="-250920" algn="just">
              <a:lnSpc>
                <a:spcPct val="120000"/>
              </a:lnSpc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cheal System for gas ex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03640" indent="-250920" algn="just">
              <a:lnSpc>
                <a:spcPct val="120000"/>
              </a:lnSpc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amorpho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03640" indent="-250920" algn="just">
              <a:lnSpc>
                <a:spcPct val="120000"/>
              </a:lnSpc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types of mouth par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03640" indent="-250920" algn="just">
              <a:lnSpc>
                <a:spcPct val="120000"/>
              </a:lnSpc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igh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14" descr="p:\bruscaircd\photos\ch17\117_17syrphid22.jpg"/>
          <p:cNvPicPr/>
          <p:nvPr/>
        </p:nvPicPr>
        <p:blipFill>
          <a:blip r:embed="rId1"/>
          <a:stretch/>
        </p:blipFill>
        <p:spPr>
          <a:xfrm>
            <a:off x="5724360" y="785880"/>
            <a:ext cx="3330720" cy="2498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" descr="p:\bruscaircd\photos\ch17\203_17antlfcttr3.jpg"/>
          <p:cNvPicPr/>
          <p:nvPr/>
        </p:nvPicPr>
        <p:blipFill>
          <a:blip r:embed="rId2"/>
          <a:stretch/>
        </p:blipFill>
        <p:spPr>
          <a:xfrm>
            <a:off x="5724360" y="3537000"/>
            <a:ext cx="33116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14200" y="396720"/>
            <a:ext cx="867888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omplete digestive syste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there are regionally specialized org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abolic wastes are removed from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hemolymph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دم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alpighian tubul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أنابيب ملبيج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out pockets of the digestive trac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piration is accomplished by a branched, chitin-line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racheal system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جهاز القصب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carries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rom the spiracles directly to the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nsect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nervous syste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nsists of a pair of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ventral nerve cord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حبلين عصبيين بطنيين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th several segmental gangli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609480" y="59436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3.3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10"/>
          <p:cNvGrpSpPr/>
          <p:nvPr/>
        </p:nvGrpSpPr>
        <p:grpSpPr>
          <a:xfrm>
            <a:off x="250920" y="331920"/>
            <a:ext cx="8564400" cy="6192360"/>
            <a:chOff x="250920" y="331920"/>
            <a:chExt cx="8564400" cy="6192360"/>
          </a:xfrm>
        </p:grpSpPr>
        <p:pic>
          <p:nvPicPr>
            <p:cNvPr id="220" name="Picture 3" descr=""/>
            <p:cNvPicPr/>
            <p:nvPr/>
          </p:nvPicPr>
          <p:blipFill>
            <a:blip r:embed="rId1"/>
            <a:srcRect l="0" t="0" r="0" b="4318"/>
            <a:stretch/>
          </p:blipFill>
          <p:spPr>
            <a:xfrm>
              <a:off x="250920" y="695160"/>
              <a:ext cx="8564400" cy="58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5"/>
            <p:cNvSpPr/>
            <p:nvPr/>
          </p:nvSpPr>
          <p:spPr>
            <a:xfrm>
              <a:off x="3457440" y="3319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Majalla UI"/>
                </a:rPr>
                <a:t>رأ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2378160" y="33192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Majalla UI"/>
                </a:rPr>
                <a:t>صد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793800" y="33192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Majalla UI"/>
                </a:rPr>
                <a:t>بط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8"/>
            <p:cNvSpPr/>
            <p:nvPr/>
          </p:nvSpPr>
          <p:spPr>
            <a:xfrm>
              <a:off x="6194520" y="186660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Majalla UI"/>
                </a:rPr>
                <a:t>قرون استشعا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9"/>
            <p:cNvSpPr/>
            <p:nvPr/>
          </p:nvSpPr>
          <p:spPr>
            <a:xfrm>
              <a:off x="6154560" y="234792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Majalla UI"/>
                </a:rPr>
                <a:t>عين مرك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400" y="333000"/>
            <a:ext cx="738324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 Kinds of Insect Metamorphosi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7640" y="1125360"/>
            <a:ext cx="8785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Ametabolous Metamorphosi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nly difference between larvae and adult are size; both are wingles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Hemimetabolous (Incomplete) Metamorphosi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evelop from egg to adult has several stages with smaller versions of adults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ymph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 Immature nymphs ha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o wings or genitali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til adul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Holometabolous (complete) Metamorphosi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fter hatching from egg, immatures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larva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very different body form than adult).  After several instars, the last larval molt forms a pupa – undergoes radical body form 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Dell</cp:lastModifiedBy>
  <cp:lastPrinted>2001-01-06T03:20:03Z</cp:lastPrinted>
  <dcterms:modified xsi:type="dcterms:W3CDTF">2015-11-16T18:49:28Z</dcterms:modified>
  <cp:revision>441</cp:revision>
  <dc:subject/>
  <dc:title>Nerve activates contraction</dc:title>
</cp:coreProperties>
</file>