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BAD4-CB5D-4FFA-9213-720595F6048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7A6-77A5-41A8-932D-564F6E3B4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5A9-BBD7-4AC4-AE35-2B0CA0E3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238-B517-4465-B37A-BEB9916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63A-2C95-422E-90C2-0920B5F0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437-5F43-4979-9A7D-B544DBBB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018E-E652-4A94-81FF-91CD4F01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7C03-5ECC-4A72-B1EC-20A85E1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DDA0-8BAE-405E-91ED-6F9ADA3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13D2-9035-49E6-87BA-D1E413DD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2E5A-73E8-4619-B052-91312D8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2C5D-0FDA-4D19-BE91-19D052BD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CFBF-9BFE-473C-AF5A-1182BCD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C0E-5F82-491C-9AB3-F00BBF4F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0673-21B6-4694-849E-855777FA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3A65-2D11-4BE1-88A9-538B573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00EC-4176-4ADC-88D6-A444211F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FB22-AB99-4AA1-A533-ACB0FA3F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E4CE-CAE6-4CE3-8700-A626BA48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39F7-F1E6-43D3-BC4F-CA7FCBE1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9B03-2BA1-4155-87F5-F39A15EF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6758-2E03-4E14-BE43-11685DD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C8A0-E2DF-4834-85FF-B3DF52AB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F020-ED4D-449C-A5CB-0B4EE42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D32-0864-46C4-9244-9E9A0854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C181-E889-4E80-908F-8E989329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CD4D-A300-40D0-9DC3-B6AF91F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F8C7-B953-4040-B015-6DAC6A7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0874-DD35-4ADD-8ACC-ED319BC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DD23-9E41-42B4-B139-C43AF9AB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B080-9E86-41D7-B092-CC2DBFE0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FBAE1-536C-41D2-942D-5F573635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4B7E-9D5B-4244-954B-F21C1AA3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FB00-DA9E-48B2-AC35-0A834459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B20B-87EA-47D7-B595-E9290C4B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EF6-46B1-42E3-8FAC-02FF5464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AC4F-3A26-45ED-8518-FB7B3703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FE51-2267-4338-8345-CB395FD3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39FD-748D-47CF-9F94-8DD030B4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EAC8-CE70-4C90-8BF1-AE417FE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F2DB-C582-4F32-A3BE-9D8976F1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507A-AEEA-46B8-8B1B-F81B4D2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B432-9236-47F4-A018-BDE8F9B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635E8-471A-4B95-B9EC-27EAEFA0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E07D-9968-46D0-AE6A-E08D087A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319-F9F2-4CF4-8A77-C842BB1D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780-14D0-4A44-9077-797BA3DB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DED-F707-4B2C-B25D-1426A00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D90-D3DE-499E-B0E0-F9F9D9B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0C3-7CCF-4417-9600-877F9EB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9A89-0A3C-4874-8501-1376393858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62BC-971E-47EC-883E-6F19608B95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D6F-B9B0-4AAD-9A70-8091971C808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EFE-7D39-437A-8EB8-4867541DD0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42920" y="1557360"/>
            <a:ext cx="86868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cuticle)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jointed append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وع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success 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عقل الجس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جليد خارجي صل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وائد مفصل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80880"/>
            <a:ext cx="859140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7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Phylum: Arthrop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15-10"/>
          <p:cNvPicPr/>
          <p:nvPr/>
        </p:nvPicPr>
        <p:blipFill>
          <a:blip r:embed="rId1"/>
          <a:stretch/>
        </p:blipFill>
        <p:spPr>
          <a:xfrm>
            <a:off x="144360" y="692280"/>
            <a:ext cx="8820360" cy="4262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886680" y="52293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403280" y="5373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7" descr="15-11"/>
          <p:cNvPicPr/>
          <p:nvPr/>
        </p:nvPicPr>
        <p:blipFill>
          <a:blip r:embed="rId1"/>
          <a:stretch/>
        </p:blipFill>
        <p:spPr>
          <a:xfrm>
            <a:off x="144360" y="907920"/>
            <a:ext cx="882036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539640" y="189000"/>
            <a:ext cx="7936200" cy="6527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404640"/>
            <a:ext cx="8785080" cy="72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قرون استشعا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addition to simple ey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39680"/>
            <a:ext cx="487188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788080" y="333360"/>
            <a:ext cx="3031920" cy="3774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0480" y="402840"/>
            <a:ext cx="5429160" cy="57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Arachnid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عنك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pider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ناكب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ick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ر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م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four pairs of walking le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نفس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ئة الكتا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08000" y="39348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2-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class: Insec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حشر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ss Insecta is divided into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.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3857760"/>
            <a:ext cx="42260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insects have one or two pairs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339966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have three pairs of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http://myrmecos.net/wp-content/uploads/2011/03/insect_wallpaper14.jpg"/>
          <p:cNvPicPr/>
          <p:nvPr/>
        </p:nvPicPr>
        <p:blipFill>
          <a:blip r:embed="rId1"/>
          <a:stretch/>
        </p:blipFill>
        <p:spPr>
          <a:xfrm>
            <a:off x="4309920" y="3787920"/>
            <a:ext cx="47260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96720"/>
            <a:ext cx="346716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he Insect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7640" y="1196640"/>
            <a:ext cx="54277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0,0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species insects described, but may b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illion species undescrib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03640" indent="-250920" algn="just">
              <a:lnSpc>
                <a:spcPct val="120000"/>
              </a:lnSpc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5724360" y="785880"/>
            <a:ext cx="3330720" cy="2498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5724360" y="3537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4200" y="396720"/>
            <a:ext cx="867888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re are regionally specialize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lpighian tubu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نابيب ملبيج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ut pockets of the digestive tra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racheal system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قصب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ventral nerve cord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بلين عصبيين بطنيين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250920" y="331920"/>
            <a:ext cx="8564400" cy="6192360"/>
            <a:chOff x="250920" y="331920"/>
            <a:chExt cx="8564400" cy="6192360"/>
          </a:xfrm>
        </p:grpSpPr>
        <p:pic>
          <p:nvPicPr>
            <p:cNvPr id="220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250920" y="695160"/>
              <a:ext cx="8564400" cy="58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/>
            <p:cNvSpPr/>
            <p:nvPr/>
          </p:nvSpPr>
          <p:spPr>
            <a:xfrm>
              <a:off x="3457440" y="331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237816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93800" y="3319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6194520" y="186660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6154560" y="23479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Majalla U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400" y="333000"/>
            <a:ext cx="73832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 Kinds of Insect Metamorpho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7640" y="1125360"/>
            <a:ext cx="878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metabolous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ly difference between larvae and adult are size; both are wingl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emimetabolous (In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velop from egg to adult has several stages with smaller versions of adult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Holometabolous (complete) Metamorphosi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fter hatching from egg, immature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6T18:49:28Z</dcterms:modified>
  <cp:revision>441</cp:revision>
  <dc:subject/>
  <dc:title>Nerve activates contraction</dc:title>
</cp:coreProperties>
</file>