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604A-6283-4783-9A01-140932EA84D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CC8F-4DE2-489A-90A8-8D8975A75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ADBA-C60E-4691-A46D-0C9327F9E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021-BFA3-4167-A362-CE863CBE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E46-EDD2-4FCE-9EB0-27FB9B13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B7E-4241-4127-BAB7-02F7E5C4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020-A2C1-4499-AD3A-37047D3B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5D3A-3A08-4CF8-8082-8EE2C4F3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7A46-E10F-46E8-A0AF-260518C3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6EF3-C52D-44F5-97E6-6C981644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7CE6-D63C-42AE-B32C-A30EE735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6072-B257-4421-9225-C54F301F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EA25-1EC6-48B3-B05C-851E536F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F2C0-51AD-4C9F-A531-42267F9F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259-01E1-4665-A30C-977D53FF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C4FE-888A-40C7-9ACF-34EDD232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C104-0B51-4057-A47F-0732812B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0752-B49E-42D1-A94D-3F222179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B2E2-9F77-4051-AE69-6997488F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7642-A3CC-4013-93FE-557FBA19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53D32-1101-4E3E-BE7F-69DF0DFB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6AD5-27A3-493D-A6A5-D8E7A2F5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E8889-BDB2-481B-9038-454EA35C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7A676-2520-4F9E-9539-9DE9CCA2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B9D7F-C097-4409-979A-F32A7AE1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187-10C7-44CC-8206-BFCF9E2B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24EB6-9301-46C7-8A47-733CDC70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59EA8-D3AC-4C95-AA22-586B1AAF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332CA-4229-4F68-BA4B-8FB0965A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C37B-21B5-4E2E-935F-7E649799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139E2-B725-4969-86D6-852A71DF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80F6-BBB8-4C47-8733-8EAFA13C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11D7-F14B-4805-9014-1CD5CBF3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46614-E943-497B-A8F4-61E6448B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B25C0-60A9-4B51-8404-BE911530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3ED65-4F7C-41CD-AB14-DD17BC49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EE9-6735-4266-B60F-98541783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801D4-3C99-4AAB-8DB1-AAAF5A5F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9EE9-D0DA-4114-8DED-C891AA5A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23C5A-71DF-462D-A086-74069D07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E5156-B1D3-4449-9080-5CA7F268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44A61-75D4-4449-A251-8F2CABFB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DFCAE-3B1C-422F-9E99-805918FE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22D2A-D528-49D6-9626-B83CBB04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1709B-FDE6-4545-996B-68050EC8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EDE3C-B70F-476E-90DB-42CB0CE2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EB5-13AD-4E78-A099-A2F659A7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4E2-6C81-418C-999D-FC23F1FB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755-DFA8-4B79-893E-FF9BBB1E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046-6778-4A56-8DC0-AB5AE8C5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5FC-5889-49F0-B707-E58C13A9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DFEA-B0CF-4CB4-AEE8-4EF7158305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1995-4305-4CFA-A0E9-7A2E2FAFAA6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217A-DBFA-4315-88FF-BF423BE26E7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2A16-8C12-4215-93D9-7EA84EA7F72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063440"/>
            <a:ext cx="8763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lum: Arthropo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920" y="1793880"/>
            <a:ext cx="86868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segmented coelomates wi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jointed append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is phylu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presented in nearly all habitats in the biosphe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regarded as the most successful animal phy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versit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تنوع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ucces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والنجتح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arthropods is largely due to three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body segmenta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تعقل الجس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 hard exoskelet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جليج خارجي صل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nd jointed appendag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زوائد مفصل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611360" y="142920"/>
            <a:ext cx="603252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7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20_14"/>
          <p:cNvPicPr/>
          <p:nvPr/>
        </p:nvPicPr>
        <p:blipFill>
          <a:blip r:embed="rId1"/>
          <a:stretch/>
        </p:blipFill>
        <p:spPr>
          <a:xfrm>
            <a:off x="47520" y="1463760"/>
            <a:ext cx="90504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998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3 Kinds of Insect Metamorphos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only difference between larvae and adult are size; both are wingless. Silverfish, Order Thysanu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Flight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emi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develop from egg to adult has several stages (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nsta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 with smaller versions of adults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ymph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Immature nymphs hav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o wings or genitali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il adul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1817280" y="685800"/>
            <a:ext cx="64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omplete or Hemimetabolous Metamorph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15-10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880" y="1214280"/>
            <a:ext cx="838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olo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after hatching from egg, immatures are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rva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very different body form than adult).  After several instars, the last larval molt forms a pupa – undergoes radical body form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ctive case may enclose pupal sta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ths  use silk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ocoon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terflies  use the larval exoskeleton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hrysali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ult emerges from case very different in body form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clos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5"/>
          <p:cNvSpPr/>
          <p:nvPr/>
        </p:nvSpPr>
        <p:spPr>
          <a:xfrm>
            <a:off x="1587240" y="60948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 or Holometabolous Metamorph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15-1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20_24"/>
          <p:cNvPicPr/>
          <p:nvPr/>
        </p:nvPicPr>
        <p:blipFill>
          <a:blip r:embed="rId1"/>
          <a:srcRect l="0" t="3542" r="0" b="0"/>
          <a:stretch/>
        </p:blipFill>
        <p:spPr>
          <a:xfrm>
            <a:off x="604800" y="285840"/>
            <a:ext cx="7935840" cy="6527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9718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480" y="1356840"/>
            <a:ext cx="83818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n arthropod is completely covered by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utic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well-developed sense organs, includi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vision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lfactor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receptors for smell,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pen circulatory syste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which hemolymph fluid is propelled by a heart through short arteries into sinuses (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mocoe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surrounding tissues an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228600" y="92880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2732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214200" y="1649520"/>
            <a:ext cx="37148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have clawlike feeding appendages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elicera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rustaceans have jawlik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ndibles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فكوك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sensor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ntennae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قرون استشعار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usually a pair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pou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أعين مركب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 to simple ey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hropods have been grouped into the phylu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643720" y="38160"/>
            <a:ext cx="3381120" cy="4209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rcRect l="0" t="0" r="0" b="3780"/>
          <a:stretch/>
        </p:blipFill>
        <p:spPr>
          <a:xfrm>
            <a:off x="539640" y="3763800"/>
            <a:ext cx="4579920" cy="302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1280" y="115920"/>
            <a:ext cx="5429520" cy="37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1-Class Arachni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عنكب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includ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corpions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cs typeface="Arial"/>
              </a:rPr>
              <a:t>العقارب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pi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عناك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ick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it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حل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arly all ticks are blood-suck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اص للدماء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rasites on the body surfaces of most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most spiders, respiratio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نف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arried out by book lung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رئة الكتاب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04560" y="682200"/>
            <a:ext cx="8381880" cy="26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2-class Insec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live in almost every terrestrial habitat and in fresh water, and flying insects fill the ai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tudy of insect,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ntom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vast field with many subspecialties, including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ysi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c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….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d9"/>
                </a:solidFill>
                <a:latin typeface="Constantia"/>
              </a:rPr>
              <a:t>Class Insect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divided into about 26 orders.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3714840" y="3214800"/>
            <a:ext cx="5348160" cy="35179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28760" y="357516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insects have one or two pair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emerge from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rsal side of the thor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2712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e Ins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1920" y="1495080"/>
            <a:ext cx="62485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750,000 + species insects described, but may be 30 million species undescrib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ny adaptations make insects one of the most successful terrestrial anima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oskeleton for water conserv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heal System for gas ex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morph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ypes of mouth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14" descr="p:\bruscaircd\photos\ch17\117_17syrphid22.jpg"/>
          <p:cNvPicPr/>
          <p:nvPr/>
        </p:nvPicPr>
        <p:blipFill>
          <a:blip r:embed="rId1"/>
          <a:stretch/>
        </p:blipFill>
        <p:spPr>
          <a:xfrm>
            <a:off x="6172200" y="1371600"/>
            <a:ext cx="2754360" cy="2066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p:\bruscaircd\photos\ch17\203_17antlfcttr3.jpg"/>
          <p:cNvPicPr/>
          <p:nvPr/>
        </p:nvPicPr>
        <p:blipFill>
          <a:blip r:embed="rId2"/>
          <a:stretch/>
        </p:blipFill>
        <p:spPr>
          <a:xfrm>
            <a:off x="6248520" y="4038480"/>
            <a:ext cx="2641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609480" y="59436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428760" y="189000"/>
            <a:ext cx="8564400" cy="6097680"/>
            <a:chOff x="428760" y="189000"/>
            <a:chExt cx="8564400" cy="609768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428760" y="457200"/>
              <a:ext cx="856440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3635280" y="1936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255600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7"/>
            <p:cNvSpPr/>
            <p:nvPr/>
          </p:nvSpPr>
          <p:spPr>
            <a:xfrm>
              <a:off x="97164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6372360" y="1628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5148360" y="2349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2643120"/>
            <a:ext cx="4267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ied mouthparts have allowed insects to diversify and take advantage of many different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y generic structures for various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insect_mouthparts"/>
          <p:cNvPicPr/>
          <p:nvPr/>
        </p:nvPicPr>
        <p:blipFill>
          <a:blip r:embed="rId1"/>
          <a:stretch/>
        </p:blipFill>
        <p:spPr>
          <a:xfrm>
            <a:off x="4952880" y="1219320"/>
            <a:ext cx="3810240" cy="4559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5562720" y="5867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Insect Mouth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8520" y="988920"/>
            <a:ext cx="56577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Specialized Mouthpar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14200" y="1142640"/>
            <a:ext cx="8382240" cy="60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internal anatomy of an insect includes several complex organ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omplete digestiv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there are regionally specialized organs with discrete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abolic wastes are removed from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molymph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دم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alpighia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bul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أنابيب ملبيج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outpockets of the digestive tra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piration is accomplished by a branched, chitin-lin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racheal system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جهاز القصب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arries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spiracles directly to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sect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rvous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onsists of a pair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ventral nerve cord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حبلين عصبيين بطني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several segmental gangli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4292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54:37Z</dcterms:modified>
  <cp:revision>385</cp:revision>
  <dc:subject/>
  <dc:title>Nerve activates contraction</dc:title>
</cp:coreProperties>
</file>