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0D25-EFFE-4DBA-9C0E-6190194270A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D2EB-9CCB-49CB-B2C2-41A86A7F8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02E2-092E-48CC-A517-B5749D98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7FB-DB90-41B0-A014-7F24363A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D69-27B4-484B-8901-841395EC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BD2-505F-4A7F-A544-6FB7DD22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893-4E66-4759-A6A8-48C6697D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8CAB-9C6E-4F0A-AF20-95DDEE07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D920-47B4-45C6-AD9E-2739CD89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E167-353A-455D-A2EE-6F004121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5F66-26A4-4E48-A12A-1634D8EC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8EDE-CB25-453E-8F7B-9100F105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5412-3934-4D15-B36F-F5453862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9DD1-D896-445E-BB04-B322C0F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4F8-0F36-4E57-B461-56A963D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92C-B3B1-4425-8C55-48BD58D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CB74-CECA-46BB-9D8F-6191A6F2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12E5-32A3-4A3C-A14C-BF1267C0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CAE7-7BCC-4E5C-A363-054B44C7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0CFE-1526-40BD-8619-253363DC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5068-2675-41F4-85A2-516EBFAB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E3B9-EF1B-4744-890C-9B3AD12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F46F-5589-4AB0-85E8-8C800AD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F55A-1EE1-42BC-BAE8-A8EDBC4E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C441-A49F-4F11-9D7F-F76AC31C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52F-D032-4DBB-930C-BC3EF894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7833-275E-4554-9085-B76FDAE0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B85D-057C-4CFC-8D36-52BCFE6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5F44-783F-4FED-AA3F-3D8F1E7C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4758-C94C-41AD-84F3-90930EE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5CB7-ADC8-4755-A979-9830EB44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72B46-0EC8-4051-B5B4-8E3C9B6C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79E7-270D-47D1-92EF-A93D4F03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8A869-E8A9-4E3B-A39B-718159B5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0B10-134C-43F4-89E2-E822BFE9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46178-6B04-4630-A5D0-C754FAB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513-29DD-487A-9A20-9AFAFD61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B88D-7160-4D86-BFDE-D8CA34E1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F469-A010-47E7-A4FA-AA059B66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50423-4E54-43DD-B794-770A6749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02EF0-0F17-4EF1-BC7F-2358F52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09F8-47D9-4F54-BB20-2D361BC0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D28A-ED74-45BE-88EA-91B35A3B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D28A-D1C2-4613-9D32-B7E8ADE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309F-E93C-4037-ADDD-B276B037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73B6-BFD6-41E7-9785-AC847AAB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E47-B62F-4E1A-955C-FD59D68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41B-2976-4378-81B6-FD80E0FE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2CB-2F69-4701-854B-32F92E7E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311-D411-4757-89CC-6BCE0B3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47C-85C8-4349-9C4C-ABDBC3F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FA02-90B4-431C-BC8C-7F58506F6C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7BEE-C454-4530-95BA-E7DC65BA91E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0FC8-071A-4176-A779-6793501BDB6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6FD-4050-4C3F-B90A-84E8EBEC4D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54:37Z</dcterms:modified>
  <cp:revision>385</cp:revision>
  <dc:subject/>
  <dc:title>Nerve activates contraction</dc:title>
</cp:coreProperties>
</file>