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50D-CBCD-4471-A6D6-18FD036254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5C35-7055-4684-A4F6-019A2F84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357-CAA1-44EC-AA1A-328C823E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D9C-594F-4690-82B3-1D74F709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CAD-B789-45AD-83EA-FB26EAF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239-E291-4963-B105-E9EDFFCE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248-3B36-43A7-A927-32EDCC32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DC5-DC59-4A5A-AB4E-70233133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13B-B84D-4ACF-8A80-335B442F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3B88-B27C-4F3B-8C7A-C91071D3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DA82-59CF-4E85-B46B-A2625BD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6BF-DA89-4B82-9ED7-6B6D85B1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1CF8-323E-497F-A61B-4979094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2B5D-357F-41F7-A535-561E6AEA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615-2EB5-4960-B368-F910C8A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8B91-BCF8-4A08-847F-9A282028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E542-F439-4AA9-8537-C1BB4310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715F-6C19-482C-BEC9-06AF6852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6936-F59D-42C5-BC1C-ABFDD363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5A31-5000-4DD5-8319-58CD585D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0DB0-4ADB-4098-971F-7D55B35A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73D9-6499-42AF-9889-429E86CB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06AC-F703-47E9-999D-40B56C04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83C6-0AB5-4DBE-8BA7-61305B7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A622-72EF-4C91-AA5E-D00DEFC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CDF-EF44-49A1-9B80-CE2BE311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E3E0-2C4A-4A17-8D3C-064E6D58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3C4B-AECF-4321-BB08-0E81327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238E-88F4-4AB8-8921-F362F03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F4C0-500E-4500-96BC-FF1FE0E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9A4A-C5CC-42A8-B8A4-C4D9DDA4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FB1A-FC90-45BC-9A26-80DF38EC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E8522-70C5-4E55-A1DB-54E3F731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43AF-F48F-4C77-AFD9-544461A0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0412E-31A7-4578-A475-FF51B6C1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4208-FE53-45FF-9FBB-A071F31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5D7-1897-42A0-88D1-2ED801A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67D6-5C01-440A-A6DC-F08821DE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7243-4BCC-45F0-8167-8EEB8D1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91EC-EE75-48E9-B58A-A5902B83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2701-4B77-4734-9629-D16072A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EE13-C09B-42F9-BC27-B345CA9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0BA1-E3E9-4710-8F43-1C5FA66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4C51-3C3C-4FBF-9C93-D5B3286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0B1F4-A56A-478A-93E9-4C248CF9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BEFC5-19CB-472B-859D-3A3F722F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896-121F-40F1-80A2-26E3F7FE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0A1-4FD5-473C-890A-8E0A6B9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ED6-6FB6-49A3-9EBA-3CDBD93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CC5-5B89-4E3B-8DBE-B42E0A2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7A3-17E0-46FA-9D96-4539AA49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8BE-C67B-4DC8-A113-85156B2C8A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CDDE-3CAA-426C-8CF9-2AB6E78147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97E-AE83-4AC1-8FC3-14702CE211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5F6-D2EC-4B33-B9EB-EC3F0E37C0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4-08-27T10:24:10Z</dcterms:modified>
  <cp:revision>385</cp:revision>
  <dc:subject/>
  <dc:title>Nerve activates contraction</dc:title>
</cp:coreProperties>
</file>