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8DCD-A564-4088-B3A5-2D5787856DE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58C3-8D4F-4FA2-B11B-0555893F0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2165-4721-49A8-AB5A-603BC03A0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108-065F-42E8-A3FA-94DF0688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591-9AB4-4B6F-B4E8-A000881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37F-6D2A-4243-A73C-D033D5D7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13B-030E-422E-AADF-AAC762D0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DE5E-BA7F-4DEA-B679-DD8FBB7F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2DEC-397D-4884-A70C-920BF855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B625-6CAF-416C-8E82-AFCEFC77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5985-4BAD-4426-ABC0-0241FE2F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35DC-31E9-4FEC-B819-5EC28AF5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A47A-6A62-4944-833F-35C10A9F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1BAA-1D90-4B3D-97FB-5C270C03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40D-2A3B-46F4-A0D8-62962C0A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BDF3-129C-4B6A-BAC3-59C85434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2651-4149-426B-BB4B-DA12BAD8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E601-BF2F-4F10-A63E-1D844254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0D1E-0E66-420A-A452-B88E3CF5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B59B-5040-466F-8199-E8F1ABB9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4130-44EE-44E4-84CE-59F83D56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B1FB-BAEB-4189-BBAE-B277B0BB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202D-C18A-4939-861A-C70550D6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B8D9-5495-49D8-888A-173CF8B3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9B47-0779-4DAC-BB8E-B920AE70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7A6-8986-4AF3-B137-45EF8A93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0599-304F-4432-A9A4-85D8C6BB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D614-E289-4B23-A639-7349BABE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168E-CA83-4011-83D7-0A0BF3B2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6E73-803B-42C0-BD66-0DE5F503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C985-F71C-4B42-BDCB-80AF02BD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76AC3-860C-4430-8809-D55C9AAB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FC50A-3898-4D5B-9753-08908B82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7D112-E847-43DB-85BF-3DECDE9C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C2EE-D131-43EF-A457-B405D1C6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BE98-67A5-4759-953F-61DF35DF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22B-CC7A-446D-98D6-C967FF04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B0111-7AF3-4F3C-8FE8-2A5D71E6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A932-8710-4933-A876-177046D9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5369C-D5C2-4D46-9B34-1EB007B5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20B1C-82E0-400A-8A5E-1317C57B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913BA-2F59-4609-A58E-6B5EF6F0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3502-4637-4D1E-9E91-4F8BF6F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5D51E-A491-4291-8628-D57516F8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352EA-2E67-4C0F-9CE8-6FC1A927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6FCA-8716-4700-AC30-B2C1D0AD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204-2159-468E-9250-12E8DD6F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42F-CD21-4904-8139-DDC57A69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975-86E5-40B4-ABFB-4A3D7F9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98F-1DED-4F1A-A427-CC48D918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120-388F-4E59-B6DC-BFA8D509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EA82-1BB5-4CD6-853C-FFC7EF94CE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98EF-F195-4866-AFF0-71B1BE2006E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58B5-062E-4C36-8CDD-15194B36F4E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387-19F4-4442-98B5-CBF6FEBFAC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4-08-27T10:24:10Z</dcterms:modified>
  <cp:revision>385</cp:revision>
  <dc:subject/>
  <dc:title>Nerve activates contraction</dc:title>
</cp:coreProperties>
</file>