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2CD-F635-4406-A5D5-55D2D8D0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BBC-7F5E-4A41-9EA1-B7E11C96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F90-CAEC-4DE4-80F0-C5C2A1AA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E26-1F9E-48D2-AAD2-B951D4B1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B07-E7C3-4D2D-A892-40E88E3B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307-C1DD-49CF-A03F-B9CA7FA3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5A5-331B-4090-AEF8-9ADB4A8F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14D-BAC9-4860-AB9A-FA40D12F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6BA-2166-4934-A1DD-09F0A3FE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B32-AC6D-45C6-9DE9-8906204C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3EE-08C2-4FB1-88EF-3CD88005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9C0-3687-42E2-A529-748F675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FB74-C625-47C3-AEF8-8589C415DD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APTER 14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A21-9339-4C20-A807-89163AC2204B}" type="slidenum">
              <a:t>1</a:t>
            </a:fld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8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genotype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ن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829-0BDB-4444-A267-49B06276DC4A}" type="slidenum">
              <a:t>10</a:t>
            </a:fld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09" name="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5800" y="1219320"/>
            <a:ext cx="762120" cy="1523880"/>
            <a:chOff x="685800" y="1219320"/>
            <a:chExt cx="762120" cy="1523880"/>
          </a:xfrm>
        </p:grpSpPr>
        <p:sp>
          <p:nvSpPr>
            <p:cNvPr id="122" name=""/>
            <p:cNvSpPr/>
            <p:nvPr/>
          </p:nvSpPr>
          <p:spPr>
            <a:xfrm>
              <a:off x="685800" y="213372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12193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86000" y="1143000"/>
            <a:ext cx="685800" cy="1600200"/>
            <a:chOff x="2286000" y="1143000"/>
            <a:chExt cx="685800" cy="1600200"/>
          </a:xfrm>
        </p:grpSpPr>
        <p:sp>
          <p:nvSpPr>
            <p:cNvPr id="125" name=""/>
            <p:cNvSpPr/>
            <p:nvPr/>
          </p:nvSpPr>
          <p:spPr>
            <a:xfrm>
              <a:off x="2286000" y="213372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11430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143000" y="2743200"/>
            <a:ext cx="1447920" cy="990720"/>
            <a:chOff x="1143000" y="2743200"/>
            <a:chExt cx="1447920" cy="990720"/>
          </a:xfrm>
        </p:grpSpPr>
        <p:sp>
          <p:nvSpPr>
            <p:cNvPr id="128" name=""/>
            <p:cNvSpPr/>
            <p:nvPr/>
          </p:nvSpPr>
          <p:spPr>
            <a:xfrm flipH="1">
              <a:off x="1981080" y="2743200"/>
              <a:ext cx="60984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43000" y="2819520"/>
              <a:ext cx="533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36" name="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40" name="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44" name="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48" name="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52" name="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53" name="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" y="152280"/>
            <a:ext cx="2666880" cy="914400"/>
            <a:chOff x="457200" y="152280"/>
            <a:chExt cx="2666880" cy="914400"/>
          </a:xfrm>
        </p:grpSpPr>
        <p:sp>
          <p:nvSpPr>
            <p:cNvPr id="158" name=""/>
            <p:cNvSpPr/>
            <p:nvPr/>
          </p:nvSpPr>
          <p:spPr>
            <a:xfrm>
              <a:off x="457200" y="152280"/>
              <a:ext cx="9144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09680" y="152280"/>
              <a:ext cx="9144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3049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62" name="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/>
            <a:ahLst/>
            <a:rect l="l" t="t" r="r" b="b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5334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41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636-36B0-4813-9A21-EADBE6AB767E}" type="slidenum">
              <a:t>11</a:t>
            </a:fld>
          </a:p>
        </p:txBody>
      </p:sp>
    </p:spTree>
  </p:cSld>
  <p:transition spd="med"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73" name="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78" name="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82" name="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86" name="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80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organism’s appea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13716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organism’s genetic  make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688-5656-4F0B-B3D9-A30A5D57F359}" type="slidenum">
              <a:t>12</a:t>
            </a:fld>
          </a:p>
        </p:txBody>
      </p:sp>
    </p:spTree>
  </p:cSld>
  <p:transition spd="med"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2280" y="463680"/>
            <a:ext cx="8763120" cy="610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 character (allele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 characte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allele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ary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طرز الكروموسوم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play of an organism’s chromosomal patte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طرز المظه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طرز الجين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1BE-C44A-4ECE-99AC-49CCAA8D87C0}" type="slidenum">
              <a:t>13</a:t>
            </a:fld>
          </a:p>
        </p:txBody>
      </p:sp>
    </p:spTree>
  </p:cSld>
  <p:transition spd="med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457280"/>
            <a:ext cx="5562720" cy="4794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88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540-71BF-4078-8BB0-9C6F282E4D76}" type="slidenum">
              <a:t>14</a:t>
            </a:fld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381880" cy="41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st cross, breeding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ominant phenotyp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unknown genotyp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8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457200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2C3-72D5-4B1D-B782-89120C52EEDF}" type="slidenum">
              <a:t>15</a:t>
            </a:fld>
          </a:p>
        </p:txBody>
      </p:sp>
    </p:spTree>
  </p:cSld>
  <p:transition spd="med">
    <p:blinds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4FB-6889-4CEF-816C-47A665D89035}" type="slidenum">
              <a:t>2</a:t>
            </a:fld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266760"/>
            <a:ext cx="8686800" cy="677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خلط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حليل كم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05E-CDED-444B-9977-E0745D7A17BA}" type="slidenum">
              <a:t>3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068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5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ى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105520" y="3740040"/>
            <a:ext cx="3962160" cy="296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37880" y="6567480"/>
            <a:ext cx="1479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2, page 2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505320"/>
            <a:ext cx="510516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e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C5A-3F58-43D7-B809-F251E9E391C1}" type="slidenum">
              <a:t>4</a:t>
            </a:fld>
          </a:p>
        </p:txBody>
      </p:sp>
    </p:spTree>
  </p:cSld>
  <p:transition spd="med"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50640"/>
            <a:ext cx="861048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to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round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75% of the seeds were round and 25%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A5D-5406-4ADD-99DB-5F1C0B631AA9}" type="slidenum">
              <a:t>5</a:t>
            </a:fld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1371600" y="31680"/>
            <a:ext cx="7772400" cy="6718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920" y="6491160"/>
            <a:ext cx="162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able 14.1, Page 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B10-B291-413C-9810-9E08620F15B0}" type="slidenum">
              <a:t>6</a:t>
            </a:fld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(different allele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the sequence of nucleotides at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849800" y="5867280"/>
            <a:ext cx="129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4.3, Page 24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64B-1A79-4753-8220-80E8E4E531C6}" type="slidenum">
              <a:t>7</a:t>
            </a:fld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10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If two alleles differ, the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alle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fully expressed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the organism’s appearance and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cessive alle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no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286000"/>
            <a:ext cx="88394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The two alleles for each character segregate (separate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ف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gamete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egregation of alleles 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organism has identical allele for a particular character, then that allele exists as a single copy in all game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different alleles are present, then 50% of the gametes will receive one allele and 50% will receive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eparation of alleles into separate gametes is summarized as Mendel’s law of segre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AFE-4393-4942-B2C4-E292945A0621}" type="slidenum">
              <a:t>8</a:t>
            </a:fld>
          </a:p>
        </p:txBody>
      </p:sp>
    </p:spTree>
  </p:cSld>
  <p:transition spd="med"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546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to separate gametes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0508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8129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08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07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4.3, Page 2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00400" y="2666880"/>
            <a:ext cx="5715000" cy="685800"/>
            <a:chOff x="3200400" y="2666880"/>
            <a:chExt cx="5715000" cy="685800"/>
          </a:xfrm>
        </p:grpSpPr>
        <p:grpSp>
          <p:nvGrpSpPr>
            <p:cNvPr id="79" name=""/>
            <p:cNvGrpSpPr/>
            <p:nvPr/>
          </p:nvGrpSpPr>
          <p:grpSpPr>
            <a:xfrm>
              <a:off x="3200400" y="3048120"/>
              <a:ext cx="3340080" cy="304560"/>
              <a:chOff x="3200400" y="3048120"/>
              <a:chExt cx="3340080" cy="3045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200400" y="3048120"/>
                <a:ext cx="3340080" cy="304560"/>
                <a:chOff x="3200400" y="3048120"/>
                <a:chExt cx="3340080" cy="3045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200400" y="304812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863960" y="304812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47960" y="312408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6019920" y="304812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858000" y="266688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095520" y="289548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213000" y="3581280"/>
            <a:ext cx="5931000" cy="916200"/>
            <a:chOff x="3213000" y="3581280"/>
            <a:chExt cx="5931000" cy="916200"/>
          </a:xfrm>
        </p:grpSpPr>
        <p:grpSp>
          <p:nvGrpSpPr>
            <p:cNvPr id="88" name=""/>
            <p:cNvGrpSpPr/>
            <p:nvPr/>
          </p:nvGrpSpPr>
          <p:grpSpPr>
            <a:xfrm>
              <a:off x="3213000" y="3581280"/>
              <a:ext cx="3340080" cy="304560"/>
              <a:chOff x="3213000" y="3581280"/>
              <a:chExt cx="3340080" cy="3045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213000" y="3581280"/>
                <a:ext cx="3340080" cy="304560"/>
                <a:chOff x="3213000" y="3581280"/>
                <a:chExt cx="3340080" cy="3045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213000" y="35812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876560" y="35812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60560" y="36572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6032520" y="3581280"/>
                <a:ext cx="1522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858000" y="3824280"/>
              <a:ext cx="2286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095520" y="3733920"/>
              <a:ext cx="83844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38080" y="3124080"/>
            <a:ext cx="2590920" cy="703800"/>
            <a:chOff x="838080" y="3124080"/>
            <a:chExt cx="2590920" cy="703800"/>
          </a:xfrm>
        </p:grpSpPr>
        <p:sp>
          <p:nvSpPr>
            <p:cNvPr id="97" name=""/>
            <p:cNvSpPr/>
            <p:nvPr/>
          </p:nvSpPr>
          <p:spPr>
            <a:xfrm>
              <a:off x="838080" y="31240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590920" y="3200040"/>
              <a:ext cx="7617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90920" y="3505320"/>
              <a:ext cx="8380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847-288F-4141-B096-A66FF2EB2A05}" type="slidenum">
              <a:t>9</a:t>
            </a:fld>
          </a:p>
        </p:txBody>
      </p:sp>
    </p:spTree>
  </p:cSld>
  <p:transition spd="med"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Saad</cp:lastModifiedBy>
  <dcterms:modified xsi:type="dcterms:W3CDTF">2007-10-06T20:08:19Z</dcterms:modified>
  <cp:revision>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