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7807-573A-447A-8AEC-0B2FA2E5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16F6-6E3A-4DE8-882A-400B6B41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9453-DA82-453F-A740-E309D7AC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D8E8-08D9-4B35-BD6F-1B4DF088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9DCF-73B3-4B60-BEC8-E6052569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B146-AE87-441B-8DED-1DACA7C9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40B6-E556-44D9-986B-1D14AC2F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4E48-1D1A-499D-A21E-43C1EE32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A552-3ED2-4F84-B4F5-28432DD6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9EDC-F1EB-4D0F-97F7-89D6E6BA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45DC-7F65-4C2C-BC97-3FD8CA3A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B406-4BE8-4F96-994D-978085AA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8301-A684-4AE1-A140-6F78A918034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078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560" y="30240"/>
            <a:ext cx="1752480" cy="1366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49160" y="1752480"/>
            <a:ext cx="7785360" cy="5205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 Gregor Mendel’s Disco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0240" y="276228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19692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APTER 14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267080" y="2971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DBDA-293C-448F-8C0F-F0FF38F244B5}" type="slidenum">
              <a:t>1</a:t>
            </a:fld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643280" y="0"/>
            <a:ext cx="4500720" cy="6324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880" y="6561000"/>
            <a:ext cx="779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4.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4803840"/>
            <a:ext cx="4495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analysis of the flower-color example demonstrates Mendel’s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model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228600"/>
            <a:ext cx="464796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’s law of segregation accounts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:1 rat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will produce two classes of gametes, half with the purple-flower allele and half with the white-flower all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self-pollination, the gametes of these two classes unite random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an produce four equally likely combinations of sperm and ov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5960" y="3731760"/>
            <a:ext cx="47242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unnett square predicts the results of a genetic cross between individuals of known genotype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طرز الـ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ﭽ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ين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B1D9-BBFC-4C40-B201-77D82F0E1F08}" type="slidenum">
              <a:t>10</a:t>
            </a:fld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241880" y="5943600"/>
            <a:ext cx="487656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560" y="5943600"/>
            <a:ext cx="4114800" cy="914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3886200"/>
            <a:ext cx="990720" cy="8380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72000" y="762120"/>
            <a:ext cx="4419720" cy="1541520"/>
            <a:chOff x="4572000" y="762120"/>
            <a:chExt cx="4419720" cy="1541520"/>
          </a:xfrm>
        </p:grpSpPr>
        <p:sp>
          <p:nvSpPr>
            <p:cNvPr id="109" name=""/>
            <p:cNvSpPr/>
            <p:nvPr/>
          </p:nvSpPr>
          <p:spPr>
            <a:xfrm>
              <a:off x="4572000" y="1523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15000" y="15541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15200" y="160020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81880" y="16146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876920" y="762120"/>
              <a:ext cx="45720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638680" y="762120"/>
              <a:ext cx="3812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543440" y="762120"/>
              <a:ext cx="3049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29600" y="762120"/>
              <a:ext cx="38088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267080" y="382428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10080" y="3824280"/>
            <a:ext cx="990720" cy="900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3809880"/>
            <a:ext cx="990720" cy="928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53280" y="3824280"/>
            <a:ext cx="914400" cy="914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71785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85800" y="1219320"/>
            <a:ext cx="762120" cy="1523880"/>
            <a:chOff x="685800" y="1219320"/>
            <a:chExt cx="762120" cy="1523880"/>
          </a:xfrm>
        </p:grpSpPr>
        <p:sp>
          <p:nvSpPr>
            <p:cNvPr id="122" name=""/>
            <p:cNvSpPr/>
            <p:nvPr/>
          </p:nvSpPr>
          <p:spPr>
            <a:xfrm>
              <a:off x="685800" y="2133720"/>
              <a:ext cx="762120" cy="6094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90720" y="12193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286000" y="1143000"/>
            <a:ext cx="685800" cy="1600200"/>
            <a:chOff x="2286000" y="1143000"/>
            <a:chExt cx="685800" cy="1600200"/>
          </a:xfrm>
        </p:grpSpPr>
        <p:sp>
          <p:nvSpPr>
            <p:cNvPr id="125" name=""/>
            <p:cNvSpPr/>
            <p:nvPr/>
          </p:nvSpPr>
          <p:spPr>
            <a:xfrm>
              <a:off x="2286000" y="2133720"/>
              <a:ext cx="685800" cy="609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66880" y="114300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143000" y="2743200"/>
            <a:ext cx="1447920" cy="990720"/>
            <a:chOff x="1143000" y="2743200"/>
            <a:chExt cx="1447920" cy="990720"/>
          </a:xfrm>
        </p:grpSpPr>
        <p:sp>
          <p:nvSpPr>
            <p:cNvPr id="128" name=""/>
            <p:cNvSpPr/>
            <p:nvPr/>
          </p:nvSpPr>
          <p:spPr>
            <a:xfrm flipH="1">
              <a:off x="1981080" y="2743200"/>
              <a:ext cx="60984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43000" y="2819520"/>
              <a:ext cx="5335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838080" y="4800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Pur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09588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4952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:         1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611028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0"/>
            <a:ext cx="0" cy="685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4724280" y="2133720"/>
            <a:ext cx="2819520" cy="1600200"/>
            <a:chOff x="4724280" y="2133720"/>
            <a:chExt cx="2819520" cy="1600200"/>
          </a:xfrm>
        </p:grpSpPr>
        <p:sp>
          <p:nvSpPr>
            <p:cNvPr id="136" name=""/>
            <p:cNvSpPr/>
            <p:nvPr/>
          </p:nvSpPr>
          <p:spPr>
            <a:xfrm flipH="1">
              <a:off x="4724280" y="2133720"/>
              <a:ext cx="763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724280" y="2133720"/>
              <a:ext cx="2819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24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876920" y="2133720"/>
            <a:ext cx="3657240" cy="1600200"/>
            <a:chOff x="4876920" y="2133720"/>
            <a:chExt cx="3657240" cy="1600200"/>
          </a:xfrm>
        </p:grpSpPr>
        <p:sp>
          <p:nvSpPr>
            <p:cNvPr id="140" name=""/>
            <p:cNvSpPr/>
            <p:nvPr/>
          </p:nvSpPr>
          <p:spPr>
            <a:xfrm flipH="1">
              <a:off x="5943240" y="2133720"/>
              <a:ext cx="25909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2133720"/>
              <a:ext cx="106668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4360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019920" y="2057400"/>
            <a:ext cx="1523880" cy="1676520"/>
            <a:chOff x="6019920" y="2057400"/>
            <a:chExt cx="1523880" cy="1676520"/>
          </a:xfrm>
        </p:grpSpPr>
        <p:sp>
          <p:nvSpPr>
            <p:cNvPr id="144" name=""/>
            <p:cNvSpPr/>
            <p:nvPr/>
          </p:nvSpPr>
          <p:spPr>
            <a:xfrm>
              <a:off x="6019920" y="2057400"/>
              <a:ext cx="990360" cy="137160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010280" y="2133720"/>
              <a:ext cx="533520" cy="1295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10280" y="3429000"/>
              <a:ext cx="0" cy="30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019920" y="2057400"/>
            <a:ext cx="2590560" cy="1676520"/>
            <a:chOff x="6019920" y="2057400"/>
            <a:chExt cx="2590560" cy="1676520"/>
          </a:xfrm>
        </p:grpSpPr>
        <p:sp>
          <p:nvSpPr>
            <p:cNvPr id="148" name=""/>
            <p:cNvSpPr/>
            <p:nvPr/>
          </p:nvSpPr>
          <p:spPr>
            <a:xfrm>
              <a:off x="8610480" y="213372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2057400"/>
              <a:ext cx="259056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10480" y="34290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5560" y="4006800"/>
            <a:ext cx="3961440" cy="642600"/>
            <a:chOff x="25560" y="4006800"/>
            <a:chExt cx="3961440" cy="642600"/>
          </a:xfrm>
        </p:grpSpPr>
        <p:grpSp>
          <p:nvGrpSpPr>
            <p:cNvPr id="152" name=""/>
            <p:cNvGrpSpPr/>
            <p:nvPr/>
          </p:nvGrpSpPr>
          <p:grpSpPr>
            <a:xfrm>
              <a:off x="2082600" y="4006800"/>
              <a:ext cx="1904400" cy="642600"/>
              <a:chOff x="2082600" y="4006800"/>
              <a:chExt cx="1904400" cy="642600"/>
            </a:xfrm>
          </p:grpSpPr>
          <p:sp>
            <p:nvSpPr>
              <p:cNvPr id="153" name=""/>
              <p:cNvSpPr/>
              <p:nvPr/>
            </p:nvSpPr>
            <p:spPr>
              <a:xfrm>
                <a:off x="2515320" y="4006800"/>
                <a:ext cx="1471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</a:rPr>
                  <a:t>Recessive alle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82600" y="4235040"/>
                <a:ext cx="519120" cy="228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25560" y="4006800"/>
              <a:ext cx="1383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ominant alle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1015560" y="4311360"/>
              <a:ext cx="518760" cy="1522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57200" y="152280"/>
            <a:ext cx="2666880" cy="914400"/>
            <a:chOff x="457200" y="152280"/>
            <a:chExt cx="2666880" cy="914400"/>
          </a:xfrm>
        </p:grpSpPr>
        <p:sp>
          <p:nvSpPr>
            <p:cNvPr id="158" name=""/>
            <p:cNvSpPr/>
            <p:nvPr/>
          </p:nvSpPr>
          <p:spPr>
            <a:xfrm>
              <a:off x="457200" y="152280"/>
              <a:ext cx="914400" cy="9144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09680" y="152280"/>
              <a:ext cx="914400" cy="91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71600" y="30492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029200" y="76320"/>
            <a:ext cx="3505320" cy="838080"/>
            <a:chOff x="5029200" y="76320"/>
            <a:chExt cx="3505320" cy="838080"/>
          </a:xfrm>
        </p:grpSpPr>
        <p:sp>
          <p:nvSpPr>
            <p:cNvPr id="162" name=""/>
            <p:cNvSpPr/>
            <p:nvPr/>
          </p:nvSpPr>
          <p:spPr>
            <a:xfrm>
              <a:off x="50292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43800" y="76320"/>
              <a:ext cx="99072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2286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133720" y="533520"/>
            <a:ext cx="2743200" cy="3429000"/>
          </a:xfrm>
          <a:custGeom>
            <a:avLst/>
            <a:gdLst/>
            <a:ahLst/>
            <a:rect l="l" t="t" r="r" b="b"/>
            <a:pathLst>
              <a:path w="1728" h="2160">
                <a:moveTo>
                  <a:pt x="0" y="2160"/>
                </a:moveTo>
                <a:cubicBezTo>
                  <a:pt x="300" y="2084"/>
                  <a:pt x="600" y="2008"/>
                  <a:pt x="768" y="1728"/>
                </a:cubicBezTo>
                <a:cubicBezTo>
                  <a:pt x="936" y="1448"/>
                  <a:pt x="848" y="768"/>
                  <a:pt x="1008" y="480"/>
                </a:cubicBezTo>
                <a:cubicBezTo>
                  <a:pt x="1168" y="192"/>
                  <a:pt x="1448" y="96"/>
                  <a:pt x="1728" y="0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a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5334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54100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terozyg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2C49-5D47-4ED6-B115-94BE9C8F5605}" type="slidenum">
              <a:t>11</a:t>
            </a:fld>
          </a:p>
        </p:txBody>
      </p:sp>
    </p:spTree>
  </p:cSld>
  <p:transition spd="med">
    <p:blinds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09880" y="152280"/>
            <a:ext cx="5257800" cy="655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320" y="152280"/>
            <a:ext cx="3581280" cy="655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2133720"/>
            <a:ext cx="3276720" cy="1676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80880" y="3352680"/>
            <a:ext cx="2895480" cy="1983600"/>
            <a:chOff x="380880" y="3352680"/>
            <a:chExt cx="2895480" cy="1983600"/>
          </a:xfrm>
        </p:grpSpPr>
        <p:sp>
          <p:nvSpPr>
            <p:cNvPr id="173" name=""/>
            <p:cNvSpPr/>
            <p:nvPr/>
          </p:nvSpPr>
          <p:spPr>
            <a:xfrm>
              <a:off x="456840" y="43434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G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0880" y="4876560"/>
              <a:ext cx="289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Genetic make up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76160" y="3352680"/>
              <a:ext cx="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990720" y="2514600"/>
            <a:ext cx="1600200" cy="838080"/>
          </a:xfrm>
          <a:prstGeom prst="ellipse">
            <a:avLst/>
          </a:prstGeom>
          <a:noFill/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33520" y="533520"/>
            <a:ext cx="2590560" cy="1828800"/>
            <a:chOff x="533520" y="533520"/>
            <a:chExt cx="2590560" cy="1828800"/>
          </a:xfrm>
        </p:grpSpPr>
        <p:sp>
          <p:nvSpPr>
            <p:cNvPr id="178" name=""/>
            <p:cNvSpPr/>
            <p:nvPr/>
          </p:nvSpPr>
          <p:spPr>
            <a:xfrm>
              <a:off x="533520" y="533520"/>
              <a:ext cx="259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00cc"/>
                  </a:solidFill>
                  <a:latin typeface="Arial"/>
                </a:rPr>
                <a:t>Phenotyp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14400" y="990720"/>
              <a:ext cx="198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ff"/>
                  </a:solidFill>
                  <a:latin typeface="Arial"/>
                </a:rPr>
                <a:t>(Colour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52480" y="152424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038480" y="2682720"/>
            <a:ext cx="4648320" cy="762120"/>
            <a:chOff x="4038480" y="2682720"/>
            <a:chExt cx="4648320" cy="762120"/>
          </a:xfrm>
        </p:grpSpPr>
        <p:sp>
          <p:nvSpPr>
            <p:cNvPr id="182" name=""/>
            <p:cNvSpPr/>
            <p:nvPr/>
          </p:nvSpPr>
          <p:spPr>
            <a:xfrm>
              <a:off x="4038480" y="2682720"/>
              <a:ext cx="762120" cy="76212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24680" y="2682720"/>
              <a:ext cx="762120" cy="762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29200" y="271296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Hom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114800" y="4435560"/>
            <a:ext cx="3962520" cy="838080"/>
            <a:chOff x="4114800" y="4435560"/>
            <a:chExt cx="3962520" cy="838080"/>
          </a:xfrm>
        </p:grpSpPr>
        <p:sp>
          <p:nvSpPr>
            <p:cNvPr id="186" name=""/>
            <p:cNvSpPr/>
            <p:nvPr/>
          </p:nvSpPr>
          <p:spPr>
            <a:xfrm>
              <a:off x="4114800" y="4435560"/>
              <a:ext cx="838080" cy="838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45878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Heterozygou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038480" y="34606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rganism having a pair of identical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62520" y="534996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rganism having a pair of two different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3808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Pheno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                                    Is 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 organism’s appear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137160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Geno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                                      Is 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 organism’s genetic  make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1BA8-C181-40CE-B60B-3F24373A5715}" type="slidenum">
              <a:t>12</a:t>
            </a:fld>
          </a:p>
        </p:txBody>
      </p:sp>
    </p:spTree>
  </p:cSld>
  <p:transition spd="med">
    <p:blinds dir="horz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52280" y="463680"/>
            <a:ext cx="8763120" cy="610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minant character (allele)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صفة السائ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fully expressed in the organism’s appear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essive character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allele)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صفة المُتنح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no noticeable effec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أثير غير ملحو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organism’s appear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omozygo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ُتماثل الجين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denti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terozygo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ُختلف الجين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organism with tw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leles for a charac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Karyo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طرز الكروموسوم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splay of an organism’s chromosomal patter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h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طرز المظهر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description of an organism’s traits (featur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ظه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eno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طرز الجين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description of an organism’s genetic make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80F0-C5EC-4FD0-8411-DD80EE03A234}" type="slidenum">
              <a:t>13</a:t>
            </a:fld>
          </a:p>
        </p:txBody>
      </p:sp>
    </p:spTree>
  </p:cSld>
  <p:transition spd="med">
    <p:blinds dir="horz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flower color in peas, bot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have the same phenotype (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pur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but different genotypes (homozygous and heterozygou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nly way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 a whi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 is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omozyg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ssive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flower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or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352680" y="1457280"/>
            <a:ext cx="5562720" cy="47941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880" y="6561000"/>
            <a:ext cx="779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4.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7CF5-44A4-4AE3-8A7B-70448BE0C895}" type="slidenum">
              <a:t>14</a:t>
            </a:fld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960" y="228600"/>
            <a:ext cx="8381880" cy="413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not possible to predict the genotype of an organism with a dominant ph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organism must have o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llele, but it could b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m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dominant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eterozygou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est cross, breeding 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ozygous recessiv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dominant phenotyp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unknown genotype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determine the identit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 unknown alle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4580" t="0" r="3348" b="4466"/>
          <a:stretch/>
        </p:blipFill>
        <p:spPr>
          <a:xfrm>
            <a:off x="4870440" y="1905120"/>
            <a:ext cx="4121280" cy="47242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880" y="6561000"/>
            <a:ext cx="779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4.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4572000"/>
            <a:ext cx="43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What is the result of Cross hybridization of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X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t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colored flower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6644-60CE-4785-88EB-C438C30542B7}" type="slidenum">
              <a:t>15</a:t>
            </a:fld>
          </a:p>
        </p:txBody>
      </p:sp>
    </p:spTree>
  </p:cSld>
  <p:transition spd="med">
    <p:blinds dir="horz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endel brought an experimental and quantitative approach to 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320" y="1203120"/>
            <a:ext cx="5410080" cy="192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ound 1857, Mendel began breeding garden peas to stud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herit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راث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Because they are available in many varieties with distinct heritabl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توا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arac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different trait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3429000"/>
            <a:ext cx="51051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pea plant has 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ame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femal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rp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sexual org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nature, pea plants typical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fertil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ذات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ertilizing ova with their own poll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Mendel could also move polle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حبوب اللقا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lant to another to cross-pollin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ـلق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186520" y="1066680"/>
            <a:ext cx="3957480" cy="556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3293-3E64-4D91-8C04-3F14066088A0}" type="slidenum">
              <a:t>2</a:t>
            </a:fld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266760"/>
            <a:ext cx="8686800" cy="677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breeding experiment, Mendel woul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oss-pollin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لقيح خلط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brid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َج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wo contrast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تباين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rue-breeding pea varieti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أنوا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rue-breeding parents 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ir hybrid offspr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نسل المُهج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gene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would then allow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ybrids to self-pollinate to produce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was mainly Mendel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ative analy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حليل كم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 that revealed the two fundamental lows of hered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law of segregation.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he law of independent assort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DB40-1089-4D03-93D3-6693C96E60C7}" type="slidenum">
              <a:t>3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11666" b="46683"/>
          <a:stretch/>
        </p:blipFill>
        <p:spPr>
          <a:xfrm>
            <a:off x="5029200" y="1068480"/>
            <a:ext cx="4038480" cy="2589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5960" y="1219320"/>
            <a:ext cx="4724280" cy="25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from a cros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قي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ween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ite-flowe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a plants would have </a:t>
            </a:r>
            <a:r>
              <a:rPr b="1" lang="en-US" sz="1800" spc="-1" strike="noStrike">
                <a:solidFill>
                  <a:srgbClr val="ff99ff"/>
                </a:solidFill>
                <a:latin typeface="Arial"/>
              </a:rPr>
              <a:t>pale 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نفسجى باه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,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لك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ybrids all have                                                                    </a:t>
            </a: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purp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lowers, just a purple like their par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)- Law of segregation: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wo alle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ﭽـين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character are isolated into separate game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rcRect l="0" t="31106" r="7017" b="3357"/>
          <a:stretch/>
        </p:blipFill>
        <p:spPr>
          <a:xfrm>
            <a:off x="5105520" y="3740040"/>
            <a:ext cx="3962160" cy="2965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37880" y="6567480"/>
            <a:ext cx="1479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4.2, page 24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3505320"/>
            <a:ext cx="510516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ross produce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urpl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white ratio of traits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fspr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del reasoned that the heritable                                                   factor for white flowers was present                                                          in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, but it did not affect                                                    flower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purpl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lor     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سائد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white flower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ne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ة مُتنحية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A90B-0D5D-46E4-89B2-143B8545115B}" type="slidenum">
              <a:t>4</a:t>
            </a:fld>
          </a:p>
        </p:txBody>
      </p:sp>
    </p:spTree>
  </p:cSld>
  <p:transition spd="med">
    <p:blinds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600" y="350640"/>
            <a:ext cx="8610480" cy="58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el found simila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 to 1 rati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wo traits among 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when he conducted crosses for six other characters, each represented by two different varieti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صفتين مختلفتي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when Mendel crossed two true-breeding varieties, one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nd see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ستدي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other of which produc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nkled seed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بذور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جَعد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ll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fspring had round seeds, but among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ts, 75% of the seeds were round and 25% were wrinkled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e second low in the next lect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F8F2-0A58-42C3-88B2-01C27657D105}" type="slidenum">
              <a:t>5</a:t>
            </a:fld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1371600" y="31680"/>
            <a:ext cx="7772400" cy="6718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9920" y="6491160"/>
            <a:ext cx="1621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Table 14.1, Page 2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A2FE-1594-46CC-B19B-DDE44C526E95}" type="slidenum">
              <a:t>6</a:t>
            </a:fld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2280" y="491760"/>
            <a:ext cx="8686800" cy="26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del developed a hypothesi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فترا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explain these results that consisted of four related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Alternative version of genes (different allele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count f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variations in inherited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alleles vary somewhat in                                                           the sequence of nucleotides at                                                                the specific loc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وض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 ge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57800" y="2211480"/>
            <a:ext cx="3886200" cy="2817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849800" y="5867280"/>
            <a:ext cx="129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g. 14.3, Page 24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3429000"/>
            <a:ext cx="5410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For each character, an organis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inheri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ر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alleles, one fro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each 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homologous loci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َوقِعُه على الكروموسو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be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flower-color example, the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lants inherite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urpl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rom one parent and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ite-flower alle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rom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2479-2336-4A45-95B4-148DED0DBD89}" type="slidenum">
              <a:t>7</a:t>
            </a:fld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10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If two alleles differ, then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dominant alle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fully expressed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the organism’s appearance and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cessive alle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s no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organism’s appear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2286000"/>
            <a:ext cx="883944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 The two alleles for each character segregate (separate)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نفص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gamete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segregation of alleles because of the distribution of homologous chromosomes to different gametes in mei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n organism has identical allele for a particular character, then that allele exists as a single copy in all game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different alleles are present, then 50% of the gametes will receive one allele and 50% will receive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separation of alleles into separate gametes is summarized as Mendel’s law of segreg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CD6E-7831-4FBC-AC59-03326735618F}" type="slidenum">
              <a:t>8</a:t>
            </a:fld>
          </a:p>
        </p:txBody>
      </p:sp>
    </p:spTree>
  </p:cSld>
  <p:transition spd="med">
    <p:blinds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7924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554688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alleles (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e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for a character are separated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rega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nto separate gametes and aggregated again by fer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05084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ndelian inheritance reflects rules of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obabilit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the behaviour of ge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8129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arac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 organism inherit two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lle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ne from each pare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0844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 two alleles differ, one of them will b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omina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other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ecess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65070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4.3, Page 2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200400" y="2666880"/>
            <a:ext cx="5715000" cy="685800"/>
            <a:chOff x="3200400" y="2666880"/>
            <a:chExt cx="5715000" cy="685800"/>
          </a:xfrm>
        </p:grpSpPr>
        <p:grpSp>
          <p:nvGrpSpPr>
            <p:cNvPr id="79" name=""/>
            <p:cNvGrpSpPr/>
            <p:nvPr/>
          </p:nvGrpSpPr>
          <p:grpSpPr>
            <a:xfrm>
              <a:off x="3200400" y="3048120"/>
              <a:ext cx="3340080" cy="304560"/>
              <a:chOff x="3200400" y="3048120"/>
              <a:chExt cx="3340080" cy="30456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3200400" y="3048120"/>
                <a:ext cx="3340080" cy="304560"/>
                <a:chOff x="3200400" y="3048120"/>
                <a:chExt cx="3340080" cy="3045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200400" y="304812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5007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4863960" y="304812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5007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647960" y="312408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500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" name=""/>
              <p:cNvSpPr/>
              <p:nvPr/>
            </p:nvSpPr>
            <p:spPr>
              <a:xfrm>
                <a:off x="6019920" y="3048120"/>
                <a:ext cx="152280" cy="3045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6858000" y="2666880"/>
              <a:ext cx="20574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Red colour   gene (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</a:rPr>
                <a:t>allele</a:t>
              </a: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095520" y="2895480"/>
              <a:ext cx="8384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213000" y="3581280"/>
            <a:ext cx="5931000" cy="916200"/>
            <a:chOff x="3213000" y="3581280"/>
            <a:chExt cx="5931000" cy="916200"/>
          </a:xfrm>
        </p:grpSpPr>
        <p:grpSp>
          <p:nvGrpSpPr>
            <p:cNvPr id="88" name=""/>
            <p:cNvGrpSpPr/>
            <p:nvPr/>
          </p:nvGrpSpPr>
          <p:grpSpPr>
            <a:xfrm>
              <a:off x="3213000" y="3581280"/>
              <a:ext cx="3340080" cy="304560"/>
              <a:chOff x="3213000" y="3581280"/>
              <a:chExt cx="3340080" cy="30456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3213000" y="3581280"/>
                <a:ext cx="3340080" cy="304560"/>
                <a:chOff x="3213000" y="3581280"/>
                <a:chExt cx="3340080" cy="3045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3213000" y="3581280"/>
                  <a:ext cx="167616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5007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4876560" y="3581280"/>
                  <a:ext cx="1676520" cy="304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5007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660560" y="3657240"/>
                  <a:ext cx="457200" cy="151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500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"/>
              <p:cNvSpPr/>
              <p:nvPr/>
            </p:nvSpPr>
            <p:spPr>
              <a:xfrm>
                <a:off x="6032520" y="3581280"/>
                <a:ext cx="1522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6858000" y="3824280"/>
              <a:ext cx="22860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hite colour   gene (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allel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6095520" y="3733920"/>
              <a:ext cx="83844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838080" y="3124080"/>
            <a:ext cx="2590920" cy="703800"/>
            <a:chOff x="838080" y="3124080"/>
            <a:chExt cx="2590920" cy="703800"/>
          </a:xfrm>
        </p:grpSpPr>
        <p:sp>
          <p:nvSpPr>
            <p:cNvPr id="97" name=""/>
            <p:cNvSpPr/>
            <p:nvPr/>
          </p:nvSpPr>
          <p:spPr>
            <a:xfrm>
              <a:off x="838080" y="312408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Homologous chromoso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2590920" y="3200040"/>
              <a:ext cx="76176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90920" y="3505320"/>
              <a:ext cx="83808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0B53-498D-4DCD-9E63-2CBC4CBADBA4}" type="slidenum">
              <a:t>9</a:t>
            </a:fld>
          </a:p>
        </p:txBody>
      </p:sp>
    </p:spTree>
  </p:cSld>
  <p:transition spd="med">
    <p:blinds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8:36:37Z</dcterms:created>
  <dc:creator>User</dc:creator>
  <dc:description/>
  <dc:language>en-US</dc:language>
  <cp:lastModifiedBy>Saad</cp:lastModifiedBy>
  <dcterms:modified xsi:type="dcterms:W3CDTF">2007-10-06T20:08:19Z</dcterms:modified>
  <cp:revision>8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