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117-62F1-4EF2-B9DE-4A49C4C3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532-0087-4931-9DBE-E0A9431A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835-096F-4C36-B655-7D687747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6E5-F16D-4F98-852A-BF56A406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E3F-0737-42C9-B319-E1680A4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4C0-756B-44F9-B524-4A9D936E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962-541B-42FE-838E-CBE7C4A3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37B-DD5F-4F22-87D0-DA05F18A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7C9-ABF1-4709-AC87-435483A1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A93-0398-4368-AE6C-A06E1061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8CE-F21D-42B3-9C1E-2EFB1773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5C6-AC54-4026-A4D5-DB0895C4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E6FB-4B17-4C6A-BF8F-70F53D7AA0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BD09-8375-4683-B458-724790A443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4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5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6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103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4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5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12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2E2-4D8F-4EDB-96B2-A720D555AD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5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8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41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4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52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6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60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4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8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9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4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8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C09A-6634-4BB5-8733-2A1EBE25E7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90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5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9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203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F80-7FBB-4E1E-82B5-176CABB6EB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560" y="198360"/>
            <a:ext cx="3429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dominant and recessive tra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 laws of heredity that were developed from Mendel’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endel’s results can be explained by scientific knowledge of genes and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 genotype and the phenotype of an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probability is used to predict the results of genetic cro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43EB-5AA5-4DEA-99AE-4A3764732D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6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2667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94AF-B841-4D9E-A5AA-A3573B726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BAE9-3E39-475A-AA95-07E4853635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كلية العوم</cp:lastModifiedBy>
  <dcterms:modified xsi:type="dcterms:W3CDTF">2013-01-27T05:24:28Z</dcterms:modified>
  <cp:revision>113</cp:revision>
  <dc:subject/>
  <dc:title>Slide 1</dc:title>
</cp:coreProperties>
</file>