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15D9-73CF-411D-A4D1-92817029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37EB-712E-40C3-A78F-D82C6546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C8FB-C8A4-406D-981E-AF230090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539B-702B-4148-B5A9-283A54B8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8BE7-DE69-449C-A2D2-3DC22483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B6CF-8C6A-4210-B794-3891ECB9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F0B1-F4D2-4617-8B1C-77E599B9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07BC-8264-4FAD-B1BC-16CE2C61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60E9-D05A-46D6-9385-F713F0FB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03FF-E5F0-4E54-9DF8-74C93CA8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D936-AD76-4CED-A4CE-2538084A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3B6C-238D-4EC0-9561-A213D882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4BAC-F724-4391-8374-A9C02943BE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9CED-33E3-45AE-A2F9-34EE474488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078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749160" y="1752480"/>
            <a:ext cx="778536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 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660240" y="276228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8"/>
          <p:cNvSpPr/>
          <p:nvPr/>
        </p:nvSpPr>
        <p:spPr>
          <a:xfrm>
            <a:off x="1523880" y="471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0" descr=""/>
          <p:cNvPicPr/>
          <p:nvPr/>
        </p:nvPicPr>
        <p:blipFill>
          <a:blip r:embed="rId3"/>
          <a:stretch/>
        </p:blipFill>
        <p:spPr>
          <a:xfrm>
            <a:off x="4267080" y="2971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0" name="Picture 14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52280" y="491760"/>
            <a:ext cx="8686800" cy="299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del developed a hypoth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فترا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explain these results that consisted of four related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Alternative version of gen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نين المتقاب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variations in inherited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vary somewhat in                                                             the sequence of nucleotides at                                                                 the specific loc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و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g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221148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76320" y="3429000"/>
            <a:ext cx="5410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For each character, an organis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inheri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leles, one fr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homologous loci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َوقِعُه على الكروموس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be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flower-color example,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lants inherite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urpl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one parent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it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457200" y="5165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alleles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for a character are separat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 separate gamet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marized as Mendel’s law of segreg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and aggregated again by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delian inheritance reflects rules of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ob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the behaviour of genes (alle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80880" y="17366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hara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 organism inherit tw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llel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one from each par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57200" y="43275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the two alleles differ, one of them will be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Domina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d the other is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cessiv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3124080" y="2422440"/>
            <a:ext cx="5715000" cy="685800"/>
            <a:chOff x="3124080" y="2422440"/>
            <a:chExt cx="5715000" cy="685800"/>
          </a:xfrm>
        </p:grpSpPr>
        <p:grpSp>
          <p:nvGrpSpPr>
            <p:cNvPr id="94" name="Group 9"/>
            <p:cNvGrpSpPr/>
            <p:nvPr/>
          </p:nvGrpSpPr>
          <p:grpSpPr>
            <a:xfrm>
              <a:off x="3124080" y="2803680"/>
              <a:ext cx="3340080" cy="304560"/>
              <a:chOff x="3124080" y="2803680"/>
              <a:chExt cx="3340080" cy="304560"/>
            </a:xfrm>
          </p:grpSpPr>
          <p:grpSp>
            <p:nvGrpSpPr>
              <p:cNvPr id="95" name="Group 10"/>
              <p:cNvGrpSpPr/>
              <p:nvPr/>
            </p:nvGrpSpPr>
            <p:grpSpPr>
              <a:xfrm>
                <a:off x="3124080" y="2803680"/>
                <a:ext cx="3340080" cy="304560"/>
                <a:chOff x="3124080" y="2803680"/>
                <a:chExt cx="3340080" cy="304560"/>
              </a:xfrm>
            </p:grpSpPr>
            <p:sp>
              <p:nvSpPr>
                <p:cNvPr id="96" name="AutoShape 11"/>
                <p:cNvSpPr/>
                <p:nvPr/>
              </p:nvSpPr>
              <p:spPr>
                <a:xfrm>
                  <a:off x="3124080" y="280368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AutoShape 12"/>
                <p:cNvSpPr/>
                <p:nvPr/>
              </p:nvSpPr>
              <p:spPr>
                <a:xfrm>
                  <a:off x="4787640" y="280368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Rectangle 13"/>
                <p:cNvSpPr/>
                <p:nvPr/>
              </p:nvSpPr>
              <p:spPr>
                <a:xfrm>
                  <a:off x="4571640" y="287964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" name="Rectangle 14"/>
              <p:cNvSpPr/>
              <p:nvPr/>
            </p:nvSpPr>
            <p:spPr>
              <a:xfrm>
                <a:off x="5943600" y="2803680"/>
                <a:ext cx="1522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Text Box 15"/>
            <p:cNvSpPr/>
            <p:nvPr/>
          </p:nvSpPr>
          <p:spPr>
            <a:xfrm>
              <a:off x="6781680" y="2422440"/>
              <a:ext cx="2057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Red colour   gene 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6"/>
            <p:cNvSpPr/>
            <p:nvPr/>
          </p:nvSpPr>
          <p:spPr>
            <a:xfrm flipH="1">
              <a:off x="6019200" y="2651040"/>
              <a:ext cx="838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7"/>
          <p:cNvGrpSpPr/>
          <p:nvPr/>
        </p:nvGrpSpPr>
        <p:grpSpPr>
          <a:xfrm>
            <a:off x="3137040" y="3336840"/>
            <a:ext cx="5930280" cy="916200"/>
            <a:chOff x="3137040" y="3336840"/>
            <a:chExt cx="5930280" cy="916200"/>
          </a:xfrm>
        </p:grpSpPr>
        <p:grpSp>
          <p:nvGrpSpPr>
            <p:cNvPr id="103" name="Group 18"/>
            <p:cNvGrpSpPr/>
            <p:nvPr/>
          </p:nvGrpSpPr>
          <p:grpSpPr>
            <a:xfrm>
              <a:off x="3137040" y="3336840"/>
              <a:ext cx="3339360" cy="304560"/>
              <a:chOff x="3137040" y="3336840"/>
              <a:chExt cx="3339360" cy="304560"/>
            </a:xfrm>
          </p:grpSpPr>
          <p:grpSp>
            <p:nvGrpSpPr>
              <p:cNvPr id="104" name="Group 19"/>
              <p:cNvGrpSpPr/>
              <p:nvPr/>
            </p:nvGrpSpPr>
            <p:grpSpPr>
              <a:xfrm>
                <a:off x="3137040" y="3336840"/>
                <a:ext cx="3339360" cy="304560"/>
                <a:chOff x="3137040" y="3336840"/>
                <a:chExt cx="3339360" cy="304560"/>
              </a:xfrm>
            </p:grpSpPr>
            <p:sp>
              <p:nvSpPr>
                <p:cNvPr id="105" name="AutoShape 20"/>
                <p:cNvSpPr/>
                <p:nvPr/>
              </p:nvSpPr>
              <p:spPr>
                <a:xfrm>
                  <a:off x="3137040" y="3336840"/>
                  <a:ext cx="167580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AutoShape 21"/>
                <p:cNvSpPr/>
                <p:nvPr/>
              </p:nvSpPr>
              <p:spPr>
                <a:xfrm>
                  <a:off x="4800240" y="333684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22"/>
                <p:cNvSpPr/>
                <p:nvPr/>
              </p:nvSpPr>
              <p:spPr>
                <a:xfrm>
                  <a:off x="4584240" y="3412800"/>
                  <a:ext cx="45684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Rectangle 23"/>
              <p:cNvSpPr/>
              <p:nvPr/>
            </p:nvSpPr>
            <p:spPr>
              <a:xfrm>
                <a:off x="5956200" y="3336840"/>
                <a:ext cx="151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Text Box 24"/>
            <p:cNvSpPr/>
            <p:nvPr/>
          </p:nvSpPr>
          <p:spPr>
            <a:xfrm>
              <a:off x="6781680" y="3579840"/>
              <a:ext cx="2285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hite colour   gene (</a:t>
              </a: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5"/>
            <p:cNvSpPr/>
            <p:nvPr/>
          </p:nvSpPr>
          <p:spPr>
            <a:xfrm flipH="1" flipV="1">
              <a:off x="6019560" y="3489480"/>
              <a:ext cx="8380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26"/>
          <p:cNvGrpSpPr/>
          <p:nvPr/>
        </p:nvGrpSpPr>
        <p:grpSpPr>
          <a:xfrm>
            <a:off x="762120" y="2879640"/>
            <a:ext cx="2590200" cy="703800"/>
            <a:chOff x="762120" y="2879640"/>
            <a:chExt cx="2590200" cy="703800"/>
          </a:xfrm>
        </p:grpSpPr>
        <p:sp>
          <p:nvSpPr>
            <p:cNvPr id="112" name="Text Box 27"/>
            <p:cNvSpPr/>
            <p:nvPr/>
          </p:nvSpPr>
          <p:spPr>
            <a:xfrm>
              <a:off x="762120" y="2879640"/>
              <a:ext cx="205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ff"/>
                  </a:solidFill>
                  <a:latin typeface="Arial"/>
                </a:rPr>
                <a:t>Homologous chrom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8"/>
            <p:cNvSpPr/>
            <p:nvPr/>
          </p:nvSpPr>
          <p:spPr>
            <a:xfrm flipV="1">
              <a:off x="2514600" y="2955600"/>
              <a:ext cx="761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29"/>
            <p:cNvSpPr/>
            <p:nvPr/>
          </p:nvSpPr>
          <p:spPr>
            <a:xfrm>
              <a:off x="2514600" y="3260880"/>
              <a:ext cx="8377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31"/>
          <p:cNvSpPr/>
          <p:nvPr/>
        </p:nvSpPr>
        <p:spPr>
          <a:xfrm>
            <a:off x="0" y="1066680"/>
            <a:ext cx="8381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lleles segreg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نفصل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of the distribution of homologous chromosomes to different gametes in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3280" y="304920"/>
            <a:ext cx="4500720" cy="63244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76320" y="4803840"/>
            <a:ext cx="4495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analysis of the flower-color example demonstrates Mendel’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model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6320" y="228600"/>
            <a:ext cx="464796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law of segregation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will produce two classes of gametes, half with the purple-flower allele and half with the white-flower all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self-pollination, the gametes of these two classes unite random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 produce four equally likely combinations of sperm and ov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960" y="3731760"/>
            <a:ext cx="472428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predicts the results of a genetic cross between individuals of kn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notyp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70B2-E80E-4A2A-801B-5799375794F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4241880" y="5943600"/>
            <a:ext cx="487656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5560" y="5943600"/>
            <a:ext cx="411480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125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138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141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144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27"/>
          <p:cNvSpPr/>
          <p:nvPr/>
        </p:nvSpPr>
        <p:spPr>
          <a:xfrm>
            <a:off x="8380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5562720" y="609588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510552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685800" y="6110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152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156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160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164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48"/>
          <p:cNvGrpSpPr/>
          <p:nvPr/>
        </p:nvGrpSpPr>
        <p:grpSpPr>
          <a:xfrm>
            <a:off x="25560" y="4006800"/>
            <a:ext cx="3961440" cy="642600"/>
            <a:chOff x="25560" y="4006800"/>
            <a:chExt cx="3961440" cy="642600"/>
          </a:xfrm>
        </p:grpSpPr>
        <p:grpSp>
          <p:nvGrpSpPr>
            <p:cNvPr id="168" name="Group 49"/>
            <p:cNvGrpSpPr/>
            <p:nvPr/>
          </p:nvGrpSpPr>
          <p:grpSpPr>
            <a:xfrm>
              <a:off x="2082600" y="4006800"/>
              <a:ext cx="1904400" cy="642600"/>
              <a:chOff x="2082600" y="4006800"/>
              <a:chExt cx="1904400" cy="642600"/>
            </a:xfrm>
          </p:grpSpPr>
          <p:sp>
            <p:nvSpPr>
              <p:cNvPr id="169" name="Text Box 50"/>
              <p:cNvSpPr/>
              <p:nvPr/>
            </p:nvSpPr>
            <p:spPr>
              <a:xfrm>
                <a:off x="2515320" y="4006800"/>
                <a:ext cx="147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Recessive alle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54"/>
          <p:cNvGrpSpPr/>
          <p:nvPr/>
        </p:nvGrpSpPr>
        <p:grpSpPr>
          <a:xfrm>
            <a:off x="380880" y="152280"/>
            <a:ext cx="2971440" cy="914400"/>
            <a:chOff x="380880" y="152280"/>
            <a:chExt cx="2971440" cy="914400"/>
          </a:xfrm>
        </p:grpSpPr>
        <p:sp>
          <p:nvSpPr>
            <p:cNvPr id="174" name="Oval 55"/>
            <p:cNvSpPr/>
            <p:nvPr/>
          </p:nvSpPr>
          <p:spPr>
            <a:xfrm>
              <a:off x="380880" y="15228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56"/>
            <p:cNvSpPr/>
            <p:nvPr/>
          </p:nvSpPr>
          <p:spPr>
            <a:xfrm>
              <a:off x="2333520" y="15228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57"/>
            <p:cNvSpPr/>
            <p:nvPr/>
          </p:nvSpPr>
          <p:spPr>
            <a:xfrm>
              <a:off x="1399680" y="30492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178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Freeform 62"/>
          <p:cNvSpPr/>
          <p:nvPr/>
        </p:nvSpPr>
        <p:spPr>
          <a:xfrm>
            <a:off x="2133720" y="533520"/>
            <a:ext cx="2743200" cy="342900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728" h="2160">
                <a:moveTo>
                  <a:pt x="0" y="2160"/>
                </a:moveTo>
                <a:cubicBezTo>
                  <a:pt x="300" y="2084"/>
                  <a:pt x="600" y="2008"/>
                  <a:pt x="768" y="1728"/>
                </a:cubicBezTo>
                <a:cubicBezTo>
                  <a:pt x="936" y="1448"/>
                  <a:pt x="848" y="768"/>
                  <a:pt x="1008" y="480"/>
                </a:cubicBezTo>
                <a:cubicBezTo>
                  <a:pt x="1168" y="192"/>
                  <a:pt x="1448" y="96"/>
                  <a:pt x="1728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3"/>
          <p:cNvSpPr/>
          <p:nvPr/>
        </p:nvSpPr>
        <p:spPr>
          <a:xfrm>
            <a:off x="3429000" y="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4"/>
          <p:cNvSpPr/>
          <p:nvPr/>
        </p:nvSpPr>
        <p:spPr>
          <a:xfrm>
            <a:off x="838080" y="990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5"/>
          <p:cNvSpPr/>
          <p:nvPr/>
        </p:nvSpPr>
        <p:spPr>
          <a:xfrm>
            <a:off x="5562720" y="685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2BEF-9E9C-473F-8335-A80DB88ED7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380880" y="3352680"/>
            <a:ext cx="2895480" cy="1983600"/>
            <a:chOff x="380880" y="3352680"/>
            <a:chExt cx="2895480" cy="1983600"/>
          </a:xfrm>
        </p:grpSpPr>
        <p:sp>
          <p:nvSpPr>
            <p:cNvPr id="190" name="Text Box 6"/>
            <p:cNvSpPr/>
            <p:nvPr/>
          </p:nvSpPr>
          <p:spPr>
            <a:xfrm>
              <a:off x="456840" y="43434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G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7"/>
            <p:cNvSpPr/>
            <p:nvPr/>
          </p:nvSpPr>
          <p:spPr>
            <a:xfrm>
              <a:off x="380880" y="487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Genetic make u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>
              <a:off x="1676160" y="33526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Oval 9"/>
          <p:cNvSpPr/>
          <p:nvPr/>
        </p:nvSpPr>
        <p:spPr>
          <a:xfrm>
            <a:off x="99072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195" name="Text Box 11"/>
            <p:cNvSpPr/>
            <p:nvPr/>
          </p:nvSpPr>
          <p:spPr>
            <a:xfrm>
              <a:off x="533520" y="533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h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2"/>
            <p:cNvSpPr/>
            <p:nvPr/>
          </p:nvSpPr>
          <p:spPr>
            <a:xfrm>
              <a:off x="914400" y="990720"/>
              <a:ext cx="19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ff"/>
                  </a:solidFill>
                  <a:latin typeface="Arial"/>
                </a:rPr>
                <a:t>(Colour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4"/>
          <p:cNvGrpSpPr/>
          <p:nvPr/>
        </p:nvGrpSpPr>
        <p:grpSpPr>
          <a:xfrm>
            <a:off x="4038480" y="2682720"/>
            <a:ext cx="4648320" cy="762120"/>
            <a:chOff x="4038480" y="2682720"/>
            <a:chExt cx="4648320" cy="762120"/>
          </a:xfrm>
        </p:grpSpPr>
        <p:sp>
          <p:nvSpPr>
            <p:cNvPr id="199" name="Oval 15"/>
            <p:cNvSpPr/>
            <p:nvPr/>
          </p:nvSpPr>
          <p:spPr>
            <a:xfrm>
              <a:off x="4038480" y="268272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6"/>
            <p:cNvSpPr/>
            <p:nvPr/>
          </p:nvSpPr>
          <p:spPr>
            <a:xfrm>
              <a:off x="7924680" y="26827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7"/>
            <p:cNvSpPr/>
            <p:nvPr/>
          </p:nvSpPr>
          <p:spPr>
            <a:xfrm>
              <a:off x="5029200" y="27129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om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8"/>
          <p:cNvGrpSpPr/>
          <p:nvPr/>
        </p:nvGrpSpPr>
        <p:grpSpPr>
          <a:xfrm>
            <a:off x="4114800" y="4435560"/>
            <a:ext cx="3962520" cy="838080"/>
            <a:chOff x="4114800" y="4435560"/>
            <a:chExt cx="3962520" cy="838080"/>
          </a:xfrm>
        </p:grpSpPr>
        <p:sp>
          <p:nvSpPr>
            <p:cNvPr id="203" name="Oval 19"/>
            <p:cNvSpPr/>
            <p:nvPr/>
          </p:nvSpPr>
          <p:spPr>
            <a:xfrm>
              <a:off x="4114800" y="4435560"/>
              <a:ext cx="83808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0"/>
            <p:cNvSpPr/>
            <p:nvPr/>
          </p:nvSpPr>
          <p:spPr>
            <a:xfrm>
              <a:off x="5029200" y="45878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eter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21"/>
          <p:cNvSpPr/>
          <p:nvPr/>
        </p:nvSpPr>
        <p:spPr>
          <a:xfrm>
            <a:off x="4038480" y="3460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identical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3962520" y="534996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two differe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3809880" y="380880"/>
            <a:ext cx="5181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Ph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appearance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طرز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ظهر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886200" y="1371600"/>
            <a:ext cx="4800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G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genetic  makeup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ﭽ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5867280" y="264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ماثل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5791320" y="44956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باين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2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flower color in peas, bot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have the same phenotype (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but different genotypes (homozygous and heterozygou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nly wa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 a whi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 i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ssiv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flow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758960"/>
            <a:ext cx="556272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94C2-9EA5-45A7-8F86-43F7E503F0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83818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not possible to predict the genotype of an organism with a dominant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organism must have o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lele, but it could b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m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dominant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ter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st cro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eding 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zygous recessi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minant ph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known g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determine the identi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unknown alle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rcRect l="4580" t="0" r="3348" b="4466"/>
          <a:stretch/>
        </p:blipFill>
        <p:spPr>
          <a:xfrm>
            <a:off x="4870440" y="1905120"/>
            <a:ext cx="412128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6" name="Text Box 6"/>
          <p:cNvSpPr/>
          <p:nvPr/>
        </p:nvSpPr>
        <p:spPr>
          <a:xfrm>
            <a:off x="228600" y="467676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What is the result of Cross hybridization of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olored flower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7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The Law of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egreg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law of segregation states that a pair of factors is segregated, or separated, during the formation of gamet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Dominant character (allele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سائد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s fully expressed i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Recessive character (allele)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مُتنحي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as no noticeable effect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أثير غير ملحوظ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om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تماثل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identical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eter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ختلف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مظهر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traits (feature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ظهر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جين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genetic makeup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124080" y="228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"/>
          <p:cNvPicPr/>
          <p:nvPr/>
        </p:nvPicPr>
        <p:blipFill>
          <a:blip r:embed="rId1"/>
          <a:srcRect l="18595" t="8083" r="4047" b="0"/>
          <a:stretch/>
        </p:blipFill>
        <p:spPr>
          <a:xfrm>
            <a:off x="33480" y="22320"/>
            <a:ext cx="833400" cy="914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90560" y="198360"/>
            <a:ext cx="3429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ingui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dominant and recessive tra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wo laws of heredity that were developed from Mendel’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Mendel’s results can be explained by scientific knowledge of genes and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the genotype and the phenotype of an org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probability is used to predict the results of genetic cro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8CB3-012F-41B4-849B-DEA29BD765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ndel brought an experimental and quantitative approach to 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320" y="1203120"/>
            <a:ext cx="5410080" cy="19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ound 1857, Mendel began breeding garden peas to stud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herit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راث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Because they are available in many varieties with distinct heritabl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different trait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76320" y="3429000"/>
            <a:ext cx="51051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ea plant has 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m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fe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p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ature, pea plants typical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fertil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ذا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ertilizing ova with their own pol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Mendel could also move polle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بوب اللقا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lant to another to cross-polli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ـلق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86520" y="1066680"/>
            <a:ext cx="3957480" cy="5562720"/>
          </a:xfrm>
          <a:prstGeom prst="rect">
            <a:avLst/>
          </a:prstGeom>
          <a:ln w="0">
            <a:noFill/>
          </a:ln>
        </p:spPr>
      </p:pic>
      <p:sp>
        <p:nvSpPr>
          <p:cNvPr id="6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Steps of Mendel’s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p84"/>
          <p:cNvPicPr/>
          <p:nvPr/>
        </p:nvPicPr>
        <p:blipFill>
          <a:blip r:embed="rId2"/>
          <a:stretch/>
        </p:blipFill>
        <p:spPr>
          <a:xfrm>
            <a:off x="152280" y="1558800"/>
            <a:ext cx="8610840" cy="4354560"/>
          </a:xfrm>
          <a:prstGeom prst="rect">
            <a:avLst/>
          </a:prstGeom>
          <a:ln w="0">
            <a:noFill/>
          </a:ln>
        </p:spPr>
      </p:pic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’s Results and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cessive and Dominant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concluded that inherited characteristics are controlled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occur in pai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his experiments on pea plants, one factor in a pair masked the other. The trait that masked the other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 The trait that was masked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04920" y="266760"/>
            <a:ext cx="8686800" cy="67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breeding experiment, Mendel woul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oss-pollin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 خلط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brid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َج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wo contrast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باين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rue-breeding pea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nt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ir hybrid offspr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سل المُهج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would then allow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hybrids to self-pollinate to produce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was mainly Mendel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ative analy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ليل ك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that revealed the two fundamental lows of hered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law of segregation.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he law of independent assort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C2B3-DD08-444B-B270-0732D60E8D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rcRect l="0" t="0" r="11666" b="46683"/>
          <a:stretch/>
        </p:blipFill>
        <p:spPr>
          <a:xfrm>
            <a:off x="5029200" y="1149480"/>
            <a:ext cx="4038480" cy="25891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5960" y="1219320"/>
            <a:ext cx="47242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Mendel expected th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from a cros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it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a plants would have </a:t>
            </a: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pale 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نفسج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باه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,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لك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all have                                                                   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, just a purple like their par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)- Law of segreg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نون الإنعزال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wo alle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ﭽـين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character are isolated into separate 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"/>
          <p:cNvPicPr/>
          <p:nvPr/>
        </p:nvPicPr>
        <p:blipFill>
          <a:blip r:embed="rId2"/>
          <a:srcRect l="0" t="31106" r="7017" b="3357"/>
          <a:stretch/>
        </p:blipFill>
        <p:spPr>
          <a:xfrm>
            <a:off x="5029200" y="3816360"/>
            <a:ext cx="4038480" cy="29653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9"/>
          <p:cNvSpPr/>
          <p:nvPr/>
        </p:nvSpPr>
        <p:spPr>
          <a:xfrm>
            <a:off x="0" y="3505320"/>
            <a:ext cx="510552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ross produc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rpl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white ratio of trait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fsp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 reasoned that the heritable                                                   factor for white flowers was present                                                          in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, but it did not affect                                                    flower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purpl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    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سائد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it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مُتنحي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10480" cy="58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found simi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: 1 rati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wo traits amo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when he conducted crosses for six other characters, each represented by two different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تين مختلفت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when Mendel crossed two true-breeding varieties, one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ستدي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other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nkle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جَعد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ll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ha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eds, but among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seeds were round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re wrinkled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e second low in the next le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920A-C88A-41FD-95A0-9758D93AEB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685800" y="63360"/>
            <a:ext cx="7772400" cy="671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كلية العوم</cp:lastModifiedBy>
  <dcterms:modified xsi:type="dcterms:W3CDTF">2013-01-27T05:24:28Z</dcterms:modified>
  <cp:revision>113</cp:revision>
  <dc:subject/>
  <dc:title>Slide 1</dc:title>
</cp:coreProperties>
</file>