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6253-C604-45F8-9DB0-6E5EF93C5B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AED-EAF8-469F-9DC6-794EDAC580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D20-A21E-4794-A1CF-20B45A04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05E-644E-4D76-B96D-103D35F0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DDF-BF1A-4085-8915-334F5526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C22-11C2-4ED3-88B7-5AA6C76D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5D3-EDF7-4FD3-804E-7D7CF34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574-6166-4F5D-B633-D8DBA7C3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A53-798C-433C-B3A6-072256C8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8CB-38B4-479B-AAF6-99B068AA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B31-1D86-4BE9-86AB-DD8AAD4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E35-D46A-40CA-8FE7-0DBFFD1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346-C2EB-44F4-BB9C-4743435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18E-2416-44D3-B1E0-336D89B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31E7-7C09-4AC6-BB84-9D1C07163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6858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1430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User</cp:lastModifiedBy>
  <dcterms:modified xsi:type="dcterms:W3CDTF">2014-01-04T08:37:30Z</dcterms:modified>
  <cp:revision>96</cp:revision>
  <dc:subject/>
  <dc:title>Slide 1</dc:title>
</cp:coreProperties>
</file>