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014E-6887-4212-9EC3-D7E264A05EB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33DE-CA63-434F-AAA4-195E31681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B8881-354F-4621-A652-951532B6F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7F70D-D388-4689-B94A-09D1AC560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06B90-2CED-4E01-B72B-377BF31C79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370D11-5F75-4AFF-9454-59BCE2303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A202D-9AD1-473F-B863-ACD853DCC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51644-9100-4D4E-885C-B0CF94648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7B445-41DB-49E6-A958-E8CCE93D3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21102-25BD-445B-8A07-4A0FB833B0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060456-3429-4E8C-A5C9-3DB62F09B0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C0998B-07F6-4224-83D9-54556245AF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EFD0BB-870B-4A4F-A402-34315FCB8C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058920-F640-4D79-AFDE-67EDB0224E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29883-786E-4DDC-B5F2-390D8734B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6D54B0-025E-4E29-B17C-87C629B941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722BB1-1EA3-4976-83A6-F9A15EA14E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8E603F-0CE8-4D64-86EC-64BF9A631F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0FA480-8FC9-4976-BCDB-E8922749AD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A82DE7-3441-4197-BC09-E6F7EBC98B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F06DA-9E6B-4A18-9D18-84688C8B16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35EB17-B35C-4D06-868A-52D504C322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11BC42-7BB8-408F-BEF6-68B00B258D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7FD922-6010-48AB-8612-10D4DFE150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2122F2-CE9A-4F88-805E-8FD1018025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FCF4-81A5-4F51-8C80-03D2B540E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AE53F0-D122-4666-8696-7290B1C78D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57C403-B673-4B11-B4A6-8A17B3967A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C45FA0-7511-4CF2-854B-D5B6B558BE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A7BDC1-1B66-440F-BE2C-8C359D12EE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092FFD-DD05-4FF5-8F1A-4956214936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295136-F681-464D-ABE7-A05881CED0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4572CE-5B41-4A25-AB43-9F1B2485BF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069CC4-6930-435E-9CBC-7AADD4768D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0D6F42-A632-421D-BA4F-482C1026A6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D26EBD-7044-4206-A34D-A09DF75D55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12D27-14BA-4322-8E31-513104D48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316708-0618-46E4-8F92-2542224A3E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651A9E-320D-4AFD-9214-C224AFAC6F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DCCDD4-A76A-4FA9-8410-C3BA091C72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F63145-6AD9-47AC-8A70-C7C95ECBD4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25E34E-9DCB-47B8-96DF-EDCABE7F5F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7B8812-7DBE-483E-93E9-F819C6F7E5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186D52-597C-4EEC-9FF9-7C4FC5084F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F2BEB2-FDCC-4C83-AA10-9633AE2F1F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E8F2B0-BA0C-4793-A5A4-098B09C3FB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4D5CF6-B2F3-4995-BE53-8640F4C719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6CA6C-77A0-405E-9E3F-4C90DEE6B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BB731E-5BB8-4EF9-9DB3-4FD79CC87B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EF50B7-E2D5-4C50-9132-F64A3D87C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AEBCCE-E3B4-4507-B0EA-F9444D84C6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C9E51A-1222-4B45-916D-9981F4E01C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DE0801-EBF2-4B1E-A02E-F31FCBED4B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901FB2-A415-4583-B42E-84F9FF4D04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D1BBD4-08CA-47D6-BAF5-0D43106F3C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A10443-B903-45F5-A70A-8C2D901F83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9A29FF-5882-4F45-8F67-D9C03A33EB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DEA204-A010-4028-8F8D-94F933E273E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B30D3-F0AB-4DA4-B1E7-FED75650C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B42E0D-7478-4150-B557-F0DD12F3CC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8499B3-BC8A-408E-A9D9-99CA97FE53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CBB11F-1673-42BD-BAA5-EB730E7C2D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E04196-19D7-4B9B-9CF1-B6298AE704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B81C7ED-C38F-407A-B85E-ACB340F6EC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B2B533D-EF7D-4C4B-9E33-2EE0D99A68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6533D4C-D2C0-439E-963D-01C6E15491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A8D2A-562A-43C5-A7B3-A5075B409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F65EC-3ACA-4AEE-99BB-B45F99559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E7824-1669-46D0-99C3-43BF259CA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09F9C-FE85-4254-8BEF-1AE532512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EBC56-7154-4AC6-822A-DD925FF28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74A5B-3E32-458C-8D4C-9F9C4CE4A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710B0-2BAA-4B8E-AF61-ECF298BF6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8BEEC-3D86-4FCB-9EA1-F48466AE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5B44E-B58D-4D19-B2D3-1F515819F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EFAE0-0A6C-4E0C-B4C5-29CD44EA5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D6A1F-A1B3-482D-90C0-6B7FC9781F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A6270-6902-485A-90A7-D032B8BAB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C5A5E7-214B-419A-9CEF-5905E4118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5EF45-576E-4B64-BD02-FE53D5D1A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D619B-2F01-4E53-BD4B-166864F54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4F4D9-9F73-4BB3-9EC0-7E362D26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8DA60-B292-487E-A7F0-3FD99183D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6013B-D77F-4827-94E9-9890DC07E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64F7C-3C07-46C0-917F-48644318F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A0FB7-1395-4CA8-A0F8-CD0C03087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51EF1-7529-4C51-B1F9-5A5EEBB2D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15AA10-3533-4F49-9E6F-663FED825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FCD160-EDA9-4B9A-A126-55F95B0C3B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A80BE3-D4EB-4516-92C2-DB1DFC424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2C493-9603-4955-9839-C2CEDBED2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C96CD-E480-4915-93CF-E04DBC18DA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B84A-7D84-44F1-9DFD-95E36C33C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C737D-C180-4CDC-9AEC-51332194B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96B6A-F8B6-48EC-9311-5189B138E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7ACAE-B3E2-4225-8AF6-E7AC67EFA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2DA4F-9836-43A5-873F-6698194DB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79C73-196A-444A-8F0C-FB1B8F11B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40F60-929D-4FD8-AFFF-C9D716A3A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640DFF-201D-4A99-9089-BD08585B9F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BEC41-8227-46BC-8998-26BF7DCF5F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784B0-AF02-42E6-94E0-CCFF1A493F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2755C-92F3-4117-B6FA-5D04D6F282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4DD3C-9C3B-4A54-B9A2-7214869A8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8E27F-9432-487B-BF23-AA00525FE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7B5423-5BAD-4AF8-ADC5-07840F1BF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EC671-1A67-4DC8-840A-20B4315C5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7C56A-C215-48EA-A823-72205FA70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47517-8FE4-41CF-A243-71D9A239B5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AE6A1-9BD5-460B-920E-8EF2AFCF4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7E42E-670F-4345-8931-DA20F70F2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5DAA5-613E-4755-80A4-38CA65864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F5742-1956-4E1A-A659-7C2ED9C0B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AACB91-B7C6-496D-96D4-5B966BE418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8A550-DF21-4E1F-A141-871B34C8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273106-4B5D-46AA-9527-2A36AB38CB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235BF6-6AF9-4C8F-AB55-18CDE2D8D1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665A4-1ABD-45CC-A8FB-6584FEAE0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40ABCB-0238-41E0-8BD2-2F3BBFA06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0F95B3-3A42-44FD-89F6-59FE40B39A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9083F-BAEE-4586-BC3E-7B81734DBA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BB7DD-A8B8-4303-A997-4FD99A198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54D6A-7031-4174-8291-40D74FFFE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58C8B-CA1B-4A62-8C4D-BC5C7F26D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739F5-0FF8-42C5-9A2B-EB1807ADA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0A41-F195-4B65-A0D0-C97D08861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807783-A0A1-41D1-8C4A-FD378DCFE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7A27DE-EF69-4BA4-9CAF-80701268D9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EA19B-9B40-4773-B64F-3FACDA5E0C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73B22E-6D1E-4E4E-819D-36C2A5B28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95DF3-8086-4DD4-B05E-1B8339C649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8444FC-8E06-4931-AEDD-64A2B3E8E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90D831-BF89-4473-AF3D-E163AB215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F17BC-98E1-4CEE-9C10-23308883E2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FCDC3-FCF8-4863-8F48-C6FDD09F6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32800-E66F-4130-9B78-099DC2232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44D0-D67B-4BB5-9DCD-71AAACD6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1DF82-D052-45AB-B7E0-70B8463D8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9E04F-6F26-46B9-A68B-B377F6ADA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5DD2C-FA09-4E30-B403-CF3575D4F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E0D63-8907-4C3D-9FC5-24D8752D3E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FCA716-A6B4-48C9-9386-3787066810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6BD3B7-D3E2-4AC4-84D9-F03297B268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9FD1EA-049A-4E6B-9B63-1C68F8D2BE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20B59E-28A5-4B35-8DFB-5AC8593C34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8D0FA-F483-4D40-91DC-662F1CC7CA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2A6BB-BF17-4409-BAD4-786793AA8D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83CF-15B0-4F1C-B91F-12C8FB58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F94DF2-ACBB-47DB-ADCD-3BE2F1FAC8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C6FFA-2928-4EF1-83F5-08047748F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A183A-6200-41CB-B1B1-5017B977F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FCCCF-945F-4EC1-9198-3CCE68E92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62785-17BC-4C4B-B22A-D11DE990E1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7D4C34-C0E6-4ECC-AAC8-02496C8E5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D0EE94-8167-4E4E-802F-6E105AD90B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40B8D0-8E03-40B3-9A2E-D4DB789EBA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DC61AF-61C2-42B7-AFF7-BF4C44CBEC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37E3B-7FC0-4DE2-B4CF-A18C62409D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EA9C-93F7-421B-A1D2-6C8EE6FF382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0A8C-2D51-4316-9284-D7F0C7FBCB7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62720" cy="648000"/>
              <a:chOff x="-19080" y="203040"/>
              <a:chExt cx="9162720" cy="648000"/>
            </a:xfrm>
          </p:grpSpPr>
          <p:pic>
            <p:nvPicPr>
              <p:cNvPr id="499" name="Freeform 11" descr=""/>
              <p:cNvPicPr/>
              <p:nvPr/>
            </p:nvPicPr>
            <p:blipFill>
              <a:blip r:embed="rId3"/>
              <a:stretch/>
            </p:blipFill>
            <p:spPr>
              <a:xfrm>
                <a:off x="3960" y="203040"/>
                <a:ext cx="913968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36B5-EE37-485B-BA42-777998F1D6E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62720" cy="648000"/>
              <a:chOff x="-19080" y="203040"/>
              <a:chExt cx="9162720" cy="648000"/>
            </a:xfrm>
          </p:grpSpPr>
          <p:pic>
            <p:nvPicPr>
              <p:cNvPr id="549" name="Freeform 11" descr=""/>
              <p:cNvPicPr/>
              <p:nvPr/>
            </p:nvPicPr>
            <p:blipFill>
              <a:blip r:embed="rId3"/>
              <a:stretch/>
            </p:blipFill>
            <p:spPr>
              <a:xfrm>
                <a:off x="3960" y="203040"/>
                <a:ext cx="913968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E55F-1BA9-4057-8CD6-12C31A79AF3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62720" cy="648000"/>
              <a:chOff x="-19080" y="203040"/>
              <a:chExt cx="9162720" cy="648000"/>
            </a:xfrm>
          </p:grpSpPr>
          <p:pic>
            <p:nvPicPr>
              <p:cNvPr id="599" name="Freeform 11" descr=""/>
              <p:cNvPicPr/>
              <p:nvPr/>
            </p:nvPicPr>
            <p:blipFill>
              <a:blip r:embed="rId3"/>
              <a:stretch/>
            </p:blipFill>
            <p:spPr>
              <a:xfrm>
                <a:off x="3960" y="203040"/>
                <a:ext cx="913968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145C-C110-4952-B5B3-FC339BEA049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BA50-03F7-465E-AE2E-C4B279E7E209}"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0080-AC1C-4BE0-BFE3-7D29639DC7D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E1C0-DEB9-4139-B0B2-C11A1E148BFA}"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0C7A-5E78-470A-828D-739C9DF8439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7F13-DC4D-45BA-BFE4-17C669A6A55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62720" cy="648000"/>
              <a:chOff x="-19080" y="203040"/>
              <a:chExt cx="9162720" cy="648000"/>
            </a:xfrm>
          </p:grpSpPr>
          <p:pic>
            <p:nvPicPr>
              <p:cNvPr id="304" name="Freeform 11" descr=""/>
              <p:cNvPicPr/>
              <p:nvPr/>
            </p:nvPicPr>
            <p:blipFill>
              <a:blip r:embed="rId3"/>
              <a:stretch/>
            </p:blipFill>
            <p:spPr>
              <a:xfrm>
                <a:off x="3960" y="203040"/>
                <a:ext cx="913968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2AA6-3CAC-4B8D-9FC4-F438C8E6E73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62720" cy="648000"/>
              <a:chOff x="-19080" y="203040"/>
              <a:chExt cx="9162720" cy="648000"/>
            </a:xfrm>
          </p:grpSpPr>
          <p:pic>
            <p:nvPicPr>
              <p:cNvPr id="354" name="Freeform 11" descr=""/>
              <p:cNvPicPr/>
              <p:nvPr/>
            </p:nvPicPr>
            <p:blipFill>
              <a:blip r:embed="rId3"/>
              <a:stretch/>
            </p:blipFill>
            <p:spPr>
              <a:xfrm>
                <a:off x="3960" y="203040"/>
                <a:ext cx="913968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026E-1E50-4B4B-AB22-95060D46AB4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62720" cy="648000"/>
              <a:chOff x="-19080" y="203040"/>
              <a:chExt cx="9162720" cy="648000"/>
            </a:xfrm>
          </p:grpSpPr>
          <p:pic>
            <p:nvPicPr>
              <p:cNvPr id="404" name="Freeform 11" descr=""/>
              <p:cNvPicPr/>
              <p:nvPr/>
            </p:nvPicPr>
            <p:blipFill>
              <a:blip r:embed="rId3"/>
              <a:stretch/>
            </p:blipFill>
            <p:spPr>
              <a:xfrm>
                <a:off x="3960" y="203040"/>
                <a:ext cx="913968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4980-103B-4297-BAB0-C2601853E64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د أشرف مشالي</cp:lastModifiedBy>
  <cp:lastPrinted>2001-01-06T03:20:03Z</cp:lastPrinted>
  <dcterms:modified xsi:type="dcterms:W3CDTF">2013-09-02T05:12:42Z</dcterms:modified>
  <cp:revision>389</cp:revision>
  <dc:subject/>
  <dc:title>Nerve activates contraction</dc:title>
</cp:coreProperties>
</file>