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2ED-E2B7-4BA9-AC58-A401CAAFB0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DB0-F9B8-4EFD-ACD4-3786BABA6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621-E7FF-4950-BE08-464ED4838F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508-0F65-4B6C-A0A4-F675B64F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111-7D29-4685-948F-4298BFCE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668-1642-4CDC-BCF2-4F8F426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856-91C5-4B97-97B2-5AA449B3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9CB-D7BA-4500-927A-92ECCCB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EF6-4A6F-44CE-A104-3E06DD5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C03-556C-4581-8332-4E7A10F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8E2-8A87-47FE-AFBA-BC8FA40B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C5D-45D2-4A91-BEC2-D4640BD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4A0-DA54-49C2-94CE-2234821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644-3A7A-4425-9DCB-2CCB15F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3E5-9AFF-4AAF-A8C3-ED88965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7CEC-228A-410A-9DA0-96542FD26E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159-8A3E-496B-91F2-EC16AABFCF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8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Biolog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4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5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7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7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28600" y="1558800"/>
            <a:ext cx="87631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93480" y="151920"/>
            <a:ext cx="8597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he nucleic acid strand is a polymer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nucleotides are synthesized by connecting the sugars of one nucleotide to the phosphate of the next with 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osphodi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reates a repeating backbone of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ugar-phosph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s with the nitrogen bases as append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quence of nitrogen bases along a DNA or mRNA polymer is unique for each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 are normally hundreds to thousands of nucleotides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ar order 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تيب التتابع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ses in a gene specifies the order of amino acid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nomers of a pro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82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66760" y="117144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piral around to form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393840" y="228240"/>
            <a:ext cx="7454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76320" y="457200"/>
            <a:ext cx="396216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se base-pairing rules, if we know the sequence of bases on one strand, we know the sequence on the opposite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two identical copies 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pies are then distributed 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94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7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400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5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8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11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14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7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20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23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6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6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7449-6385-47AE-A36C-A46F66BE58B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4313160" y="3765600"/>
            <a:ext cx="4025880" cy="2347920"/>
          </a:xfrm>
          <a:prstGeom prst="rect">
            <a:avLst/>
          </a:prstGeom>
          <a:ln w="0">
            <a:noFill/>
          </a:ln>
        </p:spPr>
      </p:pic>
      <p:pic>
        <p:nvPicPr>
          <p:cNvPr id="447" name="Content Placeholder 4" descr=""/>
          <p:cNvPicPr/>
          <p:nvPr/>
        </p:nvPicPr>
        <p:blipFill>
          <a:blip r:embed="rId3"/>
          <a:stretch/>
        </p:blipFill>
        <p:spPr>
          <a:xfrm>
            <a:off x="4308480" y="1200240"/>
            <a:ext cx="40305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 of Inherit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Structural Model of D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of Nucleic Ac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tide Poly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s of DNA and RNA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is based on replication of the DNA double he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D52-815D-421D-9F4A-F2D8FAD5D8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64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7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7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8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8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6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7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9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11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1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1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1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3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4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46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6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7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7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80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83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94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95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97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9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12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13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14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16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26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9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41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44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47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62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9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73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82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85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9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303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304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11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15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8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21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26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9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zhassan</cp:lastModifiedBy>
  <dcterms:modified xsi:type="dcterms:W3CDTF">2016-01-25T09:04:08Z</dcterms:modified>
  <cp:revision>1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