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DC13-2827-4A1E-A3A4-5D9E8C4997E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93AC-F884-4F09-B330-4285AE33C81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1493-4122-4CE6-B18D-7C808631C5D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13EE-9600-4816-A386-5E3161D7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00A-6469-488A-9939-3A9DC036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3ED-7530-4366-B3FF-5C2E3A81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3F8-DB89-4913-860E-60061CA8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F32-1001-4FE8-9D8E-93D3946A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7AB-0CC9-42D9-91A7-A8F67CB5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DC9-3242-42CA-9AEA-00204FDE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F6D-0BBD-4194-9575-3D019B94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4A5-046C-4E96-9E06-B09809E3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751-0786-4ED0-AAD9-2ABA8F52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E46-ECF2-47EF-A3CA-38081C51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9FA-D798-4158-B856-F608280C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A00F-BFB4-4820-B9C7-698D431D6E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CFE1-DD9C-49E7-AD08-830292FE26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219320" y="1600200"/>
            <a:ext cx="6858000" cy="1190880"/>
          </a:xfrm>
          <a:prstGeom prst="rect">
            <a:avLst/>
          </a:prstGeom>
          <a:solidFill>
            <a:srgbClr val="0033cc"/>
          </a:solidFill>
          <a:ln w="9360">
            <a:solidFill>
              <a:srgbClr val="d6009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NA Replication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نـَسْـــــخ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ـ 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762120" y="2514600"/>
            <a:ext cx="7543800" cy="3276720"/>
            <a:chOff x="762120" y="2514600"/>
            <a:chExt cx="7543800" cy="3276720"/>
          </a:xfrm>
        </p:grpSpPr>
        <p:sp>
          <p:nvSpPr>
            <p:cNvPr id="54" name="Rectangle 20"/>
            <p:cNvSpPr/>
            <p:nvPr/>
          </p:nvSpPr>
          <p:spPr>
            <a:xfrm>
              <a:off x="762120" y="2514600"/>
              <a:ext cx="7543800" cy="327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1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838440" y="2578320"/>
              <a:ext cx="7416720" cy="31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21"/>
          <p:cNvSpPr/>
          <p:nvPr/>
        </p:nvSpPr>
        <p:spPr>
          <a:xfrm>
            <a:off x="13716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8"/>
          <p:cNvSpPr/>
          <p:nvPr/>
        </p:nvSpPr>
        <p:spPr>
          <a:xfrm>
            <a:off x="1522800" y="6324480"/>
            <a:ext cx="59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spine.rutgers.edu/cellbio/assets/flash/bidi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1447920" y="603396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6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6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rand is making its own new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ynthesis is occurring in two different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is being made towards the replication fork and the other is being made away from the fork.  The strand being made away from the fork has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are later joined by another enzyme, DNA lig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80880" y="3481560"/>
            <a:ext cx="53341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زيين و متضادين فى الإتجا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66680" y="48355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1203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04920" y="158436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523880" y="3247920"/>
            <a:ext cx="5410080" cy="635040"/>
            <a:chOff x="1523880" y="3247920"/>
            <a:chExt cx="5410080" cy="635040"/>
          </a:xfrm>
        </p:grpSpPr>
        <p:sp>
          <p:nvSpPr>
            <p:cNvPr id="111" name="AutoShape 7"/>
            <p:cNvSpPr/>
            <p:nvPr/>
          </p:nvSpPr>
          <p:spPr>
            <a:xfrm flipV="1" rot="16200000">
              <a:off x="4647600" y="33876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"/>
            <p:cNvSpPr/>
            <p:nvPr/>
          </p:nvSpPr>
          <p:spPr>
            <a:xfrm rot="16200000">
              <a:off x="3047760" y="338760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 rot="5400000">
              <a:off x="5397120" y="337500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"/>
            <p:cNvSpPr/>
            <p:nvPr/>
          </p:nvSpPr>
          <p:spPr>
            <a:xfrm rot="16200000">
              <a:off x="1523880" y="336240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313668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472428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 flipV="1" rot="5400000">
              <a:off x="2228400" y="340668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 flipV="1" rot="16200000">
              <a:off x="3847320" y="33620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548640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 rot="16200000">
              <a:off x="6235560" y="33879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1625400" y="3273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523880" y="365436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949560" y="331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2361960" y="3362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6324480" y="327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1523880" y="2651040"/>
            <a:ext cx="5410080" cy="697680"/>
            <a:chOff x="1523880" y="2651040"/>
            <a:chExt cx="5410080" cy="697680"/>
          </a:xfrm>
        </p:grpSpPr>
        <p:sp>
          <p:nvSpPr>
            <p:cNvPr id="127" name="AutoShape 23"/>
            <p:cNvSpPr/>
            <p:nvPr/>
          </p:nvSpPr>
          <p:spPr>
            <a:xfrm flipV="1" rot="5400000">
              <a:off x="4635360" y="291780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4"/>
            <p:cNvSpPr/>
            <p:nvPr/>
          </p:nvSpPr>
          <p:spPr>
            <a:xfrm rot="5400000">
              <a:off x="3047400" y="291744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5"/>
            <p:cNvSpPr/>
            <p:nvPr/>
          </p:nvSpPr>
          <p:spPr>
            <a:xfrm rot="5400000">
              <a:off x="6235560" y="291780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6"/>
            <p:cNvSpPr/>
            <p:nvPr/>
          </p:nvSpPr>
          <p:spPr>
            <a:xfrm flipV="1" rot="5400000">
              <a:off x="2279520" y="294840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4698720" y="290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8"/>
            <p:cNvSpPr/>
            <p:nvPr/>
          </p:nvSpPr>
          <p:spPr>
            <a:xfrm flipV="1" rot="5400000">
              <a:off x="5397480" y="2929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9"/>
            <p:cNvSpPr/>
            <p:nvPr/>
          </p:nvSpPr>
          <p:spPr>
            <a:xfrm rot="16200000">
              <a:off x="3828960" y="289836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0"/>
            <p:cNvSpPr/>
            <p:nvPr/>
          </p:nvSpPr>
          <p:spPr>
            <a:xfrm rot="16200000">
              <a:off x="1485720" y="286704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1523880" y="265104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16002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54864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4"/>
            <p:cNvSpPr/>
            <p:nvPr/>
          </p:nvSpPr>
          <p:spPr>
            <a:xfrm>
              <a:off x="39495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23493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32448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3136680" y="291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1447920" y="4924440"/>
            <a:ext cx="5410080" cy="697320"/>
            <a:chOff x="1447920" y="4924440"/>
            <a:chExt cx="5410080" cy="697320"/>
          </a:xfrm>
        </p:grpSpPr>
        <p:sp>
          <p:nvSpPr>
            <p:cNvPr id="143" name="AutoShape 39"/>
            <p:cNvSpPr/>
            <p:nvPr/>
          </p:nvSpPr>
          <p:spPr>
            <a:xfrm flipV="1" rot="5400000">
              <a:off x="4559760" y="519084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 rot="5400000">
              <a:off x="2971800" y="519048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1"/>
            <p:cNvSpPr/>
            <p:nvPr/>
          </p:nvSpPr>
          <p:spPr>
            <a:xfrm rot="5400000">
              <a:off x="6159960" y="519084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2"/>
            <p:cNvSpPr/>
            <p:nvPr/>
          </p:nvSpPr>
          <p:spPr>
            <a:xfrm flipV="1" rot="5400000">
              <a:off x="2203560" y="522216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3"/>
            <p:cNvSpPr/>
            <p:nvPr/>
          </p:nvSpPr>
          <p:spPr>
            <a:xfrm>
              <a:off x="4622760" y="5178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4"/>
            <p:cNvSpPr/>
            <p:nvPr/>
          </p:nvSpPr>
          <p:spPr>
            <a:xfrm flipV="1" rot="5400000">
              <a:off x="5321520" y="52023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5"/>
            <p:cNvSpPr/>
            <p:nvPr/>
          </p:nvSpPr>
          <p:spPr>
            <a:xfrm rot="16200000">
              <a:off x="3753000" y="517140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6"/>
            <p:cNvSpPr/>
            <p:nvPr/>
          </p:nvSpPr>
          <p:spPr>
            <a:xfrm rot="16200000">
              <a:off x="1410120" y="514008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1447920" y="492444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8"/>
            <p:cNvSpPr/>
            <p:nvPr/>
          </p:nvSpPr>
          <p:spPr>
            <a:xfrm>
              <a:off x="15242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9"/>
            <p:cNvSpPr/>
            <p:nvPr/>
          </p:nvSpPr>
          <p:spPr>
            <a:xfrm>
              <a:off x="54104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38736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22734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2"/>
            <p:cNvSpPr/>
            <p:nvPr/>
          </p:nvSpPr>
          <p:spPr>
            <a:xfrm>
              <a:off x="624852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3"/>
            <p:cNvSpPr/>
            <p:nvPr/>
          </p:nvSpPr>
          <p:spPr>
            <a:xfrm>
              <a:off x="3060720" y="5190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54"/>
          <p:cNvSpPr/>
          <p:nvPr/>
        </p:nvSpPr>
        <p:spPr>
          <a:xfrm>
            <a:off x="1981080" y="48862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5"/>
          <p:cNvSpPr/>
          <p:nvPr/>
        </p:nvSpPr>
        <p:spPr>
          <a:xfrm>
            <a:off x="27432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6"/>
          <p:cNvSpPr/>
          <p:nvPr/>
        </p:nvSpPr>
        <p:spPr>
          <a:xfrm>
            <a:off x="3581280" y="486108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7"/>
          <p:cNvSpPr/>
          <p:nvPr/>
        </p:nvSpPr>
        <p:spPr>
          <a:xfrm>
            <a:off x="43434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8"/>
          <p:cNvSpPr/>
          <p:nvPr/>
        </p:nvSpPr>
        <p:spPr>
          <a:xfrm>
            <a:off x="510552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9"/>
          <p:cNvSpPr/>
          <p:nvPr/>
        </p:nvSpPr>
        <p:spPr>
          <a:xfrm>
            <a:off x="59436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0"/>
          <p:cNvGrpSpPr/>
          <p:nvPr/>
        </p:nvGrpSpPr>
        <p:grpSpPr>
          <a:xfrm>
            <a:off x="1523880" y="3260520"/>
            <a:ext cx="5410080" cy="634680"/>
            <a:chOff x="1523880" y="3260520"/>
            <a:chExt cx="5410080" cy="634680"/>
          </a:xfrm>
        </p:grpSpPr>
        <p:sp>
          <p:nvSpPr>
            <p:cNvPr id="165" name="AutoShape 61"/>
            <p:cNvSpPr/>
            <p:nvPr/>
          </p:nvSpPr>
          <p:spPr>
            <a:xfrm flipV="1" rot="16200000">
              <a:off x="4647960" y="3399480"/>
              <a:ext cx="53316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2"/>
            <p:cNvSpPr/>
            <p:nvPr/>
          </p:nvSpPr>
          <p:spPr>
            <a:xfrm rot="16200000">
              <a:off x="3048120" y="3399840"/>
              <a:ext cx="53316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63"/>
            <p:cNvSpPr/>
            <p:nvPr/>
          </p:nvSpPr>
          <p:spPr>
            <a:xfrm rot="5400000">
              <a:off x="5397120" y="3387240"/>
              <a:ext cx="532800" cy="3049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4"/>
            <p:cNvSpPr/>
            <p:nvPr/>
          </p:nvSpPr>
          <p:spPr>
            <a:xfrm rot="16200000">
              <a:off x="1523880" y="337464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5"/>
            <p:cNvSpPr/>
            <p:nvPr/>
          </p:nvSpPr>
          <p:spPr>
            <a:xfrm>
              <a:off x="3136680" y="329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6"/>
            <p:cNvSpPr/>
            <p:nvPr/>
          </p:nvSpPr>
          <p:spPr>
            <a:xfrm>
              <a:off x="472428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7"/>
            <p:cNvSpPr/>
            <p:nvPr/>
          </p:nvSpPr>
          <p:spPr>
            <a:xfrm flipV="1" rot="5400000">
              <a:off x="2228760" y="341820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8"/>
            <p:cNvSpPr/>
            <p:nvPr/>
          </p:nvSpPr>
          <p:spPr>
            <a:xfrm flipV="1" rot="16200000">
              <a:off x="3847680" y="337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9"/>
            <p:cNvSpPr/>
            <p:nvPr/>
          </p:nvSpPr>
          <p:spPr>
            <a:xfrm>
              <a:off x="548640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0"/>
            <p:cNvSpPr/>
            <p:nvPr/>
          </p:nvSpPr>
          <p:spPr>
            <a:xfrm rot="16200000">
              <a:off x="6235560" y="3399840"/>
              <a:ext cx="53316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1"/>
            <p:cNvSpPr/>
            <p:nvPr/>
          </p:nvSpPr>
          <p:spPr>
            <a:xfrm>
              <a:off x="162540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2"/>
            <p:cNvSpPr/>
            <p:nvPr/>
          </p:nvSpPr>
          <p:spPr>
            <a:xfrm>
              <a:off x="1523880" y="366696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3"/>
            <p:cNvSpPr/>
            <p:nvPr/>
          </p:nvSpPr>
          <p:spPr>
            <a:xfrm>
              <a:off x="3949560" y="332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4"/>
            <p:cNvSpPr/>
            <p:nvPr/>
          </p:nvSpPr>
          <p:spPr>
            <a:xfrm>
              <a:off x="2361960" y="337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5"/>
            <p:cNvSpPr/>
            <p:nvPr/>
          </p:nvSpPr>
          <p:spPr>
            <a:xfrm>
              <a:off x="6324480" y="3286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76"/>
          <p:cNvGrpSpPr/>
          <p:nvPr/>
        </p:nvGrpSpPr>
        <p:grpSpPr>
          <a:xfrm>
            <a:off x="7009920" y="2879280"/>
            <a:ext cx="1676520" cy="2972160"/>
            <a:chOff x="7009920" y="2879280"/>
            <a:chExt cx="1676520" cy="2972160"/>
          </a:xfrm>
        </p:grpSpPr>
        <p:sp>
          <p:nvSpPr>
            <p:cNvPr id="181" name="Text Box 77"/>
            <p:cNvSpPr/>
            <p:nvPr/>
          </p:nvSpPr>
          <p:spPr>
            <a:xfrm>
              <a:off x="7238880" y="41594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8"/>
            <p:cNvSpPr/>
            <p:nvPr/>
          </p:nvSpPr>
          <p:spPr>
            <a:xfrm flipH="1" flipV="1">
              <a:off x="7009920" y="287928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9"/>
            <p:cNvSpPr/>
            <p:nvPr/>
          </p:nvSpPr>
          <p:spPr>
            <a:xfrm flipH="1">
              <a:off x="7162200" y="455616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0"/>
          <p:cNvGrpSpPr/>
          <p:nvPr/>
        </p:nvGrpSpPr>
        <p:grpSpPr>
          <a:xfrm>
            <a:off x="1066680" y="2270160"/>
            <a:ext cx="6248160" cy="475200"/>
            <a:chOff x="1066680" y="2270160"/>
            <a:chExt cx="6248160" cy="475200"/>
          </a:xfrm>
        </p:grpSpPr>
        <p:sp>
          <p:nvSpPr>
            <p:cNvPr id="185" name="Text Box 81"/>
            <p:cNvSpPr/>
            <p:nvPr/>
          </p:nvSpPr>
          <p:spPr>
            <a:xfrm>
              <a:off x="6933960" y="2270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2"/>
            <p:cNvSpPr/>
            <p:nvPr/>
          </p:nvSpPr>
          <p:spPr>
            <a:xfrm>
              <a:off x="1066680" y="234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3"/>
          <p:cNvGrpSpPr/>
          <p:nvPr/>
        </p:nvGrpSpPr>
        <p:grpSpPr>
          <a:xfrm>
            <a:off x="990720" y="5835600"/>
            <a:ext cx="6400800" cy="475200"/>
            <a:chOff x="990720" y="5835600"/>
            <a:chExt cx="6400800" cy="475200"/>
          </a:xfrm>
        </p:grpSpPr>
        <p:sp>
          <p:nvSpPr>
            <p:cNvPr id="188" name="Text Box 84"/>
            <p:cNvSpPr/>
            <p:nvPr/>
          </p:nvSpPr>
          <p:spPr>
            <a:xfrm>
              <a:off x="7010640" y="5835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5"/>
            <p:cNvSpPr/>
            <p:nvPr/>
          </p:nvSpPr>
          <p:spPr>
            <a:xfrm>
              <a:off x="990720" y="5911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89"/>
          <p:cNvSpPr/>
          <p:nvPr/>
        </p:nvSpPr>
        <p:spPr>
          <a:xfrm rot="5400000">
            <a:off x="1409760" y="46702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0"/>
          <p:cNvSpPr/>
          <p:nvPr/>
        </p:nvSpPr>
        <p:spPr>
          <a:xfrm>
            <a:off x="5715000" y="4175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213000" y="3870000"/>
            <a:ext cx="1968480" cy="733320"/>
            <a:chOff x="3213000" y="3870000"/>
            <a:chExt cx="1968480" cy="733320"/>
          </a:xfrm>
        </p:grpSpPr>
        <p:sp>
          <p:nvSpPr>
            <p:cNvPr id="193" name="Text Box 92"/>
            <p:cNvSpPr/>
            <p:nvPr/>
          </p:nvSpPr>
          <p:spPr>
            <a:xfrm>
              <a:off x="3213000" y="4022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3"/>
            <p:cNvSpPr/>
            <p:nvPr/>
          </p:nvSpPr>
          <p:spPr>
            <a:xfrm flipV="1">
              <a:off x="4279680" y="387000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04"/>
          <p:cNvGrpSpPr/>
          <p:nvPr/>
        </p:nvGrpSpPr>
        <p:grpSpPr>
          <a:xfrm>
            <a:off x="1981080" y="5013000"/>
            <a:ext cx="1904760" cy="1768320"/>
            <a:chOff x="1981080" y="5013000"/>
            <a:chExt cx="1904760" cy="1768320"/>
          </a:xfrm>
        </p:grpSpPr>
        <p:sp>
          <p:nvSpPr>
            <p:cNvPr id="196" name="Text Box 95"/>
            <p:cNvSpPr/>
            <p:nvPr/>
          </p:nvSpPr>
          <p:spPr>
            <a:xfrm>
              <a:off x="1981080" y="6200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6"/>
            <p:cNvSpPr/>
            <p:nvPr/>
          </p:nvSpPr>
          <p:spPr>
            <a:xfrm flipV="1">
              <a:off x="312408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97"/>
          <p:cNvSpPr/>
          <p:nvPr/>
        </p:nvSpPr>
        <p:spPr>
          <a:xfrm rot="5400000">
            <a:off x="6134040" y="32986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8"/>
          <p:cNvSpPr/>
          <p:nvPr/>
        </p:nvSpPr>
        <p:spPr>
          <a:xfrm>
            <a:off x="6934320" y="3565440"/>
            <a:ext cx="38088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9"/>
          <p:cNvGrpSpPr/>
          <p:nvPr/>
        </p:nvGrpSpPr>
        <p:grpSpPr>
          <a:xfrm>
            <a:off x="7238880" y="3336840"/>
            <a:ext cx="1447560" cy="459720"/>
            <a:chOff x="7238880" y="3336840"/>
            <a:chExt cx="1447560" cy="459720"/>
          </a:xfrm>
        </p:grpSpPr>
        <p:sp>
          <p:nvSpPr>
            <p:cNvPr id="201" name="Text Box 87"/>
            <p:cNvSpPr/>
            <p:nvPr/>
          </p:nvSpPr>
          <p:spPr>
            <a:xfrm>
              <a:off x="7314840" y="3336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8"/>
            <p:cNvSpPr/>
            <p:nvPr/>
          </p:nvSpPr>
          <p:spPr>
            <a:xfrm flipH="1">
              <a:off x="7238880" y="364176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02"/>
          <p:cNvGrpSpPr/>
          <p:nvPr/>
        </p:nvGrpSpPr>
        <p:grpSpPr>
          <a:xfrm>
            <a:off x="1219320" y="3794040"/>
            <a:ext cx="5790600" cy="459720"/>
            <a:chOff x="1219320" y="3794040"/>
            <a:chExt cx="5790600" cy="459720"/>
          </a:xfrm>
        </p:grpSpPr>
        <p:sp>
          <p:nvSpPr>
            <p:cNvPr id="204" name="Text Box 100"/>
            <p:cNvSpPr/>
            <p:nvPr/>
          </p:nvSpPr>
          <p:spPr>
            <a:xfrm>
              <a:off x="647676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1"/>
            <p:cNvSpPr/>
            <p:nvPr/>
          </p:nvSpPr>
          <p:spPr>
            <a:xfrm>
              <a:off x="121932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0"/>
          <p:cNvGrpSpPr/>
          <p:nvPr/>
        </p:nvGrpSpPr>
        <p:grpSpPr>
          <a:xfrm>
            <a:off x="4800600" y="5013000"/>
            <a:ext cx="1447920" cy="1724040"/>
            <a:chOff x="4800600" y="5013000"/>
            <a:chExt cx="1447920" cy="1724040"/>
          </a:xfrm>
        </p:grpSpPr>
        <p:sp>
          <p:nvSpPr>
            <p:cNvPr id="207" name="Text Box 106"/>
            <p:cNvSpPr/>
            <p:nvPr/>
          </p:nvSpPr>
          <p:spPr>
            <a:xfrm>
              <a:off x="4800600" y="615636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7"/>
            <p:cNvSpPr/>
            <p:nvPr/>
          </p:nvSpPr>
          <p:spPr>
            <a:xfrm flipV="1">
              <a:off x="556272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8"/>
            <p:cNvSpPr/>
            <p:nvPr/>
          </p:nvSpPr>
          <p:spPr>
            <a:xfrm flipV="1">
              <a:off x="5486400" y="5013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9"/>
            <p:cNvSpPr/>
            <p:nvPr/>
          </p:nvSpPr>
          <p:spPr>
            <a:xfrm flipH="1" flipV="1">
              <a:off x="4876920" y="501300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11"/>
          <p:cNvSpPr/>
          <p:nvPr/>
        </p:nvSpPr>
        <p:spPr>
          <a:xfrm>
            <a:off x="5638680" y="4403880"/>
            <a:ext cx="762120" cy="4572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4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179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213" dur="6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264" dur="10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29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29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0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1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31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E9E1-AA31-4AF6-93A9-433C71FFB7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elic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wists the double helix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par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DNA strands by form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replication bub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enzyme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s DNA strands, form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lication “bubbl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bubbl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ed at the origin sites of replication as D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parate, and hence, replication forks formed at each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si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 is also called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rigin of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is a single specif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quence of nucleotides that is recognized by the replication enzy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nd at which replication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imer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short piece of RNA (10 nucleotide long) which is synthesis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by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prima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used to initiate the leading strands of the new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polymer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uilds up the new DNA strand by adding nucleotides to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primer (from 5’ to 3’ 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eading strand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longation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initiate th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new DNA after recognizing the sequence of the primer by special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other parental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is copi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way from the fork in short segments (Okazaki fragm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kazaki fragment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ly formed segment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3’, away from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then, form the lagging strand when connected by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wards the f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lig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oins the Okazaki fragments of the newly formed bases to for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new lagg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590920" y="19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876920" y="45720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5486400" y="51814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5943600" y="57150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615A-4505-4ACC-B399-50D525F431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ل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كمِّ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58560"/>
            <a:ext cx="838224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ell copies a DNA molecule, each strand serves as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موز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ordering nucleotides into a ne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imen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r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s line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تـَ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34800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77E3-9D08-48EE-8A73-45E0E64D6A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116208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have one old strand and one newly mad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isper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5146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9810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ypes of DN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962520" y="2666880"/>
            <a:ext cx="2361960" cy="4114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6AD0-312E-4A67-8C11-BACBFF38B3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mi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NA Replication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106668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ذ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B7EB-864B-4FDD-99B3-BFCEC4116A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120" y="1460160"/>
            <a:ext cx="80773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 th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h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copy each of the 5 million base pairs in its single chromosome and divide to form two identical daughte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man cell can copy its 6 billion base pairs and divide into daughter cells in only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w ho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cess is remarkably accurate, with only one error per billion nucleot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helicase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twis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َلغ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الإلتف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eparates the template DNA strands at the replication f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gle-strand binding proteins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eep the unpaired template stra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فص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plic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plic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rcRect l="0" t="4507" r="40001" b="35572"/>
          <a:stretch/>
        </p:blipFill>
        <p:spPr>
          <a:xfrm>
            <a:off x="4648320" y="347508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240" y="3505320"/>
            <a:ext cx="4343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ukaryotes, there may be hundreds or thousands of bubble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has origin sites for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er chromo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origin sites, the DNA strands separate forming a replication “bubble” with replication fork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وكة النس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each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plication bubbles elong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ستطي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DNA is replicated and eventually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ندمج مع بعضه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28600" y="38088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نشأ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قعة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ication proceeds in both directions until the entire molecule is copi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AADE-7F32-4228-9966-53BCB24873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ب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320" y="2666880"/>
            <a:ext cx="41907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talyze the elongation of new DNA at a replication fork. 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1C1D-34BB-4944-8494-7618A35E80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3298680"/>
            <a:ext cx="4724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arental stran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-&gt;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s copied away from the fork in short segmen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kazaki fra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ـِطـَع صغي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azaki fragment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bout 100-200 nucleot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joined b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 الرا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the sugar-phosphate backbone of a single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447920"/>
            <a:ext cx="39052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00100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replication fork, one parental strand                                                         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-&gt; 5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d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can be used by polymerases as a template                                                                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DNA REPLICATIO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396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s: Enzymes that separate the DNA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 move along the strands and breaks the hydrogen bonds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Fork: the Y shaped region that results from the separation of th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3960" y="297180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: enzymes that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add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mentary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 are found floating freely inside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bonds form between the phosphate group of one nucleotide and the deoxyribose of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bonds form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3960" y="4800600"/>
            <a:ext cx="861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s finish replicating the DNA and fall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two identical DNA molecules that are ready to move to new cells in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Conservative Replication: this type of replication where one strand is from the original molecule and the other strand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ralajmi</cp:lastModifiedBy>
  <dcterms:modified xsi:type="dcterms:W3CDTF">2014-02-02T04:48:53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E5E41E4-BF07-4CF1-BFD9-01ECA6DE8C77</vt:lpwstr>
  </property>
  <property fmtid="{D5CDD505-2E9C-101B-9397-08002B2CF9AE}" pid="3" name="ArticulatePath">
    <vt:lpwstr>Lecture 19</vt:lpwstr>
  </property>
</Properties>
</file>