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61B-24D6-4588-A667-5B5A6EA7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F3C-A10E-444E-BEE8-3074DA84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326-3231-45B2-A613-60A49C3A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36E-634C-495C-AD6D-F33444C5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AD6-6812-4F96-B395-7E87E6B9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F11-91C6-49B9-9300-4839274D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785-6293-4C38-89C0-0F06AF2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E74-69D1-4926-A984-1C8E2401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CAA-264B-421F-9B0C-6D8B9031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A5D-FFC1-4A59-AB59-7693AEA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595-7ADD-4423-85AE-40014FE7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712-362D-434E-A732-84805B8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70A1-3DA8-494D-9F57-FA47D9DCE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Section C: Mendelian Inheritance in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PTER 14 &amp; 15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F74-D982-4869-87FA-091C125A49C9}" type="slidenum">
              <a:t>1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86108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hondroplasi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قزم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ose who are not achodroplastic dwarfs are homozygous recessive for this tra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hal dominant alleles are much less common than lethal recessives because if a lethal dominant kills an offspring before it can mature and reproduce, the allele will not be passed on to future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52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س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3962520"/>
            <a:ext cx="89913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untington’s dis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individuals is about 35 to 45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terioration of the nervous system is irreversible and inevitably fat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مي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, molecular geneticists have us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dig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السجل العائ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ffected families to track dow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ن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ntington’s allele to a locus near the tip of chromosomes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573-0EFF-443F-BF1D-B32B86C8F407}" type="slidenum">
              <a:t>10</a:t>
            </a:fld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960" y="235080"/>
            <a:ext cx="8915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y other disorders have a multifactorial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تعدد العوام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have a genetic component plus a significant environmental 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factorial disorders includ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art disease, diabetes, cancer, alcoholism, and certain mental illnesses, such a schizophrenia and manic-depressiv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component is typicall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ygen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عدد الجين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present, little is understood about the genetic contribution to most multifactori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510-A176-419B-A6B0-EB9D0EA764F5}" type="slidenum">
              <a:t>11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320" y="1294920"/>
            <a:ext cx="899136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oss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زاوج أحادى الص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conduced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os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زاوج ثنائى الص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dominant 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dominant 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2- The law of Independent Assort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وزيع الحر للـﭽـينات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pair of alleles segregates into gametes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14300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ABC-F6E8-4C62-A011-9B5E3AA30B07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38224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1631880"/>
            <a:ext cx="43434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sperm and ova each with four classes of alleles combine, there would be 16 equally probable ways in which the alleles can combi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mbinations produce four distinct phenotypes in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3:3: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consistent with Mendel’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appeared to be inherited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491160"/>
            <a:ext cx="1755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7b, Page 25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46143" t="0" r="0" b="3991"/>
          <a:stretch/>
        </p:blipFill>
        <p:spPr>
          <a:xfrm>
            <a:off x="4419720" y="1219320"/>
            <a:ext cx="465768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AD0-5732-4256-841F-A61D176744A8}" type="slidenum">
              <a:t>3</a:t>
            </a:fld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endel’s low of Independent 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Dihybrid cross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ating between two parent plants differing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61" name="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67" name="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73" name="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77" name="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81" name="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87" name="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91" name="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92" name="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100" name="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/>
                <a:ahLst/>
                <a:rect l="l" t="t" r="r" b="b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59B-A23C-469B-A419-CEF6F7E8C4B5}" type="slidenum">
              <a:t>4</a:t>
            </a:fld>
          </a:p>
        </p:txBody>
      </p: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107" name="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121" name="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6477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253, Fig. 1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162" name="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163" name="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166" name="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A02-FBD3-4109-8DE5-9F631CCA49D6}" type="slidenum">
              <a:t>5</a:t>
            </a:fld>
          </a:p>
        </p:txBody>
      </p: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1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usands of genetic disorde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مراض ور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cluding disabl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إع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deadly hereditary diseas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أمراض الوراثية المُميت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re inherited as simp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it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صفات وراثية مُتنح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range from the relatively mild (albin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ألبينو، البُها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 life-threatening (cystic fibro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terozygotes have a normal pheno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ause one “normal” allele produces enough of the required factor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ormal tr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 recessively inherited disorder shows up </a:t>
            </a:r>
            <a:r>
              <a:rPr b="1" lang="ar-EG" sz="1800" spc="-1" strike="noStrike" u="sng">
                <a:solidFill>
                  <a:srgbClr val="0000ff"/>
                </a:solidFill>
                <a:uFillTx/>
                <a:latin typeface="Arial"/>
              </a:rPr>
              <a:t>يظهر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nly in the individuals who inheri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omozygous recessive allel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from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individuals who lack the disorder are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mozgyous 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ter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erozygous member may have no clear phenotypic effects, but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ri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o may transmit a recessive allele to their offsp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people with recessive disorders are born from carrier parents with normal pheno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carriers have a 1/4 chance of having a child with the disorder, 1/2 chance of a carrier, and 1/4 f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ny human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أمرا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llow Mendelian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2C2-817A-44D8-A376-D1D3F93EDF5A}" type="slidenum">
              <a:t>6</a:t>
            </a:fld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658440"/>
            <a:ext cx="8382240" cy="342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stic fibrosi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thal recess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in 25 person is a carr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rmal allele codes for a membrane protein that transport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tween cells and th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channels are absent, there are abnormally hig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tracellular levels of chlor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causes the mucus coats of certain cells to become thick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سميك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ticki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زج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ucus build-up in the pancreas, lungs, digestive tract, and elsewhere favors bacterial inf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treatment, affected children die before five, but with treatment can live past their late 20’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4251240"/>
            <a:ext cx="87631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caused by a dysfunctional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زيم غير عا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fails to break down specific brain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ymptoms begin with seizur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و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lindness, and degeneration of motor and mental performance a few months after bir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vitably, the child dies after a few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متنح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784-7FD7-4D71-852B-C1E78D68B975}" type="slidenum">
              <a:t>7</a:t>
            </a:fld>
          </a:p>
        </p:txBody>
      </p:sp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839080" cy="56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ckle-cell disea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خلايا الدم الهلالي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caused by the substitution of a single amino acid in hemoglob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oxygen levels in                                                                            the blood of an affected                                                                  individual are low,                                                                                 sickle-cell hemoglobin                                                                     crystallizes into long                                                                             r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eforms red blood                                                                        cells into a sickle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tors can use regular                                                                      blood transfusion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 brain damage                                                                            and new drugs to                                                                                         prevent or treat other                                                                     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114800" y="990720"/>
            <a:ext cx="488952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60800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wo alle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s both normal and abnormal hemoglobins are synthe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C94-5308-4C4B-BF19-DB37C63F5D18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864720"/>
            <a:ext cx="83818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ly it is relatively unlikely that two carriers of the same rare harmful allele will meet and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sanguineous mat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زواج الأقار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ose between close relatives, increase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who share a recent common ancestor are more likely to carry the same recessive all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societies and cultures have laws or taboos forbidding marriages between close rel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FC0-D8E0-42DC-974A-7F75BFBA26C4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User</cp:lastModifiedBy>
  <dcterms:modified xsi:type="dcterms:W3CDTF">2006-10-27T20:05:33Z</dcterms:modified>
  <cp:revision>100</cp:revision>
  <dc:subject/>
  <dc:title>Slide 1</dc:title>
</cp:coreProperties>
</file>