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8B00C-B566-4B39-941D-FEAD94CB8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5FD88-2E6C-4B39-A8BA-322E579DC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F2245-38D3-4BC7-8809-4EFD9B300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FE87F-1F42-43E1-9A3C-BE23412E1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B94DF-2699-453F-A87D-37F156663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4E3F4-34B6-441D-AC6D-EF9C86208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C017E-7CEC-4DD7-B967-0D463ACC6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361C5-2F45-4AE7-B606-BF8E54EE5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994A1-F0AE-47B3-8594-F13F089DB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876F7-88AE-4571-BDAF-FBA015491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D9728-2B2F-49FC-B187-CC92703E6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5B17F-7C92-45F7-96DC-4AADDF99B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FB52F-3BF1-488F-A95E-59CD7C741D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9192" t="0" r="0" b="0"/>
          <a:stretch/>
        </p:blipFill>
        <p:spPr>
          <a:xfrm>
            <a:off x="660240" y="3078000"/>
            <a:ext cx="3988080" cy="2637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568600" y="2077920"/>
            <a:ext cx="21463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00ff00"/>
              </a:gs>
              <a:gs pos="100000">
                <a:srgbClr val="ffff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5560" y="30240"/>
            <a:ext cx="1752480" cy="13669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7729560" y="-12600"/>
            <a:ext cx="1262160" cy="16002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749160" y="1752480"/>
            <a:ext cx="7785360" cy="520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cc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Arial"/>
              </a:rPr>
              <a:t>Section C: Mendelian Inheritance in Hum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60240" y="2762280"/>
            <a:ext cx="7925040" cy="363852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76520" y="196920"/>
            <a:ext cx="6476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CHAPTER 14 &amp; 15 </a:t>
            </a:r>
            <a:br>
              <a:rPr sz="2800"/>
            </a:b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MENDEL AND THE GENE ID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4267080" y="2971800"/>
            <a:ext cx="4219560" cy="318276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33609-49B2-4518-966A-718B9FE765FC}" type="slidenum">
              <a:t>1</a:t>
            </a:fld>
          </a:p>
        </p:txBody>
      </p:sp>
    </p:spTree>
  </p:cSld>
  <p:transition spd="med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151920" y="685800"/>
            <a:ext cx="8610840" cy="30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though most harmful alleles are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recessiv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many human disorders are due to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dominant allel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224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ff0000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Achondroplasia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,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 form of dwarfism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قزمية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has an incidence of one case in 10,000 peop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terozygous individuals have the dwarf phenotyp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ose who are not achodroplastic dwarfs are homozygous recessive for this trai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thal dominant alleles are much less common than lethal recessives because if a lethal dominant kills an offspring before it can mature and reproduce, the allele will not be passed on to future genera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04920" y="15228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</a:rPr>
              <a:t>B- Dominantly inherited disorders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الصفات المرضية السائد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6320" y="3962520"/>
            <a:ext cx="8991360" cy="25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spcBef>
                <a:spcPts val="451"/>
              </a:spcBef>
              <a:buClr>
                <a:srgbClr val="ff0000"/>
              </a:buClr>
              <a:buFont typeface="Arial"/>
              <a:buAutoNum type="arabicPeriod" startAt="2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Huntington’s diseas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degenerative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ضُمو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ease of the nervous syst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dominant lethal allele has no obvious phenotypic effect until an individuals is about 35 to 45 years ol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eterioration of the nervous system is irreversible and inevitably fatal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ُميت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cently, molecular geneticists have used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edigre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nalysi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حليل السجل العائلى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affected families to track down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لنزع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Huntington’s allele to a locus near the tip of chromosomes 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EA827-B519-4868-9F52-BFEB240A6ED1}" type="slidenum">
              <a:t>10</a:t>
            </a:fld>
          </a:p>
        </p:txBody>
      </p:sp>
    </p:spTree>
  </p:cSld>
  <p:transition spd="med">
    <p:random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500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75960" y="235080"/>
            <a:ext cx="8915400" cy="38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Many other disorders have a multifactorial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متعدد العوامل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bas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se have a genetic component plus a significant environmental influ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ultifactorial disorders include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heart disease, diabetes, cancer, alcoholism, and certain mental illnesses, such a schizophrenia and manic-depressive disord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genetic component is typically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olygenic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تعدد الجينات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t present, little is understood about the genetic contribution to most multifactorial dise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BD994-A917-4BA0-82A5-2CD4B1965517}" type="slidenum">
              <a:t>11</a:t>
            </a:fld>
          </a:p>
        </p:txBody>
      </p:sp>
    </p:spTree>
  </p:cSld>
  <p:transition spd="med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76320" y="1294920"/>
            <a:ext cx="8991360" cy="53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ndel’s experiments that followed the inheritance of flower color or other characters focused on only a single character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vi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nohybri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rosses 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التزاوج أحادى الصف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 conduced other experiments in which he followed the inheritance of two different characters (a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ihybri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ross 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التزاوج ثنائى الصف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one dihybrid cross experiment, Mendel studied the inheritance of seed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olo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seed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hap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llele for 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yellow seed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 is dominant to the allele for 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green seed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llele for round seeds (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 is dominant to the allele for wrinkled seeds (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ndel crossed true-breeding plants that had 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yellow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&amp;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round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seed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YY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with true-breeding plants that has 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green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&amp;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wrinkled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seed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yy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228600" y="15192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</a:rPr>
              <a:t>2- The law of Independent Assortment: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توزيع الحر للـﭽـينات</a:t>
            </a:r>
            <a:br>
              <a:rPr sz="2000"/>
            </a:b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each pair of alleles segregates into gametes independent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6320" y="1143000"/>
            <a:ext cx="87627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A32FC-FFF7-4CC9-A116-A4EB768FD67E}" type="slidenum">
              <a:t>2</a:t>
            </a:fld>
          </a:p>
        </p:txBody>
      </p:sp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52280" y="228240"/>
            <a:ext cx="8382240" cy="10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two pairs of alleles segregate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independentl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of each oth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presence of one specific allele for one trait has no impact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تأثير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 the presence of a specific allele for the second tra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6320" y="1631880"/>
            <a:ext cx="4343400" cy="428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en sperm and ova each with four classes of alleles combine, there would be 16 equally probable ways in which the alleles can combine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se combinations produce four distinct phenotypes in a 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9:3:3: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rati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was consistent with Mendel’s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ch character appeared to be inherited independent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6320" y="6491160"/>
            <a:ext cx="1755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Fig. 14.7b, Page 253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rcRect l="46143" t="0" r="0" b="3991"/>
          <a:stretch/>
        </p:blipFill>
        <p:spPr>
          <a:xfrm>
            <a:off x="4419720" y="1219320"/>
            <a:ext cx="4657680" cy="5562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F44B8-E72D-4587-8ADD-A8F5522E74C5}" type="slidenum">
              <a:t>3</a:t>
            </a:fld>
          </a:p>
        </p:txBody>
      </p:sp>
    </p:spTree>
  </p:cSld>
  <p:transition spd="med">
    <p:random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2895480" y="1447920"/>
            <a:ext cx="5334120" cy="5257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9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Mendel’s low of Independent (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Arial"/>
              </a:rPr>
              <a:t>Dihybrid cross</a:t>
            </a:r>
            <a:r>
              <a:rPr b="1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838080"/>
            <a:ext cx="845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 is a mating between two parent plants differing in two charact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6320" y="2057400"/>
            <a:ext cx="1295280" cy="1284120"/>
            <a:chOff x="76320" y="2057400"/>
            <a:chExt cx="1295280" cy="1284120"/>
          </a:xfrm>
        </p:grpSpPr>
        <p:sp>
          <p:nvSpPr>
            <p:cNvPr id="61" name=""/>
            <p:cNvSpPr/>
            <p:nvPr/>
          </p:nvSpPr>
          <p:spPr>
            <a:xfrm>
              <a:off x="609480" y="2241720"/>
              <a:ext cx="762120" cy="7617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  <a:effectLst>
              <a:outerShdw dist="63504" dir="3183908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6320" y="2057400"/>
              <a:ext cx="457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6320" y="2698920"/>
              <a:ext cx="457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57200" y="239400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>
              <a:off x="457200" y="285084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125280" y="4083120"/>
            <a:ext cx="1245960" cy="1404360"/>
            <a:chOff x="125280" y="4083120"/>
            <a:chExt cx="1245960" cy="1404360"/>
          </a:xfrm>
        </p:grpSpPr>
        <p:sp>
          <p:nvSpPr>
            <p:cNvPr id="67" name=""/>
            <p:cNvSpPr/>
            <p:nvPr/>
          </p:nvSpPr>
          <p:spPr>
            <a:xfrm>
              <a:off x="125280" y="4083120"/>
              <a:ext cx="457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2480" y="4432320"/>
              <a:ext cx="788760" cy="682560"/>
            </a:xfrm>
            <a:custGeom>
              <a:avLst/>
              <a:gdLst/>
              <a:ahLst/>
              <a:rect l="l" t="t" r="r" b="b"/>
              <a:pathLst>
                <a:path w="394" h="367">
                  <a:moveTo>
                    <a:pt x="100" y="50"/>
                  </a:moveTo>
                  <a:cubicBezTo>
                    <a:pt x="131" y="20"/>
                    <a:pt x="161" y="13"/>
                    <a:pt x="201" y="0"/>
                  </a:cubicBezTo>
                  <a:cubicBezTo>
                    <a:pt x="231" y="3"/>
                    <a:pt x="262" y="4"/>
                    <a:pt x="292" y="8"/>
                  </a:cubicBezTo>
                  <a:cubicBezTo>
                    <a:pt x="304" y="10"/>
                    <a:pt x="317" y="9"/>
                    <a:pt x="326" y="17"/>
                  </a:cubicBezTo>
                  <a:cubicBezTo>
                    <a:pt x="349" y="37"/>
                    <a:pt x="359" y="67"/>
                    <a:pt x="376" y="92"/>
                  </a:cubicBezTo>
                  <a:cubicBezTo>
                    <a:pt x="382" y="100"/>
                    <a:pt x="393" y="117"/>
                    <a:pt x="393" y="117"/>
                  </a:cubicBezTo>
                  <a:cubicBezTo>
                    <a:pt x="390" y="164"/>
                    <a:pt x="394" y="213"/>
                    <a:pt x="384" y="259"/>
                  </a:cubicBezTo>
                  <a:cubicBezTo>
                    <a:pt x="369" y="326"/>
                    <a:pt x="283" y="358"/>
                    <a:pt x="226" y="367"/>
                  </a:cubicBezTo>
                  <a:cubicBezTo>
                    <a:pt x="191" y="363"/>
                    <a:pt x="165" y="364"/>
                    <a:pt x="134" y="351"/>
                  </a:cubicBezTo>
                  <a:cubicBezTo>
                    <a:pt x="95" y="334"/>
                    <a:pt x="65" y="306"/>
                    <a:pt x="25" y="292"/>
                  </a:cubicBezTo>
                  <a:cubicBezTo>
                    <a:pt x="22" y="284"/>
                    <a:pt x="21" y="275"/>
                    <a:pt x="17" y="267"/>
                  </a:cubicBezTo>
                  <a:cubicBezTo>
                    <a:pt x="12" y="258"/>
                    <a:pt x="0" y="252"/>
                    <a:pt x="0" y="242"/>
                  </a:cubicBezTo>
                  <a:cubicBezTo>
                    <a:pt x="0" y="214"/>
                    <a:pt x="19" y="127"/>
                    <a:pt x="34" y="92"/>
                  </a:cubicBezTo>
                  <a:cubicBezTo>
                    <a:pt x="39" y="80"/>
                    <a:pt x="100" y="15"/>
                    <a:pt x="100" y="50"/>
                  </a:cubicBezTo>
                  <a:close/>
                </a:path>
              </a:pathLst>
            </a:custGeom>
            <a:solidFill>
              <a:srgbClr val="009900"/>
            </a:solidFill>
            <a:ln w="9360">
              <a:solidFill>
                <a:srgbClr val="000000"/>
              </a:solidFill>
              <a:round/>
            </a:ln>
            <a:effectLst>
              <a:outerShdw dist="73964" dir="3536435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80" y="4844880"/>
              <a:ext cx="457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29840" y="4540320"/>
              <a:ext cx="457200" cy="18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429840" y="499716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505320" y="2438280"/>
            <a:ext cx="761760" cy="1374120"/>
            <a:chOff x="3505320" y="2438280"/>
            <a:chExt cx="761760" cy="1374120"/>
          </a:xfrm>
        </p:grpSpPr>
        <p:sp>
          <p:nvSpPr>
            <p:cNvPr id="73" name=""/>
            <p:cNvSpPr/>
            <p:nvPr/>
          </p:nvSpPr>
          <p:spPr>
            <a:xfrm>
              <a:off x="3505320" y="33526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809880" y="33526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86200" y="2438280"/>
              <a:ext cx="0" cy="99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6934320" y="2514600"/>
            <a:ext cx="761760" cy="1297800"/>
            <a:chOff x="6934320" y="2514600"/>
            <a:chExt cx="761760" cy="1297800"/>
          </a:xfrm>
        </p:grpSpPr>
        <p:sp>
          <p:nvSpPr>
            <p:cNvPr id="77" name=""/>
            <p:cNvSpPr/>
            <p:nvPr/>
          </p:nvSpPr>
          <p:spPr>
            <a:xfrm>
              <a:off x="6934320" y="33526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238880" y="33526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7238880" y="2514600"/>
              <a:ext cx="0" cy="99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4952880" y="4495680"/>
            <a:ext cx="1219320" cy="990720"/>
            <a:chOff x="4952880" y="4495680"/>
            <a:chExt cx="1219320" cy="990720"/>
          </a:xfrm>
        </p:grpSpPr>
        <p:sp>
          <p:nvSpPr>
            <p:cNvPr id="81" name=""/>
            <p:cNvSpPr/>
            <p:nvPr/>
          </p:nvSpPr>
          <p:spPr>
            <a:xfrm>
              <a:off x="4952880" y="4495680"/>
              <a:ext cx="1143000" cy="9907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486400" y="47242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029200" y="47242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270400" y="46864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15000" y="47242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"/>
          <p:cNvGrpSpPr/>
          <p:nvPr/>
        </p:nvGrpSpPr>
        <p:grpSpPr>
          <a:xfrm>
            <a:off x="3886200" y="3809880"/>
            <a:ext cx="3276720" cy="990720"/>
            <a:chOff x="3886200" y="3809880"/>
            <a:chExt cx="3276720" cy="990720"/>
          </a:xfrm>
        </p:grpSpPr>
        <p:sp>
          <p:nvSpPr>
            <p:cNvPr id="87" name=""/>
            <p:cNvSpPr/>
            <p:nvPr/>
          </p:nvSpPr>
          <p:spPr>
            <a:xfrm>
              <a:off x="3886200" y="3809880"/>
              <a:ext cx="1066680" cy="91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>
              <a:off x="6172200" y="3809880"/>
              <a:ext cx="990720" cy="99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3962520" y="5805360"/>
            <a:ext cx="3429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Yellow R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3276720" y="1600200"/>
            <a:ext cx="4495680" cy="914400"/>
            <a:chOff x="3276720" y="1600200"/>
            <a:chExt cx="4495680" cy="914400"/>
          </a:xfrm>
        </p:grpSpPr>
        <p:grpSp>
          <p:nvGrpSpPr>
            <p:cNvPr id="91" name=""/>
            <p:cNvGrpSpPr/>
            <p:nvPr/>
          </p:nvGrpSpPr>
          <p:grpSpPr>
            <a:xfrm>
              <a:off x="3276720" y="1600200"/>
              <a:ext cx="1218960" cy="838080"/>
              <a:chOff x="3276720" y="1600200"/>
              <a:chExt cx="1218960" cy="838080"/>
            </a:xfrm>
          </p:grpSpPr>
          <p:sp>
            <p:nvSpPr>
              <p:cNvPr id="92" name=""/>
              <p:cNvSpPr/>
              <p:nvPr/>
            </p:nvSpPr>
            <p:spPr>
              <a:xfrm>
                <a:off x="3352680" y="1600200"/>
                <a:ext cx="1067040" cy="83808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3" name=""/>
              <p:cNvGrpSpPr/>
              <p:nvPr/>
            </p:nvGrpSpPr>
            <p:grpSpPr>
              <a:xfrm>
                <a:off x="3276720" y="1752480"/>
                <a:ext cx="685800" cy="459720"/>
                <a:chOff x="3276720" y="1752480"/>
                <a:chExt cx="685800" cy="459720"/>
              </a:xfrm>
            </p:grpSpPr>
            <p:sp>
              <p:nvSpPr>
                <p:cNvPr id="94" name=""/>
                <p:cNvSpPr/>
                <p:nvPr/>
              </p:nvSpPr>
              <p:spPr>
                <a:xfrm>
                  <a:off x="3276720" y="1752480"/>
                  <a:ext cx="4572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Y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>
                  <a:off x="3505320" y="1752480"/>
                  <a:ext cx="4572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Y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6" name=""/>
              <p:cNvGrpSpPr/>
              <p:nvPr/>
            </p:nvGrpSpPr>
            <p:grpSpPr>
              <a:xfrm>
                <a:off x="3809880" y="1752480"/>
                <a:ext cx="685800" cy="459720"/>
                <a:chOff x="3809880" y="1752480"/>
                <a:chExt cx="685800" cy="459720"/>
              </a:xfrm>
            </p:grpSpPr>
            <p:sp>
              <p:nvSpPr>
                <p:cNvPr id="97" name=""/>
                <p:cNvSpPr/>
                <p:nvPr/>
              </p:nvSpPr>
              <p:spPr>
                <a:xfrm>
                  <a:off x="4038480" y="1752480"/>
                  <a:ext cx="4572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R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>
                  <a:off x="3809880" y="1752480"/>
                  <a:ext cx="4572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R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9" name=""/>
            <p:cNvGrpSpPr/>
            <p:nvPr/>
          </p:nvGrpSpPr>
          <p:grpSpPr>
            <a:xfrm>
              <a:off x="6705720" y="1676520"/>
              <a:ext cx="1066680" cy="838080"/>
              <a:chOff x="6705720" y="1676520"/>
              <a:chExt cx="1066680" cy="838080"/>
            </a:xfrm>
          </p:grpSpPr>
          <p:sp>
            <p:nvSpPr>
              <p:cNvPr id="100" name=""/>
              <p:cNvSpPr/>
              <p:nvPr/>
            </p:nvSpPr>
            <p:spPr>
              <a:xfrm>
                <a:off x="6705720" y="1676520"/>
                <a:ext cx="914400" cy="838080"/>
              </a:xfrm>
              <a:custGeom>
                <a:avLst/>
                <a:gdLst/>
                <a:ahLst/>
                <a:rect l="l" t="t" r="r" b="b"/>
                <a:pathLst>
                  <a:path w="394" h="367">
                    <a:moveTo>
                      <a:pt x="100" y="50"/>
                    </a:moveTo>
                    <a:cubicBezTo>
                      <a:pt x="131" y="20"/>
                      <a:pt x="161" y="13"/>
                      <a:pt x="201" y="0"/>
                    </a:cubicBezTo>
                    <a:cubicBezTo>
                      <a:pt x="231" y="3"/>
                      <a:pt x="262" y="4"/>
                      <a:pt x="292" y="8"/>
                    </a:cubicBezTo>
                    <a:cubicBezTo>
                      <a:pt x="304" y="10"/>
                      <a:pt x="317" y="9"/>
                      <a:pt x="326" y="17"/>
                    </a:cubicBezTo>
                    <a:cubicBezTo>
                      <a:pt x="349" y="37"/>
                      <a:pt x="359" y="67"/>
                      <a:pt x="376" y="92"/>
                    </a:cubicBezTo>
                    <a:cubicBezTo>
                      <a:pt x="382" y="100"/>
                      <a:pt x="393" y="117"/>
                      <a:pt x="393" y="117"/>
                    </a:cubicBezTo>
                    <a:cubicBezTo>
                      <a:pt x="390" y="164"/>
                      <a:pt x="394" y="213"/>
                      <a:pt x="384" y="259"/>
                    </a:cubicBezTo>
                    <a:cubicBezTo>
                      <a:pt x="369" y="326"/>
                      <a:pt x="283" y="358"/>
                      <a:pt x="226" y="367"/>
                    </a:cubicBezTo>
                    <a:cubicBezTo>
                      <a:pt x="191" y="363"/>
                      <a:pt x="165" y="364"/>
                      <a:pt x="134" y="351"/>
                    </a:cubicBezTo>
                    <a:cubicBezTo>
                      <a:pt x="95" y="334"/>
                      <a:pt x="65" y="306"/>
                      <a:pt x="25" y="292"/>
                    </a:cubicBezTo>
                    <a:cubicBezTo>
                      <a:pt x="22" y="284"/>
                      <a:pt x="21" y="275"/>
                      <a:pt x="17" y="267"/>
                    </a:cubicBezTo>
                    <a:cubicBezTo>
                      <a:pt x="12" y="258"/>
                      <a:pt x="0" y="252"/>
                      <a:pt x="0" y="242"/>
                    </a:cubicBezTo>
                    <a:cubicBezTo>
                      <a:pt x="0" y="214"/>
                      <a:pt x="19" y="127"/>
                      <a:pt x="34" y="92"/>
                    </a:cubicBezTo>
                    <a:cubicBezTo>
                      <a:pt x="39" y="80"/>
                      <a:pt x="100" y="15"/>
                      <a:pt x="100" y="50"/>
                    </a:cubicBezTo>
                    <a:close/>
                  </a:path>
                </a:pathLst>
              </a:custGeom>
              <a:solidFill>
                <a:srgbClr val="99cc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1" name=""/>
              <p:cNvGrpSpPr/>
              <p:nvPr/>
            </p:nvGrpSpPr>
            <p:grpSpPr>
              <a:xfrm>
                <a:off x="7162920" y="1828800"/>
                <a:ext cx="609480" cy="459720"/>
                <a:chOff x="7162920" y="1828800"/>
                <a:chExt cx="609480" cy="459720"/>
              </a:xfrm>
            </p:grpSpPr>
            <p:sp>
              <p:nvSpPr>
                <p:cNvPr id="102" name=""/>
                <p:cNvSpPr/>
                <p:nvPr/>
              </p:nvSpPr>
              <p:spPr>
                <a:xfrm>
                  <a:off x="7162920" y="1828800"/>
                  <a:ext cx="4572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r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7315200" y="1828800"/>
                  <a:ext cx="4572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r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4" name=""/>
              <p:cNvSpPr/>
              <p:nvPr/>
            </p:nvSpPr>
            <p:spPr>
              <a:xfrm>
                <a:off x="6705720" y="1828800"/>
                <a:ext cx="533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y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" name=""/>
            <p:cNvSpPr/>
            <p:nvPr/>
          </p:nvSpPr>
          <p:spPr>
            <a:xfrm>
              <a:off x="5105520" y="1600200"/>
              <a:ext cx="685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4213C-1281-46E6-B0D0-9E4017C97860}" type="slidenum">
              <a:t>4</a:t>
            </a:fld>
          </a:p>
        </p:txBody>
      </p:sp>
    </p:spTree>
  </p:cSld>
  <p:transition spd="med">
    <p:random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500"/>
                            </p:stCondLst>
                            <p:childTnLst>
                              <p:par>
                                <p:cTn id="7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1000"/>
                            </p:stCondLst>
                            <p:childTnLst>
                              <p:par>
                                <p:cTn id="9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2133720" y="76320"/>
            <a:ext cx="4990680" cy="1066320"/>
            <a:chOff x="2133720" y="76320"/>
            <a:chExt cx="4990680" cy="1066320"/>
          </a:xfrm>
        </p:grpSpPr>
        <p:grpSp>
          <p:nvGrpSpPr>
            <p:cNvPr id="107" name=""/>
            <p:cNvGrpSpPr/>
            <p:nvPr/>
          </p:nvGrpSpPr>
          <p:grpSpPr>
            <a:xfrm>
              <a:off x="2133720" y="76320"/>
              <a:ext cx="1257120" cy="990360"/>
              <a:chOff x="2133720" y="76320"/>
              <a:chExt cx="1257120" cy="990360"/>
            </a:xfrm>
          </p:grpSpPr>
          <p:sp>
            <p:nvSpPr>
              <p:cNvPr id="108" name=""/>
              <p:cNvSpPr/>
              <p:nvPr/>
            </p:nvSpPr>
            <p:spPr>
              <a:xfrm>
                <a:off x="2133720" y="76320"/>
                <a:ext cx="1143000" cy="99036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81185" dir="847803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2666880" y="266760"/>
                <a:ext cx="457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R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209680" y="279360"/>
                <a:ext cx="4572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Y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2451240" y="26676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933640" y="30492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r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4267080" y="243000"/>
              <a:ext cx="685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4" name=""/>
            <p:cNvGrpSpPr/>
            <p:nvPr/>
          </p:nvGrpSpPr>
          <p:grpSpPr>
            <a:xfrm>
              <a:off x="5867280" y="152280"/>
              <a:ext cx="1257120" cy="990360"/>
              <a:chOff x="5867280" y="152280"/>
              <a:chExt cx="1257120" cy="990360"/>
            </a:xfrm>
          </p:grpSpPr>
          <p:sp>
            <p:nvSpPr>
              <p:cNvPr id="115" name=""/>
              <p:cNvSpPr/>
              <p:nvPr/>
            </p:nvSpPr>
            <p:spPr>
              <a:xfrm>
                <a:off x="5867280" y="152280"/>
                <a:ext cx="1143000" cy="99036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81185" dir="847803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6400440" y="342720"/>
                <a:ext cx="457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R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943240" y="355320"/>
                <a:ext cx="4572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Y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184800" y="34272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667200" y="38088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r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0" name=""/>
          <p:cNvGrpSpPr/>
          <p:nvPr/>
        </p:nvGrpSpPr>
        <p:grpSpPr>
          <a:xfrm>
            <a:off x="533520" y="1295280"/>
            <a:ext cx="7848360" cy="4116600"/>
            <a:chOff x="533520" y="1295280"/>
            <a:chExt cx="7848360" cy="4116600"/>
          </a:xfrm>
        </p:grpSpPr>
        <p:sp>
          <p:nvSpPr>
            <p:cNvPr id="121" name=""/>
            <p:cNvSpPr/>
            <p:nvPr/>
          </p:nvSpPr>
          <p:spPr>
            <a:xfrm>
              <a:off x="6515280" y="4495680"/>
              <a:ext cx="179064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yr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724280" y="4495680"/>
              <a:ext cx="179100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933640" y="4495680"/>
              <a:ext cx="179064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143000" y="4495680"/>
              <a:ext cx="179064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515280" y="3581280"/>
              <a:ext cx="179064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724280" y="3581280"/>
              <a:ext cx="179100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yR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933640" y="3581280"/>
              <a:ext cx="179064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143000" y="3581280"/>
              <a:ext cx="179064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515280" y="2666880"/>
              <a:ext cx="179064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724280" y="2666880"/>
              <a:ext cx="179100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933640" y="2666880"/>
              <a:ext cx="179064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Yr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143000" y="2666880"/>
              <a:ext cx="179064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15280" y="1752480"/>
              <a:ext cx="179064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724280" y="1752480"/>
              <a:ext cx="179100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933640" y="1752480"/>
              <a:ext cx="179064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143000" y="1752480"/>
              <a:ext cx="179064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YR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143000" y="1752480"/>
              <a:ext cx="716292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143000" y="2666880"/>
              <a:ext cx="7162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143000" y="3581280"/>
              <a:ext cx="7162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143000" y="4495680"/>
              <a:ext cx="7162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143000" y="5410080"/>
              <a:ext cx="716292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143000" y="1752480"/>
              <a:ext cx="0" cy="36576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933640" y="1752480"/>
              <a:ext cx="0" cy="3657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724280" y="1752480"/>
              <a:ext cx="0" cy="3657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515280" y="1752480"/>
              <a:ext cx="0" cy="3657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8305920" y="1752480"/>
              <a:ext cx="0" cy="36576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828800" y="129528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581280" y="1295280"/>
              <a:ext cx="6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257800" y="129528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086600" y="1295280"/>
              <a:ext cx="609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33520" y="190512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09480" y="2819520"/>
              <a:ext cx="6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09480" y="3657600"/>
              <a:ext cx="6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09480" y="4708440"/>
              <a:ext cx="609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295280" y="2330280"/>
              <a:ext cx="1676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Yellow Rou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971800" y="32446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ellow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Wrinkle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648320" y="4129200"/>
              <a:ext cx="1904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Green Rou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400800" y="5043600"/>
              <a:ext cx="1981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Green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Wrinkl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76320" y="6186600"/>
            <a:ext cx="2743200" cy="5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: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% of Phenotype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781680" y="647712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ge 253, Fig. 14.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685800" y="1218960"/>
            <a:ext cx="7543800" cy="4496040"/>
            <a:chOff x="685800" y="1218960"/>
            <a:chExt cx="7543800" cy="4496040"/>
          </a:xfrm>
        </p:grpSpPr>
        <p:grpSp>
          <p:nvGrpSpPr>
            <p:cNvPr id="162" name=""/>
            <p:cNvGrpSpPr/>
            <p:nvPr/>
          </p:nvGrpSpPr>
          <p:grpSpPr>
            <a:xfrm>
              <a:off x="8001000" y="1218960"/>
              <a:ext cx="228600" cy="457560"/>
              <a:chOff x="8001000" y="1218960"/>
              <a:chExt cx="228600" cy="457560"/>
            </a:xfrm>
          </p:grpSpPr>
          <p:sp>
            <p:nvSpPr>
              <p:cNvPr id="163" name=""/>
              <p:cNvSpPr/>
              <p:nvPr/>
            </p:nvSpPr>
            <p:spPr>
              <a:xfrm>
                <a:off x="8001000" y="1447920"/>
                <a:ext cx="228600" cy="228600"/>
              </a:xfrm>
              <a:prstGeom prst="ellipse">
                <a:avLst/>
              </a:prstGeom>
              <a:gradFill rotWithShape="0">
                <a:gsLst>
                  <a:gs pos="0">
                    <a:srgbClr val="0000ff"/>
                  </a:gs>
                  <a:gs pos="100000">
                    <a:srgbClr val="000075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flipV="1">
                <a:off x="8153280" y="1218960"/>
                <a:ext cx="76320" cy="228600"/>
              </a:xfrm>
              <a:prstGeom prst="line">
                <a:avLst/>
              </a:prstGeom>
              <a:ln w="5724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5" name=""/>
            <p:cNvGrpSpPr/>
            <p:nvPr/>
          </p:nvGrpSpPr>
          <p:grpSpPr>
            <a:xfrm>
              <a:off x="685800" y="5181480"/>
              <a:ext cx="228600" cy="533520"/>
              <a:chOff x="685800" y="5181480"/>
              <a:chExt cx="228600" cy="533520"/>
            </a:xfrm>
          </p:grpSpPr>
          <p:sp>
            <p:nvSpPr>
              <p:cNvPr id="166" name=""/>
              <p:cNvSpPr/>
              <p:nvPr/>
            </p:nvSpPr>
            <p:spPr>
              <a:xfrm>
                <a:off x="685800" y="5181480"/>
                <a:ext cx="228600" cy="22860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800280" y="5410080"/>
                <a:ext cx="0" cy="3049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685800" y="5562720"/>
                <a:ext cx="22860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F8BF9-4373-4F9A-B7FF-92661D86F0D2}" type="slidenum">
              <a:t>5</a:t>
            </a:fld>
          </a:p>
        </p:txBody>
      </p:sp>
    </p:spTree>
  </p:cSld>
  <p:transition spd="med">
    <p:random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4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15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ousands of genetic disorders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أمراض وراثية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including disabling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الإعاقة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deadly hereditary diseases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الأمراض الوراثية المُميتة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re inherited as simpl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cessiv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raits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صفات وراثية مُتنحية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se range from the relatively mild (albinism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الألبينو، البُهاق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 to life-threatening (cystic fibrosi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Heterozygotes have a normal phenotyp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because one “normal” allele produces enough of the required factors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normal trai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A recessively inherited disorder shows up </a:t>
            </a:r>
            <a:r>
              <a:rPr b="1" lang="ar-EG" sz="1800" spc="-1" strike="noStrike" u="sng">
                <a:solidFill>
                  <a:srgbClr val="0000ff"/>
                </a:solidFill>
                <a:uFillTx/>
                <a:latin typeface="Arial"/>
              </a:rPr>
              <a:t>يظهر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 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only in the individuals who inherit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homozygous recessive allele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 from par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us, individuals who lack the disorder are either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homozgyous dominan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heterozygou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terozygous member may have no clear phenotypic effects, but is a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rri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who may transmit a recessive allele to their offspr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st people with recessive disorders are born from carrier parents with normal phenotyp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wo carriers have a 1/4 chance of having a child with the disorder, 1/2 chance of a carrier, and 1/4 fre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title"/>
          </p:nvPr>
        </p:nvSpPr>
        <p:spPr>
          <a:xfrm>
            <a:off x="228600" y="15192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Many human disorders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أمراض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follow Mendelian patterns of inheri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52280" y="106668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DD2AE-7749-44F6-A4C0-B81862DFCD58}" type="slidenum">
              <a:t>6</a:t>
            </a:fld>
          </a:p>
        </p:txBody>
      </p:sp>
    </p:spTree>
  </p:cSld>
  <p:transition spd="med">
    <p:random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380880" y="658440"/>
            <a:ext cx="8382240" cy="342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Cystic fibrosis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lethal recessive dis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e in 25 person is a carri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normal allele codes for a membrane protein that transports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Cl</a:t>
            </a:r>
            <a:r>
              <a:rPr b="1" lang="en-US" sz="1800" spc="-1" strike="noStrike" baseline="30000">
                <a:solidFill>
                  <a:srgbClr val="0000ff"/>
                </a:solidFill>
                <a:latin typeface="Arial"/>
              </a:rPr>
              <a:t>-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between cells and the environ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f these channels are absent, there are abnormally high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extracellular levels of chlorid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hat causes the mucus coats of certain cells to become thicker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سميكة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d stickier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لزجة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an norm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mucus build-up in the pancreas, lungs, digestive tract, and elsewhere favors bacterial infec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thout treatment, affected children die before five, but with treatment can live past their late 20’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28600" y="4251240"/>
            <a:ext cx="8763120" cy="20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spcBef>
                <a:spcPts val="451"/>
              </a:spcBef>
              <a:buClr>
                <a:srgbClr val="ff0000"/>
              </a:buClr>
              <a:buFont typeface="Arial"/>
              <a:buAutoNum type="arabicPeriod" startAt="2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ay-Sachs diseas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lethal recessive disord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t is caused by a dysfunctional enzyme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إنزيم غير عامل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at fails to break down specific brain lipi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symptoms begin with seizure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حول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blindness, and degeneration of motor and mental performance a few months after birth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evitably, the child dies after a few yea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04920" y="15228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</a:rPr>
              <a:t>A- Recessively inherited disorders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الصفات المرضية المتنح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8D184-7B8A-455E-9705-B7A8B1E5965B}" type="slidenum">
              <a:t>7</a:t>
            </a:fld>
          </a:p>
        </p:txBody>
      </p:sp>
    </p:spTree>
  </p:cSld>
  <p:transition spd="med">
    <p:random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5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500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500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75960" y="151920"/>
            <a:ext cx="8839080" cy="56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700"/>
              </a:spcBef>
              <a:buClr>
                <a:srgbClr val="ff0000"/>
              </a:buClr>
              <a:buFont typeface="Arial"/>
              <a:buAutoNum type="arabicPeriod" startAt="3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ickle-cell disease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خلايا الدم الهلالية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 is caused by the substitution of a single amino acid in hemoglob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en oxygen levels in                                                                            the blood of an affected                                                                  individual are low,                                                                                 sickle-cell hemoglobin                                                                     crystallizes into long                                                                             ro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deforms red blood                                                                        cells into a sickle shap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ctors can use regular                                                                      blood transfusions to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event brain damage                                                                            and new drugs to                                                                                         prevent or treat other                                                                      proble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rcRect l="0" t="0" r="0" b="4466"/>
          <a:stretch/>
        </p:blipFill>
        <p:spPr>
          <a:xfrm>
            <a:off x="4114800" y="990720"/>
            <a:ext cx="4889520" cy="510516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228600" y="6080040"/>
            <a:ext cx="8381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The two alleles ar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dominant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as both normal and abnormal hemoglobins are synthesiz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7C3F2-A0D0-4CCB-B840-ACEA5F37F9A7}" type="slidenum">
              <a:t>8</a:t>
            </a:fld>
          </a:p>
        </p:txBody>
      </p:sp>
    </p:spTree>
  </p:cSld>
  <p:transition spd="med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304560" y="864720"/>
            <a:ext cx="83818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ly it is relatively unlikely that two carriers of the same rare harmful allele will meet and ma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wever,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nsanguineous mating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زواج الأقارب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those between close relatives, increase the ris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se individuals who share a recent common ancestor are more likely to carry the same recessive alle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societies and cultures have laws or taboos forbidding marriages between close relativ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B10B6-9B5F-4DBA-8251-812F02C90CA6}" type="slidenum">
              <a:t>9</a:t>
            </a:fld>
          </a:p>
        </p:txBody>
      </p:sp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07:53:54Z</dcterms:created>
  <dc:creator>User</dc:creator>
  <dc:description/>
  <dc:language>en-US</dc:language>
  <cp:lastModifiedBy>User</cp:lastModifiedBy>
  <dcterms:modified xsi:type="dcterms:W3CDTF">2006-10-27T20:05:33Z</dcterms:modified>
  <cp:revision>100</cp:revision>
  <dc:subject/>
  <dc:title>Slide 1</dc:title>
</cp:coreProperties>
</file>