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D2F70-AA7C-4C2D-8F99-17D9E3AD5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131D1-5C54-45FB-A707-74EBB8CF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5E755-D8FA-414A-B7CE-34D3FE6E4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D74A3-2753-4F7A-BD4A-1D09C4BD7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F3DE-E33D-4FCB-9344-EC7F1A39E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AB9D0-6F10-4B36-9989-8BA9AE858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940D9-F315-4807-AE29-FB322E899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8CDC-E754-4116-A152-1F6631BD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AF900-61CA-4410-A26F-7558FC73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0772-EC72-4C9D-AF44-359F25947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BFBD-DEAE-45C2-B533-3C979025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01C3-F2D0-47C3-96D7-B4C9F548D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7DBF-B94E-437A-9234-2B157E02AB8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tretch/>
        </p:blipFill>
        <p:spPr>
          <a:xfrm>
            <a:off x="4648320" y="2654280"/>
            <a:ext cx="449568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922E-1052-4082-8192-DF9BD257C35B}"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User</cp:lastModifiedBy>
  <dcterms:modified xsi:type="dcterms:W3CDTF">2013-04-01T11:31:43Z</dcterms:modified>
  <cp:revision>143</cp:revision>
  <dc:subject/>
  <dc:title>Slide 1</dc:title>
</cp:coreProperties>
</file>