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9D10-5AD5-4DF7-91C7-8CB6B9F0027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1EDC-8A2B-4ABE-8777-DC3CA137D3E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CEB9-9F06-4CDC-B46B-68B7A88CF1D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F2A6-D909-4445-B6BF-41461353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EC41-43A6-4098-9F79-4593F928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7FC-B8B6-4E17-9CFC-C23EB235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CDFB-0013-48F5-815F-09D2C813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9D1D-D77F-41B2-BADC-1CD94F4F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1FE9-6DE0-4FDB-B748-11DBB900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86FA-3CD2-47A1-BA73-30309D3F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BA7F-0C80-4E47-8A1E-CA232434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6BF-EC22-4C85-9064-465CD1A1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307B-8E8B-47D4-ACFE-15D182F7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5260-5313-4B8B-80F3-8D7FE79F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747C-E603-43FD-A8EB-CFD71746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E25E-3B4E-41D9-8589-66E907AD6D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C634-14A2-4633-AD3E-471A73E8B4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219320" y="1600200"/>
            <a:ext cx="6858000" cy="1190880"/>
          </a:xfrm>
          <a:prstGeom prst="rect">
            <a:avLst/>
          </a:prstGeom>
          <a:solidFill>
            <a:srgbClr val="0033cc"/>
          </a:solidFill>
          <a:ln w="9360">
            <a:solidFill>
              <a:srgbClr val="d60093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NA Replication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نـَسْـــــخ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الـ د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2"/>
          <p:cNvGrpSpPr/>
          <p:nvPr/>
        </p:nvGrpSpPr>
        <p:grpSpPr>
          <a:xfrm>
            <a:off x="762120" y="2514600"/>
            <a:ext cx="7543800" cy="3276720"/>
            <a:chOff x="762120" y="2514600"/>
            <a:chExt cx="7543800" cy="3276720"/>
          </a:xfrm>
        </p:grpSpPr>
        <p:sp>
          <p:nvSpPr>
            <p:cNvPr id="54" name="Rectangle 20"/>
            <p:cNvSpPr/>
            <p:nvPr/>
          </p:nvSpPr>
          <p:spPr>
            <a:xfrm>
              <a:off x="762120" y="2514600"/>
              <a:ext cx="7543800" cy="3276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1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838440" y="2578320"/>
              <a:ext cx="7416720" cy="314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21"/>
          <p:cNvSpPr/>
          <p:nvPr/>
        </p:nvSpPr>
        <p:spPr>
          <a:xfrm>
            <a:off x="1371600" y="3808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"/>
          <p:cNvPicPr/>
          <p:nvPr/>
        </p:nvPicPr>
        <p:blipFill>
          <a:blip r:embed="rId3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4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5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8"/>
          <p:cNvSpPr/>
          <p:nvPr/>
        </p:nvSpPr>
        <p:spPr>
          <a:xfrm>
            <a:off x="1522800" y="6324480"/>
            <a:ext cx="59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spine.rutgers.edu/cellbio/assets/flash/bidir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1447920" y="6033960"/>
            <a:ext cx="60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60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1" descr=""/>
          <p:cNvPicPr/>
          <p:nvPr/>
        </p:nvPicPr>
        <p:blipFill>
          <a:blip r:embed="rId6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rand is making its own new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 synthesis is occurring in two different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is being made towards the replication fork and the other is being made away from the fork.  The strand being made away from the fork has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s are later joined by another enzyme, DNA lig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380880" y="3481560"/>
            <a:ext cx="533412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trands in the double helix are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ntiparallel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ازيين و متضادين فى الإتجا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gar-phosphate backbones run in opposite dir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ach DNA str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has a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end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O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deoxyribose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5’ e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phosph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oxyrib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5’ -&gt;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rection of one strand runs counter to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مُعاكس ل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’ -&gt; 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 direction of the other str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867280" y="236232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066680" y="4835520"/>
            <a:ext cx="38124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MMARY OF DNA REPLIC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1203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DNA-strands separate forming replication bub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04920" y="158436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strand functions as a template for synthesizing new complementary &amp; lagging strand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rimers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olymerase and lig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1523880" y="3247920"/>
            <a:ext cx="5410080" cy="635040"/>
            <a:chOff x="1523880" y="3247920"/>
            <a:chExt cx="5410080" cy="635040"/>
          </a:xfrm>
        </p:grpSpPr>
        <p:sp>
          <p:nvSpPr>
            <p:cNvPr id="111" name="AutoShape 7"/>
            <p:cNvSpPr/>
            <p:nvPr/>
          </p:nvSpPr>
          <p:spPr>
            <a:xfrm flipV="1" rot="16200000">
              <a:off x="4647600" y="338760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8"/>
            <p:cNvSpPr/>
            <p:nvPr/>
          </p:nvSpPr>
          <p:spPr>
            <a:xfrm rot="16200000">
              <a:off x="3047760" y="3387600"/>
              <a:ext cx="53352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 rot="5400000">
              <a:off x="5397120" y="337500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0"/>
            <p:cNvSpPr/>
            <p:nvPr/>
          </p:nvSpPr>
          <p:spPr>
            <a:xfrm rot="16200000">
              <a:off x="1523880" y="3362400"/>
              <a:ext cx="533520" cy="3045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1"/>
            <p:cNvSpPr/>
            <p:nvPr/>
          </p:nvSpPr>
          <p:spPr>
            <a:xfrm>
              <a:off x="313668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2"/>
            <p:cNvSpPr/>
            <p:nvPr/>
          </p:nvSpPr>
          <p:spPr>
            <a:xfrm>
              <a:off x="472428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 flipV="1" rot="5400000">
              <a:off x="2228400" y="3406680"/>
              <a:ext cx="571680" cy="30492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 flipV="1" rot="16200000">
              <a:off x="3847320" y="336204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5"/>
            <p:cNvSpPr/>
            <p:nvPr/>
          </p:nvSpPr>
          <p:spPr>
            <a:xfrm>
              <a:off x="548640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 rot="16200000">
              <a:off x="6235560" y="338796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1625400" y="32734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523880" y="365436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3949560" y="3311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2361960" y="33624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1"/>
            <p:cNvSpPr/>
            <p:nvPr/>
          </p:nvSpPr>
          <p:spPr>
            <a:xfrm>
              <a:off x="6324480" y="32734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2"/>
          <p:cNvGrpSpPr/>
          <p:nvPr/>
        </p:nvGrpSpPr>
        <p:grpSpPr>
          <a:xfrm>
            <a:off x="1523880" y="2651040"/>
            <a:ext cx="5410080" cy="697680"/>
            <a:chOff x="1523880" y="2651040"/>
            <a:chExt cx="5410080" cy="697680"/>
          </a:xfrm>
        </p:grpSpPr>
        <p:sp>
          <p:nvSpPr>
            <p:cNvPr id="127" name="AutoShape 23"/>
            <p:cNvSpPr/>
            <p:nvPr/>
          </p:nvSpPr>
          <p:spPr>
            <a:xfrm flipV="1" rot="5400000">
              <a:off x="4635360" y="291780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24"/>
            <p:cNvSpPr/>
            <p:nvPr/>
          </p:nvSpPr>
          <p:spPr>
            <a:xfrm rot="5400000">
              <a:off x="3047400" y="291744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5"/>
            <p:cNvSpPr/>
            <p:nvPr/>
          </p:nvSpPr>
          <p:spPr>
            <a:xfrm rot="5400000">
              <a:off x="6235560" y="2917800"/>
              <a:ext cx="53352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6"/>
            <p:cNvSpPr/>
            <p:nvPr/>
          </p:nvSpPr>
          <p:spPr>
            <a:xfrm flipV="1" rot="5400000">
              <a:off x="2279520" y="2948400"/>
              <a:ext cx="469800" cy="30492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7"/>
            <p:cNvSpPr/>
            <p:nvPr/>
          </p:nvSpPr>
          <p:spPr>
            <a:xfrm>
              <a:off x="4698720" y="2905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8"/>
            <p:cNvSpPr/>
            <p:nvPr/>
          </p:nvSpPr>
          <p:spPr>
            <a:xfrm flipV="1" rot="5400000">
              <a:off x="5397480" y="292932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9"/>
            <p:cNvSpPr/>
            <p:nvPr/>
          </p:nvSpPr>
          <p:spPr>
            <a:xfrm rot="16200000">
              <a:off x="3828960" y="289836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30"/>
            <p:cNvSpPr/>
            <p:nvPr/>
          </p:nvSpPr>
          <p:spPr>
            <a:xfrm rot="16200000">
              <a:off x="1485720" y="2867040"/>
              <a:ext cx="609840" cy="30456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1523880" y="265104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2"/>
            <p:cNvSpPr/>
            <p:nvPr/>
          </p:nvSpPr>
          <p:spPr>
            <a:xfrm>
              <a:off x="16002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"/>
            <p:cNvSpPr/>
            <p:nvPr/>
          </p:nvSpPr>
          <p:spPr>
            <a:xfrm>
              <a:off x="54864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4"/>
            <p:cNvSpPr/>
            <p:nvPr/>
          </p:nvSpPr>
          <p:spPr>
            <a:xfrm>
              <a:off x="39495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5"/>
            <p:cNvSpPr/>
            <p:nvPr/>
          </p:nvSpPr>
          <p:spPr>
            <a:xfrm>
              <a:off x="23493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6"/>
            <p:cNvSpPr/>
            <p:nvPr/>
          </p:nvSpPr>
          <p:spPr>
            <a:xfrm>
              <a:off x="632448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7"/>
            <p:cNvSpPr/>
            <p:nvPr/>
          </p:nvSpPr>
          <p:spPr>
            <a:xfrm>
              <a:off x="3136680" y="29178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8"/>
          <p:cNvGrpSpPr/>
          <p:nvPr/>
        </p:nvGrpSpPr>
        <p:grpSpPr>
          <a:xfrm>
            <a:off x="1447920" y="4924440"/>
            <a:ext cx="5410080" cy="697320"/>
            <a:chOff x="1447920" y="4924440"/>
            <a:chExt cx="5410080" cy="697320"/>
          </a:xfrm>
        </p:grpSpPr>
        <p:sp>
          <p:nvSpPr>
            <p:cNvPr id="143" name="AutoShape 39"/>
            <p:cNvSpPr/>
            <p:nvPr/>
          </p:nvSpPr>
          <p:spPr>
            <a:xfrm flipV="1" rot="5400000">
              <a:off x="4559760" y="5190840"/>
              <a:ext cx="53280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40"/>
            <p:cNvSpPr/>
            <p:nvPr/>
          </p:nvSpPr>
          <p:spPr>
            <a:xfrm rot="5400000">
              <a:off x="2971800" y="5190480"/>
              <a:ext cx="53280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41"/>
            <p:cNvSpPr/>
            <p:nvPr/>
          </p:nvSpPr>
          <p:spPr>
            <a:xfrm rot="5400000">
              <a:off x="6159960" y="5190840"/>
              <a:ext cx="53280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2"/>
            <p:cNvSpPr/>
            <p:nvPr/>
          </p:nvSpPr>
          <p:spPr>
            <a:xfrm flipV="1" rot="5400000">
              <a:off x="2203560" y="5222160"/>
              <a:ext cx="469440" cy="3049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43"/>
            <p:cNvSpPr/>
            <p:nvPr/>
          </p:nvSpPr>
          <p:spPr>
            <a:xfrm>
              <a:off x="4622760" y="51782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44"/>
            <p:cNvSpPr/>
            <p:nvPr/>
          </p:nvSpPr>
          <p:spPr>
            <a:xfrm flipV="1" rot="5400000">
              <a:off x="5321520" y="520236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45"/>
            <p:cNvSpPr/>
            <p:nvPr/>
          </p:nvSpPr>
          <p:spPr>
            <a:xfrm rot="16200000">
              <a:off x="3753000" y="5171400"/>
              <a:ext cx="570960" cy="304920"/>
            </a:xfrm>
            <a:custGeom>
              <a:avLst/>
              <a:gdLst>
                <a:gd name="textAreaLeft" fmla="*/ 0 w 570960"/>
                <a:gd name="textAreaRight" fmla="*/ 570960 w 570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6"/>
            <p:cNvSpPr/>
            <p:nvPr/>
          </p:nvSpPr>
          <p:spPr>
            <a:xfrm rot="16200000">
              <a:off x="1410120" y="5140080"/>
              <a:ext cx="609120" cy="30456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1447920" y="492444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48"/>
            <p:cNvSpPr/>
            <p:nvPr/>
          </p:nvSpPr>
          <p:spPr>
            <a:xfrm>
              <a:off x="15242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9"/>
            <p:cNvSpPr/>
            <p:nvPr/>
          </p:nvSpPr>
          <p:spPr>
            <a:xfrm>
              <a:off x="54104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0"/>
            <p:cNvSpPr/>
            <p:nvPr/>
          </p:nvSpPr>
          <p:spPr>
            <a:xfrm>
              <a:off x="38736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1"/>
            <p:cNvSpPr/>
            <p:nvPr/>
          </p:nvSpPr>
          <p:spPr>
            <a:xfrm>
              <a:off x="22734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52"/>
            <p:cNvSpPr/>
            <p:nvPr/>
          </p:nvSpPr>
          <p:spPr>
            <a:xfrm>
              <a:off x="624852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53"/>
            <p:cNvSpPr/>
            <p:nvPr/>
          </p:nvSpPr>
          <p:spPr>
            <a:xfrm>
              <a:off x="3060720" y="51908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54"/>
          <p:cNvSpPr/>
          <p:nvPr/>
        </p:nvSpPr>
        <p:spPr>
          <a:xfrm>
            <a:off x="1981080" y="4886280"/>
            <a:ext cx="152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5"/>
          <p:cNvSpPr/>
          <p:nvPr/>
        </p:nvSpPr>
        <p:spPr>
          <a:xfrm>
            <a:off x="27432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6"/>
          <p:cNvSpPr/>
          <p:nvPr/>
        </p:nvSpPr>
        <p:spPr>
          <a:xfrm>
            <a:off x="3581280" y="4861080"/>
            <a:ext cx="152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7"/>
          <p:cNvSpPr/>
          <p:nvPr/>
        </p:nvSpPr>
        <p:spPr>
          <a:xfrm>
            <a:off x="43434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8"/>
          <p:cNvSpPr/>
          <p:nvPr/>
        </p:nvSpPr>
        <p:spPr>
          <a:xfrm>
            <a:off x="510552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9"/>
          <p:cNvSpPr/>
          <p:nvPr/>
        </p:nvSpPr>
        <p:spPr>
          <a:xfrm>
            <a:off x="59436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60"/>
          <p:cNvGrpSpPr/>
          <p:nvPr/>
        </p:nvGrpSpPr>
        <p:grpSpPr>
          <a:xfrm>
            <a:off x="1523880" y="3260520"/>
            <a:ext cx="5410080" cy="634680"/>
            <a:chOff x="1523880" y="3260520"/>
            <a:chExt cx="5410080" cy="634680"/>
          </a:xfrm>
        </p:grpSpPr>
        <p:sp>
          <p:nvSpPr>
            <p:cNvPr id="165" name="AutoShape 61"/>
            <p:cNvSpPr/>
            <p:nvPr/>
          </p:nvSpPr>
          <p:spPr>
            <a:xfrm flipV="1" rot="16200000">
              <a:off x="4647960" y="3399480"/>
              <a:ext cx="53316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62"/>
            <p:cNvSpPr/>
            <p:nvPr/>
          </p:nvSpPr>
          <p:spPr>
            <a:xfrm rot="16200000">
              <a:off x="3048120" y="3399840"/>
              <a:ext cx="53316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63"/>
            <p:cNvSpPr/>
            <p:nvPr/>
          </p:nvSpPr>
          <p:spPr>
            <a:xfrm rot="5400000">
              <a:off x="5397120" y="3387240"/>
              <a:ext cx="532800" cy="30492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64"/>
            <p:cNvSpPr/>
            <p:nvPr/>
          </p:nvSpPr>
          <p:spPr>
            <a:xfrm rot="16200000">
              <a:off x="1523880" y="337464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5"/>
            <p:cNvSpPr/>
            <p:nvPr/>
          </p:nvSpPr>
          <p:spPr>
            <a:xfrm>
              <a:off x="3136680" y="3298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66"/>
            <p:cNvSpPr/>
            <p:nvPr/>
          </p:nvSpPr>
          <p:spPr>
            <a:xfrm>
              <a:off x="472428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67"/>
            <p:cNvSpPr/>
            <p:nvPr/>
          </p:nvSpPr>
          <p:spPr>
            <a:xfrm flipV="1" rot="5400000">
              <a:off x="2228760" y="341820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68"/>
            <p:cNvSpPr/>
            <p:nvPr/>
          </p:nvSpPr>
          <p:spPr>
            <a:xfrm flipV="1" rot="16200000">
              <a:off x="3847680" y="337428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9"/>
            <p:cNvSpPr/>
            <p:nvPr/>
          </p:nvSpPr>
          <p:spPr>
            <a:xfrm>
              <a:off x="548640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70"/>
            <p:cNvSpPr/>
            <p:nvPr/>
          </p:nvSpPr>
          <p:spPr>
            <a:xfrm rot="16200000">
              <a:off x="6235560" y="3399840"/>
              <a:ext cx="53316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71"/>
            <p:cNvSpPr/>
            <p:nvPr/>
          </p:nvSpPr>
          <p:spPr>
            <a:xfrm>
              <a:off x="162540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72"/>
            <p:cNvSpPr/>
            <p:nvPr/>
          </p:nvSpPr>
          <p:spPr>
            <a:xfrm>
              <a:off x="1523880" y="366696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3"/>
            <p:cNvSpPr/>
            <p:nvPr/>
          </p:nvSpPr>
          <p:spPr>
            <a:xfrm>
              <a:off x="3949560" y="3324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4"/>
            <p:cNvSpPr/>
            <p:nvPr/>
          </p:nvSpPr>
          <p:spPr>
            <a:xfrm>
              <a:off x="2361960" y="3375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5"/>
            <p:cNvSpPr/>
            <p:nvPr/>
          </p:nvSpPr>
          <p:spPr>
            <a:xfrm>
              <a:off x="6324480" y="3286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76"/>
          <p:cNvGrpSpPr/>
          <p:nvPr/>
        </p:nvGrpSpPr>
        <p:grpSpPr>
          <a:xfrm>
            <a:off x="7009920" y="2879280"/>
            <a:ext cx="1676520" cy="2972160"/>
            <a:chOff x="7009920" y="2879280"/>
            <a:chExt cx="1676520" cy="2972160"/>
          </a:xfrm>
        </p:grpSpPr>
        <p:sp>
          <p:nvSpPr>
            <p:cNvPr id="181" name="Text Box 77"/>
            <p:cNvSpPr/>
            <p:nvPr/>
          </p:nvSpPr>
          <p:spPr>
            <a:xfrm>
              <a:off x="7238880" y="415944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8"/>
            <p:cNvSpPr/>
            <p:nvPr/>
          </p:nvSpPr>
          <p:spPr>
            <a:xfrm flipH="1" flipV="1">
              <a:off x="7009920" y="2879280"/>
              <a:ext cx="99036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9"/>
            <p:cNvSpPr/>
            <p:nvPr/>
          </p:nvSpPr>
          <p:spPr>
            <a:xfrm flipH="1">
              <a:off x="7162200" y="4556160"/>
              <a:ext cx="76212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80"/>
          <p:cNvGrpSpPr/>
          <p:nvPr/>
        </p:nvGrpSpPr>
        <p:grpSpPr>
          <a:xfrm>
            <a:off x="1066680" y="2270160"/>
            <a:ext cx="6248160" cy="475200"/>
            <a:chOff x="1066680" y="2270160"/>
            <a:chExt cx="6248160" cy="475200"/>
          </a:xfrm>
        </p:grpSpPr>
        <p:sp>
          <p:nvSpPr>
            <p:cNvPr id="185" name="Text Box 81"/>
            <p:cNvSpPr/>
            <p:nvPr/>
          </p:nvSpPr>
          <p:spPr>
            <a:xfrm>
              <a:off x="6933960" y="22701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2"/>
            <p:cNvSpPr/>
            <p:nvPr/>
          </p:nvSpPr>
          <p:spPr>
            <a:xfrm>
              <a:off x="1066680" y="23464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83"/>
          <p:cNvGrpSpPr/>
          <p:nvPr/>
        </p:nvGrpSpPr>
        <p:grpSpPr>
          <a:xfrm>
            <a:off x="990720" y="5835600"/>
            <a:ext cx="6400800" cy="475200"/>
            <a:chOff x="990720" y="5835600"/>
            <a:chExt cx="6400800" cy="475200"/>
          </a:xfrm>
        </p:grpSpPr>
        <p:sp>
          <p:nvSpPr>
            <p:cNvPr id="188" name="Text Box 84"/>
            <p:cNvSpPr/>
            <p:nvPr/>
          </p:nvSpPr>
          <p:spPr>
            <a:xfrm>
              <a:off x="7010640" y="58356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85"/>
            <p:cNvSpPr/>
            <p:nvPr/>
          </p:nvSpPr>
          <p:spPr>
            <a:xfrm>
              <a:off x="990720" y="59119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AutoShape 89"/>
          <p:cNvSpPr/>
          <p:nvPr/>
        </p:nvSpPr>
        <p:spPr>
          <a:xfrm rot="5400000">
            <a:off x="1409760" y="46702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0"/>
          <p:cNvSpPr/>
          <p:nvPr/>
        </p:nvSpPr>
        <p:spPr>
          <a:xfrm>
            <a:off x="5715000" y="4175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03"/>
          <p:cNvGrpSpPr/>
          <p:nvPr/>
        </p:nvGrpSpPr>
        <p:grpSpPr>
          <a:xfrm>
            <a:off x="3213000" y="3870000"/>
            <a:ext cx="1968480" cy="733320"/>
            <a:chOff x="3213000" y="3870000"/>
            <a:chExt cx="1968480" cy="733320"/>
          </a:xfrm>
        </p:grpSpPr>
        <p:sp>
          <p:nvSpPr>
            <p:cNvPr id="193" name="Text Box 92"/>
            <p:cNvSpPr/>
            <p:nvPr/>
          </p:nvSpPr>
          <p:spPr>
            <a:xfrm>
              <a:off x="3213000" y="4022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lementary (</a:t>
              </a:r>
              <a:r>
                <a:rPr b="1" lang="en-GB" sz="1600" spc="-1" strike="noStrike">
                  <a:solidFill>
                    <a:srgbClr val="ff3300"/>
                  </a:solidFill>
                  <a:latin typeface="Arial"/>
                </a:rPr>
                <a:t>leading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 str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3"/>
            <p:cNvSpPr/>
            <p:nvPr/>
          </p:nvSpPr>
          <p:spPr>
            <a:xfrm flipV="1">
              <a:off x="4279680" y="3870000"/>
              <a:ext cx="9018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04"/>
          <p:cNvGrpSpPr/>
          <p:nvPr/>
        </p:nvGrpSpPr>
        <p:grpSpPr>
          <a:xfrm>
            <a:off x="1981080" y="5013000"/>
            <a:ext cx="1904760" cy="1768320"/>
            <a:chOff x="1981080" y="5013000"/>
            <a:chExt cx="1904760" cy="1768320"/>
          </a:xfrm>
        </p:grpSpPr>
        <p:sp>
          <p:nvSpPr>
            <p:cNvPr id="196" name="Text Box 95"/>
            <p:cNvSpPr/>
            <p:nvPr/>
          </p:nvSpPr>
          <p:spPr>
            <a:xfrm>
              <a:off x="1981080" y="6200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agging strand (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plementary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6"/>
            <p:cNvSpPr/>
            <p:nvPr/>
          </p:nvSpPr>
          <p:spPr>
            <a:xfrm flipV="1">
              <a:off x="312408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AutoShape 97"/>
          <p:cNvSpPr/>
          <p:nvPr/>
        </p:nvSpPr>
        <p:spPr>
          <a:xfrm rot="5400000">
            <a:off x="6134040" y="32986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8"/>
          <p:cNvSpPr/>
          <p:nvPr/>
        </p:nvSpPr>
        <p:spPr>
          <a:xfrm>
            <a:off x="6934320" y="3565440"/>
            <a:ext cx="38088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99"/>
          <p:cNvGrpSpPr/>
          <p:nvPr/>
        </p:nvGrpSpPr>
        <p:grpSpPr>
          <a:xfrm>
            <a:off x="7238880" y="3336840"/>
            <a:ext cx="1447560" cy="459720"/>
            <a:chOff x="7238880" y="3336840"/>
            <a:chExt cx="1447560" cy="459720"/>
          </a:xfrm>
        </p:grpSpPr>
        <p:sp>
          <p:nvSpPr>
            <p:cNvPr id="201" name="Text Box 87"/>
            <p:cNvSpPr/>
            <p:nvPr/>
          </p:nvSpPr>
          <p:spPr>
            <a:xfrm>
              <a:off x="7314840" y="33368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Pri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88"/>
            <p:cNvSpPr/>
            <p:nvPr/>
          </p:nvSpPr>
          <p:spPr>
            <a:xfrm flipH="1">
              <a:off x="7238880" y="3641760"/>
              <a:ext cx="38088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02"/>
          <p:cNvGrpSpPr/>
          <p:nvPr/>
        </p:nvGrpSpPr>
        <p:grpSpPr>
          <a:xfrm>
            <a:off x="1219320" y="3794040"/>
            <a:ext cx="5790600" cy="459720"/>
            <a:chOff x="1219320" y="3794040"/>
            <a:chExt cx="5790600" cy="459720"/>
          </a:xfrm>
        </p:grpSpPr>
        <p:sp>
          <p:nvSpPr>
            <p:cNvPr id="204" name="Text Box 100"/>
            <p:cNvSpPr/>
            <p:nvPr/>
          </p:nvSpPr>
          <p:spPr>
            <a:xfrm>
              <a:off x="647676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01"/>
            <p:cNvSpPr/>
            <p:nvPr/>
          </p:nvSpPr>
          <p:spPr>
            <a:xfrm>
              <a:off x="121932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10"/>
          <p:cNvGrpSpPr/>
          <p:nvPr/>
        </p:nvGrpSpPr>
        <p:grpSpPr>
          <a:xfrm>
            <a:off x="4800600" y="5013000"/>
            <a:ext cx="1447920" cy="1724040"/>
            <a:chOff x="4800600" y="5013000"/>
            <a:chExt cx="1447920" cy="1724040"/>
          </a:xfrm>
        </p:grpSpPr>
        <p:sp>
          <p:nvSpPr>
            <p:cNvPr id="207" name="Text Box 106"/>
            <p:cNvSpPr/>
            <p:nvPr/>
          </p:nvSpPr>
          <p:spPr>
            <a:xfrm>
              <a:off x="4800600" y="615636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frag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07"/>
            <p:cNvSpPr/>
            <p:nvPr/>
          </p:nvSpPr>
          <p:spPr>
            <a:xfrm flipV="1">
              <a:off x="556272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08"/>
            <p:cNvSpPr/>
            <p:nvPr/>
          </p:nvSpPr>
          <p:spPr>
            <a:xfrm flipV="1">
              <a:off x="5486400" y="50130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09"/>
            <p:cNvSpPr/>
            <p:nvPr/>
          </p:nvSpPr>
          <p:spPr>
            <a:xfrm flipH="1" flipV="1">
              <a:off x="4876920" y="5013000"/>
              <a:ext cx="53352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111"/>
          <p:cNvSpPr/>
          <p:nvPr/>
        </p:nvSpPr>
        <p:spPr>
          <a:xfrm>
            <a:off x="5638680" y="4403880"/>
            <a:ext cx="762120" cy="457200"/>
          </a:xfrm>
          <a:prstGeom prst="downArrowCallout">
            <a:avLst>
              <a:gd name="adj1" fmla="val 41677"/>
              <a:gd name="adj2" fmla="val 41673"/>
              <a:gd name="adj3" fmla="val 16667"/>
              <a:gd name="adj4" fmla="val 66667"/>
            </a:avLst>
          </a:prstGeom>
          <a:solidFill>
            <a:srgbClr val="d6009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ig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14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0.01111 L -0.00695 0.33372 E">
                                      <p:cBhvr>
                                        <p:cTn id="179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1184E-006 L -0.65834 -0.00555 E">
                                      <p:cBhvr>
                                        <p:cTn id="213" dur="6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43188E-006 L 0.6 6.43188E-006 E">
                                      <p:cBhvr>
                                        <p:cTn id="264" dur="10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3.3765E-006 L -0.08611 3.3765E-006 E">
                                      <p:cBhvr>
                                        <p:cTn id="29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3.3765E-006 L -0.17778 3.3765E-006 E">
                                      <p:cBhvr>
                                        <p:cTn id="29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78 3.3765E-006 L -0.26111 3.3765E-006 E">
                                      <p:cBhvr>
                                        <p:cTn id="305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11 3.3765E-006 L -0.35278 3.3765E-006 E">
                                      <p:cBhvr>
                                        <p:cTn id="312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278 3.3765E-006 L -0.43611 3.3765E-006 E">
                                      <p:cBhvr>
                                        <p:cTn id="319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0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DA29-FE97-4612-AB3F-CECC7EECEB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rcRect l="0" t="0" r="0" b="3913"/>
          <a:stretch/>
        </p:blipFill>
        <p:spPr>
          <a:xfrm>
            <a:off x="0" y="2052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232920" y="65674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15, Page 2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25560" y="228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25560" y="29718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25560" y="37846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25560" y="4559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1181160" y="33274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بـَـــدْ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1523880" y="411480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إستط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elic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wists the double helix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epar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DNA strands by forming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replication bub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enzyme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s DNA strands, form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plication “bubble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bubbl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ed at the origin sites of replication as D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parate, and hence, replication forks formed at each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sit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t is also called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origin of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is a single specif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quence of nucleotides that is recognized by the replication enzym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nd at which replication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imer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short piece of RNA (10 nucleotide long) which is synthesise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by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prima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used to initiate the leading strands of the new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polymer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builds up the new DNA strand by adding nucleotides to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primer (from 5’ to 3’ en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Leading strand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longation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initiate the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new DNA after recognizing the sequence of the primer by special prote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other parental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is copi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way from the fork in short segments (Okazaki fragmen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kazaki fragment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wly formed segment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3’, away from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then, form the lagging strand when connected by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wards the f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lig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joins the Okazaki fragments of the newly formed bases to form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new lagg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2590920" y="1969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4876920" y="45720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5486400" y="51814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5943600" y="57150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C15D-25CE-40FF-A4F9-C6E1CAA6F9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During DNA replication, base pairing enables existing DNA strands to serve as templates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ل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 new complimentary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كمِّ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58560"/>
            <a:ext cx="8382240" cy="19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cell copies a DNA molecule, each strand serves as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empl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نموز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ordering nucleotides into a new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mplimen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r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s line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َتـَر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ong the template strand according to the base-pairing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ucleotides are linked to form new strands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plement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rcRect l="0" t="0" r="0" b="8826"/>
          <a:stretch/>
        </p:blipFill>
        <p:spPr>
          <a:xfrm>
            <a:off x="228600" y="3348000"/>
            <a:ext cx="8839080" cy="3433680"/>
          </a:xfrm>
          <a:prstGeom prst="rect">
            <a:avLst/>
          </a:prstGeom>
          <a:ln w="0">
            <a:noFill/>
          </a:ln>
        </p:spPr>
      </p:pic>
      <p:sp>
        <p:nvSpPr>
          <p:cNvPr id="6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F288-7CCD-4A9D-BEC9-2B4C2CD7D4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2280" y="1162080"/>
            <a:ext cx="883944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emiconservative repli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most common and accepted b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tson and Crick). The double helix replicates each of the daughter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have one old strand and one newly made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two models are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conserv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ispers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rcRect l="0" t="0" r="0" b="7274"/>
          <a:stretch/>
        </p:blipFill>
        <p:spPr>
          <a:xfrm>
            <a:off x="228600" y="2514600"/>
            <a:ext cx="8686800" cy="4249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981080" y="22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ypes of DNA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962520" y="2666880"/>
            <a:ext cx="2361960" cy="41148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0725-038A-4D9D-92D9-AD151FA916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9072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emiconserv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NA Replication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نـَسْـــــ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28600" y="1066680"/>
            <a:ext cx="8763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DNA replication, base pair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زدواج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existing DNA strands to serve as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templ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ذ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ج/قال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ew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omplimentary str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enzymes and other proteins carry out DNA repl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elic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lymer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ig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ds of DNA molecules are replicated by a special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8489-31B6-4367-80DA-3EF7526AE2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09120" y="1460160"/>
            <a:ext cx="80773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l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ess th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 hou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copy each of the 5 million base pairs in its single chromosome and divide to form two identical daughter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man cell can copy its 6 billion base pairs and divide into daughter cells in only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ew hou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cess is remarkably accurate, with only one error per billion nucleot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helicase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twis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َلغ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الإلتفا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eparates the template DNA strands at the replication f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Single-strand binding proteins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eep the unpaired template strand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ar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فص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plic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A large team of enzymes and other proteins carries out DNA replication: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plication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rcRect l="0" t="4507" r="40001" b="35572"/>
          <a:stretch/>
        </p:blipFill>
        <p:spPr>
          <a:xfrm>
            <a:off x="4648320" y="3475080"/>
            <a:ext cx="4267080" cy="3154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28240" y="3505320"/>
            <a:ext cx="43434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eukaryotes, there may be hundreds or thousands of bubbles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has origin sites for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per chromos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origin sites, the DNA strands separate forming a replication “bubble” with replication fork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وكة النس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each 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plication bubbles elong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ستطي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the DNA is replicated and eventually fus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ندمج مع بعضها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28600" y="380880"/>
            <a:ext cx="8610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plication of a DNA molecule begins at special site called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rigin of replic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نشأ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ch is a single specific sequence of nucleotides that is recognized by the replication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enzyme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 the strands, forming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“bubble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قعة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lication proceeds in both directions until the entire molecule is copi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1D40-E786-49C2-BCCD-F6992B40DF5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1120" y="0"/>
            <a:ext cx="4952880" cy="6629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403848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Prim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ب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hort segment of RNA, 10 nucleotides lo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required to start a new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RNA polymer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links ribonucleotides that are complementary to the DNA template into the pri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6320" y="2666880"/>
            <a:ext cx="4190760" cy="35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talyze the elongation of new DNA at a replication fork. After formation of the primer, DNA polymerases can add deoxyribonucleotides to the 3’ end of the ribonucleo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ther DNA polymerase later replaces the primer ribonucleotides with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oxyribonucleotid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imentary to the templ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63F9-3BB3-49C7-BAA6-1232B12AB2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52280" y="3298680"/>
            <a:ext cx="472464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parental stran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’-&gt;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s copied away from the fork in short segment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kazaki fragmen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ـِطـَع صغي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azaki fragment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about 100-200 nucleotid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joined by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 الرا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the sugar-phosphate backbone of a single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81480" y="1447920"/>
            <a:ext cx="3905280" cy="5181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5960" y="151920"/>
            <a:ext cx="800100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polymerases can only add nucleotides to the free 3’ end of a grow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new DNA strand can only elongate in the 5’-&gt;3’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replication fork, one parental strand                                                             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’-&gt; 5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ead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can be used by polymerases as a template                                                                  for a continuous complimentary st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391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DNA REPLICATIO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3960" y="114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s: Enzymes that separate the DNA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 move along the strands and breaks the hydrogen bonds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 Fork: the Y shaped region that results from the separation of the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53960" y="2971800"/>
            <a:ext cx="8534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: enzymes that </a:t>
            </a:r>
            <a:r>
              <a:rPr b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add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mentary nucleot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 are found floating freely inside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alent bonds form between the phosphate group of one nucleotide and the deoxyribose of an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 bonds form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53960" y="4800600"/>
            <a:ext cx="861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s finish replicating the DNA and fall 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is two identical DNA molecules that are ready to move to new cells in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Conservative Replication: this type of replication where one strand is from the original molecule and the other strand is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7:51:30Z</dcterms:created>
  <dc:creator>User</dc:creator>
  <dc:description/>
  <dc:language>en-US</dc:language>
  <cp:lastModifiedBy>HP</cp:lastModifiedBy>
  <dcterms:modified xsi:type="dcterms:W3CDTF">2014-01-07T16:59:24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E5E41E4-BF07-4CF1-BFD9-01ECA6DE8C77</vt:lpwstr>
  </property>
  <property fmtid="{D5CDD505-2E9C-101B-9397-08002B2CF9AE}" pid="3" name="ArticulatePath">
    <vt:lpwstr>Lecture 19</vt:lpwstr>
  </property>
</Properties>
</file>