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F5B-519C-4546-9ABF-8D9E2882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A2E-14D6-46D6-AAD5-DC3AC958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CAC-2D49-4D29-A524-567C3444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5E1-3B31-4AC9-8887-7FB32696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F9F-FD2B-4610-96DA-24AB2D3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787-3F4F-48C7-A0C2-78EBB5F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26D-1A28-43D2-A93C-AFC6DC1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2AE-DA0C-4192-990B-EA21BB3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E38-CE79-4F9F-ABB0-2C141315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2E1-EDE6-4C1C-B8F5-4A87CD81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A8E-7AC1-448A-B5FE-A1ED749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7EF-1A88-4A53-A826-0FEEF13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22C4-808D-4061-94D4-005FA6A8A3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حكم (السيطرة) في النمو الميكروبي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ling of Microbial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076640"/>
            <a:ext cx="7488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ntrol of microbial growth is necessary in many practical situations, and significant advances in agriculture, medicine, and food scienc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ol of microbial growth means to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ve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wth of microorganism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141300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نمو الميكروبات أمر ضروري في كثير من الحالات العملية، حيث ساعد على التقدم الكبير في علوم الزراعة والطب، وعلوم الاغذ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النمو الميكروبي تعني منع أو تثبيط نمو الكائنات الحية الدقي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85600" y="1187280"/>
            <a:ext cx="20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uli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70680" y="119700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2. Disinfectants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 السطح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522840" y="1197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3. Preservatives</a:t>
            </a:r>
            <a:r>
              <a:rPr b="1" lang="ar-SA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واد الحافظ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Straight Arrow Connector 11"/>
          <p:cNvCxnSpPr>
            <a:stCxn id="15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6" name="Straight Arrow Connector 12"/>
          <p:cNvCxnSpPr>
            <a:stCxn id="151" idx="2"/>
            <a:endCxn id="154" idx="0"/>
          </p:cNvCxnSpPr>
          <p:nvPr/>
        </p:nvCxnSpPr>
        <p:spPr>
          <a:xfrm>
            <a:off x="4392360" y="650520"/>
            <a:ext cx="316620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7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158" name="Rectangle 1"/>
          <p:cNvSpPr/>
          <p:nvPr/>
        </p:nvSpPr>
        <p:spPr>
          <a:xfrm>
            <a:off x="179280" y="204480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غيرمؤذية كفاية ليتم تطبيقها على الجلد والأغشية المخاط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ينبغي أن لا تؤخذ داخليا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وتشمل مثل الكحول، نترات الفضة، محلول اليود، الكحول، المنظف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798640" y="1738440"/>
            <a:ext cx="3068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يست آمنة التطبيق على الأنسجة الحية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ستخدم في الجمادات مثل الاواني والارضيات  والطاولات، آنية فخارية، إلخ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مثلة: هيبوكلوريت ومركبات الكلور، كبريتات النحاس، والفورمالديهايد، والمركبات الفينول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48360" y="1833480"/>
            <a:ext cx="3044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عوامل مثبطة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ic age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تثبيط النمو للكائنات الحية الدقيق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حفظ الاطعم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فظ يكون للمأكولات في مواد غير سام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ومن الأمثلة بروبيونات الكالسيوم، بنزوات الصوديوم، والنترات وثاني أكسيد الكبريت، وأكسيد الإيثيلين(يمنع تكاثر الميكروبات) والأوزون (تستخدم كمطهر للمياه والأغذية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024200" y="11872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8000" y="1628640"/>
            <a:ext cx="29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less enough to b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plied to the skin and mucous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not be taken intern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include alcohols, silver nitrate, iodine solution, alcohols, deter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568320" y="1197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Disinfec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059280" y="1646280"/>
            <a:ext cx="33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saf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application to livi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an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s such as tables, floors, utensil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hypochlorites, chlorine compounds, copper sulfate, formaldehyde, phenolic   compounds and LTGP (Low Temperature Gas Plasm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612120" y="1197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3. Preser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426360" y="1670040"/>
            <a:ext cx="269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growth of microorg-anis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ten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eaten they should be nontox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calcium propionate, sodium benzoate, nitrate and sulfur dioxide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ethylene oxide (ETO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z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8" name="Straight Arrow Connector 11"/>
          <p:cNvCxnSpPr>
            <a:stCxn id="16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69" name="Straight Arrow Connector 12"/>
          <p:cNvCxnSpPr>
            <a:stCxn id="161" idx="2"/>
            <a:endCxn id="166" idx="0"/>
          </p:cNvCxnSpPr>
          <p:nvPr/>
        </p:nvCxnSpPr>
        <p:spPr>
          <a:xfrm>
            <a:off x="4392360" y="650520"/>
            <a:ext cx="321516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0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1" name="Straight Arrow Connector 19"/>
          <p:cNvCxnSpPr/>
          <p:nvPr/>
        </p:nvCxnSpPr>
        <p:spPr>
          <a:xfrm flipH="1">
            <a:off x="6587280" y="5013000"/>
            <a:ext cx="577080" cy="648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72" name="Rectangle 20"/>
          <p:cNvSpPr/>
          <p:nvPr/>
        </p:nvSpPr>
        <p:spPr>
          <a:xfrm>
            <a:off x="4932360" y="558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to prevents microbial re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Straight Arrow Connector 22"/>
          <p:cNvCxnSpPr/>
          <p:nvPr/>
        </p:nvCxnSpPr>
        <p:spPr>
          <a:xfrm>
            <a:off x="8532360" y="5013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Rectangle 23"/>
          <p:cNvSpPr/>
          <p:nvPr/>
        </p:nvSpPr>
        <p:spPr>
          <a:xfrm>
            <a:off x="7993080" y="56944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as a disinfectant for water a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2833560" y="26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    Biolog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65520" y="3348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911560" y="3348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Semisynthe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iological agents are antimicrobial agents that kill (cidal effect) or inhibit (static effect) the growth micro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microbial agents may be of natural or synthetic ori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9"/>
          <p:cNvCxnSpPr>
            <a:stCxn id="178" idx="2"/>
            <a:endCxn id="176" idx="0"/>
          </p:cNvCxnSpPr>
          <p:nvPr/>
        </p:nvCxnSpPr>
        <p:spPr>
          <a:xfrm flipH="1">
            <a:off x="1626840" y="2715840"/>
            <a:ext cx="312480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80" name="Straight Arrow Connector 10"/>
          <p:cNvCxnSpPr>
            <a:stCxn id="178" idx="2"/>
            <a:endCxn id="177" idx="0"/>
          </p:cNvCxnSpPr>
          <p:nvPr/>
        </p:nvCxnSpPr>
        <p:spPr>
          <a:xfrm>
            <a:off x="4751280" y="2715840"/>
            <a:ext cx="219132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81" name="Rectangle 15"/>
          <p:cNvSpPr/>
          <p:nvPr/>
        </p:nvSpPr>
        <p:spPr>
          <a:xfrm>
            <a:off x="4572000" y="5272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lecules produced by a microbe that are subsequently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an organic chemist to enhance their antimicrobial properties or to render them unique for a pharmaceutical pat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sulfonilamides and chloramphenico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250920" y="5229360"/>
            <a:ext cx="35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timicrobial agents produced by microorganisms that kill or inhibit other microorganis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 penicillin and its relati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250920" y="7905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عوامل البيولوجية هي مضادات الميكروبات (المضادات الحيوية) التي تقتل (تأثير قاتل ) أو تمنع نمو الكائنات الحية الدقيقة (تأثير مثبط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قد تكون هذه  المضادات طبيعية المصدر أو 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24452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بيع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64200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-108000" y="40719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تي تنتجها الكائنات الحية الدقيقة قد تقتل أو تثبط نمو  كائنات حية  دقيقة أخرى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تها البنسلين ومشتقا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861080" y="3906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جزيئات التي ينتجها ميكروب يتم تعديلها بواسطة الكيمياء العضوية لتعزيز خصائصها المضادة للميكروبات أو جعلها فريدة من نوعها لبراءة اختراع الأدو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ة سولفونيلاميديس والكلورامفينيكو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فعالية المضادات الحيو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-101520" y="37116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positive and Gram-negative bacter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043680" y="3757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single organis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15640" y="33415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oad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517200" y="529416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rrow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495120" y="31561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mited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835360" y="56484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negative or Gram-positive bac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own Arrow 9"/>
          <p:cNvSpPr/>
          <p:nvPr/>
        </p:nvSpPr>
        <p:spPr>
          <a:xfrm>
            <a:off x="4500720" y="1700280"/>
            <a:ext cx="215640" cy="16412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ight Arrow 12"/>
          <p:cNvSpPr/>
          <p:nvPr/>
        </p:nvSpPr>
        <p:spPr>
          <a:xfrm flipV="1" rot="1005000">
            <a:off x="4506840" y="1786320"/>
            <a:ext cx="1422360" cy="20988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Arrow 13"/>
          <p:cNvSpPr/>
          <p:nvPr/>
        </p:nvSpPr>
        <p:spPr>
          <a:xfrm rot="9817800">
            <a:off x="3115800" y="1810800"/>
            <a:ext cx="1511280" cy="1843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743400" y="1601640"/>
            <a:ext cx="2201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واس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022440" y="1587600"/>
            <a:ext cx="22982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محد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76040" y="1955880"/>
            <a:ext cx="294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مجموعة واسعة من السالبة والموجبة لصبغة غرا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43680" y="2001960"/>
            <a:ext cx="27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كائن واح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711600" y="3710160"/>
            <a:ext cx="20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طائفة واسعة من البكتيريا سالبة لغرام أو موجبة لغرا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3610440" y="3341520"/>
            <a:ext cx="2120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ضي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6240" y="1862280"/>
            <a:ext cx="424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بواسطة قتل الكائنات الحية الدقيق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kill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أثر هذا التحكم بطريقتين أساسيتي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rol is affected in two basic way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4500720" y="2133720"/>
            <a:ext cx="417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بواسطة تثبيط النمو للكائنات الحية ال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hibi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08000" y="484812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قتل الخلايا تسم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kill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4518000" y="484668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عمل على تثبيط نمو الخلايا تسمى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inhibit the growth of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7"/>
          <p:cNvCxnSpPr>
            <a:endCxn id="44" idx="0"/>
          </p:cNvCxnSpPr>
          <p:nvPr/>
        </p:nvCxnSpPr>
        <p:spPr>
          <a:xfrm flipH="1">
            <a:off x="2369520" y="1341000"/>
            <a:ext cx="2500920" cy="52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4870080" y="1341000"/>
            <a:ext cx="17182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1"/>
          <p:cNvCxnSpPr>
            <a:stCxn id="44" idx="2"/>
          </p:cNvCxnSpPr>
          <p:nvPr/>
        </p:nvCxnSpPr>
        <p:spPr>
          <a:xfrm flipH="1">
            <a:off x="2231640" y="3157560"/>
            <a:ext cx="138960" cy="120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3"/>
          <p:cNvCxnSpPr/>
          <p:nvPr/>
        </p:nvCxnSpPr>
        <p:spPr>
          <a:xfrm>
            <a:off x="6588000" y="3573000"/>
            <a:ext cx="5472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Jokerman"/>
                <a:cs typeface="Arial"/>
              </a:rPr>
              <a:t>العوامل المستخدمة في السيطرة على الكائنات الحية الدقيق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 أنوا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Agents used in Controlling of Microorganis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9360" y="2349360"/>
            <a:ext cx="287964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. 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كيميائ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171360" y="232092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390960" indent="-39096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ker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طبيعية (الفيزيائي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0960" indent="-3909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Phys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859360" y="234936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I.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بيولوج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Biolog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51"/>
          <p:cNvGrpSpPr/>
          <p:nvPr/>
        </p:nvGrpSpPr>
        <p:grpSpPr>
          <a:xfrm>
            <a:off x="602280" y="3429000"/>
            <a:ext cx="2529720" cy="2965320"/>
            <a:chOff x="602280" y="3429000"/>
            <a:chExt cx="2529720" cy="2965320"/>
          </a:xfrm>
        </p:grpSpPr>
        <p:sp>
          <p:nvSpPr>
            <p:cNvPr id="58" name="Content Placeholder 2"/>
            <p:cNvSpPr/>
            <p:nvPr/>
          </p:nvSpPr>
          <p:spPr>
            <a:xfrm>
              <a:off x="611280" y="3429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Heat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ontent Placeholder 2"/>
            <p:cNvSpPr/>
            <p:nvPr/>
          </p:nvSpPr>
          <p:spPr>
            <a:xfrm>
              <a:off x="619200" y="436572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Filtra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ontent Placeholder 2"/>
            <p:cNvSpPr/>
            <p:nvPr/>
          </p:nvSpPr>
          <p:spPr>
            <a:xfrm>
              <a:off x="611280" y="532944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5.</a:t>
              </a:r>
              <a:r>
                <a:rPr b="1" lang="en-US" sz="32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freezing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tent Placeholder 2"/>
            <p:cNvSpPr/>
            <p:nvPr/>
          </p:nvSpPr>
          <p:spPr>
            <a:xfrm>
              <a:off x="611280" y="4970520"/>
              <a:ext cx="2520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Jokerman"/>
                </a:rPr>
                <a:t>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Pasteurization</a:t>
              </a: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ontent Placeholder 2"/>
            <p:cNvSpPr/>
            <p:nvPr/>
          </p:nvSpPr>
          <p:spPr>
            <a:xfrm>
              <a:off x="629640" y="3861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.</a:t>
              </a: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Irradiatio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602280" y="5934600"/>
              <a:ext cx="14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Dry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50"/>
          <p:cNvGrpSpPr/>
          <p:nvPr/>
        </p:nvGrpSpPr>
        <p:grpSpPr>
          <a:xfrm>
            <a:off x="324000" y="3024720"/>
            <a:ext cx="1152000" cy="3213000"/>
            <a:chOff x="324000" y="3024720"/>
            <a:chExt cx="1152000" cy="3213000"/>
          </a:xfrm>
        </p:grpSpPr>
        <p:cxnSp>
          <p:nvCxnSpPr>
            <p:cNvPr id="65" name="Elbow Connector 15"/>
            <p:cNvCxnSpPr/>
            <p:nvPr/>
          </p:nvCxnSpPr>
          <p:spPr>
            <a:xfrm flipV="1" rot="10800000">
              <a:off x="331200" y="3024720"/>
              <a:ext cx="1145160" cy="330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6" name="Straight Connector 20"/>
            <p:cNvSpPr/>
            <p:nvPr/>
          </p:nvSpPr>
          <p:spPr>
            <a:xfrm>
              <a:off x="331920" y="3355920"/>
              <a:ext cx="0" cy="28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7" name="Straight Arrow Connector 22"/>
            <p:cNvCxnSpPr/>
            <p:nvPr/>
          </p:nvCxnSpPr>
          <p:spPr>
            <a:xfrm>
              <a:off x="331920" y="3715920"/>
              <a:ext cx="2815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Straight Arrow Connector 23"/>
            <p:cNvCxnSpPr/>
            <p:nvPr/>
          </p:nvCxnSpPr>
          <p:spPr>
            <a:xfrm>
              <a:off x="324000" y="414792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Straight Arrow Connector 24"/>
            <p:cNvCxnSpPr/>
            <p:nvPr/>
          </p:nvCxnSpPr>
          <p:spPr>
            <a:xfrm>
              <a:off x="324000" y="472428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25"/>
            <p:cNvCxnSpPr/>
            <p:nvPr/>
          </p:nvCxnSpPr>
          <p:spPr>
            <a:xfrm>
              <a:off x="324000" y="5229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26"/>
            <p:cNvCxnSpPr/>
            <p:nvPr/>
          </p:nvCxnSpPr>
          <p:spPr>
            <a:xfrm>
              <a:off x="324000" y="580536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Straight Arrow Connector 27"/>
            <p:cNvCxnSpPr/>
            <p:nvPr/>
          </p:nvCxnSpPr>
          <p:spPr>
            <a:xfrm>
              <a:off x="324000" y="6237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3" name="Group 52"/>
          <p:cNvGrpSpPr/>
          <p:nvPr/>
        </p:nvGrpSpPr>
        <p:grpSpPr>
          <a:xfrm>
            <a:off x="3347280" y="3025440"/>
            <a:ext cx="2664720" cy="2491200"/>
            <a:chOff x="3347280" y="3025440"/>
            <a:chExt cx="2664720" cy="2491200"/>
          </a:xfrm>
        </p:grpSpPr>
        <p:cxnSp>
          <p:nvCxnSpPr>
            <p:cNvPr id="74" name="Straight Arrow Connector 28"/>
            <p:cNvCxnSpPr/>
            <p:nvPr/>
          </p:nvCxnSpPr>
          <p:spPr>
            <a:xfrm>
              <a:off x="3355920" y="39762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Elbow Connector 31"/>
            <p:cNvCxnSpPr/>
            <p:nvPr/>
          </p:nvCxnSpPr>
          <p:spPr>
            <a:xfrm rot="5400000">
              <a:off x="3717360" y="2655360"/>
              <a:ext cx="332280" cy="10724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33"/>
            <p:cNvSpPr/>
            <p:nvPr/>
          </p:nvSpPr>
          <p:spPr>
            <a:xfrm>
              <a:off x="3348000" y="3357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ontent Placeholder 2"/>
            <p:cNvSpPr/>
            <p:nvPr/>
          </p:nvSpPr>
          <p:spPr>
            <a:xfrm>
              <a:off x="3644640" y="3716280"/>
              <a:ext cx="2222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Antiseptics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ontent Placeholder 2"/>
            <p:cNvSpPr/>
            <p:nvPr/>
          </p:nvSpPr>
          <p:spPr>
            <a:xfrm>
              <a:off x="363528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Disinfecta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ontent Placeholder 2"/>
            <p:cNvSpPr/>
            <p:nvPr/>
          </p:nvSpPr>
          <p:spPr>
            <a:xfrm>
              <a:off x="3635280" y="4911840"/>
              <a:ext cx="2376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200" spc="-1" strike="noStrike">
                  <a:solidFill>
                    <a:srgbClr val="000000"/>
                  </a:solidFill>
                  <a:latin typeface="Gisha"/>
                  <a:ea typeface="Gisha"/>
                </a:rPr>
                <a:t>Preservativ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0" name="Straight Arrow Connector 37"/>
            <p:cNvCxnSpPr/>
            <p:nvPr/>
          </p:nvCxnSpPr>
          <p:spPr>
            <a:xfrm>
              <a:off x="3348000" y="4436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38"/>
            <p:cNvCxnSpPr/>
            <p:nvPr/>
          </p:nvCxnSpPr>
          <p:spPr>
            <a:xfrm>
              <a:off x="3348000" y="5084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82" name="Group 54"/>
          <p:cNvGrpSpPr/>
          <p:nvPr/>
        </p:nvGrpSpPr>
        <p:grpSpPr>
          <a:xfrm>
            <a:off x="6155640" y="3025440"/>
            <a:ext cx="2801160" cy="1843560"/>
            <a:chOff x="6155640" y="3025440"/>
            <a:chExt cx="2801160" cy="1843560"/>
          </a:xfrm>
        </p:grpSpPr>
        <p:grpSp>
          <p:nvGrpSpPr>
            <p:cNvPr id="83" name="Group 49"/>
            <p:cNvGrpSpPr/>
            <p:nvPr/>
          </p:nvGrpSpPr>
          <p:grpSpPr>
            <a:xfrm>
              <a:off x="6155640" y="3025440"/>
              <a:ext cx="1184400" cy="1411920"/>
              <a:chOff x="6155640" y="3025440"/>
              <a:chExt cx="1184400" cy="1411920"/>
            </a:xfrm>
          </p:grpSpPr>
          <p:cxnSp>
            <p:nvCxnSpPr>
              <p:cNvPr id="84" name="Elbow Connector 41"/>
              <p:cNvCxnSpPr/>
              <p:nvPr/>
            </p:nvCxnSpPr>
            <p:spPr>
              <a:xfrm rot="5400000">
                <a:off x="6581880" y="2599200"/>
                <a:ext cx="332280" cy="1184760"/>
              </a:xfrm>
              <a:prstGeom prst="bentConnector2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85" name="Straight Connector 43"/>
              <p:cNvSpPr/>
              <p:nvPr/>
            </p:nvSpPr>
            <p:spPr>
              <a:xfrm>
                <a:off x="6156360" y="3357360"/>
                <a:ext cx="0" cy="1079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6" name="Straight Arrow Connector 45"/>
              <p:cNvCxnSpPr/>
              <p:nvPr/>
            </p:nvCxnSpPr>
            <p:spPr>
              <a:xfrm>
                <a:off x="6156360" y="389700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7" name="Straight Arrow Connector 47"/>
              <p:cNvCxnSpPr/>
              <p:nvPr/>
            </p:nvCxnSpPr>
            <p:spPr>
              <a:xfrm>
                <a:off x="6156360" y="443664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8" name="Content Placeholder 2"/>
            <p:cNvSpPr/>
            <p:nvPr/>
          </p:nvSpPr>
          <p:spPr>
            <a:xfrm>
              <a:off x="6732360" y="3717000"/>
              <a:ext cx="2224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Natural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tent Placeholder 2"/>
            <p:cNvSpPr/>
            <p:nvPr/>
          </p:nvSpPr>
          <p:spPr>
            <a:xfrm>
              <a:off x="673236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Semisynthetic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0" name="Straight Arrow Connector 64"/>
          <p:cNvCxnSpPr/>
          <p:nvPr/>
        </p:nvCxnSpPr>
        <p:spPr>
          <a:xfrm flipH="1">
            <a:off x="2194920" y="1858680"/>
            <a:ext cx="2329560" cy="462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1" name="Straight Arrow Connector 66"/>
          <p:cNvCxnSpPr/>
          <p:nvPr/>
        </p:nvCxnSpPr>
        <p:spPr>
          <a:xfrm>
            <a:off x="4516560" y="1839960"/>
            <a:ext cx="2071800" cy="4816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2" name="Straight Arrow Connector 69"/>
          <p:cNvCxnSpPr/>
          <p:nvPr/>
        </p:nvCxnSpPr>
        <p:spPr>
          <a:xfrm flipH="1">
            <a:off x="4474800" y="1839960"/>
            <a:ext cx="41760" cy="536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93" name="Rectangle 5"/>
          <p:cNvSpPr/>
          <p:nvPr/>
        </p:nvSpPr>
        <p:spPr>
          <a:xfrm>
            <a:off x="1982520" y="3522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را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2387160" y="39211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اشعا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2421720" y="45306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فل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2644200" y="49975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بس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272320" y="5516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مي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2001960" y="59961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في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3880080" y="523728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واد الحافظ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3334680" y="45543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اسطح-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3237840" y="399420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جلدية-غير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7198560" y="46148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شبة صنا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8123040" y="384804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طبي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Jokerman"/>
              </a:rPr>
              <a:t>العوامل الفيزيائية</a:t>
            </a:r>
            <a:br>
              <a:rPr sz="3200"/>
            </a:b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2</a:t>
            </a: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-Physical Agents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4920" y="907560"/>
            <a:ext cx="82803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Jokerman"/>
              </a:rPr>
              <a:t>I.       </a:t>
            </a: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Heating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حرارة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V Boli"/>
                <a:ea typeface="MV Boli"/>
              </a:rPr>
              <a:t>Means using of temperature to ensure destruction of all microorganism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Jokerman"/>
              </a:rPr>
              <a:t>استخدام درجة الحرارة لضمان تدمير جميع الكائنات الحية الدقيق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289800" y="1844640"/>
            <a:ext cx="8597520" cy="2591280"/>
            <a:chOff x="289800" y="1844640"/>
            <a:chExt cx="8597520" cy="2591280"/>
          </a:xfrm>
        </p:grpSpPr>
        <p:sp>
          <p:nvSpPr>
            <p:cNvPr id="107" name="Rectangle 15"/>
            <p:cNvSpPr/>
            <p:nvPr/>
          </p:nvSpPr>
          <p:spPr>
            <a:xfrm>
              <a:off x="289800" y="350100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cin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2644560" y="35042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oil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17"/>
            <p:cNvSpPr/>
            <p:nvPr/>
          </p:nvSpPr>
          <p:spPr>
            <a:xfrm>
              <a:off x="4523040" y="3429000"/>
              <a:ext cx="19933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utoclav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</a:rPr>
                <a:t>الاوتوكلا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steam under pressure or pressure cooker)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7363800" y="335700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y hea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hot air oven)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970560" y="1844640"/>
              <a:ext cx="7130880" cy="1597680"/>
              <a:chOff x="970560" y="1844640"/>
              <a:chExt cx="7130880" cy="1597680"/>
            </a:xfrm>
          </p:grpSpPr>
          <p:grpSp>
            <p:nvGrpSpPr>
              <p:cNvPr id="112" name="Group 14"/>
              <p:cNvGrpSpPr/>
              <p:nvPr/>
            </p:nvGrpSpPr>
            <p:grpSpPr>
              <a:xfrm>
                <a:off x="970560" y="1844640"/>
                <a:ext cx="7130880" cy="1584720"/>
                <a:chOff x="970560" y="1844640"/>
                <a:chExt cx="7130880" cy="1584720"/>
              </a:xfrm>
            </p:grpSpPr>
            <p:sp>
              <p:nvSpPr>
                <p:cNvPr id="113" name="Down Arrow 4"/>
                <p:cNvSpPr/>
                <p:nvPr/>
              </p:nvSpPr>
              <p:spPr>
                <a:xfrm>
                  <a:off x="4284360" y="1844640"/>
                  <a:ext cx="431640" cy="648000"/>
                </a:xfrm>
                <a:prstGeom prst="downArrow">
                  <a:avLst>
                    <a:gd name="adj1" fmla="val 50000"/>
                    <a:gd name="adj2" fmla="val 50042"/>
                  </a:avLst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14" name="Elbow Connector 6"/>
                <p:cNvCxnSpPr>
                  <a:stCxn id="113" idx="0"/>
                </p:cNvCxnSpPr>
                <p:nvPr/>
              </p:nvCxnSpPr>
              <p:spPr>
                <a:xfrm rot="5400000">
                  <a:off x="2554920" y="907920"/>
                  <a:ext cx="361080" cy="353016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5" name="Elbow Connector 8"/>
                <p:cNvCxnSpPr>
                  <a:stCxn id="113" idx="1"/>
                </p:cNvCxnSpPr>
                <p:nvPr/>
              </p:nvCxnSpPr>
              <p:spPr>
                <a:xfrm flipH="1" rot="16200000">
                  <a:off x="6120360" y="871920"/>
                  <a:ext cx="361080" cy="360144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6" name="Straight Arrow Connector 11"/>
                <p:cNvCxnSpPr/>
                <p:nvPr/>
              </p:nvCxnSpPr>
              <p:spPr>
                <a:xfrm>
                  <a:off x="3060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7" name="Straight Arrow Connector 13"/>
                <p:cNvCxnSpPr/>
                <p:nvPr/>
              </p:nvCxnSpPr>
              <p:spPr>
                <a:xfrm>
                  <a:off x="5508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118" name="Straight Arrow Connector 20"/>
              <p:cNvCxnSpPr/>
              <p:nvPr/>
            </p:nvCxnSpPr>
            <p:spPr>
              <a:xfrm>
                <a:off x="8100720" y="2853000"/>
                <a:ext cx="1080" cy="505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22"/>
              <p:cNvCxnSpPr/>
              <p:nvPr/>
            </p:nvCxnSpPr>
            <p:spPr>
              <a:xfrm>
                <a:off x="970920" y="2853000"/>
                <a:ext cx="1080" cy="5896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120" name="Rectangle 24"/>
          <p:cNvSpPr/>
          <p:nvPr/>
        </p:nvSpPr>
        <p:spPr>
          <a:xfrm>
            <a:off x="34920" y="4292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urns organisms and physically destroys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42840" y="573264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sed for needles, inoculating wires, glassware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1941480" y="400536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for 30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265120" y="48261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Kills every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4356000" y="4322880"/>
            <a:ext cx="25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/pressure employed is 1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.5 psi for 15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3924360" y="51577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sterilizing biohazardous waste, surgical dressings, glassware, and many types of microbiologic media, liquids, and many other th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7199280" y="416736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2hours or 1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h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174080" y="5202360"/>
            <a:ext cx="18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used for glassware, metal, and objects that  won't m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70240" y="3776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04600" y="37609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غلي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1000" y="3870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ارة الجا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1412640"/>
            <a:ext cx="8229600" cy="1036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ادة ما يدمر أو يشوه الأحماض النو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destroys or distorts nucleic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693880" y="54144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Gisha"/>
                <a:ea typeface="Gisha"/>
              </a:rPr>
              <a:t>2. Irradiation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cs typeface="Gisha"/>
              </a:rPr>
              <a:t>الاشعاع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ea typeface="Gish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648080" y="3357720"/>
            <a:ext cx="5790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في تعقيم أسطح الاشي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terilize the surfac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own Arrow 6"/>
          <p:cNvSpPr/>
          <p:nvPr/>
        </p:nvSpPr>
        <p:spPr>
          <a:xfrm>
            <a:off x="4284720" y="2492280"/>
            <a:ext cx="503280" cy="720720"/>
          </a:xfrm>
          <a:prstGeom prst="downArrow">
            <a:avLst>
              <a:gd name="adj1" fmla="val 38463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123920" y="5157720"/>
            <a:ext cx="6840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واسطة الأشعة السينية وأشعة جاما وأشعة حزمة الإلكت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-rays, gamma radiation and electron beam radiation are also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own Arrow 7"/>
          <p:cNvSpPr/>
          <p:nvPr/>
        </p:nvSpPr>
        <p:spPr>
          <a:xfrm>
            <a:off x="4264200" y="4406760"/>
            <a:ext cx="502920" cy="654120"/>
          </a:xfrm>
          <a:prstGeom prst="downArrow">
            <a:avLst>
              <a:gd name="adj1" fmla="val 38463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t Placeholder 2"/>
          <p:cNvSpPr/>
          <p:nvPr/>
        </p:nvSpPr>
        <p:spPr>
          <a:xfrm>
            <a:off x="3095640" y="461880"/>
            <a:ext cx="295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3. Filtration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فلترة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2043000"/>
            <a:ext cx="84247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زالة الاشياء المادية (الاستبعاد) لكافة الخلايا في سائل أو غا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removal (exclusion) of all cells in a liquid or g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960" y="4508640"/>
            <a:ext cx="82072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لإزالة أصغر الخلايا البكتيرية المعروف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remove the smallest known bacterial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own Arrow 6"/>
          <p:cNvSpPr/>
          <p:nvPr/>
        </p:nvSpPr>
        <p:spPr>
          <a:xfrm>
            <a:off x="4537080" y="1197000"/>
            <a:ext cx="431640" cy="6732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own Arrow 7"/>
          <p:cNvSpPr/>
          <p:nvPr/>
        </p:nvSpPr>
        <p:spPr>
          <a:xfrm>
            <a:off x="4479840" y="3340080"/>
            <a:ext cx="432000" cy="6732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700360" y="765000"/>
            <a:ext cx="4103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4. Pasteurization 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بست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20640" y="2262240"/>
            <a:ext cx="8344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وهذا يعني استخدام الحرارة المعتدلة لتقليل عدد الكائنات الحية الدقيقة في المنتج أو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المواد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It means the use of </a:t>
            </a:r>
            <a:r>
              <a:rPr b="0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mild heat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to reduce the number of microorganisms in a product or fo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20640" y="4541760"/>
            <a:ext cx="79916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BatangChe"/>
                <a:cs typeface="BatangChe"/>
              </a:rPr>
              <a:t>الحليب عادة يبستر بالحرارة عند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63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30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، أو في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71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15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lk is usually pasteurized by heating, typically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63°C for 30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or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71°C for 15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own Arrow 6"/>
          <p:cNvSpPr/>
          <p:nvPr/>
        </p:nvSpPr>
        <p:spPr>
          <a:xfrm>
            <a:off x="4356000" y="1484280"/>
            <a:ext cx="360360" cy="504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5. freezing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Arial"/>
              </a:rPr>
              <a:t>التجميد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Arial"/>
              </a:rPr>
              <a:t> </a:t>
            </a:r>
            <a:br>
              <a:rPr sz="40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328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رجات الحرارة المنخفضة (التبريد والتجمي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emperature (refrigeration and freez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179280" y="3141720"/>
            <a:ext cx="8734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عظم الكائنات الحية تنمو ببطء أو لا تنمو على الاطلاق  عند درجة التجمد الصفر المئ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أغذية القابلة للتلف تخزن في درجات حرارة منخفضة لإبطاء معدل النم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rganisms grow very little or not at all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Perishable foods are stored at low temperatures to slow rate of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599840"/>
            <a:ext cx="87138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معظم الكائنات الحية الدقيقة لا يمكنها أن عند انخفاض النشاط المائ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غالباً ما يتم استخدام التجفيف للحفاظ على الأطعمة (مثل الفواكه، الحبوب، إلخ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icroorganisms cannot grow at reduced water ac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ying is often used to preserve foods (e.g. fruits, grains, etc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85520" y="836640"/>
            <a:ext cx="335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6. Drying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تجفيف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0:43:48Z</dcterms:created>
  <dc:creator>DELL</dc:creator>
  <dc:description/>
  <dc:language>en-US</dc:language>
  <cp:lastModifiedBy>Naiyf Alharbi</cp:lastModifiedBy>
  <cp:lastPrinted>2013-12-03T07:01:16Z</cp:lastPrinted>
  <dcterms:modified xsi:type="dcterms:W3CDTF">2013-12-28T19:56:46Z</dcterms:modified>
  <cp:revision>46</cp:revision>
  <dc:subject/>
  <dc:title>Controlling of Microbial Growth</dc:title>
</cp:coreProperties>
</file>