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E398-2C0A-4AA2-BD45-5CBCE51CE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1D28-2D53-4D88-AAD5-07FF1E4D3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D9EB-0208-4B17-ACE9-EDEB69F9F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6AB3-FD6F-42D4-A5CE-FC735A6C0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C757-4BB4-4DF9-B762-34ACA469B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DF4B-C307-4712-8A01-FFB6F5C00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2B12-C4E5-4670-A522-CF2ED88BF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D283-80A2-4FC7-8F9B-09EC8070B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A9E3-CEF6-49B7-BE43-3AB6CCFCA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E1F3-7514-40A6-8EF5-BF497A95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DD6D-61C5-41ED-9B82-DD2879A42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8B3C-7900-489F-B604-8427FA8F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5B824-AFE3-4197-8390-BE87CC196B1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التحكم (السيطرة) في النمو الميكروبي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trolling of Microbial Growt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71640" y="4076640"/>
            <a:ext cx="74880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control of microbial growth is necessary in many practical situations, and significant advances in agriculture, medicine, and food science 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ontrol of microbial growth means to </a:t>
            </a: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inhibit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prevent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growth of microorganisms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611280" y="1413000"/>
            <a:ext cx="8101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لسيطرة على نمو الميكروبات أمر ضروري في كثير من الحالات العملية، حيث ساعد على التقدم الكبير في علوم الزراعة والطب، وعلوم الاغذي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لسيطرة على النمو الميكروبي تعني منع أو تثبيط نمو الكائنات الحية الدقيق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3"/>
          <p:cNvSpPr/>
          <p:nvPr/>
        </p:nvSpPr>
        <p:spPr>
          <a:xfrm>
            <a:off x="2627280" y="1890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Jokerman"/>
              </a:rPr>
              <a:t>II.  </a:t>
            </a:r>
            <a:r>
              <a:rPr b="1" lang="en-US" sz="2400" spc="-1" strike="noStrike">
                <a:solidFill>
                  <a:srgbClr val="000000"/>
                </a:solidFill>
                <a:latin typeface="Jokerman"/>
              </a:rPr>
              <a:t>Chemical Ag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885600" y="1187280"/>
            <a:ext cx="200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uli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  <a:ea typeface="Gulim"/>
              </a:rPr>
              <a:t>Antiseptic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Jokerman"/>
              </a:rPr>
              <a:t>المطهرات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3370680" y="1197000"/>
            <a:ext cx="239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  <a:ea typeface="Gulim"/>
              </a:rPr>
              <a:t>2. Disinfectants</a:t>
            </a:r>
            <a:r>
              <a:rPr b="1" lang="ar-SA" sz="1800" spc="-1" strike="noStrike">
                <a:solidFill>
                  <a:srgbClr val="000000"/>
                </a:solidFill>
                <a:latin typeface="Jokerman"/>
              </a:rPr>
              <a:t>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Jokerman"/>
              </a:rPr>
              <a:t>المطهرات السطحي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6522840" y="1197000"/>
            <a:ext cx="206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  <a:ea typeface="Gulim"/>
              </a:rPr>
              <a:t>3. Preservatives</a:t>
            </a:r>
            <a:r>
              <a:rPr b="1" lang="ar-SA" sz="1800" spc="-1" strike="noStrike">
                <a:solidFill>
                  <a:srgbClr val="000000"/>
                </a:solidFill>
                <a:latin typeface="Gulim"/>
                <a:ea typeface="Gulim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Jokerman"/>
              </a:rPr>
              <a:t>المواد الحافظ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Straight Arrow Connector 11"/>
          <p:cNvCxnSpPr>
            <a:stCxn id="151" idx="2"/>
          </p:cNvCxnSpPr>
          <p:nvPr/>
        </p:nvCxnSpPr>
        <p:spPr>
          <a:xfrm>
            <a:off x="4392720" y="650880"/>
            <a:ext cx="108720" cy="47520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triangle" w="med"/>
          </a:ln>
        </p:spPr>
      </p:cxnSp>
      <p:cxnSp>
        <p:nvCxnSpPr>
          <p:cNvPr id="156" name="Straight Arrow Connector 12"/>
          <p:cNvCxnSpPr>
            <a:stCxn id="151" idx="2"/>
            <a:endCxn id="154" idx="0"/>
          </p:cNvCxnSpPr>
          <p:nvPr/>
        </p:nvCxnSpPr>
        <p:spPr>
          <a:xfrm>
            <a:off x="4392360" y="650520"/>
            <a:ext cx="3166200" cy="54648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triangle" w="med"/>
          </a:ln>
        </p:spPr>
      </p:cxnSp>
      <p:cxnSp>
        <p:nvCxnSpPr>
          <p:cNvPr id="157" name="Straight Arrow Connector 13"/>
          <p:cNvCxnSpPr/>
          <p:nvPr/>
        </p:nvCxnSpPr>
        <p:spPr>
          <a:xfrm flipH="1">
            <a:off x="1978920" y="650880"/>
            <a:ext cx="2413800" cy="47520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triangle" w="med"/>
          </a:ln>
        </p:spPr>
      </p:cxnSp>
      <p:sp>
        <p:nvSpPr>
          <p:cNvPr id="158" name="Rectangle 1"/>
          <p:cNvSpPr/>
          <p:nvPr/>
        </p:nvSpPr>
        <p:spPr>
          <a:xfrm>
            <a:off x="179280" y="2044800"/>
            <a:ext cx="266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عوامل قاتلة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idal agents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غيرمؤذية كفاية ليتم تطبيقها على الجلد والأغشية المخاطية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 ينبغي أن لا تؤخذ داخليا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 وتشمل مثل الكحول، نترات الفضة، محلول اليود، الكحول، المنظفات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2798640" y="1738440"/>
            <a:ext cx="3068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عوامل قاتلة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idal agent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ليست آمنة التطبيق على الأنسجة الحية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يستخدم في الجمادات مثل الاواني والارضيات  والطاولات، آنية فخارية، إلخ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أمثلة: هيبوكلوريت ومركبات الكلور، كبريتات النحاس، والفورمالديهايد، والمركبات الفينولية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6048360" y="1833480"/>
            <a:ext cx="30448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عوامل مثبطة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tatic agent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تستخدم في تثبيط النمو للكائنات الحية الدقيق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تستخدم في حفظ الاطعم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الحفظ يكون للمأكولات في مواد غير سامة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 ومن الأمثلة بروبيونات الكالسيوم، بنزوات الصوديوم، والنترات وثاني أكسيد الكبريت، وأكسيد الإيثيلين(يمنع تكاثر الميكروبات) والأوزون (تستخدم كمطهر للمياه والأغذية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3"/>
          <p:cNvSpPr/>
          <p:nvPr/>
        </p:nvSpPr>
        <p:spPr>
          <a:xfrm>
            <a:off x="2627280" y="1890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Jokerman"/>
              </a:rPr>
              <a:t>II.  </a:t>
            </a:r>
            <a:r>
              <a:rPr b="1" lang="en-US" sz="2400" spc="-1" strike="noStrike">
                <a:solidFill>
                  <a:srgbClr val="000000"/>
                </a:solidFill>
                <a:latin typeface="Jokerman"/>
              </a:rPr>
              <a:t>Chemical Ag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1024200" y="1187280"/>
            <a:ext cx="171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Jokerman"/>
              </a:rPr>
              <a:t>1. Antiseptic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108000" y="1628640"/>
            <a:ext cx="2951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Cidal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gen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rmless enough to be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applied to the skin and mucous membran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ould not be taken internally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amples include alcohols, silver nitrate, iodine solution, alcohols, detergent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3568320" y="119700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Jokerman"/>
              </a:rPr>
              <a:t>2. Disinfecta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3059280" y="1646280"/>
            <a:ext cx="336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Cidal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gen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Not saf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application to living tissu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d on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inanimat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objects such as tables, floors, utensils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amples: hypochlorites, chlorine compounds, copper sulfate, formaldehyde, phenolic   compounds and LTGP (Low Temperature Gas Plasma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6612120" y="1197000"/>
            <a:ext cx="19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Jokerman"/>
              </a:rPr>
              <a:t>3. Preservativ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6426360" y="1670040"/>
            <a:ext cx="2690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Static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gen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d to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inhibi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the growth of microorg-anism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st often in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food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eaten they should be nontoxic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amples are calcium propionate, sodium benzoate, nitrate and sulfur dioxide, </a:t>
            </a:r>
            <a:r>
              <a:rPr b="0" lang="en-US" sz="1800" spc="-1" strike="noStrike">
                <a:solidFill>
                  <a:srgbClr val="00b050"/>
                </a:solidFill>
                <a:latin typeface="Calibri"/>
              </a:rPr>
              <a:t>ethylene oxide (ETO)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ozon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8" name="Straight Arrow Connector 11"/>
          <p:cNvCxnSpPr>
            <a:stCxn id="161" idx="2"/>
          </p:cNvCxnSpPr>
          <p:nvPr/>
        </p:nvCxnSpPr>
        <p:spPr>
          <a:xfrm>
            <a:off x="4392720" y="650880"/>
            <a:ext cx="108720" cy="47520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triangle" w="med"/>
          </a:ln>
        </p:spPr>
      </p:cxnSp>
      <p:cxnSp>
        <p:nvCxnSpPr>
          <p:cNvPr id="169" name="Straight Arrow Connector 12"/>
          <p:cNvCxnSpPr>
            <a:stCxn id="161" idx="2"/>
            <a:endCxn id="166" idx="0"/>
          </p:cNvCxnSpPr>
          <p:nvPr/>
        </p:nvCxnSpPr>
        <p:spPr>
          <a:xfrm>
            <a:off x="4392360" y="650520"/>
            <a:ext cx="3215160" cy="54648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triangle" w="med"/>
          </a:ln>
        </p:spPr>
      </p:cxnSp>
      <p:cxnSp>
        <p:nvCxnSpPr>
          <p:cNvPr id="170" name="Straight Arrow Connector 13"/>
          <p:cNvCxnSpPr/>
          <p:nvPr/>
        </p:nvCxnSpPr>
        <p:spPr>
          <a:xfrm flipH="1">
            <a:off x="1978920" y="650880"/>
            <a:ext cx="2413800" cy="47520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triangle" w="med"/>
          </a:ln>
        </p:spPr>
      </p:cxnSp>
      <p:cxnSp>
        <p:nvCxnSpPr>
          <p:cNvPr id="171" name="Straight Arrow Connector 19"/>
          <p:cNvCxnSpPr/>
          <p:nvPr/>
        </p:nvCxnSpPr>
        <p:spPr>
          <a:xfrm flipH="1">
            <a:off x="6587280" y="5013000"/>
            <a:ext cx="577080" cy="648360"/>
          </a:xfrm>
          <a:prstGeom prst="straightConnector1">
            <a:avLst/>
          </a:prstGeom>
          <a:ln w="25560">
            <a:solidFill>
              <a:srgbClr val="9bbb59"/>
            </a:solidFill>
            <a:miter/>
            <a:tailEnd len="med" type="triangle" w="med"/>
          </a:ln>
        </p:spPr>
      </p:cxnSp>
      <p:sp>
        <p:nvSpPr>
          <p:cNvPr id="172" name="Rectangle 20"/>
          <p:cNvSpPr/>
          <p:nvPr/>
        </p:nvSpPr>
        <p:spPr>
          <a:xfrm>
            <a:off x="4932360" y="5589720"/>
            <a:ext cx="194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used to prevents microbial rep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Straight Arrow Connector 22"/>
          <p:cNvCxnSpPr/>
          <p:nvPr/>
        </p:nvCxnSpPr>
        <p:spPr>
          <a:xfrm>
            <a:off x="8532360" y="5013000"/>
            <a:ext cx="1080" cy="64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74" name="Rectangle 23"/>
          <p:cNvSpPr/>
          <p:nvPr/>
        </p:nvSpPr>
        <p:spPr>
          <a:xfrm>
            <a:off x="7993080" y="5694480"/>
            <a:ext cx="1079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used as a disinfectant for water and 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3"/>
          <p:cNvSpPr/>
          <p:nvPr/>
        </p:nvSpPr>
        <p:spPr>
          <a:xfrm>
            <a:off x="2833560" y="26028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Jokerman"/>
              </a:rPr>
              <a:t>III.</a:t>
            </a:r>
            <a:r>
              <a:rPr b="1" lang="en-US" sz="2400" spc="-1" strike="noStrike">
                <a:solidFill>
                  <a:srgbClr val="000000"/>
                </a:solidFill>
                <a:latin typeface="Jokerman"/>
              </a:rPr>
              <a:t>    Biological Ag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965520" y="334800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Jokerman"/>
              </a:rPr>
              <a:t>1. Natur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5911560" y="3348000"/>
            <a:ext cx="20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Jokerman"/>
              </a:rPr>
              <a:t>2. Semisyntheti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826920" y="1700280"/>
            <a:ext cx="784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biological agents are antimicrobial agents that kill (cidal effect) or inhibit (static effect) the growth microorganism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timicrobial agents may be of natural or synthetic origin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9" name="Straight Arrow Connector 9"/>
          <p:cNvCxnSpPr>
            <a:stCxn id="178" idx="2"/>
            <a:endCxn id="176" idx="0"/>
          </p:cNvCxnSpPr>
          <p:nvPr/>
        </p:nvCxnSpPr>
        <p:spPr>
          <a:xfrm flipH="1">
            <a:off x="1626840" y="2715840"/>
            <a:ext cx="3124800" cy="6325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80" name="Straight Arrow Connector 10"/>
          <p:cNvCxnSpPr>
            <a:stCxn id="178" idx="2"/>
            <a:endCxn id="177" idx="0"/>
          </p:cNvCxnSpPr>
          <p:nvPr/>
        </p:nvCxnSpPr>
        <p:spPr>
          <a:xfrm>
            <a:off x="4751280" y="2715840"/>
            <a:ext cx="2191320" cy="6325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81" name="Rectangle 15"/>
          <p:cNvSpPr/>
          <p:nvPr/>
        </p:nvSpPr>
        <p:spPr>
          <a:xfrm>
            <a:off x="4572000" y="5272200"/>
            <a:ext cx="4572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olecules produced by a microbe that are subsequently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by an organic chemist to enhance their antimicrobial properties or to render them unique for a pharmaceutical paten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xamples are sulfonilamides and chloramphenicol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Rectangle 16"/>
          <p:cNvSpPr/>
          <p:nvPr/>
        </p:nvSpPr>
        <p:spPr>
          <a:xfrm>
            <a:off x="250920" y="5229360"/>
            <a:ext cx="3529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ntimicrobial agents produced by microorganisms that kill or inhibit other microorganism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xamples are  penicillin and its relativ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Rectangle 1"/>
          <p:cNvSpPr/>
          <p:nvPr/>
        </p:nvSpPr>
        <p:spPr>
          <a:xfrm>
            <a:off x="250920" y="790560"/>
            <a:ext cx="864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عوامل البيولوجية هي مضادات الميكروبات (المضادات الحيوية) التي تقتل (تأثير قاتل ) أو تمنع نمو الكائنات الحية الدقيقة (تأثير مثبط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قد تكون هذه  المضادات طبيعية المصدر أو صناعي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1244520" y="3693960"/>
            <a:ext cx="10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طبيعية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Rectangle 11"/>
          <p:cNvSpPr/>
          <p:nvPr/>
        </p:nvSpPr>
        <p:spPr>
          <a:xfrm>
            <a:off x="6642000" y="3693960"/>
            <a:ext cx="10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صناعي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-108000" y="4071960"/>
            <a:ext cx="41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مضادات الحيوية التي تنتجها الكائنات الحية الدقيقة قد تقتل أو تثبط نمو  كائنات حية  دقيقة أخرى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ومن أمثلتها البنسلين ومشتقات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4861080" y="390672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جزيئات التي ينتجها ميكروب يتم تعديلها بواسطة الكيمياء العضوية لتعزيز خصائصها المضادة للميكروبات أو جعلها فريدة من نوعها لبراءة اختراع الأدوي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ومن أمثلة سولفونيلاميديس والكلورامفينيكو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فعالية المضادات الحيوية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fficiency of antibiot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-101520" y="3711600"/>
            <a:ext cx="38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tibiotics effective against prokaryotes which kill or inhibit a wide range of Gram-positive and Gram-negative bacteria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6043680" y="3757680"/>
            <a:ext cx="32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tibiotics effective against prokaryotes which kill or inhibit a single organism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215640" y="334152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road spectru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3517200" y="5294160"/>
            <a:ext cx="21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arrow spectru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6495120" y="3156120"/>
            <a:ext cx="188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imited spectru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2835360" y="5648400"/>
            <a:ext cx="38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tibiotics effective against prokaryotes which kill or inhibit a wide range of Gram-negative or Gram-positive bacter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Down Arrow 9"/>
          <p:cNvSpPr/>
          <p:nvPr/>
        </p:nvSpPr>
        <p:spPr>
          <a:xfrm>
            <a:off x="4500720" y="1700280"/>
            <a:ext cx="215640" cy="1641240"/>
          </a:xfrm>
          <a:prstGeom prst="downArrow">
            <a:avLst>
              <a:gd name="adj1" fmla="val 50000"/>
              <a:gd name="adj2" fmla="val 5007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ight Arrow 12"/>
          <p:cNvSpPr/>
          <p:nvPr/>
        </p:nvSpPr>
        <p:spPr>
          <a:xfrm flipV="1" rot="1005000">
            <a:off x="4506840" y="1786320"/>
            <a:ext cx="1422360" cy="209880"/>
          </a:xfrm>
          <a:prstGeom prst="rightArrow">
            <a:avLst>
              <a:gd name="adj1" fmla="val 50000"/>
              <a:gd name="adj2" fmla="val 4991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Right Arrow 13"/>
          <p:cNvSpPr/>
          <p:nvPr/>
        </p:nvSpPr>
        <p:spPr>
          <a:xfrm rot="9817800">
            <a:off x="3115800" y="1810800"/>
            <a:ext cx="1511280" cy="184320"/>
          </a:xfrm>
          <a:prstGeom prst="rightArrow">
            <a:avLst>
              <a:gd name="adj1" fmla="val 50000"/>
              <a:gd name="adj2" fmla="val 4995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ectangle 1"/>
          <p:cNvSpPr/>
          <p:nvPr/>
        </p:nvSpPr>
        <p:spPr>
          <a:xfrm>
            <a:off x="743400" y="1601640"/>
            <a:ext cx="2201040" cy="368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 algn="r" rtl="1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Calibri"/>
              </a:rPr>
              <a:t>ذات طيف واس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14"/>
          <p:cNvSpPr/>
          <p:nvPr/>
        </p:nvSpPr>
        <p:spPr>
          <a:xfrm>
            <a:off x="6022440" y="1587600"/>
            <a:ext cx="2298240" cy="368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 algn="r" rtl="1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Calibri"/>
              </a:rPr>
              <a:t>ذات طيف محدو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176040" y="1955880"/>
            <a:ext cx="2945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مضادات الحيوية الفعالة ضد بدائيات النواة التي تقتل أو تثبط مجموعة واسعة من السالبة والموجبة لصبغة غرا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6043680" y="2001960"/>
            <a:ext cx="278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مضادات الحيوية الفعالة ضد بدائيات النواة التي تقتل أو تثبط كائن واحد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3711600" y="3710160"/>
            <a:ext cx="2009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مضادات الحيوية الفعالة ضد بدائيات النواة التي تقتل أو تثبط طائفة واسعة من البكتيريا سالبة لغرام أو موجبة لغرا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16"/>
          <p:cNvSpPr/>
          <p:nvPr/>
        </p:nvSpPr>
        <p:spPr>
          <a:xfrm>
            <a:off x="3610440" y="3341520"/>
            <a:ext cx="2120040" cy="368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 algn="r" rtl="1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Calibri"/>
              </a:rPr>
              <a:t>ذات طيف ضي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6240" y="1862280"/>
            <a:ext cx="4248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بواسطة قتل الكائنات الحية الدقيقة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y 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kill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icroorganism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75564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يأثر هذا التحكم بطريقتين أساسيتين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control is affected in two basic way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itle 1"/>
          <p:cNvSpPr/>
          <p:nvPr/>
        </p:nvSpPr>
        <p:spPr>
          <a:xfrm>
            <a:off x="4500720" y="2133720"/>
            <a:ext cx="4174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Times New Roman"/>
              </a:rPr>
              <a:t>بواسطة تثبيط النمو للكائنات الحية الدقيق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inhibit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he growt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icroorganis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108000" y="4848120"/>
            <a:ext cx="42480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5000"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لعوامل التي تقتل الخلايا تسمى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cidal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nts which kill cell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called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cidal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itle 1"/>
          <p:cNvSpPr/>
          <p:nvPr/>
        </p:nvSpPr>
        <p:spPr>
          <a:xfrm>
            <a:off x="4518000" y="4846680"/>
            <a:ext cx="4248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5000"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لعوامل التي تعمل على تثبيط نمو الخلايا تسمى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tatic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nts which inhibit the growth of cell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called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tatic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Straight Arrow Connector 7"/>
          <p:cNvCxnSpPr>
            <a:endCxn id="44" idx="0"/>
          </p:cNvCxnSpPr>
          <p:nvPr/>
        </p:nvCxnSpPr>
        <p:spPr>
          <a:xfrm flipH="1">
            <a:off x="2369520" y="1341000"/>
            <a:ext cx="2500920" cy="52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0" name="Straight Arrow Connector 9"/>
          <p:cNvCxnSpPr/>
          <p:nvPr/>
        </p:nvCxnSpPr>
        <p:spPr>
          <a:xfrm>
            <a:off x="4870080" y="1341000"/>
            <a:ext cx="1718280" cy="64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1" name="Straight Arrow Connector 11"/>
          <p:cNvCxnSpPr>
            <a:stCxn id="44" idx="2"/>
          </p:cNvCxnSpPr>
          <p:nvPr/>
        </p:nvCxnSpPr>
        <p:spPr>
          <a:xfrm flipH="1">
            <a:off x="2231640" y="3157560"/>
            <a:ext cx="138960" cy="1208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2" name="Straight Arrow Connector 13"/>
          <p:cNvCxnSpPr/>
          <p:nvPr/>
        </p:nvCxnSpPr>
        <p:spPr>
          <a:xfrm>
            <a:off x="6588000" y="3573000"/>
            <a:ext cx="54720" cy="793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3680" y="115560"/>
            <a:ext cx="8229600" cy="153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Jokerman"/>
                <a:cs typeface="Arial"/>
              </a:rPr>
              <a:t>العوامل المستخدمة في السيطرة على الكائنات الحية الدقيقة 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Jokerman"/>
                <a:ea typeface="Arial"/>
              </a:rPr>
              <a:t>3</a:t>
            </a:r>
            <a:r>
              <a:rPr b="1" lang="ar-SA" sz="2800" spc="-1" strike="noStrike">
                <a:solidFill>
                  <a:srgbClr val="000000"/>
                </a:solidFill>
                <a:latin typeface="Jokerman"/>
                <a:ea typeface="Arial"/>
              </a:rPr>
              <a:t> أنواع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Gisha"/>
                <a:ea typeface="Gisha"/>
              </a:rPr>
              <a:t>Agents used in Controlling of Microorganism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Gisha"/>
                <a:ea typeface="Gisha"/>
              </a:rPr>
              <a:t>3 Typ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979360" y="2349360"/>
            <a:ext cx="2879640" cy="60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Jokerman"/>
              </a:rPr>
              <a:t>II.  </a:t>
            </a:r>
            <a:r>
              <a:rPr b="1" lang="ar-SA" sz="1800" spc="-1" strike="noStrike">
                <a:solidFill>
                  <a:srgbClr val="000000"/>
                </a:solidFill>
                <a:latin typeface="Jokerman"/>
              </a:rPr>
              <a:t>العوامل الكيميائي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Jokerman"/>
              </a:rPr>
              <a:t>Chemical Ag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Content Placeholder 2"/>
          <p:cNvSpPr/>
          <p:nvPr/>
        </p:nvSpPr>
        <p:spPr>
          <a:xfrm>
            <a:off x="171360" y="2320920"/>
            <a:ext cx="296064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390960" indent="-390960"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Joker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Jokerman"/>
              </a:rPr>
              <a:t>العوامل الطبيعية (الفيزيائية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90960" indent="-39096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Jokerman"/>
              </a:rPr>
              <a:t>Physical Ag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Content Placeholder 2"/>
          <p:cNvSpPr/>
          <p:nvPr/>
        </p:nvSpPr>
        <p:spPr>
          <a:xfrm>
            <a:off x="5859360" y="2349360"/>
            <a:ext cx="296064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Jokerman"/>
              </a:rPr>
              <a:t>III. </a:t>
            </a:r>
            <a:r>
              <a:rPr b="1" lang="ar-SA" sz="1800" spc="-1" strike="noStrike">
                <a:solidFill>
                  <a:srgbClr val="000000"/>
                </a:solidFill>
                <a:latin typeface="Jokerman"/>
              </a:rPr>
              <a:t>العوامل البيولوجي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Jokerman"/>
              </a:rPr>
              <a:t>Biological Ag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" name="Group 51"/>
          <p:cNvGrpSpPr/>
          <p:nvPr/>
        </p:nvGrpSpPr>
        <p:grpSpPr>
          <a:xfrm>
            <a:off x="602280" y="3429000"/>
            <a:ext cx="2529720" cy="2965320"/>
            <a:chOff x="602280" y="3429000"/>
            <a:chExt cx="2529720" cy="2965320"/>
          </a:xfrm>
        </p:grpSpPr>
        <p:sp>
          <p:nvSpPr>
            <p:cNvPr id="58" name="Content Placeholder 2"/>
            <p:cNvSpPr/>
            <p:nvPr/>
          </p:nvSpPr>
          <p:spPr>
            <a:xfrm>
              <a:off x="611280" y="3429000"/>
              <a:ext cx="2223720" cy="6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Gisha"/>
                  <a:ea typeface="Gisha"/>
                </a:rPr>
                <a:t>1. Heating</a:t>
              </a: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Content Placeholder 2"/>
            <p:cNvSpPr/>
            <p:nvPr/>
          </p:nvSpPr>
          <p:spPr>
            <a:xfrm>
              <a:off x="619200" y="4365720"/>
              <a:ext cx="222408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Gisha"/>
                  <a:ea typeface="Gisha"/>
                </a:rPr>
                <a:t>3. </a:t>
              </a:r>
              <a:r>
                <a:rPr b="1" lang="en-US" sz="2100" spc="-1" strike="noStrike">
                  <a:solidFill>
                    <a:srgbClr val="000000"/>
                  </a:solidFill>
                  <a:latin typeface="Gisha"/>
                  <a:ea typeface="Gisha"/>
                </a:rPr>
                <a:t>Filtration</a:t>
              </a: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Content Placeholder 2"/>
            <p:cNvSpPr/>
            <p:nvPr/>
          </p:nvSpPr>
          <p:spPr>
            <a:xfrm>
              <a:off x="611280" y="5329440"/>
              <a:ext cx="222408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Gisha"/>
                  <a:ea typeface="Gisha"/>
                </a:rPr>
                <a:t>5.</a:t>
              </a:r>
              <a:r>
                <a:rPr b="1" lang="en-US" sz="3200" spc="-1" strike="noStrike">
                  <a:solidFill>
                    <a:srgbClr val="000000"/>
                  </a:solidFill>
                  <a:latin typeface="Jokerman"/>
                </a:rPr>
                <a:t> </a:t>
              </a:r>
              <a:r>
                <a:rPr b="1" lang="en-US" sz="2300" spc="-1" strike="noStrike">
                  <a:solidFill>
                    <a:srgbClr val="000000"/>
                  </a:solidFill>
                  <a:latin typeface="Gisha"/>
                  <a:ea typeface="Gisha"/>
                </a:rPr>
                <a:t>freezing</a:t>
              </a:r>
              <a:endParaRPr b="0" lang="en-US" sz="2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Content Placeholder 2"/>
            <p:cNvSpPr/>
            <p:nvPr/>
          </p:nvSpPr>
          <p:spPr>
            <a:xfrm>
              <a:off x="611280" y="4970520"/>
              <a:ext cx="2520720" cy="60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8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Gisha"/>
                  <a:ea typeface="Gisha"/>
                </a:rPr>
                <a:t>4</a:t>
              </a:r>
              <a:r>
                <a:rPr b="1" lang="en-US" sz="1800" spc="-1" strike="noStrike">
                  <a:solidFill>
                    <a:srgbClr val="000000"/>
                  </a:solidFill>
                  <a:latin typeface="Jokerman"/>
                </a:rPr>
                <a:t>. </a:t>
              </a:r>
              <a:r>
                <a:rPr b="1" lang="en-US" sz="2100" spc="-1" strike="noStrike">
                  <a:solidFill>
                    <a:srgbClr val="000000"/>
                  </a:solidFill>
                  <a:latin typeface="Gisha"/>
                  <a:ea typeface="Gisha"/>
                </a:rPr>
                <a:t>Pasteurization</a:t>
              </a:r>
              <a:r>
                <a:rPr b="0" lang="en-US" sz="15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Content Placeholder 2"/>
            <p:cNvSpPr/>
            <p:nvPr/>
          </p:nvSpPr>
          <p:spPr>
            <a:xfrm>
              <a:off x="629640" y="3861000"/>
              <a:ext cx="2223720" cy="6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isha"/>
                  <a:ea typeface="Gisha"/>
                </a:rPr>
                <a:t>2</a:t>
              </a:r>
              <a:r>
                <a:rPr b="1" lang="en-US" sz="2300" spc="-1" strike="noStrike">
                  <a:solidFill>
                    <a:srgbClr val="000000"/>
                  </a:solidFill>
                  <a:latin typeface="Gisha"/>
                  <a:ea typeface="Gisha"/>
                </a:rPr>
                <a:t>.</a:t>
              </a:r>
              <a:r>
                <a:rPr b="1" lang="en-US" sz="2100" spc="-1" strike="noStrike">
                  <a:solidFill>
                    <a:srgbClr val="000000"/>
                  </a:solidFill>
                  <a:latin typeface="Jokerman"/>
                </a:rPr>
                <a:t> </a:t>
              </a:r>
              <a:r>
                <a:rPr b="1" lang="en-US" sz="2100" spc="-1" strike="noStrike">
                  <a:solidFill>
                    <a:srgbClr val="000000"/>
                  </a:solidFill>
                  <a:latin typeface="Gisha"/>
                  <a:ea typeface="Gisha"/>
                </a:rPr>
                <a:t>Irradiation</a:t>
              </a: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Rectangle 11"/>
            <p:cNvSpPr/>
            <p:nvPr/>
          </p:nvSpPr>
          <p:spPr>
            <a:xfrm>
              <a:off x="602280" y="5934600"/>
              <a:ext cx="140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Gisha"/>
                  <a:ea typeface="Gisha"/>
                </a:rPr>
                <a:t>6.</a:t>
              </a:r>
              <a:r>
                <a:rPr b="1" lang="en-US" sz="2400" spc="-1" strike="noStrike">
                  <a:solidFill>
                    <a:srgbClr val="000000"/>
                  </a:solidFill>
                  <a:latin typeface="Jokerman"/>
                </a:rPr>
                <a:t> </a:t>
              </a:r>
              <a:r>
                <a:rPr b="1" lang="en-US" sz="2100" spc="-1" strike="noStrike">
                  <a:solidFill>
                    <a:srgbClr val="000000"/>
                  </a:solidFill>
                  <a:latin typeface="Gisha"/>
                  <a:ea typeface="Gisha"/>
                </a:rPr>
                <a:t>Drying</a:t>
              </a: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" name="Group 50"/>
          <p:cNvGrpSpPr/>
          <p:nvPr/>
        </p:nvGrpSpPr>
        <p:grpSpPr>
          <a:xfrm>
            <a:off x="324000" y="3024720"/>
            <a:ext cx="1152000" cy="3213000"/>
            <a:chOff x="324000" y="3024720"/>
            <a:chExt cx="1152000" cy="3213000"/>
          </a:xfrm>
        </p:grpSpPr>
        <p:cxnSp>
          <p:nvCxnSpPr>
            <p:cNvPr id="65" name="Elbow Connector 15"/>
            <p:cNvCxnSpPr/>
            <p:nvPr/>
          </p:nvCxnSpPr>
          <p:spPr>
            <a:xfrm flipV="1" rot="10800000">
              <a:off x="331200" y="3024720"/>
              <a:ext cx="1145160" cy="3308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66" name="Straight Connector 20"/>
            <p:cNvSpPr/>
            <p:nvPr/>
          </p:nvSpPr>
          <p:spPr>
            <a:xfrm>
              <a:off x="331920" y="3355920"/>
              <a:ext cx="0" cy="288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7" name="Straight Arrow Connector 22"/>
            <p:cNvCxnSpPr/>
            <p:nvPr/>
          </p:nvCxnSpPr>
          <p:spPr>
            <a:xfrm>
              <a:off x="331920" y="3715920"/>
              <a:ext cx="281520" cy="1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8" name="Straight Arrow Connector 23"/>
            <p:cNvCxnSpPr/>
            <p:nvPr/>
          </p:nvCxnSpPr>
          <p:spPr>
            <a:xfrm>
              <a:off x="324000" y="4147920"/>
              <a:ext cx="280080" cy="1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9" name="Straight Arrow Connector 24"/>
            <p:cNvCxnSpPr/>
            <p:nvPr/>
          </p:nvCxnSpPr>
          <p:spPr>
            <a:xfrm>
              <a:off x="324000" y="4724280"/>
              <a:ext cx="280080" cy="1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0" name="Straight Arrow Connector 25"/>
            <p:cNvCxnSpPr/>
            <p:nvPr/>
          </p:nvCxnSpPr>
          <p:spPr>
            <a:xfrm>
              <a:off x="324000" y="5229000"/>
              <a:ext cx="280080" cy="1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1" name="Straight Arrow Connector 26"/>
            <p:cNvCxnSpPr/>
            <p:nvPr/>
          </p:nvCxnSpPr>
          <p:spPr>
            <a:xfrm>
              <a:off x="324000" y="5805360"/>
              <a:ext cx="280080" cy="1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2" name="Straight Arrow Connector 27"/>
            <p:cNvCxnSpPr/>
            <p:nvPr/>
          </p:nvCxnSpPr>
          <p:spPr>
            <a:xfrm>
              <a:off x="324000" y="6237000"/>
              <a:ext cx="280080" cy="1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grpSp>
        <p:nvGrpSpPr>
          <p:cNvPr id="73" name="Group 52"/>
          <p:cNvGrpSpPr/>
          <p:nvPr/>
        </p:nvGrpSpPr>
        <p:grpSpPr>
          <a:xfrm>
            <a:off x="3347280" y="3025440"/>
            <a:ext cx="2664720" cy="2491200"/>
            <a:chOff x="3347280" y="3025440"/>
            <a:chExt cx="2664720" cy="2491200"/>
          </a:xfrm>
        </p:grpSpPr>
        <p:cxnSp>
          <p:nvCxnSpPr>
            <p:cNvPr id="74" name="Straight Arrow Connector 28"/>
            <p:cNvCxnSpPr/>
            <p:nvPr/>
          </p:nvCxnSpPr>
          <p:spPr>
            <a:xfrm>
              <a:off x="3355920" y="3976200"/>
              <a:ext cx="280080" cy="1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" name="Elbow Connector 31"/>
            <p:cNvCxnSpPr/>
            <p:nvPr/>
          </p:nvCxnSpPr>
          <p:spPr>
            <a:xfrm rot="5400000">
              <a:off x="3717360" y="2655360"/>
              <a:ext cx="332280" cy="107244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76" name="Straight Connector 33"/>
            <p:cNvSpPr/>
            <p:nvPr/>
          </p:nvSpPr>
          <p:spPr>
            <a:xfrm>
              <a:off x="3348000" y="3357360"/>
              <a:ext cx="0" cy="17272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Content Placeholder 2"/>
            <p:cNvSpPr/>
            <p:nvPr/>
          </p:nvSpPr>
          <p:spPr>
            <a:xfrm>
              <a:off x="3644640" y="3716280"/>
              <a:ext cx="22226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8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isha"/>
                  <a:ea typeface="Gisha"/>
                </a:rPr>
                <a:t>1. </a:t>
              </a:r>
              <a:r>
                <a:rPr b="1" lang="en-US" sz="2300" spc="-1" strike="noStrike">
                  <a:solidFill>
                    <a:srgbClr val="000000"/>
                  </a:solidFill>
                  <a:latin typeface="Gisha"/>
                  <a:ea typeface="Gisha"/>
                </a:rPr>
                <a:t>Antiseptics</a:t>
              </a:r>
              <a:endParaRPr b="0" lang="en-US" sz="2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Content Placeholder 2"/>
            <p:cNvSpPr/>
            <p:nvPr/>
          </p:nvSpPr>
          <p:spPr>
            <a:xfrm>
              <a:off x="3635280" y="4264200"/>
              <a:ext cx="22244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isha"/>
                  <a:ea typeface="Gisha"/>
                </a:rPr>
                <a:t>2. Disinfectant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Content Placeholder 2"/>
            <p:cNvSpPr/>
            <p:nvPr/>
          </p:nvSpPr>
          <p:spPr>
            <a:xfrm>
              <a:off x="3635280" y="4911840"/>
              <a:ext cx="237672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8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isha"/>
                  <a:ea typeface="Gisha"/>
                </a:rPr>
                <a:t>3. </a:t>
              </a:r>
              <a:r>
                <a:rPr b="1" lang="en-US" sz="2200" spc="-1" strike="noStrike">
                  <a:solidFill>
                    <a:srgbClr val="000000"/>
                  </a:solidFill>
                  <a:latin typeface="Gisha"/>
                  <a:ea typeface="Gisha"/>
                </a:rPr>
                <a:t>Preservatives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0" name="Straight Arrow Connector 37"/>
            <p:cNvCxnSpPr/>
            <p:nvPr/>
          </p:nvCxnSpPr>
          <p:spPr>
            <a:xfrm>
              <a:off x="3348000" y="4436640"/>
              <a:ext cx="280080" cy="1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38"/>
            <p:cNvCxnSpPr/>
            <p:nvPr/>
          </p:nvCxnSpPr>
          <p:spPr>
            <a:xfrm>
              <a:off x="3348000" y="5084640"/>
              <a:ext cx="280080" cy="1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grpSp>
        <p:nvGrpSpPr>
          <p:cNvPr id="82" name="Group 54"/>
          <p:cNvGrpSpPr/>
          <p:nvPr/>
        </p:nvGrpSpPr>
        <p:grpSpPr>
          <a:xfrm>
            <a:off x="6155640" y="3025440"/>
            <a:ext cx="2801160" cy="1843560"/>
            <a:chOff x="6155640" y="3025440"/>
            <a:chExt cx="2801160" cy="1843560"/>
          </a:xfrm>
        </p:grpSpPr>
        <p:grpSp>
          <p:nvGrpSpPr>
            <p:cNvPr id="83" name="Group 49"/>
            <p:cNvGrpSpPr/>
            <p:nvPr/>
          </p:nvGrpSpPr>
          <p:grpSpPr>
            <a:xfrm>
              <a:off x="6155640" y="3025440"/>
              <a:ext cx="1184400" cy="1411920"/>
              <a:chOff x="6155640" y="3025440"/>
              <a:chExt cx="1184400" cy="1411920"/>
            </a:xfrm>
          </p:grpSpPr>
          <p:cxnSp>
            <p:nvCxnSpPr>
              <p:cNvPr id="84" name="Elbow Connector 41"/>
              <p:cNvCxnSpPr/>
              <p:nvPr/>
            </p:nvCxnSpPr>
            <p:spPr>
              <a:xfrm rot="5400000">
                <a:off x="6581880" y="2599200"/>
                <a:ext cx="332280" cy="1184760"/>
              </a:xfrm>
              <a:prstGeom prst="bentConnector2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85" name="Straight Connector 43"/>
              <p:cNvSpPr/>
              <p:nvPr/>
            </p:nvSpPr>
            <p:spPr>
              <a:xfrm>
                <a:off x="6156360" y="3357360"/>
                <a:ext cx="0" cy="10796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86" name="Straight Arrow Connector 45"/>
              <p:cNvCxnSpPr/>
              <p:nvPr/>
            </p:nvCxnSpPr>
            <p:spPr>
              <a:xfrm>
                <a:off x="6156360" y="3897000"/>
                <a:ext cx="576360" cy="108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87" name="Straight Arrow Connector 47"/>
              <p:cNvCxnSpPr/>
              <p:nvPr/>
            </p:nvCxnSpPr>
            <p:spPr>
              <a:xfrm>
                <a:off x="6156360" y="4436640"/>
                <a:ext cx="576360" cy="108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  <p:sp>
          <p:nvSpPr>
            <p:cNvPr id="88" name="Content Placeholder 2"/>
            <p:cNvSpPr/>
            <p:nvPr/>
          </p:nvSpPr>
          <p:spPr>
            <a:xfrm>
              <a:off x="6732360" y="3717000"/>
              <a:ext cx="2224440" cy="6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isha"/>
                  <a:ea typeface="Gisha"/>
                </a:rPr>
                <a:t>1. </a:t>
              </a:r>
              <a:r>
                <a:rPr b="1" lang="en-US" sz="1900" spc="-1" strike="noStrike">
                  <a:solidFill>
                    <a:srgbClr val="000000"/>
                  </a:solidFill>
                  <a:latin typeface="Gisha"/>
                  <a:ea typeface="Gisha"/>
                </a:rPr>
                <a:t>Natural</a:t>
              </a:r>
              <a:endParaRPr b="0" lang="en-US" sz="1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Content Placeholder 2"/>
            <p:cNvSpPr/>
            <p:nvPr/>
          </p:nvSpPr>
          <p:spPr>
            <a:xfrm>
              <a:off x="6732360" y="4264200"/>
              <a:ext cx="22244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8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isha"/>
                  <a:ea typeface="Gisha"/>
                </a:rPr>
                <a:t>2. </a:t>
              </a:r>
              <a:r>
                <a:rPr b="1" lang="en-US" sz="1900" spc="-1" strike="noStrike">
                  <a:solidFill>
                    <a:srgbClr val="000000"/>
                  </a:solidFill>
                  <a:latin typeface="Gisha"/>
                  <a:ea typeface="Gisha"/>
                </a:rPr>
                <a:t>Semisynthetic</a:t>
              </a:r>
              <a:endParaRPr b="0" lang="en-US" sz="1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90" name="Straight Arrow Connector 64"/>
          <p:cNvCxnSpPr/>
          <p:nvPr/>
        </p:nvCxnSpPr>
        <p:spPr>
          <a:xfrm flipH="1">
            <a:off x="2194920" y="1858680"/>
            <a:ext cx="2329560" cy="462600"/>
          </a:xfrm>
          <a:prstGeom prst="straightConnector1">
            <a:avLst/>
          </a:prstGeom>
          <a:ln w="25560">
            <a:solidFill>
              <a:srgbClr val="8064a2"/>
            </a:solidFill>
            <a:miter/>
            <a:tailEnd len="med" type="triangle" w="med"/>
          </a:ln>
        </p:spPr>
      </p:cxnSp>
      <p:cxnSp>
        <p:nvCxnSpPr>
          <p:cNvPr id="91" name="Straight Arrow Connector 66"/>
          <p:cNvCxnSpPr/>
          <p:nvPr/>
        </p:nvCxnSpPr>
        <p:spPr>
          <a:xfrm>
            <a:off x="4516560" y="1839960"/>
            <a:ext cx="2071800" cy="481680"/>
          </a:xfrm>
          <a:prstGeom prst="straightConnector1">
            <a:avLst/>
          </a:prstGeom>
          <a:ln w="25560">
            <a:solidFill>
              <a:srgbClr val="8064a2"/>
            </a:solidFill>
            <a:miter/>
            <a:tailEnd len="med" type="triangle" w="med"/>
          </a:ln>
        </p:spPr>
      </p:cxnSp>
      <p:cxnSp>
        <p:nvCxnSpPr>
          <p:cNvPr id="92" name="Straight Arrow Connector 69"/>
          <p:cNvCxnSpPr/>
          <p:nvPr/>
        </p:nvCxnSpPr>
        <p:spPr>
          <a:xfrm flipH="1">
            <a:off x="4474800" y="1839960"/>
            <a:ext cx="41760" cy="536760"/>
          </a:xfrm>
          <a:prstGeom prst="straightConnector1">
            <a:avLst/>
          </a:prstGeom>
          <a:ln w="25560">
            <a:solidFill>
              <a:srgbClr val="8064a2"/>
            </a:solidFill>
            <a:miter/>
            <a:tailEnd len="med" type="triangle" w="med"/>
          </a:ln>
        </p:spPr>
      </p:cxnSp>
      <p:sp>
        <p:nvSpPr>
          <p:cNvPr id="93" name="Rectangle 5"/>
          <p:cNvSpPr/>
          <p:nvPr/>
        </p:nvSpPr>
        <p:spPr>
          <a:xfrm>
            <a:off x="1982520" y="3522600"/>
            <a:ext cx="8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الحرار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46"/>
          <p:cNvSpPr/>
          <p:nvPr/>
        </p:nvSpPr>
        <p:spPr>
          <a:xfrm>
            <a:off x="2387160" y="3921120"/>
            <a:ext cx="8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الاشعا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48"/>
          <p:cNvSpPr/>
          <p:nvPr/>
        </p:nvSpPr>
        <p:spPr>
          <a:xfrm>
            <a:off x="2421720" y="4530600"/>
            <a:ext cx="74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الفلتر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49"/>
          <p:cNvSpPr/>
          <p:nvPr/>
        </p:nvSpPr>
        <p:spPr>
          <a:xfrm>
            <a:off x="2644200" y="4997520"/>
            <a:ext cx="82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البستر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50"/>
          <p:cNvSpPr/>
          <p:nvPr/>
        </p:nvSpPr>
        <p:spPr>
          <a:xfrm>
            <a:off x="2272320" y="5516640"/>
            <a:ext cx="7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التجمي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51"/>
          <p:cNvSpPr/>
          <p:nvPr/>
        </p:nvSpPr>
        <p:spPr>
          <a:xfrm>
            <a:off x="2001960" y="599616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التجفي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52"/>
          <p:cNvSpPr/>
          <p:nvPr/>
        </p:nvSpPr>
        <p:spPr>
          <a:xfrm>
            <a:off x="3880080" y="5237280"/>
            <a:ext cx="140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المواد الحافظ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54"/>
          <p:cNvSpPr/>
          <p:nvPr/>
        </p:nvSpPr>
        <p:spPr>
          <a:xfrm>
            <a:off x="3334680" y="4554360"/>
            <a:ext cx="23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المطهرات (الاسطح-سامة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55"/>
          <p:cNvSpPr/>
          <p:nvPr/>
        </p:nvSpPr>
        <p:spPr>
          <a:xfrm>
            <a:off x="3237840" y="3994200"/>
            <a:ext cx="260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المطهرات (الجلدية-غيرسامة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56"/>
          <p:cNvSpPr/>
          <p:nvPr/>
        </p:nvSpPr>
        <p:spPr>
          <a:xfrm>
            <a:off x="7198560" y="4614840"/>
            <a:ext cx="116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شبة صناعي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57"/>
          <p:cNvSpPr/>
          <p:nvPr/>
        </p:nvSpPr>
        <p:spPr>
          <a:xfrm>
            <a:off x="8123040" y="3848040"/>
            <a:ext cx="73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طبيعي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4f81bd"/>
                </a:solidFill>
                <a:latin typeface="Jokerman"/>
              </a:rPr>
              <a:t>العوامل الفيزيائية</a:t>
            </a:r>
            <a:br>
              <a:rPr sz="3200"/>
            </a:br>
            <a:r>
              <a:rPr b="1" lang="en-US" sz="2000" spc="-1" strike="noStrike">
                <a:solidFill>
                  <a:srgbClr val="4f81bd"/>
                </a:solidFill>
                <a:latin typeface="Gisha"/>
                <a:ea typeface="Gisha"/>
              </a:rPr>
              <a:t>2</a:t>
            </a:r>
            <a:r>
              <a:rPr b="1" lang="en-US" sz="2000" spc="-1" strike="noStrike">
                <a:solidFill>
                  <a:srgbClr val="4f81bd"/>
                </a:solidFill>
                <a:latin typeface="Gisha"/>
                <a:ea typeface="Gisha"/>
              </a:rPr>
              <a:t>-Physical Agents</a:t>
            </a:r>
            <a:br>
              <a:rPr sz="2000"/>
            </a:br>
            <a:br>
              <a:rPr sz="32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94920" y="907560"/>
            <a:ext cx="8280360" cy="89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Jokerman"/>
              </a:rPr>
              <a:t>I.       </a:t>
            </a:r>
            <a:r>
              <a:rPr b="1" lang="en-US" sz="1800" spc="-1" strike="noStrike">
                <a:solidFill>
                  <a:srgbClr val="000000"/>
                </a:solidFill>
                <a:latin typeface="Jokerman"/>
              </a:rPr>
              <a:t>Heating</a:t>
            </a:r>
            <a:r>
              <a:rPr b="1" lang="ar-SA" sz="1800" spc="-1" strike="noStrike">
                <a:solidFill>
                  <a:srgbClr val="000000"/>
                </a:solidFill>
                <a:latin typeface="Jokerman"/>
              </a:rPr>
              <a:t>الحرارة</a:t>
            </a:r>
            <a:r>
              <a:rPr b="1" lang="ar-SA" sz="1800" spc="-1" strike="noStrike">
                <a:solidFill>
                  <a:srgbClr val="000000"/>
                </a:solidFill>
                <a:latin typeface="Joker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MV Boli"/>
                <a:ea typeface="MV Boli"/>
              </a:rPr>
              <a:t>Means using of temperature to ensure destruction of all microorganisms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Jokerman"/>
              </a:rPr>
              <a:t>استخدام درجة الحرارة لضمان تدمير جميع الكائنات الحية الدقيق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" name="Group 27"/>
          <p:cNvGrpSpPr/>
          <p:nvPr/>
        </p:nvGrpSpPr>
        <p:grpSpPr>
          <a:xfrm>
            <a:off x="289800" y="1844640"/>
            <a:ext cx="8597520" cy="2591280"/>
            <a:chOff x="289800" y="1844640"/>
            <a:chExt cx="8597520" cy="2591280"/>
          </a:xfrm>
        </p:grpSpPr>
        <p:sp>
          <p:nvSpPr>
            <p:cNvPr id="107" name="Rectangle 15"/>
            <p:cNvSpPr/>
            <p:nvPr/>
          </p:nvSpPr>
          <p:spPr>
            <a:xfrm>
              <a:off x="289800" y="3501000"/>
              <a:ext cx="132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Incineratio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Rectangle 16"/>
            <p:cNvSpPr/>
            <p:nvPr/>
          </p:nvSpPr>
          <p:spPr>
            <a:xfrm>
              <a:off x="2644560" y="3504240"/>
              <a:ext cx="83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Boiling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Rectangle 17"/>
            <p:cNvSpPr/>
            <p:nvPr/>
          </p:nvSpPr>
          <p:spPr>
            <a:xfrm>
              <a:off x="4523040" y="3429000"/>
              <a:ext cx="1993320" cy="10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Autoclaving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</a:rPr>
                <a:t>الاوتوكلاف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(steam under pressure or pressure cooker)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Rectangle 18"/>
            <p:cNvSpPr/>
            <p:nvPr/>
          </p:nvSpPr>
          <p:spPr>
            <a:xfrm>
              <a:off x="7363800" y="3357000"/>
              <a:ext cx="152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Dry heat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(hot air oven)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1" name="Group 23"/>
            <p:cNvGrpSpPr/>
            <p:nvPr/>
          </p:nvGrpSpPr>
          <p:grpSpPr>
            <a:xfrm>
              <a:off x="970560" y="1844640"/>
              <a:ext cx="7130880" cy="1597680"/>
              <a:chOff x="970560" y="1844640"/>
              <a:chExt cx="7130880" cy="1597680"/>
            </a:xfrm>
          </p:grpSpPr>
          <p:grpSp>
            <p:nvGrpSpPr>
              <p:cNvPr id="112" name="Group 14"/>
              <p:cNvGrpSpPr/>
              <p:nvPr/>
            </p:nvGrpSpPr>
            <p:grpSpPr>
              <a:xfrm>
                <a:off x="970560" y="1844640"/>
                <a:ext cx="7130880" cy="1584720"/>
                <a:chOff x="970560" y="1844640"/>
                <a:chExt cx="7130880" cy="1584720"/>
              </a:xfrm>
            </p:grpSpPr>
            <p:sp>
              <p:nvSpPr>
                <p:cNvPr id="113" name="Down Arrow 4"/>
                <p:cNvSpPr/>
                <p:nvPr/>
              </p:nvSpPr>
              <p:spPr>
                <a:xfrm>
                  <a:off x="4284360" y="1844640"/>
                  <a:ext cx="431640" cy="648000"/>
                </a:xfrm>
                <a:prstGeom prst="downArrow">
                  <a:avLst>
                    <a:gd name="adj1" fmla="val 50000"/>
                    <a:gd name="adj2" fmla="val 50042"/>
                  </a:avLst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cxnSp>
              <p:nvCxnSpPr>
                <p:cNvPr id="114" name="Elbow Connector 6"/>
                <p:cNvCxnSpPr>
                  <a:stCxn id="113" idx="0"/>
                </p:cNvCxnSpPr>
                <p:nvPr/>
              </p:nvCxnSpPr>
              <p:spPr>
                <a:xfrm rot="5400000">
                  <a:off x="2554920" y="907920"/>
                  <a:ext cx="361080" cy="3530160"/>
                </a:xfrm>
                <a:prstGeom prst="bentConnector2">
                  <a:avLst/>
                </a:prstGeom>
                <a:ln w="9360">
                  <a:solidFill>
                    <a:srgbClr val="4a7ebb"/>
                  </a:solidFill>
                  <a:miter/>
                  <a:tailEnd len="med" type="arrow" w="med"/>
                </a:ln>
              </p:spPr>
            </p:cxnSp>
            <p:cxnSp>
              <p:nvCxnSpPr>
                <p:cNvPr id="115" name="Elbow Connector 8"/>
                <p:cNvCxnSpPr>
                  <a:stCxn id="113" idx="1"/>
                </p:cNvCxnSpPr>
                <p:nvPr/>
              </p:nvCxnSpPr>
              <p:spPr>
                <a:xfrm flipH="1" rot="16200000">
                  <a:off x="6120360" y="871920"/>
                  <a:ext cx="361080" cy="3601440"/>
                </a:xfrm>
                <a:prstGeom prst="bentConnector2">
                  <a:avLst/>
                </a:prstGeom>
                <a:ln w="9360">
                  <a:solidFill>
                    <a:srgbClr val="4a7ebb"/>
                  </a:solidFill>
                  <a:miter/>
                  <a:tailEnd len="med" type="arrow" w="med"/>
                </a:ln>
              </p:spPr>
            </p:cxnSp>
            <p:cxnSp>
              <p:nvCxnSpPr>
                <p:cNvPr id="116" name="Straight Arrow Connector 11"/>
                <p:cNvCxnSpPr/>
                <p:nvPr/>
              </p:nvCxnSpPr>
              <p:spPr>
                <a:xfrm>
                  <a:off x="3060000" y="2852640"/>
                  <a:ext cx="1080" cy="577080"/>
                </a:xfrm>
                <a:prstGeom prst="straightConnector1">
                  <a:avLst/>
                </a:prstGeom>
                <a:ln w="9360">
                  <a:solidFill>
                    <a:srgbClr val="4a7ebb"/>
                  </a:solidFill>
                  <a:miter/>
                  <a:tailEnd len="med" type="arrow" w="med"/>
                </a:ln>
              </p:spPr>
            </p:cxnSp>
            <p:cxnSp>
              <p:nvCxnSpPr>
                <p:cNvPr id="117" name="Straight Arrow Connector 13"/>
                <p:cNvCxnSpPr/>
                <p:nvPr/>
              </p:nvCxnSpPr>
              <p:spPr>
                <a:xfrm>
                  <a:off x="5508000" y="2852640"/>
                  <a:ext cx="1080" cy="577080"/>
                </a:xfrm>
                <a:prstGeom prst="straightConnector1">
                  <a:avLst/>
                </a:prstGeom>
                <a:ln w="9360">
                  <a:solidFill>
                    <a:srgbClr val="4a7ebb"/>
                  </a:solidFill>
                  <a:miter/>
                  <a:tailEnd len="med" type="arrow" w="med"/>
                </a:ln>
              </p:spPr>
            </p:cxnSp>
          </p:grpSp>
          <p:cxnSp>
            <p:nvCxnSpPr>
              <p:cNvPr id="118" name="Straight Arrow Connector 20"/>
              <p:cNvCxnSpPr/>
              <p:nvPr/>
            </p:nvCxnSpPr>
            <p:spPr>
              <a:xfrm>
                <a:off x="8100720" y="2853000"/>
                <a:ext cx="1080" cy="50544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119" name="Straight Arrow Connector 22"/>
              <p:cNvCxnSpPr/>
              <p:nvPr/>
            </p:nvCxnSpPr>
            <p:spPr>
              <a:xfrm>
                <a:off x="970920" y="2853000"/>
                <a:ext cx="1080" cy="58968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  <p:sp>
        <p:nvSpPr>
          <p:cNvPr id="120" name="Rectangle 24"/>
          <p:cNvSpPr/>
          <p:nvPr/>
        </p:nvSpPr>
        <p:spPr>
          <a:xfrm>
            <a:off x="34920" y="4292640"/>
            <a:ext cx="151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Calibri"/>
              </a:rPr>
              <a:t>burns organisms and physically destroys th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25"/>
          <p:cNvSpPr/>
          <p:nvPr/>
        </p:nvSpPr>
        <p:spPr>
          <a:xfrm>
            <a:off x="42840" y="5732640"/>
            <a:ext cx="193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Used for needles, inoculating wires, glassware, etc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28"/>
          <p:cNvSpPr/>
          <p:nvPr/>
        </p:nvSpPr>
        <p:spPr>
          <a:xfrm>
            <a:off x="1941480" y="4005360"/>
            <a:ext cx="21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 for 30 minu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29"/>
          <p:cNvSpPr/>
          <p:nvPr/>
        </p:nvSpPr>
        <p:spPr>
          <a:xfrm>
            <a:off x="2265120" y="482616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Calibri"/>
              </a:rPr>
              <a:t>Kills everyth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30"/>
          <p:cNvSpPr/>
          <p:nvPr/>
        </p:nvSpPr>
        <p:spPr>
          <a:xfrm>
            <a:off x="4356000" y="4322880"/>
            <a:ext cx="250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mperature/pressure employed is 12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/1.5 psi for 15 minu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31"/>
          <p:cNvSpPr/>
          <p:nvPr/>
        </p:nvSpPr>
        <p:spPr>
          <a:xfrm>
            <a:off x="3924360" y="5157720"/>
            <a:ext cx="3274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Calibri"/>
              </a:rPr>
              <a:t>for sterilizing biohazardous waste, surgical dressings, glassware, and many types of microbiologic media, liquids, and many other thing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32"/>
          <p:cNvSpPr/>
          <p:nvPr/>
        </p:nvSpPr>
        <p:spPr>
          <a:xfrm>
            <a:off x="7199280" y="4167360"/>
            <a:ext cx="169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6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/2hours or 17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/1hou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33"/>
          <p:cNvSpPr/>
          <p:nvPr/>
        </p:nvSpPr>
        <p:spPr>
          <a:xfrm>
            <a:off x="7174080" y="5202360"/>
            <a:ext cx="185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Calibri"/>
              </a:rPr>
              <a:t>used for glassware, metal, and objects that  won't mel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570240" y="37767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حر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2604600" y="3760920"/>
            <a:ext cx="80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غليا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7281000" y="3870360"/>
            <a:ext cx="153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حرارة الجاف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28760" y="1412640"/>
            <a:ext cx="8229600" cy="10364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عادة ما يدمر أو يشوه الأحماض النوو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ually destroys or distorts nucleic aci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2693880" y="541440"/>
            <a:ext cx="370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Gisha"/>
                <a:ea typeface="Gisha"/>
              </a:rPr>
              <a:t>2. Irradiation</a:t>
            </a:r>
            <a:r>
              <a:rPr b="1" lang="ar-SA" sz="2400" spc="-1" strike="noStrike">
                <a:solidFill>
                  <a:srgbClr val="4f81bd"/>
                </a:solidFill>
                <a:latin typeface="Gisha"/>
                <a:cs typeface="Gisha"/>
              </a:rPr>
              <a:t>الاشعاع</a:t>
            </a:r>
            <a:r>
              <a:rPr b="1" lang="ar-SA" sz="2400" spc="-1" strike="noStrike">
                <a:solidFill>
                  <a:srgbClr val="4f81bd"/>
                </a:solidFill>
                <a:latin typeface="Gisha"/>
                <a:ea typeface="Gish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1648080" y="3357720"/>
            <a:ext cx="579060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يستخدم في تعقيم أسطح الاشيا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d to sterilize the surfaces of ob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Down Arrow 6"/>
          <p:cNvSpPr/>
          <p:nvPr/>
        </p:nvSpPr>
        <p:spPr>
          <a:xfrm>
            <a:off x="4284720" y="2492280"/>
            <a:ext cx="503280" cy="720720"/>
          </a:xfrm>
          <a:prstGeom prst="downArrow">
            <a:avLst>
              <a:gd name="adj1" fmla="val 38463"/>
              <a:gd name="adj2" fmla="val 4999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1123920" y="5157720"/>
            <a:ext cx="684072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بواسطة الأشعة السينية وأشعة جاما وأشعة حزمة الإلكترو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-rays, gamma radiation and electron beam radiation are also us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Down Arrow 7"/>
          <p:cNvSpPr/>
          <p:nvPr/>
        </p:nvSpPr>
        <p:spPr>
          <a:xfrm>
            <a:off x="4264200" y="4406760"/>
            <a:ext cx="502920" cy="654120"/>
          </a:xfrm>
          <a:prstGeom prst="downArrow">
            <a:avLst>
              <a:gd name="adj1" fmla="val 38463"/>
              <a:gd name="adj2" fmla="val 5003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Content Placeholder 2"/>
          <p:cNvSpPr/>
          <p:nvPr/>
        </p:nvSpPr>
        <p:spPr>
          <a:xfrm>
            <a:off x="3095640" y="461880"/>
            <a:ext cx="295272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f81bd"/>
                </a:solidFill>
                <a:latin typeface="Gulim"/>
                <a:ea typeface="Gulim"/>
              </a:rPr>
              <a:t>3. Filtration </a:t>
            </a:r>
            <a:r>
              <a:rPr b="1" lang="ar-SA" sz="2700" spc="-1" strike="noStrike">
                <a:solidFill>
                  <a:srgbClr val="4f81bd"/>
                </a:solidFill>
                <a:latin typeface="Gulim"/>
                <a:cs typeface="Gulim"/>
              </a:rPr>
              <a:t>الفلترة</a:t>
            </a:r>
            <a:r>
              <a:rPr b="1" lang="ar-SA" sz="2700" spc="-1" strike="noStrike">
                <a:solidFill>
                  <a:srgbClr val="4f81bd"/>
                </a:solidFill>
                <a:latin typeface="Gulim"/>
                <a:ea typeface="Gulim"/>
              </a:rPr>
              <a:t> </a:t>
            </a:r>
            <a:r>
              <a:rPr b="0" lang="en-US" sz="2700" spc="-1" strike="noStrike">
                <a:solidFill>
                  <a:srgbClr val="4f81bd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468360" y="2043000"/>
            <a:ext cx="842472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إزالة الاشياء المادية (الاستبعاد) لكافة الخلايا في سائل أو غاز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hysical removal (exclusion) of all cells in a liquid or ga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480960" y="4508640"/>
            <a:ext cx="820728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يستخدم لإزالة أصغر الخلايا البكتيرية المعروفة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d to remove the smallest known bacterial cel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Down Arrow 6"/>
          <p:cNvSpPr/>
          <p:nvPr/>
        </p:nvSpPr>
        <p:spPr>
          <a:xfrm>
            <a:off x="4537080" y="1197000"/>
            <a:ext cx="431640" cy="67320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Down Arrow 7"/>
          <p:cNvSpPr/>
          <p:nvPr/>
        </p:nvSpPr>
        <p:spPr>
          <a:xfrm>
            <a:off x="4479840" y="3340080"/>
            <a:ext cx="432000" cy="673200"/>
          </a:xfrm>
          <a:prstGeom prst="downArrow">
            <a:avLst>
              <a:gd name="adj1" fmla="val 50000"/>
              <a:gd name="adj2" fmla="val 4998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3"/>
          <p:cNvSpPr/>
          <p:nvPr/>
        </p:nvSpPr>
        <p:spPr>
          <a:xfrm>
            <a:off x="2700360" y="765000"/>
            <a:ext cx="410364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f81bd"/>
                </a:solidFill>
                <a:latin typeface="Gulim"/>
                <a:ea typeface="Gulim"/>
              </a:rPr>
              <a:t>4. Pasteurization  </a:t>
            </a:r>
            <a:r>
              <a:rPr b="1" lang="ar-SA" sz="2700" spc="-1" strike="noStrike">
                <a:solidFill>
                  <a:srgbClr val="4f81bd"/>
                </a:solidFill>
                <a:latin typeface="Gulim"/>
                <a:ea typeface="Gulim"/>
              </a:rPr>
              <a:t> </a:t>
            </a:r>
            <a:r>
              <a:rPr b="1" lang="ar-SA" sz="2700" spc="-1" strike="noStrike">
                <a:solidFill>
                  <a:srgbClr val="4f81bd"/>
                </a:solidFill>
                <a:latin typeface="Gulim"/>
                <a:cs typeface="Gulim"/>
              </a:rPr>
              <a:t>البسترة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620640" y="2262240"/>
            <a:ext cx="834408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BatangChe"/>
                <a:cs typeface="BatangChe"/>
              </a:rPr>
              <a:t>وهذا يعني استخدام الحرارة المعتدلة لتقليل عدد الكائنات الحية الدقيقة في المنتج أو </a:t>
            </a:r>
            <a:r>
              <a:rPr b="0" lang="en-US" sz="2400" spc="-1" strike="noStrike">
                <a:solidFill>
                  <a:srgbClr val="000000"/>
                </a:solidFill>
                <a:latin typeface="BatangChe"/>
                <a:ea typeface="BatangChe"/>
              </a:rPr>
              <a:t>.</a:t>
            </a:r>
            <a:r>
              <a:rPr b="0" lang="ar-SA" sz="2400" spc="-1" strike="noStrike">
                <a:solidFill>
                  <a:srgbClr val="000000"/>
                </a:solidFill>
                <a:latin typeface="BatangChe"/>
                <a:cs typeface="BatangChe"/>
              </a:rPr>
              <a:t>المواد الغذائ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tangChe"/>
                <a:ea typeface="BatangChe"/>
              </a:rPr>
              <a:t>It means the use of </a:t>
            </a:r>
            <a:r>
              <a:rPr b="0" lang="en-US" sz="2400" spc="-1" strike="noStrike">
                <a:solidFill>
                  <a:srgbClr val="ff0000"/>
                </a:solidFill>
                <a:latin typeface="BatangChe"/>
                <a:ea typeface="BatangChe"/>
              </a:rPr>
              <a:t>mild heat </a:t>
            </a:r>
            <a:r>
              <a:rPr b="0" lang="en-US" sz="2400" spc="-1" strike="noStrike">
                <a:solidFill>
                  <a:srgbClr val="000000"/>
                </a:solidFill>
                <a:latin typeface="BatangChe"/>
                <a:ea typeface="BatangChe"/>
              </a:rPr>
              <a:t>to reduce the number of microorganisms in a product or foo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620640" y="4541760"/>
            <a:ext cx="799164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BatangChe"/>
                <a:cs typeface="BatangChe"/>
              </a:rPr>
              <a:t>الحليب عادة يبستر بالحرارة عند </a:t>
            </a:r>
            <a:r>
              <a:rPr b="1" lang="ar-SA" sz="2000" spc="-1" strike="noStrike">
                <a:solidFill>
                  <a:srgbClr val="000000"/>
                </a:solidFill>
                <a:latin typeface="BatangChe"/>
                <a:ea typeface="BatangChe"/>
              </a:rPr>
              <a:t>63</a:t>
            </a:r>
            <a:r>
              <a:rPr b="1" lang="ar-SA" sz="2000" spc="-1" strike="noStrike">
                <a:solidFill>
                  <a:srgbClr val="000000"/>
                </a:solidFill>
                <a:latin typeface="BatangChe"/>
                <a:ea typeface="BatangChe"/>
              </a:rPr>
              <a:t> درجة مئوية لمدة </a:t>
            </a:r>
            <a:r>
              <a:rPr b="1" lang="ar-SA" sz="2000" spc="-1" strike="noStrike">
                <a:solidFill>
                  <a:srgbClr val="000000"/>
                </a:solidFill>
                <a:latin typeface="BatangChe"/>
                <a:ea typeface="BatangChe"/>
              </a:rPr>
              <a:t>30</a:t>
            </a:r>
            <a:r>
              <a:rPr b="1" lang="ar-SA" sz="2000" spc="-1" strike="noStrike">
                <a:solidFill>
                  <a:srgbClr val="000000"/>
                </a:solidFill>
                <a:latin typeface="BatangChe"/>
                <a:ea typeface="BatangChe"/>
              </a:rPr>
              <a:t> دقيقة، أو في </a:t>
            </a:r>
            <a:r>
              <a:rPr b="1" lang="ar-SA" sz="2000" spc="-1" strike="noStrike">
                <a:solidFill>
                  <a:srgbClr val="000000"/>
                </a:solidFill>
                <a:latin typeface="BatangChe"/>
                <a:ea typeface="BatangChe"/>
              </a:rPr>
              <a:t>71</a:t>
            </a:r>
            <a:r>
              <a:rPr b="1" lang="ar-SA" sz="2000" spc="-1" strike="noStrike">
                <a:solidFill>
                  <a:srgbClr val="000000"/>
                </a:solidFill>
                <a:latin typeface="BatangChe"/>
                <a:ea typeface="BatangChe"/>
              </a:rPr>
              <a:t> درجة مئوية لمدة </a:t>
            </a:r>
            <a:r>
              <a:rPr b="1" lang="ar-SA" sz="2000" spc="-1" strike="noStrike">
                <a:solidFill>
                  <a:srgbClr val="000000"/>
                </a:solidFill>
                <a:latin typeface="BatangChe"/>
                <a:ea typeface="BatangChe"/>
              </a:rPr>
              <a:t>15</a:t>
            </a:r>
            <a:r>
              <a:rPr b="1" lang="ar-SA" sz="2000" spc="-1" strike="noStrike">
                <a:solidFill>
                  <a:srgbClr val="000000"/>
                </a:solidFill>
                <a:latin typeface="BatangChe"/>
                <a:ea typeface="BatangChe"/>
              </a:rPr>
              <a:t> دقيق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atangChe"/>
                <a:ea typeface="BatangChe"/>
              </a:rPr>
              <a:t>Milk is usually pasteurized by heating, typically at </a:t>
            </a:r>
            <a:r>
              <a:rPr b="1" lang="en-US" sz="2000" spc="-1" strike="noStrike">
                <a:solidFill>
                  <a:srgbClr val="ff0000"/>
                </a:solidFill>
                <a:latin typeface="BatangChe"/>
                <a:ea typeface="BatangChe"/>
              </a:rPr>
              <a:t>63°C for 30 </a:t>
            </a:r>
            <a:r>
              <a:rPr b="1" lang="en-US" sz="2000" spc="-1" strike="noStrike">
                <a:solidFill>
                  <a:srgbClr val="000000"/>
                </a:solidFill>
                <a:latin typeface="BatangChe"/>
                <a:ea typeface="BatangChe"/>
              </a:rPr>
              <a:t>minutes or at </a:t>
            </a:r>
            <a:r>
              <a:rPr b="1" lang="en-US" sz="2000" spc="-1" strike="noStrike">
                <a:solidFill>
                  <a:srgbClr val="ff0000"/>
                </a:solidFill>
                <a:latin typeface="BatangChe"/>
                <a:ea typeface="BatangChe"/>
              </a:rPr>
              <a:t>71°C for 15 </a:t>
            </a:r>
            <a:r>
              <a:rPr b="1" lang="en-US" sz="2000" spc="-1" strike="noStrike">
                <a:solidFill>
                  <a:srgbClr val="000000"/>
                </a:solidFill>
                <a:latin typeface="BatangChe"/>
                <a:ea typeface="BatangChe"/>
              </a:rPr>
              <a:t>minut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Down Arrow 6"/>
          <p:cNvSpPr/>
          <p:nvPr/>
        </p:nvSpPr>
        <p:spPr>
          <a:xfrm>
            <a:off x="4356000" y="1484280"/>
            <a:ext cx="360360" cy="504720"/>
          </a:xfrm>
          <a:prstGeom prst="downArrow">
            <a:avLst>
              <a:gd name="adj1" fmla="val 50000"/>
              <a:gd name="adj2" fmla="val 499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2700" spc="-1" strike="noStrike">
                <a:solidFill>
                  <a:srgbClr val="4f81bd"/>
                </a:solidFill>
                <a:latin typeface="Gulim"/>
                <a:ea typeface="Gulim"/>
              </a:rPr>
              <a:t>5. freezing</a:t>
            </a:r>
            <a:r>
              <a:rPr b="1" lang="ar-SA" sz="2700" spc="-1" strike="noStrike">
                <a:solidFill>
                  <a:srgbClr val="4f81bd"/>
                </a:solidFill>
                <a:latin typeface="Gulim"/>
                <a:cs typeface="Arial"/>
              </a:rPr>
              <a:t>التجميد</a:t>
            </a:r>
            <a:r>
              <a:rPr b="1" lang="ar-SA" sz="2700" spc="-1" strike="noStrike">
                <a:solidFill>
                  <a:srgbClr val="4f81bd"/>
                </a:solidFill>
                <a:latin typeface="Gulim"/>
                <a:ea typeface="Arial"/>
              </a:rPr>
              <a:t> </a:t>
            </a:r>
            <a:br>
              <a:rPr sz="4000"/>
            </a:b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503280" y="105228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درجات الحرارة المنخفضة (التبريد والتجميد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w temperature (refrigeration and freezin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Content Placeholder 2"/>
          <p:cNvSpPr/>
          <p:nvPr/>
        </p:nvSpPr>
        <p:spPr>
          <a:xfrm>
            <a:off x="179280" y="3141720"/>
            <a:ext cx="8734680" cy="24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معظم الكائنات الحية تنمو ببطء أو لا تنمو على الاطلاق  عند درجة التجمد الصفر المئو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لأغذية القابلة للتلف تخزن في درجات حرارة منخفضة لإبطاء معدل النمو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organisms grow very little or not at all at 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. Perishable foods are stored at low temperatures to slow rate of grow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250560" y="1599840"/>
            <a:ext cx="8713800" cy="29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معظم الكائنات الحية الدقيقة لا يمكنها أن عند انخفاض النشاط المائي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غالباً ما يتم استخدام التجفيف للحفاظ على الأطعمة (مثل الفواكه، الحبوب، إلخ)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microorganisms cannot grow at reduced water activit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rying is often used to preserve foods (e.g. fruits, grains, etc.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2585520" y="836640"/>
            <a:ext cx="3353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f81bd"/>
                </a:solidFill>
                <a:latin typeface="Gulim"/>
                <a:ea typeface="Gulim"/>
              </a:rPr>
              <a:t>6. Drying </a:t>
            </a:r>
            <a:r>
              <a:rPr b="1" lang="ar-SA" sz="2700" spc="-1" strike="noStrike">
                <a:solidFill>
                  <a:srgbClr val="4f81bd"/>
                </a:solidFill>
                <a:latin typeface="Gulim"/>
                <a:cs typeface="Gulim"/>
              </a:rPr>
              <a:t>التجفيف</a:t>
            </a:r>
            <a:r>
              <a:rPr b="1" lang="ar-SA" sz="2700" spc="-1" strike="noStrike">
                <a:solidFill>
                  <a:srgbClr val="4f81bd"/>
                </a:solidFill>
                <a:latin typeface="Gulim"/>
                <a:ea typeface="Guli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10:43:48Z</dcterms:created>
  <dc:creator>DELL</dc:creator>
  <dc:description/>
  <dc:language>en-US</dc:language>
  <cp:lastModifiedBy>Naiyf Alharbi</cp:lastModifiedBy>
  <cp:lastPrinted>2013-12-03T07:01:16Z</cp:lastPrinted>
  <dcterms:modified xsi:type="dcterms:W3CDTF">2013-12-28T19:56:46Z</dcterms:modified>
  <cp:revision>46</cp:revision>
  <dc:subject/>
  <dc:title>Controlling of Microbial Growth</dc:title>
</cp:coreProperties>
</file>