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9D8-2535-4A89-9A77-2368181E7F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7AB-B6CE-402B-9E17-DFF9E9F9E8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A902-3EA3-41AC-B2A2-2B17ECF8E3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175-EC15-463D-846E-E18ABC22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D3E-6F33-47E4-9992-5F28A81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CF8-564B-4B7E-B58E-0E92CCF5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F6D-A5A4-4007-BBE6-9EB1244C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4CB-E236-480C-994B-5E142517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026-AC9F-4C96-AFCD-B3CEF40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B1F-AC66-408C-927D-7A6A850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3AA-F060-4D2E-9470-D55D75D6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E38-BB68-41FE-B1CB-FBDE2CAA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9C2-D31E-4F7D-A1C8-0BD4298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B21-AD91-405A-AE04-6F3B905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59D-BF4F-49FA-A699-07C0319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76FC-4F2F-476C-9D99-B42BEB19B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35A-C33D-429C-85D2-E9DDFBEE4D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692-8A8C-4580-A8D4-A74012461D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6C9-62D0-49B9-84ED-0686A49BFB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21F-8A5F-4212-88ED-D783CB840E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885A-C15A-4633-A3F9-6D12711171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FBD2-7E04-4DF7-94F5-3E1308272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B13-A45F-49A4-9575-133AF0766A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CA1-ECD9-4AA0-B273-03BDE6695A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User</cp:lastModifiedBy>
  <dcterms:modified xsi:type="dcterms:W3CDTF">2014-01-04T09:49:59Z</dcterms:modified>
  <cp:revision>183</cp:revision>
  <dc:subject/>
  <dc:title>Slide 1</dc:title>
</cp:coreProperties>
</file>