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AF14-4A1A-4677-87B3-0ECCD68077A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807B-A161-4E8E-A75C-8C7D96229B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46D5-7D46-4214-80C5-248A610A6EA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497-EF3E-40D5-8839-C4A0A7DD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A64-5C82-48F4-A94D-EF89A1B3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BFC1-E1D4-4375-BBEB-20A7B4C9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ECD-5E71-459E-8871-42746BC2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085-CC1F-4B51-818D-7561F6EF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6A9-73E3-4C00-9F9D-AE1D872F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08B-D9AE-4BB7-A808-26D22DA9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796-70CA-408E-ACF0-B8C63605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22F-FF69-4C0A-B313-09D95D61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267-2C22-4BDC-BD58-1D8EBC7C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017-839D-4FB7-8636-0837F74C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CFE-9A5B-451D-9AA2-472CD3DF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4559-BB7E-4922-93AE-78C39C44C7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4607-E95D-4FFC-B5D9-A8DE6EEF0B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1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27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3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5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1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5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88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3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196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1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4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07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7792-96B7-4731-9888-1709312DA9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is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9C1B-4BD1-437E-9BBA-D22125A53E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8830-2877-41D6-99D9-63C452B63C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8785-9173-43D2-BC1F-EF9791864D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ز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6EC8-B417-42BE-A9F0-14EEE01A7B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94C7-15EA-4A5A-9CB6-5EB7A7AB79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FE51-7E49-479E-8D1C-2CF838B297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User</cp:lastModifiedBy>
  <dcterms:modified xsi:type="dcterms:W3CDTF">2014-01-04T09:49:59Z</dcterms:modified>
  <cp:revision>183</cp:revision>
  <dc:subject/>
  <dc:title>Slide 1</dc:title>
</cp:coreProperties>
</file>