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2BFA-2ABB-40D2-A80A-C8855ECB564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34D1-E3AB-4ECD-8E3C-3BAA4DADDB1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7B8A-31F4-45C6-A39C-8D8112A6ED6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F082-AF32-45F4-9127-41CDFC9AB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8C80-D783-41C2-9DBB-B3ADDAF5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B54B-DF69-4A24-8079-00822952C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8824-C320-49C9-830A-12DAB4BE8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43CA-4856-4CA5-93A5-634BEDC3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49F4-8B59-4484-8D4C-C7E9FD26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333E-B726-4234-BDC9-121C619B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C15F-20BA-45AC-8F47-AD5B8C35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6D4A-36F8-46F9-BD04-3535D128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799A-C074-4DD8-9AD1-8F13628C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B47B-A090-4C40-BA39-BFA06354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8A34-E2E5-4C39-9B3D-DB98396B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177A-42BA-4504-9AC0-BD9D920D231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6014-3782-4E89-A907-06AB0DE77FC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1219320" y="1600200"/>
            <a:ext cx="6858000" cy="1190880"/>
          </a:xfrm>
          <a:prstGeom prst="rect">
            <a:avLst/>
          </a:prstGeom>
          <a:solidFill>
            <a:srgbClr val="0033cc"/>
          </a:solidFill>
          <a:ln w="9360">
            <a:solidFill>
              <a:srgbClr val="d60093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NA Replication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نـَسْـــــخ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الـ دن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2"/>
          <p:cNvGrpSpPr/>
          <p:nvPr/>
        </p:nvGrpSpPr>
        <p:grpSpPr>
          <a:xfrm>
            <a:off x="762120" y="2514600"/>
            <a:ext cx="7543800" cy="3276720"/>
            <a:chOff x="762120" y="2514600"/>
            <a:chExt cx="7543800" cy="3276720"/>
          </a:xfrm>
        </p:grpSpPr>
        <p:sp>
          <p:nvSpPr>
            <p:cNvPr id="54" name="Rectangle 20"/>
            <p:cNvSpPr/>
            <p:nvPr/>
          </p:nvSpPr>
          <p:spPr>
            <a:xfrm>
              <a:off x="762120" y="2514600"/>
              <a:ext cx="7543800" cy="3276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19" descr=""/>
            <p:cNvPicPr/>
            <p:nvPr/>
          </p:nvPicPr>
          <p:blipFill>
            <a:blip r:embed="rId2"/>
            <a:srcRect l="0" t="0" r="0" b="4968"/>
            <a:stretch/>
          </p:blipFill>
          <p:spPr>
            <a:xfrm>
              <a:off x="838440" y="2578320"/>
              <a:ext cx="7416720" cy="314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Text Box 21"/>
          <p:cNvSpPr/>
          <p:nvPr/>
        </p:nvSpPr>
        <p:spPr>
          <a:xfrm>
            <a:off x="1371600" y="38088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LECULE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3" descr=""/>
          <p:cNvPicPr/>
          <p:nvPr/>
        </p:nvPicPr>
        <p:blipFill>
          <a:blip r:embed="rId3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/>
          <p:cNvPicPr/>
          <p:nvPr/>
        </p:nvPicPr>
        <p:blipFill>
          <a:blip r:embed="rId4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"/>
          <p:cNvPicPr/>
          <p:nvPr/>
        </p:nvPicPr>
        <p:blipFill>
          <a:blip r:embed="rId5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8"/>
          <p:cNvSpPr/>
          <p:nvPr/>
        </p:nvSpPr>
        <p:spPr>
          <a:xfrm>
            <a:off x="1522800" y="6324480"/>
            <a:ext cx="59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ttp://spine.rutgers.edu/cellbio/assets/flash/bidir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9"/>
          <p:cNvSpPr/>
          <p:nvPr/>
        </p:nvSpPr>
        <p:spPr>
          <a:xfrm>
            <a:off x="1447920" y="6033960"/>
            <a:ext cx="603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ttp://www.sinauer.com/cooper5e/animation060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1" descr=""/>
          <p:cNvPicPr/>
          <p:nvPr/>
        </p:nvPicPr>
        <p:blipFill>
          <a:blip r:embed="rId6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trand is making its own new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A synthesis is occurring in two different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trand is being made towards the replication fork and the other is being made away from the fork.  The strand being made away from the fork has g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s are later joined by another enzyme, DNA lig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380880" y="3481560"/>
            <a:ext cx="533412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trands in the double helix are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antiparallel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وازيين و متضادين فى الإتجا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ugar-phosphate backbones run in opposite dir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ach DNA str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has a 3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end with a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free O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group attached to deoxyribose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a 5’ e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with a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free phosph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group attached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oxyribo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5’ -&gt; 3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irection of one strand runs counter to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مُعاكس ل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’ -&gt; 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 direction of the other stra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867280" y="2362320"/>
            <a:ext cx="29718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066680" y="4835520"/>
            <a:ext cx="38124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UMMARY OF DNA REPLIC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920" y="1203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two DNA-strands separate forming replication bub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04920" y="1584360"/>
            <a:ext cx="876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ach strand functions as a template for synthesizing new complementary &amp; lagging strand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rimers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olymerase and liga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"/>
          <p:cNvGrpSpPr/>
          <p:nvPr/>
        </p:nvGrpSpPr>
        <p:grpSpPr>
          <a:xfrm>
            <a:off x="1523880" y="3247920"/>
            <a:ext cx="5410080" cy="635040"/>
            <a:chOff x="1523880" y="3247920"/>
            <a:chExt cx="5410080" cy="635040"/>
          </a:xfrm>
        </p:grpSpPr>
        <p:sp>
          <p:nvSpPr>
            <p:cNvPr id="111" name="AutoShape 7"/>
            <p:cNvSpPr/>
            <p:nvPr/>
          </p:nvSpPr>
          <p:spPr>
            <a:xfrm flipV="1" rot="16200000">
              <a:off x="4647600" y="3387600"/>
              <a:ext cx="53352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8"/>
            <p:cNvSpPr/>
            <p:nvPr/>
          </p:nvSpPr>
          <p:spPr>
            <a:xfrm rot="16200000">
              <a:off x="3047760" y="3387600"/>
              <a:ext cx="533520" cy="30492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9"/>
            <p:cNvSpPr/>
            <p:nvPr/>
          </p:nvSpPr>
          <p:spPr>
            <a:xfrm rot="5400000">
              <a:off x="5397120" y="337500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10"/>
            <p:cNvSpPr/>
            <p:nvPr/>
          </p:nvSpPr>
          <p:spPr>
            <a:xfrm rot="16200000">
              <a:off x="1523880" y="3362400"/>
              <a:ext cx="533520" cy="30456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1"/>
            <p:cNvSpPr/>
            <p:nvPr/>
          </p:nvSpPr>
          <p:spPr>
            <a:xfrm>
              <a:off x="3136680" y="32860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2"/>
            <p:cNvSpPr/>
            <p:nvPr/>
          </p:nvSpPr>
          <p:spPr>
            <a:xfrm>
              <a:off x="4724280" y="33498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 flipV="1" rot="5400000">
              <a:off x="2228400" y="3406680"/>
              <a:ext cx="571680" cy="30492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 flipV="1" rot="16200000">
              <a:off x="3847320" y="3362040"/>
              <a:ext cx="533520" cy="3049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5"/>
            <p:cNvSpPr/>
            <p:nvPr/>
          </p:nvSpPr>
          <p:spPr>
            <a:xfrm>
              <a:off x="5486400" y="33498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16"/>
            <p:cNvSpPr/>
            <p:nvPr/>
          </p:nvSpPr>
          <p:spPr>
            <a:xfrm rot="16200000">
              <a:off x="6235560" y="3387960"/>
              <a:ext cx="53352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7"/>
            <p:cNvSpPr/>
            <p:nvPr/>
          </p:nvSpPr>
          <p:spPr>
            <a:xfrm>
              <a:off x="1625400" y="32734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8"/>
            <p:cNvSpPr/>
            <p:nvPr/>
          </p:nvSpPr>
          <p:spPr>
            <a:xfrm>
              <a:off x="1523880" y="3654360"/>
              <a:ext cx="5410080" cy="2286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9"/>
            <p:cNvSpPr/>
            <p:nvPr/>
          </p:nvSpPr>
          <p:spPr>
            <a:xfrm>
              <a:off x="3949560" y="3311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0"/>
            <p:cNvSpPr/>
            <p:nvPr/>
          </p:nvSpPr>
          <p:spPr>
            <a:xfrm>
              <a:off x="2361960" y="33624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1"/>
            <p:cNvSpPr/>
            <p:nvPr/>
          </p:nvSpPr>
          <p:spPr>
            <a:xfrm>
              <a:off x="6324480" y="32734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22"/>
          <p:cNvGrpSpPr/>
          <p:nvPr/>
        </p:nvGrpSpPr>
        <p:grpSpPr>
          <a:xfrm>
            <a:off x="1523880" y="2651040"/>
            <a:ext cx="5410080" cy="697680"/>
            <a:chOff x="1523880" y="2651040"/>
            <a:chExt cx="5410080" cy="697680"/>
          </a:xfrm>
        </p:grpSpPr>
        <p:sp>
          <p:nvSpPr>
            <p:cNvPr id="127" name="AutoShape 23"/>
            <p:cNvSpPr/>
            <p:nvPr/>
          </p:nvSpPr>
          <p:spPr>
            <a:xfrm flipV="1" rot="5400000">
              <a:off x="4635360" y="2917800"/>
              <a:ext cx="53352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24"/>
            <p:cNvSpPr/>
            <p:nvPr/>
          </p:nvSpPr>
          <p:spPr>
            <a:xfrm rot="5400000">
              <a:off x="3047400" y="2917440"/>
              <a:ext cx="53352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25"/>
            <p:cNvSpPr/>
            <p:nvPr/>
          </p:nvSpPr>
          <p:spPr>
            <a:xfrm rot="5400000">
              <a:off x="6235560" y="2917800"/>
              <a:ext cx="533520" cy="30456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26"/>
            <p:cNvSpPr/>
            <p:nvPr/>
          </p:nvSpPr>
          <p:spPr>
            <a:xfrm flipV="1" rot="5400000">
              <a:off x="2279520" y="2948400"/>
              <a:ext cx="469800" cy="30492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27"/>
            <p:cNvSpPr/>
            <p:nvPr/>
          </p:nvSpPr>
          <p:spPr>
            <a:xfrm>
              <a:off x="4698720" y="29052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28"/>
            <p:cNvSpPr/>
            <p:nvPr/>
          </p:nvSpPr>
          <p:spPr>
            <a:xfrm flipV="1" rot="5400000">
              <a:off x="5397480" y="292932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29"/>
            <p:cNvSpPr/>
            <p:nvPr/>
          </p:nvSpPr>
          <p:spPr>
            <a:xfrm rot="16200000">
              <a:off x="3828960" y="2898360"/>
              <a:ext cx="571320" cy="30492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30"/>
            <p:cNvSpPr/>
            <p:nvPr/>
          </p:nvSpPr>
          <p:spPr>
            <a:xfrm rot="16200000">
              <a:off x="1485720" y="2867040"/>
              <a:ext cx="609840" cy="30456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1523880" y="2651040"/>
              <a:ext cx="5410080" cy="2286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32"/>
            <p:cNvSpPr/>
            <p:nvPr/>
          </p:nvSpPr>
          <p:spPr>
            <a:xfrm>
              <a:off x="160020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33"/>
            <p:cNvSpPr/>
            <p:nvPr/>
          </p:nvSpPr>
          <p:spPr>
            <a:xfrm>
              <a:off x="548640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34"/>
            <p:cNvSpPr/>
            <p:nvPr/>
          </p:nvSpPr>
          <p:spPr>
            <a:xfrm>
              <a:off x="394956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35"/>
            <p:cNvSpPr/>
            <p:nvPr/>
          </p:nvSpPr>
          <p:spPr>
            <a:xfrm>
              <a:off x="234936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36"/>
            <p:cNvSpPr/>
            <p:nvPr/>
          </p:nvSpPr>
          <p:spPr>
            <a:xfrm>
              <a:off x="632448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37"/>
            <p:cNvSpPr/>
            <p:nvPr/>
          </p:nvSpPr>
          <p:spPr>
            <a:xfrm>
              <a:off x="3136680" y="29178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38"/>
          <p:cNvGrpSpPr/>
          <p:nvPr/>
        </p:nvGrpSpPr>
        <p:grpSpPr>
          <a:xfrm>
            <a:off x="1447920" y="4924440"/>
            <a:ext cx="5410080" cy="697320"/>
            <a:chOff x="1447920" y="4924440"/>
            <a:chExt cx="5410080" cy="697320"/>
          </a:xfrm>
        </p:grpSpPr>
        <p:sp>
          <p:nvSpPr>
            <p:cNvPr id="143" name="AutoShape 39"/>
            <p:cNvSpPr/>
            <p:nvPr/>
          </p:nvSpPr>
          <p:spPr>
            <a:xfrm flipV="1" rot="5400000">
              <a:off x="4559760" y="5190840"/>
              <a:ext cx="53280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40"/>
            <p:cNvSpPr/>
            <p:nvPr/>
          </p:nvSpPr>
          <p:spPr>
            <a:xfrm rot="5400000">
              <a:off x="2971800" y="5190480"/>
              <a:ext cx="53280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41"/>
            <p:cNvSpPr/>
            <p:nvPr/>
          </p:nvSpPr>
          <p:spPr>
            <a:xfrm rot="5400000">
              <a:off x="6159960" y="5190840"/>
              <a:ext cx="532800" cy="30456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42"/>
            <p:cNvSpPr/>
            <p:nvPr/>
          </p:nvSpPr>
          <p:spPr>
            <a:xfrm flipV="1" rot="5400000">
              <a:off x="2203560" y="5222160"/>
              <a:ext cx="469440" cy="30492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43"/>
            <p:cNvSpPr/>
            <p:nvPr/>
          </p:nvSpPr>
          <p:spPr>
            <a:xfrm>
              <a:off x="4622760" y="51782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44"/>
            <p:cNvSpPr/>
            <p:nvPr/>
          </p:nvSpPr>
          <p:spPr>
            <a:xfrm flipV="1" rot="5400000">
              <a:off x="5321520" y="520236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45"/>
            <p:cNvSpPr/>
            <p:nvPr/>
          </p:nvSpPr>
          <p:spPr>
            <a:xfrm rot="16200000">
              <a:off x="3753000" y="5171400"/>
              <a:ext cx="570960" cy="304920"/>
            </a:xfrm>
            <a:custGeom>
              <a:avLst/>
              <a:gdLst>
                <a:gd name="textAreaLeft" fmla="*/ 0 w 570960"/>
                <a:gd name="textAreaRight" fmla="*/ 570960 w 570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46"/>
            <p:cNvSpPr/>
            <p:nvPr/>
          </p:nvSpPr>
          <p:spPr>
            <a:xfrm rot="16200000">
              <a:off x="1410120" y="5140080"/>
              <a:ext cx="609120" cy="30456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7"/>
            <p:cNvSpPr/>
            <p:nvPr/>
          </p:nvSpPr>
          <p:spPr>
            <a:xfrm>
              <a:off x="1447920" y="4924440"/>
              <a:ext cx="5410080" cy="2282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48"/>
            <p:cNvSpPr/>
            <p:nvPr/>
          </p:nvSpPr>
          <p:spPr>
            <a:xfrm>
              <a:off x="152424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49"/>
            <p:cNvSpPr/>
            <p:nvPr/>
          </p:nvSpPr>
          <p:spPr>
            <a:xfrm>
              <a:off x="541044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50"/>
            <p:cNvSpPr/>
            <p:nvPr/>
          </p:nvSpPr>
          <p:spPr>
            <a:xfrm>
              <a:off x="387360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51"/>
            <p:cNvSpPr/>
            <p:nvPr/>
          </p:nvSpPr>
          <p:spPr>
            <a:xfrm>
              <a:off x="227340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52"/>
            <p:cNvSpPr/>
            <p:nvPr/>
          </p:nvSpPr>
          <p:spPr>
            <a:xfrm>
              <a:off x="624852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53"/>
            <p:cNvSpPr/>
            <p:nvPr/>
          </p:nvSpPr>
          <p:spPr>
            <a:xfrm>
              <a:off x="3060720" y="51908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Rectangle 54"/>
          <p:cNvSpPr/>
          <p:nvPr/>
        </p:nvSpPr>
        <p:spPr>
          <a:xfrm>
            <a:off x="1981080" y="4886280"/>
            <a:ext cx="1526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5"/>
          <p:cNvSpPr/>
          <p:nvPr/>
        </p:nvSpPr>
        <p:spPr>
          <a:xfrm>
            <a:off x="27432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6"/>
          <p:cNvSpPr/>
          <p:nvPr/>
        </p:nvSpPr>
        <p:spPr>
          <a:xfrm>
            <a:off x="3581280" y="4861080"/>
            <a:ext cx="1526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7"/>
          <p:cNvSpPr/>
          <p:nvPr/>
        </p:nvSpPr>
        <p:spPr>
          <a:xfrm>
            <a:off x="43434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8"/>
          <p:cNvSpPr/>
          <p:nvPr/>
        </p:nvSpPr>
        <p:spPr>
          <a:xfrm>
            <a:off x="510552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9"/>
          <p:cNvSpPr/>
          <p:nvPr/>
        </p:nvSpPr>
        <p:spPr>
          <a:xfrm>
            <a:off x="59436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60"/>
          <p:cNvGrpSpPr/>
          <p:nvPr/>
        </p:nvGrpSpPr>
        <p:grpSpPr>
          <a:xfrm>
            <a:off x="1523880" y="3260520"/>
            <a:ext cx="5410080" cy="634680"/>
            <a:chOff x="1523880" y="3260520"/>
            <a:chExt cx="5410080" cy="634680"/>
          </a:xfrm>
        </p:grpSpPr>
        <p:sp>
          <p:nvSpPr>
            <p:cNvPr id="165" name="AutoShape 61"/>
            <p:cNvSpPr/>
            <p:nvPr/>
          </p:nvSpPr>
          <p:spPr>
            <a:xfrm flipV="1" rot="16200000">
              <a:off x="4647960" y="3399480"/>
              <a:ext cx="53316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62"/>
            <p:cNvSpPr/>
            <p:nvPr/>
          </p:nvSpPr>
          <p:spPr>
            <a:xfrm rot="16200000">
              <a:off x="3048120" y="3399840"/>
              <a:ext cx="533160" cy="30492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63"/>
            <p:cNvSpPr/>
            <p:nvPr/>
          </p:nvSpPr>
          <p:spPr>
            <a:xfrm rot="5400000">
              <a:off x="5397120" y="3387240"/>
              <a:ext cx="532800" cy="304920"/>
            </a:xfrm>
            <a:custGeom>
              <a:avLst/>
              <a:gdLst>
                <a:gd name="textAreaLeft" fmla="*/ 0 w 532800"/>
                <a:gd name="textAreaRight" fmla="*/ 533160 w 53280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64"/>
            <p:cNvSpPr/>
            <p:nvPr/>
          </p:nvSpPr>
          <p:spPr>
            <a:xfrm rot="16200000">
              <a:off x="1523880" y="3374640"/>
              <a:ext cx="533160" cy="3045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65"/>
            <p:cNvSpPr/>
            <p:nvPr/>
          </p:nvSpPr>
          <p:spPr>
            <a:xfrm>
              <a:off x="3136680" y="32986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66"/>
            <p:cNvSpPr/>
            <p:nvPr/>
          </p:nvSpPr>
          <p:spPr>
            <a:xfrm>
              <a:off x="4724280" y="3362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67"/>
            <p:cNvSpPr/>
            <p:nvPr/>
          </p:nvSpPr>
          <p:spPr>
            <a:xfrm flipV="1" rot="5400000">
              <a:off x="2228760" y="3418200"/>
              <a:ext cx="571320" cy="30492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68"/>
            <p:cNvSpPr/>
            <p:nvPr/>
          </p:nvSpPr>
          <p:spPr>
            <a:xfrm flipV="1" rot="16200000">
              <a:off x="3847680" y="337428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69"/>
            <p:cNvSpPr/>
            <p:nvPr/>
          </p:nvSpPr>
          <p:spPr>
            <a:xfrm>
              <a:off x="5486400" y="3362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70"/>
            <p:cNvSpPr/>
            <p:nvPr/>
          </p:nvSpPr>
          <p:spPr>
            <a:xfrm rot="16200000">
              <a:off x="6235560" y="3399840"/>
              <a:ext cx="53316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71"/>
            <p:cNvSpPr/>
            <p:nvPr/>
          </p:nvSpPr>
          <p:spPr>
            <a:xfrm>
              <a:off x="1625400" y="32860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72"/>
            <p:cNvSpPr/>
            <p:nvPr/>
          </p:nvSpPr>
          <p:spPr>
            <a:xfrm>
              <a:off x="1523880" y="3666960"/>
              <a:ext cx="5410080" cy="2282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3"/>
            <p:cNvSpPr/>
            <p:nvPr/>
          </p:nvSpPr>
          <p:spPr>
            <a:xfrm>
              <a:off x="3949560" y="3324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74"/>
            <p:cNvSpPr/>
            <p:nvPr/>
          </p:nvSpPr>
          <p:spPr>
            <a:xfrm>
              <a:off x="2361960" y="33750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75"/>
            <p:cNvSpPr/>
            <p:nvPr/>
          </p:nvSpPr>
          <p:spPr>
            <a:xfrm>
              <a:off x="6324480" y="32860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76"/>
          <p:cNvGrpSpPr/>
          <p:nvPr/>
        </p:nvGrpSpPr>
        <p:grpSpPr>
          <a:xfrm>
            <a:off x="7009920" y="2879280"/>
            <a:ext cx="1676520" cy="2972160"/>
            <a:chOff x="7009920" y="2879280"/>
            <a:chExt cx="1676520" cy="2972160"/>
          </a:xfrm>
        </p:grpSpPr>
        <p:sp>
          <p:nvSpPr>
            <p:cNvPr id="181" name="Text Box 77"/>
            <p:cNvSpPr/>
            <p:nvPr/>
          </p:nvSpPr>
          <p:spPr>
            <a:xfrm>
              <a:off x="7238880" y="415944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Templ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78"/>
            <p:cNvSpPr/>
            <p:nvPr/>
          </p:nvSpPr>
          <p:spPr>
            <a:xfrm flipH="1" flipV="1">
              <a:off x="7009920" y="2879280"/>
              <a:ext cx="99036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79"/>
            <p:cNvSpPr/>
            <p:nvPr/>
          </p:nvSpPr>
          <p:spPr>
            <a:xfrm flipH="1">
              <a:off x="7162200" y="4556160"/>
              <a:ext cx="76212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80"/>
          <p:cNvGrpSpPr/>
          <p:nvPr/>
        </p:nvGrpSpPr>
        <p:grpSpPr>
          <a:xfrm>
            <a:off x="1066680" y="2270160"/>
            <a:ext cx="6248160" cy="475200"/>
            <a:chOff x="1066680" y="2270160"/>
            <a:chExt cx="6248160" cy="475200"/>
          </a:xfrm>
        </p:grpSpPr>
        <p:sp>
          <p:nvSpPr>
            <p:cNvPr id="185" name="Text Box 81"/>
            <p:cNvSpPr/>
            <p:nvPr/>
          </p:nvSpPr>
          <p:spPr>
            <a:xfrm>
              <a:off x="6933960" y="22701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82"/>
            <p:cNvSpPr/>
            <p:nvPr/>
          </p:nvSpPr>
          <p:spPr>
            <a:xfrm>
              <a:off x="1066680" y="23464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83"/>
          <p:cNvGrpSpPr/>
          <p:nvPr/>
        </p:nvGrpSpPr>
        <p:grpSpPr>
          <a:xfrm>
            <a:off x="990720" y="5835600"/>
            <a:ext cx="6400800" cy="475200"/>
            <a:chOff x="990720" y="5835600"/>
            <a:chExt cx="6400800" cy="475200"/>
          </a:xfrm>
        </p:grpSpPr>
        <p:sp>
          <p:nvSpPr>
            <p:cNvPr id="188" name="Text Box 84"/>
            <p:cNvSpPr/>
            <p:nvPr/>
          </p:nvSpPr>
          <p:spPr>
            <a:xfrm>
              <a:off x="7010640" y="58356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85"/>
            <p:cNvSpPr/>
            <p:nvPr/>
          </p:nvSpPr>
          <p:spPr>
            <a:xfrm>
              <a:off x="990720" y="59119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AutoShape 89"/>
          <p:cNvSpPr/>
          <p:nvPr/>
        </p:nvSpPr>
        <p:spPr>
          <a:xfrm rot="5400000">
            <a:off x="1409760" y="4670280"/>
            <a:ext cx="990360" cy="914400"/>
          </a:xfrm>
          <a:prstGeom prst="flowChartMagneticDisk">
            <a:avLst/>
          </a:prstGeom>
          <a:gradFill rotWithShape="0">
            <a:gsLst>
              <a:gs pos="0">
                <a:srgbClr val="313100"/>
              </a:gs>
              <a:gs pos="50000">
                <a:srgbClr val="ffff00"/>
              </a:gs>
              <a:gs pos="100000">
                <a:srgbClr val="3131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0"/>
          <p:cNvSpPr/>
          <p:nvPr/>
        </p:nvSpPr>
        <p:spPr>
          <a:xfrm>
            <a:off x="5715000" y="41752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lymer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03"/>
          <p:cNvGrpSpPr/>
          <p:nvPr/>
        </p:nvGrpSpPr>
        <p:grpSpPr>
          <a:xfrm>
            <a:off x="3213000" y="3870000"/>
            <a:ext cx="1968480" cy="733320"/>
            <a:chOff x="3213000" y="3870000"/>
            <a:chExt cx="1968480" cy="733320"/>
          </a:xfrm>
        </p:grpSpPr>
        <p:sp>
          <p:nvSpPr>
            <p:cNvPr id="193" name="Text Box 92"/>
            <p:cNvSpPr/>
            <p:nvPr/>
          </p:nvSpPr>
          <p:spPr>
            <a:xfrm>
              <a:off x="3213000" y="402264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omplementary (</a:t>
              </a:r>
              <a:r>
                <a:rPr b="1" lang="en-GB" sz="1600" spc="-1" strike="noStrike">
                  <a:solidFill>
                    <a:srgbClr val="ff3300"/>
                  </a:solidFill>
                  <a:latin typeface="Arial"/>
                </a:rPr>
                <a:t>leading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 str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93"/>
            <p:cNvSpPr/>
            <p:nvPr/>
          </p:nvSpPr>
          <p:spPr>
            <a:xfrm flipV="1">
              <a:off x="4279680" y="3870000"/>
              <a:ext cx="9018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104"/>
          <p:cNvGrpSpPr/>
          <p:nvPr/>
        </p:nvGrpSpPr>
        <p:grpSpPr>
          <a:xfrm>
            <a:off x="1981080" y="5013000"/>
            <a:ext cx="1904760" cy="1768320"/>
            <a:chOff x="1981080" y="5013000"/>
            <a:chExt cx="1904760" cy="1768320"/>
          </a:xfrm>
        </p:grpSpPr>
        <p:sp>
          <p:nvSpPr>
            <p:cNvPr id="196" name="Text Box 95"/>
            <p:cNvSpPr/>
            <p:nvPr/>
          </p:nvSpPr>
          <p:spPr>
            <a:xfrm>
              <a:off x="1981080" y="620064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agging strand (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plementary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96"/>
            <p:cNvSpPr/>
            <p:nvPr/>
          </p:nvSpPr>
          <p:spPr>
            <a:xfrm flipV="1">
              <a:off x="3124080" y="5013000"/>
              <a:ext cx="68580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AutoShape 97"/>
          <p:cNvSpPr/>
          <p:nvPr/>
        </p:nvSpPr>
        <p:spPr>
          <a:xfrm rot="5400000">
            <a:off x="6134040" y="3298680"/>
            <a:ext cx="990360" cy="914400"/>
          </a:xfrm>
          <a:prstGeom prst="flowChartMagneticDisk">
            <a:avLst/>
          </a:prstGeom>
          <a:gradFill rotWithShape="0">
            <a:gsLst>
              <a:gs pos="0">
                <a:srgbClr val="313100"/>
              </a:gs>
              <a:gs pos="50000">
                <a:srgbClr val="ffff00"/>
              </a:gs>
              <a:gs pos="100000">
                <a:srgbClr val="3131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98"/>
          <p:cNvSpPr/>
          <p:nvPr/>
        </p:nvSpPr>
        <p:spPr>
          <a:xfrm>
            <a:off x="6934320" y="3565440"/>
            <a:ext cx="38088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99"/>
          <p:cNvGrpSpPr/>
          <p:nvPr/>
        </p:nvGrpSpPr>
        <p:grpSpPr>
          <a:xfrm>
            <a:off x="7238880" y="3336840"/>
            <a:ext cx="1447560" cy="459720"/>
            <a:chOff x="7238880" y="3336840"/>
            <a:chExt cx="1447560" cy="459720"/>
          </a:xfrm>
        </p:grpSpPr>
        <p:sp>
          <p:nvSpPr>
            <p:cNvPr id="201" name="Text Box 87"/>
            <p:cNvSpPr/>
            <p:nvPr/>
          </p:nvSpPr>
          <p:spPr>
            <a:xfrm>
              <a:off x="7314840" y="333684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rial"/>
                </a:rPr>
                <a:t>Prim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88"/>
            <p:cNvSpPr/>
            <p:nvPr/>
          </p:nvSpPr>
          <p:spPr>
            <a:xfrm flipH="1">
              <a:off x="7238880" y="3641760"/>
              <a:ext cx="38088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102"/>
          <p:cNvGrpSpPr/>
          <p:nvPr/>
        </p:nvGrpSpPr>
        <p:grpSpPr>
          <a:xfrm>
            <a:off x="1219320" y="3794040"/>
            <a:ext cx="5790600" cy="459720"/>
            <a:chOff x="1219320" y="3794040"/>
            <a:chExt cx="5790600" cy="459720"/>
          </a:xfrm>
        </p:grpSpPr>
        <p:sp>
          <p:nvSpPr>
            <p:cNvPr id="204" name="Text Box 100"/>
            <p:cNvSpPr/>
            <p:nvPr/>
          </p:nvSpPr>
          <p:spPr>
            <a:xfrm>
              <a:off x="6476760" y="37940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01"/>
            <p:cNvSpPr/>
            <p:nvPr/>
          </p:nvSpPr>
          <p:spPr>
            <a:xfrm>
              <a:off x="1219320" y="37940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110"/>
          <p:cNvGrpSpPr/>
          <p:nvPr/>
        </p:nvGrpSpPr>
        <p:grpSpPr>
          <a:xfrm>
            <a:off x="4800600" y="5013000"/>
            <a:ext cx="1447920" cy="1724040"/>
            <a:chOff x="4800600" y="5013000"/>
            <a:chExt cx="1447920" cy="1724040"/>
          </a:xfrm>
        </p:grpSpPr>
        <p:sp>
          <p:nvSpPr>
            <p:cNvPr id="207" name="Text Box 106"/>
            <p:cNvSpPr/>
            <p:nvPr/>
          </p:nvSpPr>
          <p:spPr>
            <a:xfrm>
              <a:off x="4800600" y="6156360"/>
              <a:ext cx="137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kazaki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frag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07"/>
            <p:cNvSpPr/>
            <p:nvPr/>
          </p:nvSpPr>
          <p:spPr>
            <a:xfrm flipV="1">
              <a:off x="5562720" y="5013000"/>
              <a:ext cx="68580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08"/>
            <p:cNvSpPr/>
            <p:nvPr/>
          </p:nvSpPr>
          <p:spPr>
            <a:xfrm flipV="1">
              <a:off x="5486400" y="501300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09"/>
            <p:cNvSpPr/>
            <p:nvPr/>
          </p:nvSpPr>
          <p:spPr>
            <a:xfrm flipH="1" flipV="1">
              <a:off x="4876920" y="5013000"/>
              <a:ext cx="53352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AutoShape 111"/>
          <p:cNvSpPr/>
          <p:nvPr/>
        </p:nvSpPr>
        <p:spPr>
          <a:xfrm>
            <a:off x="5638680" y="4403880"/>
            <a:ext cx="762120" cy="457200"/>
          </a:xfrm>
          <a:prstGeom prst="downArrowCallout">
            <a:avLst>
              <a:gd name="adj1" fmla="val 41677"/>
              <a:gd name="adj2" fmla="val 41673"/>
              <a:gd name="adj3" fmla="val 16667"/>
              <a:gd name="adj4" fmla="val 66667"/>
            </a:avLst>
          </a:prstGeom>
          <a:solidFill>
            <a:srgbClr val="d6009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Lig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14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0.01111 L -0.00695 0.33372 E">
                                      <p:cBhvr>
                                        <p:cTn id="179" dur="5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21184E-006 L -0.65834 -0.00555 E">
                                      <p:cBhvr>
                                        <p:cTn id="213" dur="6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6.43188E-006 L 0.6 6.43188E-006 E">
                                      <p:cBhvr>
                                        <p:cTn id="264" dur="10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4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6 3.3765E-006 L -0.08611 3.3765E-006 E">
                                      <p:cBhvr>
                                        <p:cTn id="290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11 3.3765E-006 L -0.17778 3.3765E-006 E">
                                      <p:cBhvr>
                                        <p:cTn id="298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778 3.3765E-006 L -0.26111 3.3765E-006 E">
                                      <p:cBhvr>
                                        <p:cTn id="305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111 3.3765E-006 L -0.35278 3.3765E-006 E">
                                      <p:cBhvr>
                                        <p:cTn id="312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278 3.3765E-006 L -0.43611 3.3765E-006 E">
                                      <p:cBhvr>
                                        <p:cTn id="319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30" nodeType="afterEffect" fill="hold" presetClass="emph" presetID="35" repeatCount="indefinite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3690-D58A-46EC-AEDC-A6C9936827C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rcRect l="0" t="0" r="0" b="3913"/>
          <a:stretch/>
        </p:blipFill>
        <p:spPr>
          <a:xfrm>
            <a:off x="0" y="2052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5"/>
          <p:cNvSpPr/>
          <p:nvPr/>
        </p:nvSpPr>
        <p:spPr>
          <a:xfrm>
            <a:off x="232920" y="6567480"/>
            <a:ext cx="1570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6.15, Page 29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7"/>
          <p:cNvSpPr/>
          <p:nvPr/>
        </p:nvSpPr>
        <p:spPr>
          <a:xfrm>
            <a:off x="25560" y="228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25560" y="29718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9"/>
          <p:cNvSpPr/>
          <p:nvPr/>
        </p:nvSpPr>
        <p:spPr>
          <a:xfrm>
            <a:off x="25560" y="378468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25560" y="45594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1181160" y="332748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البـَـــدْ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1523880" y="4114800"/>
            <a:ext cx="106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الإستطا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elicas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untwists the double helix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epar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DNA strands by forming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replication bub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plication enzymes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arates DNA strands, forming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plication “bubble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plication bubbl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ed at the origin sites of replication as DNA strand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separate, and hence, replication forks formed at each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plication sit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t is also called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origin of repl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ch is a single specifi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sequence of nucleotides that is recognized by the replication enzym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and at which replication st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rimer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 short piece of RNA (10 nucleotide long) which is synthesised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by 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primas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used to initiate the leading strands of the new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DNA-polymeras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builds up the new DNA strand by adding nucleotides to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the primer (from 5’ to 3’ en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Leading strand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elongation strand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’     3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at initiate the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new DNA after recognizing the sequence of the primer by special protei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gging strand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other parental strand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’     3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is copi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away from the fork in short segments (Okazaki fragment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kazaki fragments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ewly formed segments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’    3’, away from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then, form the lagging strand when connected by lig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wards the f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DNA-ligas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joins the Okazaki fragments of the newly formed bases to form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the new lagging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2590920" y="1969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4876920" y="457200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5486400" y="51814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8"/>
          <p:cNvSpPr/>
          <p:nvPr/>
        </p:nvSpPr>
        <p:spPr>
          <a:xfrm>
            <a:off x="5943600" y="571500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2B90-9647-4C41-BF0E-09D8B1A8F8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- During DNA replication, base pairing enables existing DNA strands to serve as templates 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الب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or new complimentary 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كمِّ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258560"/>
            <a:ext cx="8382240" cy="194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cell copies a DNA molecule, each strand serves as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empl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نموز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ordering nucleotides into a new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ompliment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r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جانب المُكمِّ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otides line up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ـَتـَرا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ong the template strand according to the base-pairing r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ucleotides are linked to form new strands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mplement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"/>
          <p:cNvPicPr/>
          <p:nvPr/>
        </p:nvPicPr>
        <p:blipFill>
          <a:blip r:embed="rId1"/>
          <a:srcRect l="0" t="0" r="0" b="8826"/>
          <a:stretch/>
        </p:blipFill>
        <p:spPr>
          <a:xfrm>
            <a:off x="228600" y="3348000"/>
            <a:ext cx="8839080" cy="3433680"/>
          </a:xfrm>
          <a:prstGeom prst="rect">
            <a:avLst/>
          </a:prstGeom>
          <a:ln w="0">
            <a:noFill/>
          </a:ln>
        </p:spPr>
      </p:pic>
      <p:sp>
        <p:nvSpPr>
          <p:cNvPr id="6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C0FF-9C52-40B4-BE60-DC971AC42EA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52280" y="1162080"/>
            <a:ext cx="883944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Semiconservative replic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he most common and accepted b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atson and Crick). The double helix replicates each of the daughter molecul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 have one old strand and one newly made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ther two models are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conservat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dispers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rcRect l="0" t="0" r="0" b="7274"/>
          <a:stretch/>
        </p:blipFill>
        <p:spPr>
          <a:xfrm>
            <a:off x="228600" y="2514600"/>
            <a:ext cx="8686800" cy="42498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1981080" y="2286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ypes of DNA re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962520" y="2666880"/>
            <a:ext cx="2361960" cy="41148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E924-C17F-4E45-90AC-5DE5580B888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990720" y="2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Semiconserv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NA Replication 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نـَسْـــــ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28600" y="1066680"/>
            <a:ext cx="8763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DNA replication, base pair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زدواج القواع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ables existing DNA strands to serve as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templa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مو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ذ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ج/قال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new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complimentary stra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جانب المُكمِّ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enzymes and other proteins carry out DNA repl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Helic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im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lymer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Lig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nds of DNA molecules are replicated by a special mech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BA16-E866-48CF-92CA-82279559832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09120" y="1460160"/>
            <a:ext cx="807732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tak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l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ess tha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 hou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copy each of the 5 million base pairs in its single chromosome and divide to form two identical daughter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uman cell can copy its 6 billion base pairs and divide into daughter cells in only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ew hou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process is remarkably accurate, with only one error per billion nucleot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helicase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twis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َلغ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الإلتفا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separates the template DNA strands at the replication f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Single-strand binding proteins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keep the unpaired template strand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ar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فصل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eplicatio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 A large team of enzymes and other proteins carries out DNA replication: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eplication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rcRect l="0" t="4507" r="40001" b="35572"/>
          <a:stretch/>
        </p:blipFill>
        <p:spPr>
          <a:xfrm>
            <a:off x="4648320" y="3475080"/>
            <a:ext cx="4267080" cy="3154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28240" y="3505320"/>
            <a:ext cx="434340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eukaryotes, there may be hundreds or thousands of bubbles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has origin sites for repl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per chromos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the origin sites, the DNA strands separate forming a replication “bubble” with replication fork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شوكة النسخ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each 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eplication bubbles elong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ستطي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 the DNA is replicated and eventually fus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ندمج مع بعضها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228600" y="380880"/>
            <a:ext cx="86104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plication of a DNA molecule begins at special site called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origin of replic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ـنشأ التضاع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ich is a single specific sequence of nucleotides that is recognized by the replication enzy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Replication enzyme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e the strands, forming 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replication “bubble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قعة التضاع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lication proceeds in both directions until the entire molecule is copi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3F82-A76F-43D7-B166-F417B246123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191120" y="0"/>
            <a:ext cx="4952880" cy="6629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4038480" cy="23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Primer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بد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hort segment of RNA, 10 nucleotides lo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required to start a new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im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RNA polymer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links ribonucleotides that are complementary to the DNA template into the pri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76320" y="2666880"/>
            <a:ext cx="4190760" cy="35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NA polymeras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atalyze the elongation of new DNA at a replication fork. After formation of the primer, DNA polymerases can add deoxyribonucleotides to the 3’ end of the ribonucleotid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other DNA polymerase later replaces the primer ribonucleotides with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oxyribonucleotide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imentary to the templ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84A1-BA27-4BEB-B77F-3E65F629B41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52280" y="3298680"/>
            <a:ext cx="4724640" cy="29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ther parental strand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’-&gt;3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gging str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is copied away from the fork in short segment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kazaki fragment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قـِطـَع صغي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kazaki fragment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about 100-200 nucleotid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re joined by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NA lig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زيم الراب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form the sugar-phosphate backbone of a single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181480" y="1447920"/>
            <a:ext cx="3905280" cy="51814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5960" y="151920"/>
            <a:ext cx="8001000" cy="30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 polymerases can only add nucleotides to the free 3’ end of a growing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new DNA strand can only elongate in the 5’-&gt;3’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replication fork, one parental strand                                                             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’-&gt; 5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eading str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    can be used by polymerases as a template                                                                  for a continuous complimentary str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391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MMARY OF DNA REPLICATION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3960" y="1143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icases: Enzymes that separate the DNA str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icase move along the strands and breaks the hydrogen bonds between the complimentary nitrogen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ication Fork: the Y shaped region that results from the separation of the str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453960" y="2971800"/>
            <a:ext cx="8534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 Polymerase: enzymes that </a:t>
            </a:r>
            <a:r>
              <a:rPr b="1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add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imentary nucleoti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otides are found floating freely inside the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alent bonds form between the phosphate group of one nucleotide and the deoxyribose of ano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gen bonds form between the complimentary nitrogen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453960" y="4800600"/>
            <a:ext cx="8613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 polymerases finish replicating the DNA and fall of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 is two identical DNA molecules that are ready to move to new cells in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Conservative Replication: this type of replication where one strand is from the original molecule and the other strand is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17:51:30Z</dcterms:created>
  <dc:creator>User</dc:creator>
  <dc:description/>
  <dc:language>en-US</dc:language>
  <cp:lastModifiedBy>HP</cp:lastModifiedBy>
  <dcterms:modified xsi:type="dcterms:W3CDTF">2014-01-07T16:59:24Z</dcterms:modified>
  <cp:revision>1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0E5E41E4-BF07-4CF1-BFD9-01ECA6DE8C77</vt:lpwstr>
  </property>
  <property fmtid="{D5CDD505-2E9C-101B-9397-08002B2CF9AE}" pid="3" name="ArticulatePath">
    <vt:lpwstr>Lecture 19</vt:lpwstr>
  </property>
</Properties>
</file>