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676A-1C82-43BD-9DB6-8163762CB2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D65B-BA0F-43CF-B8B1-CB19A0D7289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FFD3-BDED-4C23-808E-06FB1E62C4F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941-73BA-47ED-BE5A-45CD3683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744-EDD1-4B8E-ADFF-2886F0DB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E45-7D0B-473C-986F-D4A62C45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1D4-B99D-4F6F-949E-7B8944F5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D32-49A6-4FC6-A762-15552AE2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858-06D7-4244-A10D-8EAFCC6D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843-69FE-4B11-BDC1-4E82CBC9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A6E8-25E1-40EE-ACF3-128CCBE9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013-5221-4549-9B4A-F6EB2A8D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825-7D21-459F-A884-88E49778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4CC-7C0D-4D67-9D4D-A039110A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7D85-CB79-4798-A3A1-020A4B6C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2612-6C13-41AA-A3ED-95B1B52827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381C-A0E2-4C17-96CD-2B9C8E8B68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1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27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3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5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1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5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88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3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196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1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4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07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368A-BB0E-4297-A4FF-4B551FBC92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is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A746-BAAF-42D0-B2CC-F73801319C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8957-7693-4863-8B69-F9BA810372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1676-C842-44A0-9D73-B94A8F954A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242D-7A93-4924-B193-6EC52C6E36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3FAC-3132-43FB-B23C-E59435F540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2BDD-5645-4401-934D-62522B1BBE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HP</cp:lastModifiedBy>
  <dcterms:modified xsi:type="dcterms:W3CDTF">2014-01-07T16:59:24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E5E41E4-BF07-4CF1-BFD9-01ECA6DE8C77</vt:lpwstr>
  </property>
  <property fmtid="{D5CDD505-2E9C-101B-9397-08002B2CF9AE}" pid="3" name="ArticulatePath">
    <vt:lpwstr>Lecture 19</vt:lpwstr>
  </property>
</Properties>
</file>