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6A46-D4F9-4396-95D7-3B3433525F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5DE9-BE3A-45EA-988F-7036FD6288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69E0-264A-4984-A1F8-A32D51DED6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4A0A-26A8-4400-9D19-918B763DD0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CE6-DC6B-4E63-B1EE-ED69532C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1DE-72E3-4737-9F6A-B951CF7B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949-AFCC-44A2-8D7A-988419D9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5CE-61E9-4E9C-9AD8-EE669E85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FDD-32E6-4682-A692-401CDD3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E0D-580D-42CC-A3CF-18084B7C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34F-91E0-4A65-BD94-AA9522B5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975-305F-448C-9419-7D7B4062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566-A547-4402-BE41-4C4CA938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8BB-D48D-4626-9872-6CCD8D5C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5AC-96E1-4AE1-ABED-EAC2E2D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F06-85F5-465D-A77A-8ABE28B2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41F6-076B-45BF-A7A9-4324A13025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D3C8-D998-49FD-ABB2-FC435E7422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0" y="2098440"/>
            <a:ext cx="4576680" cy="525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752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49720" y="348156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057560"/>
            <a:ext cx="5268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19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lec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heritance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repl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25FB-0261-47D6-9FF9-75C0BA33C5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28600" y="1752480"/>
            <a:ext cx="5105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longate the other new strand of DNA in the obligator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’-&gt;3’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, DNA pol III must work along the other template strand in the direc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y from the replica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NA strand elongating in this direction is calle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g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gging strand is synthesized discontinuously, as a series of segments (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zaki fra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zaki fragment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bout 100-200 nucleotid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re joined by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NA liga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form the sugar-phosphate backbone of a single D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1434960"/>
            <a:ext cx="3200400" cy="4778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914400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replication fork, one parental strand  (3’-&gt; 5’ into the fork), the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ading str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                                                  can be used by polymerases as a template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7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33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9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71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7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91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94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9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202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7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10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13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DB05-2A85-46A3-A84E-F107534F79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licas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wists the double helix to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pa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NA strands by forming replication bub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plication enzymes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s DNA strands, forming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ication “bubbl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plication bub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ed at the origin sites of replication as DNA strands separate, and hence, replication forks formed at each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plication si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s also calle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origin of re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a single specific sequence of nucleotides that is recognized by the replication enzymes and at which replication st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NA-polymeras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ilds up the new DNA strand by adding nucleotides to the primer (from 5’ to 3’ e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NA-ligas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ins the Okazaki fragments of the newly formed bases to form the new lagging DNA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cc"/>
                </a:solidFill>
                <a:uFillTx/>
                <a:latin typeface="Arial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Content Placeholder 4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3970440" cy="145728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8EEA-DD0B-47C4-A09C-7B8BB8CE7D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427640" y="1106640"/>
            <a:ext cx="4545000" cy="1417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4313160" y="3462480"/>
            <a:ext cx="4773600" cy="1563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4"/>
          <a:stretch/>
        </p:blipFill>
        <p:spPr>
          <a:xfrm>
            <a:off x="392040" y="3379680"/>
            <a:ext cx="3625920" cy="1730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6A96-AB27-4585-801B-E6F99D790B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2485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92160" y="63864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6.1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ummary of bacterial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3712-65B7-48AB-B9AF-5444CD02062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4365720" y="1487520"/>
            <a:ext cx="4375080" cy="3979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4EDA-8AB5-4BEB-9568-03ED757239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907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alternative models of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Replica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oser L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During DNA replication, base pairing enables existing DNA strands to serve as templates </a:t>
            </a:r>
            <a:r>
              <a:rPr b="0" lang="ar-E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ew complimentary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A large team of enzymes and other proteins carries out DNA replication: The Replication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8B96-584B-4DCF-BB0E-9EB9FE632C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219320" y="1600200"/>
            <a:ext cx="6858000" cy="70344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65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1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8C4E-7D8E-4C63-B494-94644BF1A3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1161720"/>
            <a:ext cx="88394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09480" y="228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ee alternative models of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A409-0D2F-4446-8728-5310A9ED40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8400" y="1676520"/>
            <a:ext cx="890892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ell copies a DNA molecule, each strand serves as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ordering nucleotides into a ne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mpliment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t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otides line up 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lement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C9FD-1582-4966-9186-4136FD2BEF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38080" y="24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NA Replication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loser 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066680"/>
            <a:ext cx="87631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8BD0-123D-4464-B950-7F1D1FF369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85920"/>
            <a:ext cx="883908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ss t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 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py each of the 5 million base pairs in its single chromosome and divide to form two identical daughte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uman cell can copy its 6 billion base pairs and divide into daughter cells in only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ew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cess is remarkably accurate, with only one error per billion nucleot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helicase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wists and separates the template DNA strands at the replication f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Single-strand binding protein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ep the unpaired template stran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t during replic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93840" y="151920"/>
            <a:ext cx="8673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800600" y="2743200"/>
            <a:ext cx="4114800" cy="3773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047760"/>
            <a:ext cx="4800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ukaryotes, there may be hundreds or thousands of bubble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has origin sites for repl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er chromos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origin sites, the DNA strands separate forming a replication “bubble” with replication forks at each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plication bubbles elongate  as the DNA is replicated and eventually f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B842-FE0C-465F-8671-35B00939D5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Student</cp:lastModifiedBy>
  <dcterms:modified xsi:type="dcterms:W3CDTF">2016-01-24T08:09:22Z</dcterms:modified>
  <cp:revision>19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