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385-1A47-4AE7-BD11-BDDEFCE9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E4D-E61D-4EFC-B668-037EE7DB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F01-8916-456D-B81D-7EBCDF1E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561-1D10-41B4-A6CA-6EF5F506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0A29-4399-4A96-A600-F0C64960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DB0A-EEE6-43C3-A479-AFE3E41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5A62-C8EF-49A5-B6D3-DD20232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3925-1FF6-4ECE-ABBF-79680AFD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32D3-DD0E-4A5B-B66A-C74467AB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18C-F0FE-41EF-A77A-85ADF69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830C-B251-4474-8013-83366BE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A84-2911-482C-B781-3FB69A65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923D-3A39-481C-87B5-7413C78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796-E8EA-4A5F-AC7B-12445E0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0A9F-858A-4376-9784-2776840B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6F90-86EC-4B84-8915-DA8C40D1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E3BC-1315-44E0-8462-4770FCCE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865A-0440-4D3C-B14B-7EED4C77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99B8-AECE-4C39-A9CA-632B8D6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B5FF-361E-40FF-990D-9389820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B4DD-AF7B-435D-9529-F556D13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498A-AD7B-4375-AD5E-3C04E5C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546-E90A-4D64-B49F-AB05C5CF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64B9-589C-4D88-BF3F-4248BF7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2154-8D4A-4835-9808-2C7CCC5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C604-C9EA-47EE-81C9-4C9A6BDE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9C70-1C70-4861-AC24-243D9F2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AE7B-A353-46CD-8813-57AC3426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464B-FA33-4C74-9804-D0F7A58B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78DE-CC14-42BE-B19E-72ED22A3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FEAF-FF8B-4987-87FE-6641A88C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1299E-AA87-4244-B294-2603C7E0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8103-A470-44ED-8A32-4924D1E6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3F4-50B2-4F0A-A826-E0822D8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BE08-DD2C-401D-A865-056CC90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57C0-FB08-40ED-8CF0-B534B2A3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3E55-AF8F-4771-9D18-1A7C18B1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8909-A6CB-4024-8398-91C5790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544D-07EA-4612-844D-B6FE0EC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552E-F926-4071-80BD-68D4DF2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A2EF-17D1-4041-904C-437935EF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8658-3C4E-445B-8A2E-68BD81F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53AE0-234B-4CFA-8DC1-46805C2A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F84B-1BF7-467C-B17C-D407AF18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6BF-4443-45B8-9BD0-AF5A62C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0072-37DB-473E-83DE-29D1FD4D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3E13-3A5C-4B63-918A-A33EA6D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70200-E5A4-4F3F-9E5E-4E83EA8A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0961-5789-4C80-95D3-D11C0B9B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801D-268B-43E5-8C6B-5CD2344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6058-8513-4803-B63C-214BC2A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9032C-DE8D-4B55-B0B3-B1BC4A1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7654-5734-4B16-B9AB-37C1348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6306-9E1E-4ABA-B5D7-BE40959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B383-7CC9-46A8-888C-D09BEE78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E3E-D84C-4881-857D-D68E7F5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642C-23E4-4719-ACE3-D7EF7E4D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D0B-D6E0-4B35-8BB6-11884FC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94C-19FB-4E40-B322-350D341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885-EB77-4AD6-A929-05575B6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91B-2B80-4F29-B9F8-57A247B7445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AD36-BEE0-4F8C-AF29-4FF51A07BBF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D6C0-A166-4F27-A7A1-A7B54E76F80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34C6-57C4-4244-B9F7-389D34B5AAD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26B4-5A0C-4E19-97E6-AB7B079658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المستخدم</cp:lastModifiedBy>
  <cp:lastPrinted>2001-01-06T03:20:03Z</cp:lastPrinted>
  <dcterms:modified xsi:type="dcterms:W3CDTF">2014-04-02T07:33:22Z</dcterms:modified>
  <cp:revision>404</cp:revision>
  <dc:subject/>
  <dc:title>Nerve activates contraction</dc:title>
</cp:coreProperties>
</file>