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6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D0F-6F21-431E-8379-16E4C90D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62E-E11C-4C2B-B8AA-A0C7B359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4CE-71A2-4A14-A283-448FC2DA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BF5-B3D8-4832-861D-F450BEBF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F7F4-47C3-45B9-AEB9-CBFA38D8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2C40-BD98-4A51-9CBA-B3BE9497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D988-6B29-47DC-864C-4A3B2810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FE31-0689-41E5-8D8F-D2AAB1F7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042C-CB88-47A9-BF8D-3633EB6B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09D6-0444-42DF-B3F8-D85439D2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FE4C-8D0A-4991-99EB-41F54D37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E1C-0C08-4A22-AC86-9B73D277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C088-BD14-42BF-AB56-A05D4C10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1B03-1327-49BE-AE65-0FBD083D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7082-61C1-44E5-927C-4CF577E1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FAC1-48BA-45DC-8D6F-D439FC7D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54FD-D46B-48FF-88F9-0B61F45B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CF8E9-B699-4E8D-ACA1-35B84363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9DC24-0F30-4DD2-90EA-1B110BCD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E9182-525C-4C40-A8E2-C2462786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A3CA-E56F-41A0-9119-6F86CD65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66648-8C98-444B-94B2-50A52134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790-03AF-496A-B406-39F3914E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57BE-EBB2-4DB3-ADCE-5F825D28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36100-4B53-4370-B11A-1E9EC161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9E989-20C5-449C-89E0-73CDE171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83B0-16B9-4F60-9047-59282E8F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B4F83-1E7E-490C-98BD-70556DD3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F42CF-2051-4E80-B76D-D33CEBF9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7C714-5953-42C1-B149-57BB9984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ABE0E-FF33-4A50-AFC7-7AF9665C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AA8B7-E314-4F07-A4B2-C3DE2D75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31B2A-059C-471E-9A37-A428CD27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1E6-57B0-4362-B8E2-EA96BDCC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85779-EF29-447E-84CE-B4F12072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C3976-D465-4359-8215-C8F04F11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A21A8-05BC-4F6D-B4E7-E00794A9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3E817-B35F-4654-B658-BB58EFBD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67751-D22C-4F57-9318-5E12D36C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46799-A82C-4B11-881F-F993EE83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52E4-6B8E-475D-BEBC-F0DE2F6A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FCA61-56FD-4C19-9C9C-427E3DF3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98111-ECA9-49FE-83D8-1E53BB93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4EB57-4C34-4E6A-BCC8-76CA2A7F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235-8028-43C6-BF57-F4519B87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206F2-FD17-47A7-BDC3-DD521B5E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07B33-357E-44CB-9B3E-F7714313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6F329-BAFE-4CA9-8D29-AFFE12BE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747D9-6404-4CC8-A7D7-DD3C367F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19D22-F1B9-490F-BD45-F7DC3302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6B2F2-7B9A-4D95-BC23-756E2BE9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DCF69-E78F-4F54-9E85-A7FF2C4E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BCD84-4525-4E20-9BD1-2E2D22EA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43F0C-012C-4E48-B932-5988E90D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907B3-F7D4-4DD0-B726-20E574EF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D80-931F-45F4-8EF8-58C676FA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B289D-9345-4B67-88C6-C20D0ACA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29D-6C0C-4D9E-9821-88A2662D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0E2-B753-46C2-8639-56CA8DAA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242-E069-486D-BB8F-095D88F4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C27C-1D62-4C6D-B2C8-3FD2033F621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4AF5-C478-4A39-A089-8B6C67768E66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15B5-10EF-4CA7-B3BE-2EEF2EEF5730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436E-F929-457A-B34F-00F9967EEB5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EAC8-B11B-4D79-BBED-2B9F862F772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animals.nationalgeographic.com/animals/enlarge/gavial_image.html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00080" y="993240"/>
            <a:ext cx="60436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lass Reptil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960" y="1928520"/>
            <a:ext cx="4495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ations for life on l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mniotic egg.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يض جنين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tight scal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n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occipital condyl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– one point of attachement of the skull with the vertebral colum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conserving kidne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ree-chambered hear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rocodilian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اسيح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ave 4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aws for digging and locomo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mproved Respiratory Syste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ss of Lateral Line System of fish and amphibi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7 orders of reptiles, but only members of 4 remain alive toda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7" descr="lizard copy"/>
          <p:cNvPicPr/>
          <p:nvPr/>
        </p:nvPicPr>
        <p:blipFill>
          <a:blip r:embed="rId1"/>
          <a:stretch/>
        </p:blipFill>
        <p:spPr>
          <a:xfrm>
            <a:off x="5929200" y="2389320"/>
            <a:ext cx="2928960" cy="4325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1611360" y="295200"/>
            <a:ext cx="581832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9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920" y="1937880"/>
            <a:ext cx="3286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8fe9"/>
                </a:solidFill>
                <a:latin typeface="Calibri"/>
              </a:rPr>
              <a:t>Major Concept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2577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Mammalian characteristics evolved gradually over a 200-million-year period in the synapsid linea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3" descr="therapsid.gif"/>
          <p:cNvPicPr/>
          <p:nvPr/>
        </p:nvPicPr>
        <p:blipFill>
          <a:blip r:embed="rId1"/>
          <a:stretch/>
        </p:blipFill>
        <p:spPr>
          <a:xfrm>
            <a:off x="1093680" y="3514680"/>
            <a:ext cx="6836040" cy="3200400"/>
          </a:xfrm>
          <a:prstGeom prst="rect">
            <a:avLst/>
          </a:prstGeom>
          <a:ln w="0">
            <a:noFill/>
          </a:ln>
        </p:spPr>
      </p:pic>
      <p:sp>
        <p:nvSpPr>
          <p:cNvPr id="310" name="Title 1"/>
          <p:cNvSpPr/>
          <p:nvPr/>
        </p:nvSpPr>
        <p:spPr>
          <a:xfrm>
            <a:off x="428760" y="800280"/>
            <a:ext cx="33955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alibri"/>
              </a:rPr>
              <a:t>Mammal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1426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The skin of mammals is thick and protective and has an insulation covering of hai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3" descr="mammals-pic.jpg"/>
          <p:cNvPicPr/>
          <p:nvPr/>
        </p:nvPicPr>
        <p:blipFill>
          <a:blip r:embed="rId1"/>
          <a:stretch/>
        </p:blipFill>
        <p:spPr>
          <a:xfrm>
            <a:off x="1419120" y="2214720"/>
            <a:ext cx="63676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85716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Adaptations of teeth and digestive tract allows mammals to exploit a wide variety of food resourc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3" descr="beaver_teeth.jpg"/>
          <p:cNvPicPr/>
          <p:nvPr/>
        </p:nvPicPr>
        <p:blipFill>
          <a:blip r:embed="rId1"/>
          <a:stretch/>
        </p:blipFill>
        <p:spPr>
          <a:xfrm>
            <a:off x="685800" y="2295360"/>
            <a:ext cx="2590920" cy="1684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orca-whale-teeth.jpg"/>
          <p:cNvPicPr/>
          <p:nvPr/>
        </p:nvPicPr>
        <p:blipFill>
          <a:blip r:embed="rId2"/>
          <a:stretch/>
        </p:blipFill>
        <p:spPr>
          <a:xfrm>
            <a:off x="6091200" y="2295360"/>
            <a:ext cx="2386080" cy="190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siberian_brown_bear_teeth-1545.jpg"/>
          <p:cNvPicPr/>
          <p:nvPr/>
        </p:nvPicPr>
        <p:blipFill>
          <a:blip r:embed="rId3"/>
          <a:stretch/>
        </p:blipFill>
        <p:spPr>
          <a:xfrm>
            <a:off x="3352680" y="4200480"/>
            <a:ext cx="2514600" cy="1800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6"/>
          <p:cNvSpPr/>
          <p:nvPr/>
        </p:nvSpPr>
        <p:spPr>
          <a:xfrm>
            <a:off x="847800" y="39387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ver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3429000" y="34383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erian Brown Bear -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6429240" y="421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ca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0000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Efficient systems for circulation and gas exchange support the high metabolic rate associated with mammalian endotherm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1" name="Picture 3" descr="respiratorysystem.gif"/>
          <p:cNvPicPr/>
          <p:nvPr/>
        </p:nvPicPr>
        <p:blipFill>
          <a:blip r:embed="rId1"/>
          <a:stretch/>
        </p:blipFill>
        <p:spPr>
          <a:xfrm>
            <a:off x="5181480" y="2571840"/>
            <a:ext cx="3083040" cy="383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irculatory_system.jpg"/>
          <p:cNvPicPr/>
          <p:nvPr/>
        </p:nvPicPr>
        <p:blipFill>
          <a:blip r:embed="rId2"/>
          <a:stretch/>
        </p:blipFill>
        <p:spPr>
          <a:xfrm>
            <a:off x="1643040" y="2286000"/>
            <a:ext cx="2676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2920" y="999720"/>
            <a:ext cx="38289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The brain of mammals has an expanded cerebral cortex that processes information from various sensory structur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4" name="Picture 3" descr="cerebral_cortex.jpg"/>
          <p:cNvPicPr/>
          <p:nvPr/>
        </p:nvPicPr>
        <p:blipFill>
          <a:blip r:embed="rId1"/>
          <a:stretch/>
        </p:blipFill>
        <p:spPr>
          <a:xfrm>
            <a:off x="214200" y="2548080"/>
            <a:ext cx="4071960" cy="3095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kidney_eng.gif"/>
          <p:cNvPicPr/>
          <p:nvPr/>
        </p:nvPicPr>
        <p:blipFill>
          <a:blip r:embed="rId2"/>
          <a:stretch/>
        </p:blipFill>
        <p:spPr>
          <a:xfrm>
            <a:off x="4714920" y="2571840"/>
            <a:ext cx="4143240" cy="3416040"/>
          </a:xfrm>
          <a:prstGeom prst="rect">
            <a:avLst/>
          </a:prstGeom>
          <a:ln w="0">
            <a:noFill/>
          </a:ln>
        </p:spPr>
      </p:pic>
      <p:sp>
        <p:nvSpPr>
          <p:cNvPr id="326" name="Content Placeholder 2"/>
          <p:cNvSpPr/>
          <p:nvPr/>
        </p:nvSpPr>
        <p:spPr>
          <a:xfrm>
            <a:off x="4457880" y="1071720"/>
            <a:ext cx="4257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6. Metanephric kidneys permit mammals to excrete urea without excessive water lo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0920" y="1214280"/>
            <a:ext cx="37148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. Complex behavior patterns enhance mammalian surviva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3" descr="061030_elephantknows_hmed_1230p_grid-6x2.jpg"/>
          <p:cNvPicPr/>
          <p:nvPr/>
        </p:nvPicPr>
        <p:blipFill>
          <a:blip r:embed="rId1"/>
          <a:stretch/>
        </p:blipFill>
        <p:spPr>
          <a:xfrm>
            <a:off x="214200" y="2500200"/>
            <a:ext cx="4000680" cy="2835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lion-mom-&amp;-cub-Mashatu.jpg"/>
          <p:cNvPicPr/>
          <p:nvPr/>
        </p:nvPicPr>
        <p:blipFill>
          <a:blip r:embed="rId2"/>
          <a:stretch/>
        </p:blipFill>
        <p:spPr>
          <a:xfrm>
            <a:off x="4572000" y="278604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330" name="Content Placeholder 2"/>
          <p:cNvSpPr/>
          <p:nvPr/>
        </p:nvSpPr>
        <p:spPr>
          <a:xfrm>
            <a:off x="4714920" y="1214280"/>
            <a:ext cx="39718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8. Most mammals are viviparous and have reproductive cycles that help ensure internal fertilization and successful development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4320" y="1095480"/>
            <a:ext cx="59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Testudines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سلحفاة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4000" y="2071440"/>
            <a:ext cx="50400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0 species of turt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احف البحرية (الترسة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ortois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احف البر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y she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mbs articulate internally to the rib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ضلو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eratinized beak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قا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tead of teet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usion of vertebrae, ribs and skin bones form plates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rapa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top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es of the pectoral gird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زام الصدر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skin bones form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plastr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bottom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11" descr="Turtle"/>
          <p:cNvPicPr/>
          <p:nvPr/>
        </p:nvPicPr>
        <p:blipFill>
          <a:blip r:embed="rId1"/>
          <a:stretch/>
        </p:blipFill>
        <p:spPr>
          <a:xfrm>
            <a:off x="5429160" y="2736720"/>
            <a:ext cx="3643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4240" y="885600"/>
            <a:ext cx="58737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Crocodylia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ماسيح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42960" y="1714680"/>
            <a:ext cx="442440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1 living species; crocodiles, alligato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امريك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cai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وائ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and gavia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هند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atomically closer to birds and dinosaurs than other reptiles (have 4-chambered heart, triangular eye orbits, other skull characteristic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most unchanged in 170 million yea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Photo: A saltwater crocodile on a beach"/>
          <p:cNvPicPr/>
          <p:nvPr/>
        </p:nvPicPr>
        <p:blipFill>
          <a:blip r:embed="rId1"/>
          <a:stretch/>
        </p:blipFill>
        <p:spPr>
          <a:xfrm>
            <a:off x="785880" y="4770360"/>
            <a:ext cx="2211480" cy="16588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671400" y="6357960"/>
            <a:ext cx="24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water C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" descr="Photo: American alligator basking on a riverbank"/>
          <p:cNvPicPr/>
          <p:nvPr/>
        </p:nvPicPr>
        <p:blipFill>
          <a:blip r:embed="rId2"/>
          <a:stretch/>
        </p:blipFill>
        <p:spPr>
          <a:xfrm>
            <a:off x="3571920" y="4754520"/>
            <a:ext cx="2219400" cy="16653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3490920" y="6400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rican Allig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Image of: Caiman crocodilus (spectacled caiman)"/>
          <p:cNvPicPr/>
          <p:nvPr/>
        </p:nvPicPr>
        <p:blipFill>
          <a:blip r:embed="rId3"/>
          <a:stretch/>
        </p:blipFill>
        <p:spPr>
          <a:xfrm>
            <a:off x="5786280" y="2533680"/>
            <a:ext cx="3176640" cy="17524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6400800" y="42861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n Ca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8" descr="Photo: A gharial shows its characteristic long narrow snou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4754520"/>
            <a:ext cx="2531880" cy="1746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6529320" y="64580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vial or Gh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040" y="691920"/>
            <a:ext cx="4981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Squama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12280" y="1452240"/>
            <a:ext cx="64357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verged 150 million years ago from lepidosa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auria –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erpentes – Snak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Amphisbaenia – Worm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685800" y="6400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al Sn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4" descr="http://t0.gstatic.com/images?q=tbn:ANd9GcRHsOCPSYaFJJ0FFnJAmAbqcWN93nU1z1hm6DURAmhAEvmeBX63ag"/>
          <p:cNvPicPr/>
          <p:nvPr/>
        </p:nvPicPr>
        <p:blipFill>
          <a:blip r:embed="rId1"/>
          <a:stretch/>
        </p:blipFill>
        <p:spPr>
          <a:xfrm>
            <a:off x="228600" y="4191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http://t0.gstatic.com/images?q=tbn:ANd9GcRpOCXu3f8xqDMKsR2E_unmdRqDEDf_L6vQPGfOzbsJ4IsMjc3SEQ"/>
          <p:cNvPicPr/>
          <p:nvPr/>
        </p:nvPicPr>
        <p:blipFill>
          <a:blip r:embed="rId2"/>
          <a:stretch/>
        </p:blipFill>
        <p:spPr>
          <a:xfrm>
            <a:off x="3419640" y="4221000"/>
            <a:ext cx="2781000" cy="22068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7"/>
          <p:cNvSpPr/>
          <p:nvPr/>
        </p:nvSpPr>
        <p:spPr>
          <a:xfrm>
            <a:off x="3673440" y="6400800"/>
            <a:ext cx="21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meleon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حرب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8" descr="http://www.sciencephoto.com/images/showFullWatermarked.html/Z765165-Speckled_Worm_Lizard-SPL.jpg?id=907650165"/>
          <p:cNvPicPr/>
          <p:nvPr/>
        </p:nvPicPr>
        <p:blipFill>
          <a:blip r:embed="rId3"/>
          <a:stretch/>
        </p:blipFill>
        <p:spPr>
          <a:xfrm>
            <a:off x="6443640" y="4221000"/>
            <a:ext cx="2594160" cy="21909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9"/>
          <p:cNvSpPr/>
          <p:nvPr/>
        </p:nvSpPr>
        <p:spPr>
          <a:xfrm>
            <a:off x="6659640" y="6381720"/>
            <a:ext cx="22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m Lizard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سح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auria – the Lizard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8380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, 500 species of lizards;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aur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liz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ually have two pairs of le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pper and lower jaws unite anterio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oviparous, some are ovoviviparous or viviparo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bivorous, omnivorous, and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e in a variety of habita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2" descr="http://t1.gstatic.com/images?q=tbn:ANd9GcR0pcGD6tNq1b1P3FW1n2F0sTB5zPffO0tLhiHp0_aBXpKcBbqm"/>
          <p:cNvPicPr/>
          <p:nvPr/>
        </p:nvPicPr>
        <p:blipFill>
          <a:blip r:embed="rId1"/>
          <a:stretch/>
        </p:blipFill>
        <p:spPr>
          <a:xfrm>
            <a:off x="152280" y="411480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228600" y="6172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lled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http://nzcryptozoology.ucoz.com/NZCryptozoology/varanid.jpg"/>
          <p:cNvPicPr/>
          <p:nvPr/>
        </p:nvPicPr>
        <p:blipFill>
          <a:blip r:embed="rId2"/>
          <a:stretch/>
        </p:blipFill>
        <p:spPr>
          <a:xfrm>
            <a:off x="6400800" y="3048120"/>
            <a:ext cx="2666880" cy="35575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6"/>
          <p:cNvSpPr/>
          <p:nvPr/>
        </p:nvSpPr>
        <p:spPr>
          <a:xfrm>
            <a:off x="5257800" y="59436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s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6" descr="http://t2.gstatic.com/images?q=tbn:ANd9GcRBK8zlgKsk_ruf_vBFeOs_PYUO8-OUZEFRIdpkmwTEV_HlQFBQFA"/>
          <p:cNvPicPr/>
          <p:nvPr/>
        </p:nvPicPr>
        <p:blipFill>
          <a:blip r:embed="rId3"/>
          <a:stretch/>
        </p:blipFill>
        <p:spPr>
          <a:xfrm>
            <a:off x="2590920" y="4267080"/>
            <a:ext cx="2705040" cy="16858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8"/>
          <p:cNvSpPr/>
          <p:nvPr/>
        </p:nvSpPr>
        <p:spPr>
          <a:xfrm>
            <a:off x="2895480" y="6019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ama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8" descr="http://t3.gstatic.com/images?q=tbn:ANd9GcQiwMM8gLA17DvPE45rfuqfvJjHNaeMNpAPiUnHqtPWOhYUSPjqZQ"/>
          <p:cNvPicPr/>
          <p:nvPr/>
        </p:nvPicPr>
        <p:blipFill>
          <a:blip r:embed="rId4"/>
          <a:stretch/>
        </p:blipFill>
        <p:spPr>
          <a:xfrm>
            <a:off x="6400800" y="8380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6629400" y="2590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-tongue Sk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" y="7142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erpentes- The Snak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1280" y="2066400"/>
            <a:ext cx="510552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bout 2,900 species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serp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o craw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harmles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but about 300 species are venom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ongate and lack limbs, have more than 200 vertebrae and pairs of ribs – for locomo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pper jaws are movable on the skull and upper and lower jaws loosely joined by flexible ligaments, so each half can move independently – allows swallowing large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are carnivor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AutoShape 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4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8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http://www.naturephoto-cz.com/photos/sevcik/indian-cobra--naja-naja-2.jpg"/>
          <p:cNvPicPr/>
          <p:nvPr/>
        </p:nvPicPr>
        <p:blipFill>
          <a:blip r:embed="rId1"/>
          <a:stretch/>
        </p:blipFill>
        <p:spPr>
          <a:xfrm>
            <a:off x="5219640" y="1306440"/>
            <a:ext cx="3840120" cy="2765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0" descr="http://www.uta.edu/biology/campbell/guatemala/images/Micrurus_diastema.JPG"/>
          <p:cNvPicPr/>
          <p:nvPr/>
        </p:nvPicPr>
        <p:blipFill>
          <a:blip r:embed="rId2"/>
          <a:stretch/>
        </p:blipFill>
        <p:spPr>
          <a:xfrm>
            <a:off x="5148360" y="41911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29718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Class A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jor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ppendages modified as wing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at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otherm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ة الحرار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Metabolic 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ertebral Column modified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es lightened by numerous air spac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n Bird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ossess a horny bill and lack teeth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928800"/>
            <a:ext cx="540072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phenisciformes – Penguins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طري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avy bodied, flightless flipper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زعنف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ke wings for swimming, with insulated with f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3" descr="penguins.jpg"/>
          <p:cNvPicPr/>
          <p:nvPr/>
        </p:nvPicPr>
        <p:blipFill>
          <a:blip r:embed="rId1"/>
          <a:stretch/>
        </p:blipFill>
        <p:spPr>
          <a:xfrm>
            <a:off x="5748480" y="857160"/>
            <a:ext cx="3238200" cy="24289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4"/>
          <p:cNvSpPr/>
          <p:nvPr/>
        </p:nvSpPr>
        <p:spPr>
          <a:xfrm>
            <a:off x="6357960" y="3314880"/>
            <a:ext cx="20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eror Pengu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457200" y="4214880"/>
            <a:ext cx="4614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trigiformes – Ow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Large head with eyes fixed forward; raptorial foo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2" descr="http://www.polkcountybirds.com/images/Barn_Owl_1.jpg"/>
          <p:cNvPicPr/>
          <p:nvPr/>
        </p:nvPicPr>
        <p:blipFill>
          <a:blip r:embed="rId2"/>
          <a:stretch/>
        </p:blipFill>
        <p:spPr>
          <a:xfrm>
            <a:off x="5715000" y="392904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6678720" y="62866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 ow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999720"/>
            <a:ext cx="4829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Anseriforms – Ducks, Geese and Swans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ج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de flat bill and an undercoat of dense down; webbed fe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3" descr="ducks.jpg"/>
          <p:cNvPicPr/>
          <p:nvPr/>
        </p:nvPicPr>
        <p:blipFill>
          <a:blip r:embed="rId1"/>
          <a:stretch/>
        </p:blipFill>
        <p:spPr>
          <a:xfrm>
            <a:off x="5678640" y="928800"/>
            <a:ext cx="2608200" cy="26431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5591160" y="3571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emale Mallard Du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3" descr="decorative Dove.jpg"/>
          <p:cNvPicPr/>
          <p:nvPr/>
        </p:nvPicPr>
        <p:blipFill>
          <a:blip r:embed="rId2"/>
          <a:stretch/>
        </p:blipFill>
        <p:spPr>
          <a:xfrm>
            <a:off x="5483160" y="4148280"/>
            <a:ext cx="2946600" cy="22096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5643720" y="635796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Decorative D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571680" y="4214880"/>
            <a:ext cx="411480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Columbiformes – Pigeons and Do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Dense Feathers loosely set in skin, well developed c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User</cp:lastModifiedBy>
  <cp:lastPrinted>2001-01-06T03:20:03Z</cp:lastPrinted>
  <dcterms:modified xsi:type="dcterms:W3CDTF">2015-03-10T18:11:16Z</dcterms:modified>
  <cp:revision>404</cp:revision>
  <dc:subject/>
  <dc:title>Nerve activates contraction</dc:title>
</cp:coreProperties>
</file>