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77C-1129-40B1-B714-DA3D32A7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509-3FA1-4170-9F16-595636A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4F3-18FA-4CD8-94AD-AD662E27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190-06D9-4B80-9E9C-D3DF3248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3005-B2D4-4D4B-A251-43ED8732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C322-D52C-47C9-A005-95D8CB4F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3EF-218D-47B3-80B0-733D780A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D64-6C5C-458A-826E-5D77FCF5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BA33-C302-4077-94C9-C9102A48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26C8-EAFC-48E9-93EC-646146DA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0A37-2EAA-4277-B1FD-BB63BD4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D1D-0E5B-4729-9089-8A7A780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5BD6-1F45-4329-AD1E-9BAAB73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596E-C3DF-470D-A876-3B30698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84C0-2699-4233-B0AD-2616ED2B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CE7-3F73-41ED-B077-F395E3F3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44AB-9839-4FF3-B885-6BDA6AD9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A37C-5159-443C-AF57-8E5E1D27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940C-DD72-4267-8983-697435C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9981-0F5D-40BD-8BA5-EC6053F9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E25B-BA4E-4A6C-B45F-CA1C2A51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CEFD-3C8A-4F56-834E-ABD473A1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BA2-A859-469C-B995-047782B7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B6BD-8A10-4868-8C69-B0EBF7FA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21B8-3F1A-4589-B924-495F4E2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F4C4-8801-4E02-88B6-45763A5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0AF7-F156-4ED4-BE44-89CC147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D06C-4D80-4B26-A582-3FA5249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37C1-2422-4245-8313-4FB530D0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E348-6DE5-4401-A768-66E37D8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DA4D-E822-420F-9B8E-7E101EFC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4FD4-025E-4608-ADE0-B6F7DA5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2034-3549-4870-9A1F-2E17D2B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64D-BEAB-4EBE-8880-0A075BB9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7FF6-FB81-4C8F-A5BC-1C81708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566F-2F64-43C5-9AF7-57D5FD87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64BD8-4208-4E65-A334-BF8718CF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7E44-D82A-4E65-9004-3F4080ED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774E-318C-4518-9B11-89BA43B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51CE-D2BE-4D5E-BC42-DB91039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CAE3-5196-4B98-8C96-970DD4B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E026-750C-49FC-8332-3BBA1A56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CCD9-63F6-48D4-AF51-2EE6189C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293B-A679-4D0B-92F1-87FC83A8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C0F-E1E9-458A-9D06-50478B81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BCF2A-83EC-4735-A628-3AB1A99E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B5AA-6E41-4A79-9A2B-07FA23B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A32F-3A43-4B55-94C1-6F8233D8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8F44E-EE29-4C9C-BA20-FDB641B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D04A-56D7-406D-940B-9FF4E58A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1C84-DE33-4225-826D-E437491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C939-9A78-4DDD-9EE0-0E2F4BE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27043-AB62-4913-99C6-B52B819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5BA78-F298-4163-9028-67AA061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426AD-0566-4413-98E9-5511C05D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689-A834-456F-A45F-F2F3E954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DBE0-309B-4DB3-9257-0754AC3F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8EF-B06C-4877-AD75-8267E9D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6BD-664F-440F-A3E2-AFB1B3B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5A1-19DD-4E2D-AACA-22E6979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C96F-EEF1-40EB-B45A-B7AFA813FB7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3FF1-29B5-4843-BF48-A04114309F5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EE09-1141-4610-9051-BE98588F893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4D7-2326-46A9-9C41-FE11453CF4B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5CF6-06BE-43B4-B2F0-11E51ECE76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animals.nationalgeographic.com/animals/enlarge/gavial_image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00080" y="993240"/>
            <a:ext cx="6043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lass Reptili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4495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ations for life on l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niotic egg.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يض جني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tight scal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occipital condyle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one point of attachement of the skull with the vertebral colum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-conserving kidne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ree-chambered he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rocodilian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اسيح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ave 4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aws for digging and locomo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mproved Respiratory Syste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s of Lateral Line System of fish and amphibi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7 orders of reptiles, but only members of 4 remain alive toda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7" descr="lizard copy"/>
          <p:cNvPicPr/>
          <p:nvPr/>
        </p:nvPicPr>
        <p:blipFill>
          <a:blip r:embed="rId1"/>
          <a:stretch/>
        </p:blipFill>
        <p:spPr>
          <a:xfrm>
            <a:off x="5929200" y="2389320"/>
            <a:ext cx="2928960" cy="4325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1611360" y="295200"/>
            <a:ext cx="5818320" cy="56196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9: Animal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920" y="1937880"/>
            <a:ext cx="3286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8fe9"/>
                </a:solidFill>
                <a:latin typeface="Calibri"/>
              </a:rPr>
              <a:t>Major Concept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577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Mammalian characteristics evolved gradually over a 200-million-year period in the synapsid line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3" descr="therapsid.gif"/>
          <p:cNvPicPr/>
          <p:nvPr/>
        </p:nvPicPr>
        <p:blipFill>
          <a:blip r:embed="rId1"/>
          <a:stretch/>
        </p:blipFill>
        <p:spPr>
          <a:xfrm>
            <a:off x="1093680" y="3514680"/>
            <a:ext cx="683604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Title 1"/>
          <p:cNvSpPr/>
          <p:nvPr/>
        </p:nvSpPr>
        <p:spPr>
          <a:xfrm>
            <a:off x="428760" y="800280"/>
            <a:ext cx="33955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Calibri"/>
              </a:rPr>
              <a:t>Mammal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he skin of mammals is thick and protective and has an insulation covering of hai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3" descr="mammals-pic.jpg"/>
          <p:cNvPicPr/>
          <p:nvPr/>
        </p:nvPicPr>
        <p:blipFill>
          <a:blip r:embed="rId1"/>
          <a:stretch/>
        </p:blipFill>
        <p:spPr>
          <a:xfrm>
            <a:off x="1419120" y="2214720"/>
            <a:ext cx="63676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85716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aptations of teeth and digestive tract allows mammals to exploit a wide variety of food resourc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beaver_teeth.jpg"/>
          <p:cNvPicPr/>
          <p:nvPr/>
        </p:nvPicPr>
        <p:blipFill>
          <a:blip r:embed="rId1"/>
          <a:stretch/>
        </p:blipFill>
        <p:spPr>
          <a:xfrm>
            <a:off x="685800" y="2295360"/>
            <a:ext cx="2590920" cy="1684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orca-whale-teeth.jpg"/>
          <p:cNvPicPr/>
          <p:nvPr/>
        </p:nvPicPr>
        <p:blipFill>
          <a:blip r:embed="rId2"/>
          <a:stretch/>
        </p:blipFill>
        <p:spPr>
          <a:xfrm>
            <a:off x="6091200" y="2295360"/>
            <a:ext cx="2386080" cy="190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iberian_brown_bear_teeth-1545.jpg"/>
          <p:cNvPicPr/>
          <p:nvPr/>
        </p:nvPicPr>
        <p:blipFill>
          <a:blip r:embed="rId3"/>
          <a:stretch/>
        </p:blipFill>
        <p:spPr>
          <a:xfrm>
            <a:off x="3352680" y="4200480"/>
            <a:ext cx="2514600" cy="1800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847800" y="3938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429000" y="3438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erian Brown Bear -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429240" y="4211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ca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0000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Efficient systems for circulation and gas exchange support the high metabolic rate associated with mammalian endotherm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1" name="Picture 3" descr="respiratorysystem.gif"/>
          <p:cNvPicPr/>
          <p:nvPr/>
        </p:nvPicPr>
        <p:blipFill>
          <a:blip r:embed="rId1"/>
          <a:stretch/>
        </p:blipFill>
        <p:spPr>
          <a:xfrm>
            <a:off x="5181480" y="2571840"/>
            <a:ext cx="3083040" cy="383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irculatory_system.jpg"/>
          <p:cNvPicPr/>
          <p:nvPr/>
        </p:nvPicPr>
        <p:blipFill>
          <a:blip r:embed="rId2"/>
          <a:stretch/>
        </p:blipFill>
        <p:spPr>
          <a:xfrm>
            <a:off x="1643040" y="2286000"/>
            <a:ext cx="2676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920" y="999720"/>
            <a:ext cx="38289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The brain of mammals has an expanded cerebral cortex that processes information from various sensory structur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3" descr="cerebral_cortex.jpg"/>
          <p:cNvPicPr/>
          <p:nvPr/>
        </p:nvPicPr>
        <p:blipFill>
          <a:blip r:embed="rId1"/>
          <a:stretch/>
        </p:blipFill>
        <p:spPr>
          <a:xfrm>
            <a:off x="214200" y="2548080"/>
            <a:ext cx="4071960" cy="3095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kidney_eng.gif"/>
          <p:cNvPicPr/>
          <p:nvPr/>
        </p:nvPicPr>
        <p:blipFill>
          <a:blip r:embed="rId2"/>
          <a:stretch/>
        </p:blipFill>
        <p:spPr>
          <a:xfrm>
            <a:off x="4714920" y="2571840"/>
            <a:ext cx="4143240" cy="3416040"/>
          </a:xfrm>
          <a:prstGeom prst="rect">
            <a:avLst/>
          </a:prstGeom>
          <a:ln w="0">
            <a:noFill/>
          </a:ln>
        </p:spPr>
      </p:pic>
      <p:sp>
        <p:nvSpPr>
          <p:cNvPr id="326" name="Content Placeholder 2"/>
          <p:cNvSpPr/>
          <p:nvPr/>
        </p:nvSpPr>
        <p:spPr>
          <a:xfrm>
            <a:off x="4457880" y="1071720"/>
            <a:ext cx="4257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Metanephric kidneys permit mammals to excrete urea without excessive wate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0920" y="121428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7. Complex behavior patterns enhance mammalian surviva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3" descr="061030_elephantknows_hmed_1230p_grid-6x2.jpg"/>
          <p:cNvPicPr/>
          <p:nvPr/>
        </p:nvPicPr>
        <p:blipFill>
          <a:blip r:embed="rId1"/>
          <a:stretch/>
        </p:blipFill>
        <p:spPr>
          <a:xfrm>
            <a:off x="214200" y="2500200"/>
            <a:ext cx="4000680" cy="2835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lion-mom-&amp;-cub-Mashatu.jpg"/>
          <p:cNvPicPr/>
          <p:nvPr/>
        </p:nvPicPr>
        <p:blipFill>
          <a:blip r:embed="rId2"/>
          <a:stretch/>
        </p:blipFill>
        <p:spPr>
          <a:xfrm>
            <a:off x="4572000" y="278604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330" name="Content Placeholder 2"/>
          <p:cNvSpPr/>
          <p:nvPr/>
        </p:nvSpPr>
        <p:spPr>
          <a:xfrm>
            <a:off x="4714920" y="1214280"/>
            <a:ext cx="39718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Most mammals are viviparous and have reproductive cycles that help ensure internal fertilization and successful developmen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4320" y="1095480"/>
            <a:ext cx="59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Testudines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سلحفاة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2071440"/>
            <a:ext cx="5040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00 species of turt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حرية (الترسة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ortois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لاحف البر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y sh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mbs articulate internally to the rib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ضلو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eratinized beak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نقار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tead of tee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sion of vertebrae, ribs and skin bones form plates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rapac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top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ones of the pectoral gird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زام الصدرى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 skin bones form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lastr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(bottom of the shel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Turtle"/>
          <p:cNvPicPr/>
          <p:nvPr/>
        </p:nvPicPr>
        <p:blipFill>
          <a:blip r:embed="rId1"/>
          <a:stretch/>
        </p:blipFill>
        <p:spPr>
          <a:xfrm>
            <a:off x="5429160" y="2736720"/>
            <a:ext cx="3643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4240" y="885600"/>
            <a:ext cx="58737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Crocodylia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r>
              <a:rPr b="0" lang="ar-SA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ماسيح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2960" y="1714680"/>
            <a:ext cx="44244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1 living species; crocodiles, alligato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امريك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ai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ستوائ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and gavia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مساح الهند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tomically closer to birds and dinosaurs than other reptiles (have 4-chambered heart, triangular eye orbits, other skull characteristic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most unchanged in 170 million yea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Photo: A saltwater crocodile on a beach"/>
          <p:cNvPicPr/>
          <p:nvPr/>
        </p:nvPicPr>
        <p:blipFill>
          <a:blip r:embed="rId1"/>
          <a:stretch/>
        </p:blipFill>
        <p:spPr>
          <a:xfrm>
            <a:off x="785880" y="4770360"/>
            <a:ext cx="2211480" cy="1658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671400" y="6357960"/>
            <a:ext cx="24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water C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Photo: American alligator basking on a riverbank"/>
          <p:cNvPicPr/>
          <p:nvPr/>
        </p:nvPicPr>
        <p:blipFill>
          <a:blip r:embed="rId2"/>
          <a:stretch/>
        </p:blipFill>
        <p:spPr>
          <a:xfrm>
            <a:off x="3571920" y="4754520"/>
            <a:ext cx="2219400" cy="16653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3490920" y="6400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n Allig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Image of: Caiman crocodilus (spectacled caiman)"/>
          <p:cNvPicPr/>
          <p:nvPr/>
        </p:nvPicPr>
        <p:blipFill>
          <a:blip r:embed="rId3"/>
          <a:stretch/>
        </p:blipFill>
        <p:spPr>
          <a:xfrm>
            <a:off x="5786280" y="2533680"/>
            <a:ext cx="3176640" cy="175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6400800" y="42861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n Ca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8" descr="Photo: A gharial shows its characteristic long narrow snou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4754520"/>
            <a:ext cx="2531880" cy="1746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6529320" y="64580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vial or Gha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40" y="691920"/>
            <a:ext cx="4981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Order Squama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12280" y="1452240"/>
            <a:ext cx="643572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verged 150 million years ago from lepidosa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auria –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Serpentes – Sna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order Amphisbaenia – Worm Liz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685800" y="6400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Sn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http://t0.gstatic.com/images?q=tbn:ANd9GcRHsOCPSYaFJJ0FFnJAmAbqcWN93nU1z1hm6DURAmhAEvmeBX63ag"/>
          <p:cNvPicPr/>
          <p:nvPr/>
        </p:nvPicPr>
        <p:blipFill>
          <a:blip r:embed="rId1"/>
          <a:stretch/>
        </p:blipFill>
        <p:spPr>
          <a:xfrm>
            <a:off x="228600" y="4191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ttp://t0.gstatic.com/images?q=tbn:ANd9GcRpOCXu3f8xqDMKsR2E_unmdRqDEDf_L6vQPGfOzbsJ4IsMjc3SEQ"/>
          <p:cNvPicPr/>
          <p:nvPr/>
        </p:nvPicPr>
        <p:blipFill>
          <a:blip r:embed="rId2"/>
          <a:stretch/>
        </p:blipFill>
        <p:spPr>
          <a:xfrm>
            <a:off x="3419640" y="4221000"/>
            <a:ext cx="2781000" cy="2206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3673440" y="6400800"/>
            <a:ext cx="21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eleon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حرب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http://www.sciencephoto.com/images/showFullWatermarked.html/Z765165-Speckled_Worm_Lizard-SPL.jpg?id=907650165"/>
          <p:cNvPicPr/>
          <p:nvPr/>
        </p:nvPicPr>
        <p:blipFill>
          <a:blip r:embed="rId3"/>
          <a:stretch/>
        </p:blipFill>
        <p:spPr>
          <a:xfrm>
            <a:off x="6443640" y="4221000"/>
            <a:ext cx="2594160" cy="21909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9"/>
          <p:cNvSpPr/>
          <p:nvPr/>
        </p:nvSpPr>
        <p:spPr>
          <a:xfrm>
            <a:off x="6659640" y="638172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m Lizard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سح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auria – the Lizar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8380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, 500 species of lizards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au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liz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ually have two pairs of le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and lower jaws unite anterio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are oviparous, some are ovoviviparous or viviparo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bivorous, omnivorous, and carnivor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a variety of habita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t1.gstatic.com/images?q=tbn:ANd9GcR0pcGD6tNq1b1P3FW1n2F0sTB5zPffO0tLhiHp0_aBXpKcBbqm"/>
          <p:cNvPicPr/>
          <p:nvPr/>
        </p:nvPicPr>
        <p:blipFill>
          <a:blip r:embed="rId1"/>
          <a:stretch/>
        </p:blipFill>
        <p:spPr>
          <a:xfrm>
            <a:off x="152280" y="4114800"/>
            <a:ext cx="2276640" cy="20098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22860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lled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http://nzcryptozoology.ucoz.com/NZCryptozoology/varanid.jpg"/>
          <p:cNvPicPr/>
          <p:nvPr/>
        </p:nvPicPr>
        <p:blipFill>
          <a:blip r:embed="rId2"/>
          <a:stretch/>
        </p:blipFill>
        <p:spPr>
          <a:xfrm>
            <a:off x="6400800" y="3048120"/>
            <a:ext cx="2666880" cy="3557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257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http://t2.gstatic.com/images?q=tbn:ANd9GcRBK8zlgKsk_ruf_vBFeOs_PYUO8-OUZEFRIdpkmwTEV_HlQFBQFA"/>
          <p:cNvPicPr/>
          <p:nvPr/>
        </p:nvPicPr>
        <p:blipFill>
          <a:blip r:embed="rId3"/>
          <a:stretch/>
        </p:blipFill>
        <p:spPr>
          <a:xfrm>
            <a:off x="2590920" y="42670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2895480" y="6019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ama Liz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8" descr="http://t3.gstatic.com/images?q=tbn:ANd9GcQiwMM8gLA17DvPE45rfuqfvJjHNaeMNpAPiUnHqtPWOhYUSPjqZQ"/>
          <p:cNvPicPr/>
          <p:nvPr/>
        </p:nvPicPr>
        <p:blipFill>
          <a:blip r:embed="rId4"/>
          <a:stretch/>
        </p:blipFill>
        <p:spPr>
          <a:xfrm>
            <a:off x="6400800" y="8380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6629400" y="2590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-tongue Sk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" y="7142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order Serpentes- The Snak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1280" y="2066400"/>
            <a:ext cx="51055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bout 2,900 species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erp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o craw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harmles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but about 300 species are venom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ongate and lack limbs, have more than 200 vertebrae and pairs of ribs – for locomo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pper jaws are movable on the skull and upper and lower jaws loosely joined by flexible ligaments, so each half can move independently – allows swallowing large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are carnivoro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73080" y="-868320"/>
            <a:ext cx="252396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308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http://www.naturephoto-cz.com/photos/sevcik/indian-cobra--naja-naja-2.jpg"/>
          <p:cNvPicPr/>
          <p:nvPr/>
        </p:nvPicPr>
        <p:blipFill>
          <a:blip r:embed="rId1"/>
          <a:stretch/>
        </p:blipFill>
        <p:spPr>
          <a:xfrm>
            <a:off x="5219640" y="1306440"/>
            <a:ext cx="3840120" cy="2765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0" descr="http://www.uta.edu/biology/campbell/guatemala/images/Micrurus_diastema.JPG"/>
          <p:cNvPicPr/>
          <p:nvPr/>
        </p:nvPicPr>
        <p:blipFill>
          <a:blip r:embed="rId2"/>
          <a:stretch/>
        </p:blipFill>
        <p:spPr>
          <a:xfrm>
            <a:off x="5148360" y="41911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29718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8cca"/>
                </a:solidFill>
                <a:latin typeface="Calibri"/>
              </a:rPr>
              <a:t>Class Av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jor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ations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ppendages modified as wing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a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thermy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داخلية الحرار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Metabolic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ertebral Column modified for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nes lightened by numerous air spac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Bird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ssess a horny bill and lack teeth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928800"/>
            <a:ext cx="540072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phenisciformes – Penguins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طريق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69160" indent="-2185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avy bodied, flightless flipper </a:t>
            </a:r>
            <a:r>
              <a:rPr b="0" lang="ar-SA" sz="2200" spc="-1" strike="noStrike">
                <a:solidFill>
                  <a:srgbClr val="000000"/>
                </a:solidFill>
                <a:latin typeface="Constantia"/>
                <a:cs typeface="Majalla UI"/>
              </a:rPr>
              <a:t>زعنفة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ke wings for swimming, with insulated with f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3" descr="penguins.jpg"/>
          <p:cNvPicPr/>
          <p:nvPr/>
        </p:nvPicPr>
        <p:blipFill>
          <a:blip r:embed="rId1"/>
          <a:stretch/>
        </p:blipFill>
        <p:spPr>
          <a:xfrm>
            <a:off x="5748480" y="857160"/>
            <a:ext cx="323820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4"/>
          <p:cNvSpPr/>
          <p:nvPr/>
        </p:nvSpPr>
        <p:spPr>
          <a:xfrm>
            <a:off x="6357960" y="3314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eror Pengu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4214880"/>
            <a:ext cx="461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der Strigiformes – Ow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Large head with eyes fixed forward; raptorial foot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http://www.polkcountybirds.com/images/Barn_Owl_1.jpg"/>
          <p:cNvPicPr/>
          <p:nvPr/>
        </p:nvPicPr>
        <p:blipFill>
          <a:blip r:embed="rId2"/>
          <a:stretch/>
        </p:blipFill>
        <p:spPr>
          <a:xfrm>
            <a:off x="5715000" y="39290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6678720" y="6286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n ow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999720"/>
            <a:ext cx="4829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Anseriforms – Ducks, Geese and Swans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ج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de flat bill and an undercoat of dense down; webbed f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3" descr="ducks.jpg"/>
          <p:cNvPicPr/>
          <p:nvPr/>
        </p:nvPicPr>
        <p:blipFill>
          <a:blip r:embed="rId1"/>
          <a:stretch/>
        </p:blipFill>
        <p:spPr>
          <a:xfrm>
            <a:off x="5678640" y="928800"/>
            <a:ext cx="260820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5591160" y="3571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emale Mallard D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decorative Dove.jpg"/>
          <p:cNvPicPr/>
          <p:nvPr/>
        </p:nvPicPr>
        <p:blipFill>
          <a:blip r:embed="rId2"/>
          <a:stretch/>
        </p:blipFill>
        <p:spPr>
          <a:xfrm>
            <a:off x="5483160" y="4148280"/>
            <a:ext cx="294660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643720" y="635796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Decorative D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571680" y="4214880"/>
            <a:ext cx="41148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der Columbiformes – Pigeons and Do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Dense Feathers loosely set in skin, well developed c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0T18:11:16Z</dcterms:modified>
  <cp:revision>404</cp:revision>
  <dc:subject/>
  <dc:title>Nerve activates contraction</dc:title>
</cp:coreProperties>
</file>