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CD2-01D2-4A72-838B-EE2F3611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73E-2199-4EB4-9364-D1385921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662-9E0C-41D7-BC78-D73284FE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E11-550D-4088-8F56-98497553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1345-66A2-460D-8B20-5490B99E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3E9B-DCB6-4934-9727-95124B4D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84DB-1878-4AA0-B041-D8CCC96F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D0D4-ED23-462F-8CCE-349D0C69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34DD-21E4-461E-9C54-F5A67730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3E16-ECBE-4407-8DF4-05B94A1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55E4-DC1A-4A8D-BFAE-9132C598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52E-37A6-41E0-BD37-F0E1263B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A65C-B02C-4404-9236-F29F45A9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64C9-904F-47BC-8137-496F3B7E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FA8D-2050-4E05-8833-5DFC8C0F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955E-BD2A-4AA8-9C4E-D28122DA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FA0D-9076-4977-AD32-F12EB09D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D495-B42E-48BF-9E70-E338E471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7A897-049A-4336-AF67-0D6008AB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0EE9F-5622-4A61-B0B8-082F1B1D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31D3F-E57E-4715-B0D9-B34A915A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354E-298E-4EF1-A3C0-1F726A02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44A-3C1D-42F9-BD78-73E0E93B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9FDC-B665-4D33-886B-E1169C71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D3F17-BBD0-46B3-80A7-C37FE48F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92E2-69A8-4A0D-9F63-B4C6596E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0C83A-3F0F-4C25-8CFC-F389294A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FE4BC-4BE2-4F9D-9F84-656511F4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8440-04BE-4931-ABA5-370D13E5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9B5B-47E6-4FAC-AC71-25873460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8A534-BE51-46F1-9BF2-14EA9842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B83F-754D-4BFB-8E07-E55ABA44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F6FA-DEA8-47C2-A12D-8CF4B62D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FC8-6A33-476F-A750-6FAF477D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C0661-8461-4547-B957-15AB7996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96455-553F-4082-8B10-798EC039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552B-F1D1-4E15-8126-8DF11397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3D600-DA0E-46D9-9D4C-9AC0243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C71CA-4E6C-4D77-AFB1-3C836AF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24C1-3D10-4328-B401-6B3CC77E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34F74-8E6E-445A-B902-1BFBB657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89F7-0CB0-417E-AA77-D2854220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046F4-4D2C-4562-B7FC-683F2CA2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77B84-8362-451E-8CB2-D9FD3090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C7F-FFAB-4014-8912-23278319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5E375-43B3-439C-A843-3F940BF5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74067-9693-40C6-808E-3598C8AA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2210F-121D-47F1-83D3-5437FAE1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60BCD-431B-4F5F-A221-0088AFA5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5B917-97D9-4F71-930C-E74CE3F8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5F1CB-9531-4638-9830-0DBCEA9E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283C2-2105-4D0E-A064-BBFD2F30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53ADD-D08E-47AF-B939-F2C97806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7928B-50F2-4B74-AA85-D6063315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CA182-B6CA-4BDC-B021-0CABF19B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F9E-988B-4CEA-A3D6-BE38849A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8B283-0037-4359-BA3A-3FCAC58E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FD0-F777-4B98-A834-2CBC3D9D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56C-6C8B-4C01-8FC8-864B4221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9AA-E55E-4060-AA9C-BE88AE46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2C89-564D-4BF9-9534-5A4D913C477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2EDC-D2FB-44FC-B8D7-499D3F3A1B0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145A-71C1-4390-A039-C5C2E3875BA9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8662-6AC6-4D02-88A4-62073CF9395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55DB-1D1C-4748-9E8A-812E7B42A69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7640" y="1484280"/>
            <a:ext cx="8807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life on la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يض جنين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ocodilian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ماسيح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ders of reptiles, but only members 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main alive tod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957240" y="380880"/>
            <a:ext cx="7143840" cy="131292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 Class: Rept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07640" y="404640"/>
            <a:ext cx="4429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-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rain of mammals has an expanded cerebral cortex that processes information from various sensory structur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924280"/>
            <a:ext cx="4357800" cy="3313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kidney_eng.gif"/>
          <p:cNvPicPr/>
          <p:nvPr/>
        </p:nvPicPr>
        <p:blipFill>
          <a:blip r:embed="rId2"/>
          <a:stretch/>
        </p:blipFill>
        <p:spPr>
          <a:xfrm>
            <a:off x="4892760" y="2820960"/>
            <a:ext cx="4143240" cy="3416400"/>
          </a:xfrm>
          <a:prstGeom prst="rect">
            <a:avLst/>
          </a:prstGeom>
          <a:ln w="0">
            <a:noFill/>
          </a:ln>
        </p:spPr>
      </p:pic>
      <p:sp>
        <p:nvSpPr>
          <p:cNvPr id="301" name="Content Placeholder 2"/>
          <p:cNvSpPr/>
          <p:nvPr/>
        </p:nvSpPr>
        <p:spPr>
          <a:xfrm>
            <a:off x="4635360" y="404640"/>
            <a:ext cx="44006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5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etanephric kidneys permit mammals to excrete urea without excessive water lo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1280" y="404280"/>
            <a:ext cx="442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6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mplex behavior patterns enhance mammalian survival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179280" y="1773360"/>
            <a:ext cx="4000680" cy="2835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678200" y="3429000"/>
            <a:ext cx="4286520" cy="2857680"/>
          </a:xfrm>
          <a:prstGeom prst="rect">
            <a:avLst/>
          </a:prstGeom>
          <a:ln w="0">
            <a:noFill/>
          </a:ln>
        </p:spPr>
      </p:pic>
      <p:sp>
        <p:nvSpPr>
          <p:cNvPr id="305" name="Content Placeholder 2"/>
          <p:cNvSpPr/>
          <p:nvPr/>
        </p:nvSpPr>
        <p:spPr>
          <a:xfrm>
            <a:off x="4714920" y="404640"/>
            <a:ext cx="42498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st mammals are viviparous and have reproductive cycles that help ensure internal fertilization and successful develop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363600"/>
            <a:ext cx="5972400" cy="54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- Order: Testudines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سلاحف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8000" y="1268280"/>
            <a:ext cx="518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pecies of turtl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لاحف البحري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tortois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لاحف البر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y sh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mbs articulate internally to the rib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ضلو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ratinized beak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نقار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tead of tee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662472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- Order: Crocodilia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تماسيح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7640" y="1125360"/>
            <a:ext cx="554364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iving species; crocodiles, alligator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امريك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aima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وائ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gavi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هندى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chambered heart, triangular eye orbits, other skull characteristic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8000" y="1125360"/>
            <a:ext cx="64087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- Suborder: Sau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zard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حال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- Suborder: Serpentes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nak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harmless, but about 300 species are venom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6622920" y="3809880"/>
            <a:ext cx="2413080" cy="2040840"/>
            <a:chOff x="6622920" y="3809880"/>
            <a:chExt cx="2413080" cy="2040840"/>
          </a:xfrm>
        </p:grpSpPr>
        <p:sp>
          <p:nvSpPr>
            <p:cNvPr id="263" name="TextBox 4"/>
            <p:cNvSpPr/>
            <p:nvPr/>
          </p:nvSpPr>
          <p:spPr>
            <a:xfrm>
              <a:off x="7108560" y="5513400"/>
              <a:ext cx="14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Coral Snak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Picture 4" descr="http://t0.gstatic.com/images?q=tbn:ANd9GcRHsOCPSYaFJJ0FFnJAmAbqcWN93nU1z1hm6DURAmhAEvmeBX63ag"/>
            <p:cNvPicPr/>
            <p:nvPr/>
          </p:nvPicPr>
          <p:blipFill>
            <a:blip r:embed="rId1"/>
            <a:stretch/>
          </p:blipFill>
          <p:spPr>
            <a:xfrm>
              <a:off x="6622920" y="3809880"/>
              <a:ext cx="2413080" cy="171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5"/>
          <p:cNvGrpSpPr/>
          <p:nvPr/>
        </p:nvGrpSpPr>
        <p:grpSpPr>
          <a:xfrm>
            <a:off x="6300720" y="260280"/>
            <a:ext cx="2735280" cy="2231280"/>
            <a:chOff x="6300720" y="260280"/>
            <a:chExt cx="2735280" cy="2231280"/>
          </a:xfrm>
        </p:grpSpPr>
        <p:pic>
          <p:nvPicPr>
            <p:cNvPr id="266" name="Picture 6" descr="http://t0.gstatic.com/images?q=tbn:ANd9GcRpOCXu3f8xqDMKsR2E_unmdRqDEDf_L6vQPGfOzbsJ4IsMjc3SEQ"/>
            <p:cNvPicPr/>
            <p:nvPr/>
          </p:nvPicPr>
          <p:blipFill>
            <a:blip r:embed="rId2"/>
            <a:stretch/>
          </p:blipFill>
          <p:spPr>
            <a:xfrm>
              <a:off x="6300720" y="260280"/>
              <a:ext cx="2735280" cy="17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7"/>
            <p:cNvSpPr/>
            <p:nvPr/>
          </p:nvSpPr>
          <p:spPr>
            <a:xfrm>
              <a:off x="6661080" y="2154240"/>
              <a:ext cx="20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Chamele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حربا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Rectangle 3"/>
          <p:cNvSpPr/>
          <p:nvPr/>
        </p:nvSpPr>
        <p:spPr>
          <a:xfrm>
            <a:off x="12600" y="404640"/>
            <a:ext cx="51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- Order: Squamata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حرشف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367200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6- Class: A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8000" y="1125360"/>
            <a:ext cx="88567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50000"/>
              </a:lnSpc>
              <a:buClr>
                <a:srgbClr val="00b050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endages modified as w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feathers and lack tee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ic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ثابتة درجة الحرا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7640" y="404640"/>
            <a:ext cx="626436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Order: Sphenisciform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Penguin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طري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6280" indent="-2372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avy bodied with fat, flightless, flipper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زعنف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ke wings for swimm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3" descr="penguins.jpg"/>
          <p:cNvPicPr/>
          <p:nvPr/>
        </p:nvPicPr>
        <p:blipFill>
          <a:blip r:embed="rId1"/>
          <a:stretch/>
        </p:blipFill>
        <p:spPr>
          <a:xfrm>
            <a:off x="6659640" y="26028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7164360" y="198900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engu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ntent Placeholder 2"/>
          <p:cNvSpPr/>
          <p:nvPr/>
        </p:nvSpPr>
        <p:spPr>
          <a:xfrm>
            <a:off x="108000" y="2060640"/>
            <a:ext cx="5607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Order: Strigiforme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Owl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و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6659640" y="2324160"/>
            <a:ext cx="2376360" cy="19000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"/>
          <p:cNvSpPr/>
          <p:nvPr/>
        </p:nvSpPr>
        <p:spPr>
          <a:xfrm>
            <a:off x="7577640" y="419580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108000" y="3429000"/>
            <a:ext cx="5607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3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 Order: Anseriform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– Ducks, Gees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ز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nd Swan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ntent Placeholder 2"/>
          <p:cNvSpPr/>
          <p:nvPr/>
        </p:nvSpPr>
        <p:spPr>
          <a:xfrm>
            <a:off x="108000" y="4653000"/>
            <a:ext cx="56070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4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Order: Columbiforme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Pigeons and Dov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يم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3" descr="ducks.jpg"/>
          <p:cNvPicPr/>
          <p:nvPr/>
        </p:nvPicPr>
        <p:blipFill>
          <a:blip r:embed="rId3"/>
          <a:srcRect l="0" t="0" r="0" b="15318"/>
          <a:stretch/>
        </p:blipFill>
        <p:spPr>
          <a:xfrm>
            <a:off x="6659640" y="4506840"/>
            <a:ext cx="2376360" cy="19782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7451640" y="644040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u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6000" y="1052280"/>
            <a:ext cx="3132000" cy="41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Major Concept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itle 1"/>
          <p:cNvSpPr/>
          <p:nvPr/>
        </p:nvSpPr>
        <p:spPr>
          <a:xfrm>
            <a:off x="108000" y="333360"/>
            <a:ext cx="431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7-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 Class: Mam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8000" y="1557000"/>
            <a:ext cx="8928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skin of mammals is thick for protection and has an  insulation covering of hai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3" descr="mammals-pic.jpg"/>
          <p:cNvPicPr/>
          <p:nvPr/>
        </p:nvPicPr>
        <p:blipFill>
          <a:blip r:embed="rId1"/>
          <a:stretch/>
        </p:blipFill>
        <p:spPr>
          <a:xfrm>
            <a:off x="1692360" y="2668680"/>
            <a:ext cx="59338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08000" y="404640"/>
            <a:ext cx="89280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of teeth and digestive tract allows mammals to exploit a wide variety of food resour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434880" y="1773360"/>
            <a:ext cx="2841840" cy="2535840"/>
            <a:chOff x="434880" y="1773360"/>
            <a:chExt cx="2841840" cy="2535840"/>
          </a:xfrm>
        </p:grpSpPr>
        <p:pic>
          <p:nvPicPr>
            <p:cNvPr id="287" name="Picture 3" descr="beaver_teeth.jpg"/>
            <p:cNvPicPr/>
            <p:nvPr/>
          </p:nvPicPr>
          <p:blipFill>
            <a:blip r:embed="rId1"/>
            <a:stretch/>
          </p:blipFill>
          <p:spPr>
            <a:xfrm>
              <a:off x="434880" y="1773360"/>
              <a:ext cx="2841840" cy="18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Box 6"/>
            <p:cNvSpPr/>
            <p:nvPr/>
          </p:nvSpPr>
          <p:spPr>
            <a:xfrm>
              <a:off x="990360" y="3605400"/>
              <a:ext cx="171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Beaver Tee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1"/>
          <p:cNvGrpSpPr/>
          <p:nvPr/>
        </p:nvGrpSpPr>
        <p:grpSpPr>
          <a:xfrm>
            <a:off x="2921040" y="3800520"/>
            <a:ext cx="2946240" cy="2797200"/>
            <a:chOff x="2921040" y="3800520"/>
            <a:chExt cx="2946240" cy="2797200"/>
          </a:xfrm>
        </p:grpSpPr>
        <p:pic>
          <p:nvPicPr>
            <p:cNvPr id="290" name="Picture 5" descr="siberian_brown_bear_teeth-1545.jpg"/>
            <p:cNvPicPr/>
            <p:nvPr/>
          </p:nvPicPr>
          <p:blipFill>
            <a:blip r:embed="rId2"/>
            <a:stretch/>
          </p:blipFill>
          <p:spPr>
            <a:xfrm>
              <a:off x="2921040" y="4488120"/>
              <a:ext cx="294624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Box 7"/>
            <p:cNvSpPr/>
            <p:nvPr/>
          </p:nvSpPr>
          <p:spPr>
            <a:xfrm>
              <a:off x="3429000" y="3800520"/>
              <a:ext cx="1935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Siberian Brown Bear - Tee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2"/>
          <p:cNvGrpSpPr/>
          <p:nvPr/>
        </p:nvGrpSpPr>
        <p:grpSpPr>
          <a:xfrm>
            <a:off x="6091200" y="1700280"/>
            <a:ext cx="2728800" cy="2589480"/>
            <a:chOff x="6091200" y="1700280"/>
            <a:chExt cx="2728800" cy="2589480"/>
          </a:xfrm>
        </p:grpSpPr>
        <p:pic>
          <p:nvPicPr>
            <p:cNvPr id="293" name="Picture 4" descr="orca-whale-teeth.jpg"/>
            <p:cNvPicPr/>
            <p:nvPr/>
          </p:nvPicPr>
          <p:blipFill>
            <a:blip r:embed="rId3"/>
            <a:stretch/>
          </p:blipFill>
          <p:spPr>
            <a:xfrm>
              <a:off x="6091200" y="1700280"/>
              <a:ext cx="2728800" cy="21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8"/>
            <p:cNvSpPr/>
            <p:nvPr/>
          </p:nvSpPr>
          <p:spPr>
            <a:xfrm>
              <a:off x="6645240" y="3890880"/>
              <a:ext cx="16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Whale tee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08000" y="40464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fficient systems for circulation and gas exchange support the high metabolic rate associated with mammalian endotherm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3" descr="respiratorysystem.gif"/>
          <p:cNvPicPr/>
          <p:nvPr/>
        </p:nvPicPr>
        <p:blipFill>
          <a:blip r:embed="rId1"/>
          <a:stretch/>
        </p:blipFill>
        <p:spPr>
          <a:xfrm>
            <a:off x="4713120" y="1700280"/>
            <a:ext cx="3783240" cy="4709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circulatory_system.jpg"/>
          <p:cNvPicPr/>
          <p:nvPr/>
        </p:nvPicPr>
        <p:blipFill>
          <a:blip r:embed="rId2"/>
          <a:stretch/>
        </p:blipFill>
        <p:spPr>
          <a:xfrm>
            <a:off x="1116000" y="1477800"/>
            <a:ext cx="32036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24T16:41:09Z</dcterms:modified>
  <cp:revision>458</cp:revision>
  <dc:subject/>
  <dc:title>Nerve activates contraction</dc:title>
</cp:coreProperties>
</file>