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C2D-CEF0-452E-B3D5-8A81CDCA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164-A0DD-4879-8D37-A2AE919E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BF7-B3B2-4816-98BE-F2AA97B1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828-2DD4-4DEA-A1F6-53044717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8153-E360-463E-910A-D1B335BC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809E-6AE3-412E-B51E-CA145AC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BE11-AD70-4959-A180-E5BEF3D4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E3D1-1C9F-4A26-9149-652E0F60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12EE-97F7-4742-9549-18BB11D4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F2C5-2E41-407E-92B1-26F98D6C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976C-6E6E-4B8C-A4E1-99F2BBA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284-CDB2-4970-9E8B-4C22290A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EA04-7F13-45ED-8652-FAB9239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BEC1-36B2-4A1B-8D5E-A3751F94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4B2A-239C-4A6F-A623-72A52D91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E01C-5A3F-4B01-BA02-FEF213F7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3BC8-E048-436E-B6B0-11DD5BEE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EA93-C7B0-488B-A7FC-DE3675B1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720E-8EDD-4D89-BDD3-0FBE2A0E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C24B-CB71-4EF4-A381-8DC0AEBF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F4A8-A284-48AD-A6CD-080361F6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4A6A-2093-4312-909F-AD7EB1E4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67A-F155-4DC3-884A-901E465D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64CE-15BB-4927-B243-E2713B77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9733-FAAC-4451-B2C4-C4D3D46A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A857-29D3-4DED-87A5-62664DA0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0042-CFB5-4496-A7B5-AA0D0EF7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1104-5182-4E9A-A812-9DB4F1E4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71A1-A91B-427E-BA8D-2D60487E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8F56-B99C-485A-BFA3-5EC2A2EC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3207-D8F4-45E9-BD11-F83A3810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E8065-1CDE-4A0F-BD66-626A6D94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0F0F-6BF5-4FA0-A851-F0F30D9C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947-CD00-4832-84E3-E201CFD1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FC0E-9B27-4A62-AA9E-BEDF873A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F431-E901-4015-BFDB-78439B9A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FAFAC-3E79-49F5-BE5F-7569C124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F93DA-CA5A-4DEA-8567-AC4F80AC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8A98F-38FF-41D5-8A9D-70F3D07A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C15C-E3BB-49C2-B042-2169CAA1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55A52-EBFB-4BAC-A7B6-DF1DEACE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5A0C-9255-406C-9589-14196772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553D-34B8-4F77-A59F-5FEFD52B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4A6F1-068E-447D-8242-F2FA492C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A57-EA61-4276-8CB2-3BA41C78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78EF-65BB-4FF4-9F0E-87B245E3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E193-2B26-4C05-9C9F-18C727AA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597B5-9B1B-45DD-BDB3-18C932B9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5CFBF-BAF6-4187-B1F9-6BAF23CF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8BBB-552E-442C-A05F-F8CEC1BA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2B7D-CEF4-45FA-B1C2-A268EB9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5526B-A718-4452-97CC-078A678E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8E2D0-9894-487F-9EB8-174DCB02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7F47-4A56-4A04-A754-967AB0BA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E360-643F-4AA5-A5AD-0609DE7E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830-3ADB-47B5-ABC8-74A5E458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CA448-B668-4227-83CC-6F784340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4C5-4301-46F9-BCEF-91EE820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282-E07E-456F-8F84-BDDE2264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8C4-34F0-418D-BFF9-43AC227F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89A2-4627-4C35-A482-382C9AD2DF7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CABC-D5A5-4103-9D92-B6CE439D52B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F7D3-3CD8-4A54-924F-983FB20AD00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91CF-559D-4090-9A6F-D061B52109A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DCC5-BCEE-4C65-A787-5DB8FEA2794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7640" y="1484280"/>
            <a:ext cx="8807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life on la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ders of reptiles, but only members 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main alive to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57240" y="380880"/>
            <a:ext cx="7143840" cy="13129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Class: Rept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07640" y="404640"/>
            <a:ext cx="4429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-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rain of mammals has an expanded cerebral cortex that processes information from various sensory structur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92428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kidney_eng.gif"/>
          <p:cNvPicPr/>
          <p:nvPr/>
        </p:nvPicPr>
        <p:blipFill>
          <a:blip r:embed="rId2"/>
          <a:stretch/>
        </p:blipFill>
        <p:spPr>
          <a:xfrm>
            <a:off x="4892760" y="2820960"/>
            <a:ext cx="4143240" cy="3416400"/>
          </a:xfrm>
          <a:prstGeom prst="rect">
            <a:avLst/>
          </a:prstGeom>
          <a:ln w="0">
            <a:noFill/>
          </a:ln>
        </p:spPr>
      </p:pic>
      <p:sp>
        <p:nvSpPr>
          <p:cNvPr id="301" name="Content Placeholder 2"/>
          <p:cNvSpPr/>
          <p:nvPr/>
        </p:nvSpPr>
        <p:spPr>
          <a:xfrm>
            <a:off x="4635360" y="404640"/>
            <a:ext cx="44006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5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etanephric kidneys permit mammals to excrete urea without excessive water lo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1280" y="404280"/>
            <a:ext cx="442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6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plex behavior patterns enhance mammalian survival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179280" y="1773360"/>
            <a:ext cx="4000680" cy="2835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678200" y="3429000"/>
            <a:ext cx="4286520" cy="285768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4714920" y="404640"/>
            <a:ext cx="42498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st mammals are viviparous and have reproductive cycles that help ensure internal fertilization and successful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363600"/>
            <a:ext cx="5972400" cy="54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- Order: Testudines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سلاحف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8000" y="1268280"/>
            <a:ext cx="518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pecies of turt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لاحف البحر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ortois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لاحف البر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y sh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ضلو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نقار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tead of tee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662472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Order: Crocodilia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تماسيح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7640" y="1125360"/>
            <a:ext cx="55436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iving species; crocodiles, alligator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chambered heart, triangular eye orbits, other skull characteristic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8000" y="1125360"/>
            <a:ext cx="64087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- Suborder: Sau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zard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حال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- Suborder: Serpentes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nak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harmless, but about 300 species are venom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6622920" y="3809880"/>
            <a:ext cx="2413080" cy="2040840"/>
            <a:chOff x="6622920" y="3809880"/>
            <a:chExt cx="2413080" cy="2040840"/>
          </a:xfrm>
        </p:grpSpPr>
        <p:sp>
          <p:nvSpPr>
            <p:cNvPr id="263" name="TextBox 4"/>
            <p:cNvSpPr/>
            <p:nvPr/>
          </p:nvSpPr>
          <p:spPr>
            <a:xfrm>
              <a:off x="7108560" y="5513400"/>
              <a:ext cx="14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Coral Snak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Picture 4" descr="http://t0.gstatic.com/images?q=tbn:ANd9GcRHsOCPSYaFJJ0FFnJAmAbqcWN93nU1z1hm6DURAmhAEvmeBX63ag"/>
            <p:cNvPicPr/>
            <p:nvPr/>
          </p:nvPicPr>
          <p:blipFill>
            <a:blip r:embed="rId1"/>
            <a:stretch/>
          </p:blipFill>
          <p:spPr>
            <a:xfrm>
              <a:off x="6622920" y="3809880"/>
              <a:ext cx="2413080" cy="171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5"/>
          <p:cNvGrpSpPr/>
          <p:nvPr/>
        </p:nvGrpSpPr>
        <p:grpSpPr>
          <a:xfrm>
            <a:off x="6300720" y="260280"/>
            <a:ext cx="2735280" cy="2231280"/>
            <a:chOff x="6300720" y="260280"/>
            <a:chExt cx="2735280" cy="2231280"/>
          </a:xfrm>
        </p:grpSpPr>
        <p:pic>
          <p:nvPicPr>
            <p:cNvPr id="266" name="Picture 6" descr="http://t0.gstatic.com/images?q=tbn:ANd9GcRpOCXu3f8xqDMKsR2E_unmdRqDEDf_L6vQPGfOzbsJ4IsMjc3SEQ"/>
            <p:cNvPicPr/>
            <p:nvPr/>
          </p:nvPicPr>
          <p:blipFill>
            <a:blip r:embed="rId2"/>
            <a:stretch/>
          </p:blipFill>
          <p:spPr>
            <a:xfrm>
              <a:off x="6300720" y="260280"/>
              <a:ext cx="2735280" cy="17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7"/>
            <p:cNvSpPr/>
            <p:nvPr/>
          </p:nvSpPr>
          <p:spPr>
            <a:xfrm>
              <a:off x="6661080" y="2154240"/>
              <a:ext cx="20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Chamele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ربا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3"/>
          <p:cNvSpPr/>
          <p:nvPr/>
        </p:nvSpPr>
        <p:spPr>
          <a:xfrm>
            <a:off x="12600" y="404640"/>
            <a:ext cx="51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Order: Squamata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حرشف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367200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6- Class: A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8000" y="1125360"/>
            <a:ext cx="8856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50000"/>
              </a:lnSpc>
              <a:buClr>
                <a:srgbClr val="00b050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endages modified as w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feathers and lack tee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ic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ثابتة درج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7640" y="404640"/>
            <a:ext cx="626436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Sphenisciform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Pengui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طري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6280" indent="-2372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vy bodied with fat, flightless, flipper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زعنف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ke wings for swimm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3" descr="penguins.jpg"/>
          <p:cNvPicPr/>
          <p:nvPr/>
        </p:nvPicPr>
        <p:blipFill>
          <a:blip r:embed="rId1"/>
          <a:stretch/>
        </p:blipFill>
        <p:spPr>
          <a:xfrm>
            <a:off x="6659640" y="26028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164360" y="198900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engu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108000" y="2060640"/>
            <a:ext cx="5607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Strigiform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Owl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و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6659640" y="2324160"/>
            <a:ext cx="2376360" cy="1900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7577640" y="419580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108000" y="3429000"/>
            <a:ext cx="5607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3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 Order: Anseriform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– Ducks, Gees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ز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d Swa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ntent Placeholder 2"/>
          <p:cNvSpPr/>
          <p:nvPr/>
        </p:nvSpPr>
        <p:spPr>
          <a:xfrm>
            <a:off x="108000" y="4653000"/>
            <a:ext cx="5607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4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Columbiform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Pigeons and Dov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ي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3" descr="ducks.jpg"/>
          <p:cNvPicPr/>
          <p:nvPr/>
        </p:nvPicPr>
        <p:blipFill>
          <a:blip r:embed="rId3"/>
          <a:srcRect l="0" t="0" r="0" b="15318"/>
          <a:stretch/>
        </p:blipFill>
        <p:spPr>
          <a:xfrm>
            <a:off x="6659640" y="4506840"/>
            <a:ext cx="2376360" cy="1978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7451640" y="644040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u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6000" y="1052280"/>
            <a:ext cx="3132000" cy="41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Major Concept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108000" y="333360"/>
            <a:ext cx="431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7-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 Class: Mam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8000" y="1557000"/>
            <a:ext cx="8928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skin of mammals is thick for protection and has an  insulation covering of hai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3" descr="mammals-pic.jpg"/>
          <p:cNvPicPr/>
          <p:nvPr/>
        </p:nvPicPr>
        <p:blipFill>
          <a:blip r:embed="rId1"/>
          <a:stretch/>
        </p:blipFill>
        <p:spPr>
          <a:xfrm>
            <a:off x="1692360" y="2668680"/>
            <a:ext cx="59338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08000" y="404640"/>
            <a:ext cx="89280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of teeth and digestive tract allows mammals to exploit a wide variety of food resour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434880" y="1773360"/>
            <a:ext cx="2841840" cy="2535840"/>
            <a:chOff x="434880" y="1773360"/>
            <a:chExt cx="2841840" cy="2535840"/>
          </a:xfrm>
        </p:grpSpPr>
        <p:pic>
          <p:nvPicPr>
            <p:cNvPr id="287" name="Picture 3" descr="beaver_teeth.jpg"/>
            <p:cNvPicPr/>
            <p:nvPr/>
          </p:nvPicPr>
          <p:blipFill>
            <a:blip r:embed="rId1"/>
            <a:stretch/>
          </p:blipFill>
          <p:spPr>
            <a:xfrm>
              <a:off x="434880" y="1773360"/>
              <a:ext cx="2841840" cy="18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Box 6"/>
            <p:cNvSpPr/>
            <p:nvPr/>
          </p:nvSpPr>
          <p:spPr>
            <a:xfrm>
              <a:off x="990360" y="3605400"/>
              <a:ext cx="171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Beaver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1"/>
          <p:cNvGrpSpPr/>
          <p:nvPr/>
        </p:nvGrpSpPr>
        <p:grpSpPr>
          <a:xfrm>
            <a:off x="2921040" y="3800520"/>
            <a:ext cx="2946240" cy="2797200"/>
            <a:chOff x="2921040" y="3800520"/>
            <a:chExt cx="2946240" cy="2797200"/>
          </a:xfrm>
        </p:grpSpPr>
        <p:pic>
          <p:nvPicPr>
            <p:cNvPr id="290" name="Picture 5" descr="siberian_brown_bear_teeth-1545.jpg"/>
            <p:cNvPicPr/>
            <p:nvPr/>
          </p:nvPicPr>
          <p:blipFill>
            <a:blip r:embed="rId2"/>
            <a:stretch/>
          </p:blipFill>
          <p:spPr>
            <a:xfrm>
              <a:off x="2921040" y="4488120"/>
              <a:ext cx="294624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Box 7"/>
            <p:cNvSpPr/>
            <p:nvPr/>
          </p:nvSpPr>
          <p:spPr>
            <a:xfrm>
              <a:off x="3429000" y="3800520"/>
              <a:ext cx="193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Siberian Brown Bear -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"/>
          <p:cNvGrpSpPr/>
          <p:nvPr/>
        </p:nvGrpSpPr>
        <p:grpSpPr>
          <a:xfrm>
            <a:off x="6091200" y="1700280"/>
            <a:ext cx="2728800" cy="2589480"/>
            <a:chOff x="6091200" y="1700280"/>
            <a:chExt cx="2728800" cy="2589480"/>
          </a:xfrm>
        </p:grpSpPr>
        <p:pic>
          <p:nvPicPr>
            <p:cNvPr id="293" name="Picture 4" descr="orca-whale-teeth.jpg"/>
            <p:cNvPicPr/>
            <p:nvPr/>
          </p:nvPicPr>
          <p:blipFill>
            <a:blip r:embed="rId3"/>
            <a:stretch/>
          </p:blipFill>
          <p:spPr>
            <a:xfrm>
              <a:off x="6091200" y="1700280"/>
              <a:ext cx="2728800" cy="21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8"/>
            <p:cNvSpPr/>
            <p:nvPr/>
          </p:nvSpPr>
          <p:spPr>
            <a:xfrm>
              <a:off x="6645240" y="3890880"/>
              <a:ext cx="16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Whale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08000" y="40464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fficient systems for circulation and gas exchange support the high metabolic rate associated with mammalian endotherm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respiratorysystem.gif"/>
          <p:cNvPicPr/>
          <p:nvPr/>
        </p:nvPicPr>
        <p:blipFill>
          <a:blip r:embed="rId1"/>
          <a:stretch/>
        </p:blipFill>
        <p:spPr>
          <a:xfrm>
            <a:off x="4713120" y="1700280"/>
            <a:ext cx="3783240" cy="4709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irculatory_system.jpg"/>
          <p:cNvPicPr/>
          <p:nvPr/>
        </p:nvPicPr>
        <p:blipFill>
          <a:blip r:embed="rId2"/>
          <a:stretch/>
        </p:blipFill>
        <p:spPr>
          <a:xfrm>
            <a:off x="1116000" y="1477800"/>
            <a:ext cx="32036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24T16:41:09Z</dcterms:modified>
  <cp:revision>458</cp:revision>
  <dc:subject/>
  <dc:title>Nerve activates contraction</dc:title>
</cp:coreProperties>
</file>