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23.png" ContentType="image/png"/>
  <Override PartName="/ppt/media/image12.jpeg" ContentType="image/jpeg"/>
  <Override PartName="/ppt/media/image7.jpeg" ContentType="image/jpeg"/>
  <Override PartName="/ppt/media/image20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24.jpeg" ContentType="image/jpeg"/>
  <Override PartName="/ppt/media/image19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2.png" ContentType="image/png"/>
  <Override PartName="/ppt/media/image25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321F-DAA9-4D3A-8ED8-4DF38DD0E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E057-CBA0-4D13-93F7-75551625D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94C6-6036-4AFC-BF97-CF5481E9C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4DA0-CF29-4D87-BA25-251EA54DF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59DE9-4632-4850-87E5-C97001D2F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6BE19-C1C8-4382-ADAF-A50BE5F0E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D305E-EFDA-4366-A1EF-C7007A5D7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1E12E-B090-4594-ACCB-3A7902001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7016A-8643-4E17-8100-AF9B8E1FC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29AE2-A227-4961-9FF6-8E130956E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413B0-FF84-4009-A347-A28602EC3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8A3A-0ABF-4687-A6D5-689DA5655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2A9DB-A9D8-4AA1-8BED-0AC42E861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4A7EA-3653-4C71-9BDC-115A5406D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20347-E539-4479-8FCA-334C1A55B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4E3C1-50DF-4B0D-8B63-494D3B190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8530F-46EF-46B7-B07E-7B0F5C89A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0A401B-F391-44CD-AF0D-581802B21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472C8E-FC60-4A79-89D6-11A26E4AF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7B592D-0AEC-4D0D-92BD-B87F8E2EB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24C2C5-230F-4964-AF7E-40E6F3108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DE27BA-E5B8-4AA8-B9B9-6ECB43503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DEA9-C55E-4081-93B8-1483A16B9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AC1C6C-66B0-43D8-A912-DC383A756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0FFEF4-9F28-4E91-A77E-0E45DC892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632EBF-ACB6-4E22-82B2-71A10A0CF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C57895-3CFC-4FD7-A683-DEE57D68B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8782A6-15BE-4234-8D47-5898BA11A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E0FAEA-D899-4B32-85A7-6E2DDBFC3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5BEB3C-3928-4AFE-BEB0-5AA16E27D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3A680D-834C-4216-9862-F6D29BE0F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B868B1-15CE-4396-9E3D-A8BA13024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0F8C19-FAA3-4154-ACDB-7FE5FBB76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7D1A-D25E-422D-A8E9-D834B8893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64C535-FC44-48B4-9912-38D6F2672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1B3506-2F3D-4DD7-8545-827824AF9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A00BFD-B381-4E43-B2C1-A4C346AB1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F56F94-2D43-469D-8C69-39B4DE92C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20D8DB-BE14-4D3A-B3D5-62996F9B3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0257B3-A741-4169-B88B-EF3FDD354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243003-7948-453B-BF16-FD20FF7A8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678B43-3AD0-4A61-959C-3110A8158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1DCDDC-59F1-426A-A157-8DE853EE7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E3FC4D-8816-410F-81F4-592DF9106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3394-5D70-47C7-85C1-4E2820E49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A1C002-140A-4B12-94E3-0A5852B90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46AEE1-F790-4A2D-9446-E50B131FA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848CDA-3797-4448-A7BB-20A89D450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43EDAB-6B26-4C10-937C-5FA049272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C0EB77-5A19-44BA-9AAC-35C5D6EAB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B5CA08-7542-4CFE-843D-D7F2FC8B2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1691A4-F261-4DCD-9281-FA6F3FC07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3D921C-BEC6-4F90-9A69-9714A7EE7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94BB01-D468-4F63-8B1E-F961881E6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E1E80A-92EB-4C7B-A730-43B0FD1F3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0701-A0F3-4D2B-8C65-7C032CF65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A81DD6-0759-4237-AD29-243858FF6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54F7-0A83-409B-930A-5B1E73794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F063-4A7C-444B-B1F9-A687F01AD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A9F0-A6C0-4EF1-8A8B-4050FAFD8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0324E-CEEC-49AE-988F-01FF10D421BB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32F9E-15C2-402E-94F7-EBFDF7766686}" type="slidenum">
              <a:rPr b="0" lang="ar-SA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5328E-E780-41A8-B532-89AD6F7E408B}" type="slidenum">
              <a:rPr b="0" lang="ar-SA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EA51C-470F-416B-9F69-B4605B8BDD41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8602A-A1D6-4511-92F4-4B7614C228BF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hyperlink" Target="http://animals.nationalgeographic.com/animals/enlarge/gavial_image.html" TargetMode="External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107640" y="1484280"/>
            <a:ext cx="88074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 algn="just">
              <a:lnSpc>
                <a:spcPct val="15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daptations for life on lan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just">
              <a:lnSpc>
                <a:spcPct val="15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mniotic egg.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بيض جنيني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just">
              <a:lnSpc>
                <a:spcPct val="15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ater-conserving kidney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just">
              <a:lnSpc>
                <a:spcPct val="15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ree-chambered hear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261720" indent="-261720" algn="just">
              <a:lnSpc>
                <a:spcPct val="15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rocodilians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التماسيح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ave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just">
              <a:lnSpc>
                <a:spcPct val="15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laws for digging and locomotio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just">
              <a:lnSpc>
                <a:spcPct val="15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mproved Respiratory System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just">
              <a:lnSpc>
                <a:spcPct val="15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oss of Lateral Line System of fish and amphibian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just">
              <a:lnSpc>
                <a:spcPct val="15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7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orders of reptiles, but only members 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remain alive today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 algn="just">
              <a:lnSpc>
                <a:spcPct val="15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957240" y="380880"/>
            <a:ext cx="7143840" cy="1312920"/>
          </a:xfrm>
          <a:prstGeom prst="rect">
            <a:avLst/>
          </a:prstGeom>
          <a:solidFill>
            <a:srgbClr val="b3ea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nstantia"/>
              </a:rPr>
              <a:t>Lecture 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19</a:t>
            </a:r>
            <a:r>
              <a:rPr b="1" lang="en-US" sz="4000" spc="-1" strike="noStrike">
                <a:solidFill>
                  <a:srgbClr val="ff0000"/>
                </a:solidFill>
                <a:latin typeface="Constantia"/>
              </a:rPr>
              <a:t>: 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5-</a:t>
            </a:r>
            <a:r>
              <a:rPr b="1" lang="en-US" sz="4000" spc="-1" strike="noStrike">
                <a:solidFill>
                  <a:srgbClr val="ff0000"/>
                </a:solidFill>
                <a:latin typeface="Constantia"/>
              </a:rPr>
              <a:t> Class: Reptil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Line 5"/>
          <p:cNvSpPr/>
          <p:nvPr/>
        </p:nvSpPr>
        <p:spPr>
          <a:xfrm>
            <a:off x="152280" y="119700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 txBox="1"/>
          <p:nvPr/>
        </p:nvSpPr>
        <p:spPr>
          <a:xfrm>
            <a:off x="107640" y="404640"/>
            <a:ext cx="4429080" cy="28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4-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brain of mammals has an expanded cerebral cortex that processes information from various sensory structures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99" name="Picture 3" descr="cerebral_cortex.jpg"/>
          <p:cNvPicPr/>
          <p:nvPr/>
        </p:nvPicPr>
        <p:blipFill>
          <a:blip r:embed="rId1"/>
          <a:stretch/>
        </p:blipFill>
        <p:spPr>
          <a:xfrm>
            <a:off x="214200" y="2924280"/>
            <a:ext cx="4357800" cy="331308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3" descr="kidney_eng.gif"/>
          <p:cNvPicPr/>
          <p:nvPr/>
        </p:nvPicPr>
        <p:blipFill>
          <a:blip r:embed="rId2"/>
          <a:stretch/>
        </p:blipFill>
        <p:spPr>
          <a:xfrm>
            <a:off x="4892760" y="2820960"/>
            <a:ext cx="4143240" cy="3416400"/>
          </a:xfrm>
          <a:prstGeom prst="rect">
            <a:avLst/>
          </a:prstGeom>
          <a:ln w="0">
            <a:noFill/>
          </a:ln>
        </p:spPr>
      </p:pic>
      <p:sp>
        <p:nvSpPr>
          <p:cNvPr id="301" name="Content Placeholder 2"/>
          <p:cNvSpPr/>
          <p:nvPr/>
        </p:nvSpPr>
        <p:spPr>
          <a:xfrm>
            <a:off x="4635360" y="404640"/>
            <a:ext cx="4400640" cy="17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5-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Metanephric kidneys permit mammals to excrete urea without excessive water los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71280" y="404280"/>
            <a:ext cx="442944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31840" indent="-23184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6-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Complex behavior patterns enhance mammalian survival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03" name="Picture 3" descr="061030_elephantknows_hmed_1230p_grid-6x2.jpg"/>
          <p:cNvPicPr/>
          <p:nvPr/>
        </p:nvPicPr>
        <p:blipFill>
          <a:blip r:embed="rId1"/>
          <a:stretch/>
        </p:blipFill>
        <p:spPr>
          <a:xfrm>
            <a:off x="179280" y="1773360"/>
            <a:ext cx="4000680" cy="283500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3" descr="lion-mom-&amp;-cub-Mashatu.jpg"/>
          <p:cNvPicPr/>
          <p:nvPr/>
        </p:nvPicPr>
        <p:blipFill>
          <a:blip r:embed="rId2"/>
          <a:stretch/>
        </p:blipFill>
        <p:spPr>
          <a:xfrm>
            <a:off x="4678200" y="3429000"/>
            <a:ext cx="4286520" cy="2857680"/>
          </a:xfrm>
          <a:prstGeom prst="rect">
            <a:avLst/>
          </a:prstGeom>
          <a:ln w="0">
            <a:noFill/>
          </a:ln>
        </p:spPr>
      </p:pic>
      <p:sp>
        <p:nvSpPr>
          <p:cNvPr id="305" name="Content Placeholder 2"/>
          <p:cNvSpPr/>
          <p:nvPr/>
        </p:nvSpPr>
        <p:spPr>
          <a:xfrm>
            <a:off x="4714920" y="404640"/>
            <a:ext cx="4249800" cy="28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7-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Most mammals are viviparous and have reproductive cycles that help ensure internal fertilization and successful develop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79280" y="363600"/>
            <a:ext cx="5972400" cy="544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1- Order: Testudines </a:t>
            </a:r>
            <a:r>
              <a:rPr b="0" lang="ar-SA" sz="2400" spc="-1" strike="noStrike">
                <a:solidFill>
                  <a:srgbClr val="ff0000"/>
                </a:solidFill>
                <a:latin typeface="Calibri"/>
                <a:cs typeface="Majalla UI"/>
              </a:rPr>
              <a:t>السلاحف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108000" y="1268280"/>
            <a:ext cx="518472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 algn="just">
              <a:lnSpc>
                <a:spcPct val="12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00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species of turtles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السلاحف البحرية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nd tortoises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السلاحف البرية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just">
              <a:lnSpc>
                <a:spcPct val="12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ony shell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just">
              <a:lnSpc>
                <a:spcPct val="12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imbs articulate internally to the ribs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ضلوع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just">
              <a:lnSpc>
                <a:spcPct val="12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Keratinized beak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منقار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stead of teeth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just">
              <a:lnSpc>
                <a:spcPct val="12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usion of vertebrae, ribs and skin bones form plates –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carapace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(top of the shell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0" name="Picture 11" descr="Turtle"/>
          <p:cNvPicPr/>
          <p:nvPr/>
        </p:nvPicPr>
        <p:blipFill>
          <a:blip r:embed="rId1"/>
          <a:stretch/>
        </p:blipFill>
        <p:spPr>
          <a:xfrm>
            <a:off x="5429160" y="2736720"/>
            <a:ext cx="3643560" cy="23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79280" y="404640"/>
            <a:ext cx="6624720" cy="541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2- Order: Crocodilia</a:t>
            </a:r>
            <a:r>
              <a:rPr b="0" lang="ar-SA" sz="3200" spc="-1" strike="noStrike">
                <a:solidFill>
                  <a:srgbClr val="04617b"/>
                </a:solidFill>
                <a:latin typeface="Calibri"/>
                <a:ea typeface="Traditional Arabic"/>
              </a:rPr>
              <a:t> </a:t>
            </a: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ar-SA" sz="3200" spc="-1" strike="noStrike">
                <a:solidFill>
                  <a:srgbClr val="04617b"/>
                </a:solidFill>
                <a:latin typeface="Calibri"/>
                <a:ea typeface="Traditional Arabic"/>
              </a:rPr>
              <a:t> </a:t>
            </a:r>
            <a:r>
              <a:rPr b="0" lang="ar-SA" sz="2400" spc="-1" strike="noStrike">
                <a:solidFill>
                  <a:srgbClr val="ff0000"/>
                </a:solidFill>
                <a:latin typeface="Calibri"/>
                <a:cs typeface="Majalla UI"/>
              </a:rPr>
              <a:t>التماسيح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107640" y="1125360"/>
            <a:ext cx="5543640" cy="33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 algn="just">
              <a:lnSpc>
                <a:spcPct val="13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1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living species; crocodiles, alligators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التمساح الامريكي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caiman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الاستوائي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and gavials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التمساح الهندى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just">
              <a:lnSpc>
                <a:spcPct val="13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natomically closer to birds and dinosaurs than other reptiles (have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-chambered heart, triangular eye orbits, other skull characteristics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3" name="Picture 2" descr="Photo: A saltwater crocodile on a beach"/>
          <p:cNvPicPr/>
          <p:nvPr/>
        </p:nvPicPr>
        <p:blipFill>
          <a:blip r:embed="rId1"/>
          <a:stretch/>
        </p:blipFill>
        <p:spPr>
          <a:xfrm>
            <a:off x="785880" y="4770360"/>
            <a:ext cx="2211480" cy="1658880"/>
          </a:xfrm>
          <a:prstGeom prst="rect">
            <a:avLst/>
          </a:prstGeom>
          <a:ln w="0">
            <a:noFill/>
          </a:ln>
        </p:spPr>
      </p:pic>
      <p:sp>
        <p:nvSpPr>
          <p:cNvPr id="254" name="TextBox 4"/>
          <p:cNvSpPr/>
          <p:nvPr/>
        </p:nvSpPr>
        <p:spPr>
          <a:xfrm>
            <a:off x="671400" y="6357960"/>
            <a:ext cx="240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altwater Cro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Picture 4" descr="Photo: American alligator basking on a riverbank"/>
          <p:cNvPicPr/>
          <p:nvPr/>
        </p:nvPicPr>
        <p:blipFill>
          <a:blip r:embed="rId2"/>
          <a:stretch/>
        </p:blipFill>
        <p:spPr>
          <a:xfrm>
            <a:off x="3571920" y="4754520"/>
            <a:ext cx="2219400" cy="1665360"/>
          </a:xfrm>
          <a:prstGeom prst="rect">
            <a:avLst/>
          </a:prstGeom>
          <a:ln w="0">
            <a:noFill/>
          </a:ln>
        </p:spPr>
      </p:pic>
      <p:sp>
        <p:nvSpPr>
          <p:cNvPr id="256" name="TextBox 6"/>
          <p:cNvSpPr/>
          <p:nvPr/>
        </p:nvSpPr>
        <p:spPr>
          <a:xfrm>
            <a:off x="3490920" y="6400800"/>
            <a:ext cx="24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merican Allig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7" name="Picture 6" descr="Image of: Caiman crocodilus (spectacled caiman)"/>
          <p:cNvPicPr/>
          <p:nvPr/>
        </p:nvPicPr>
        <p:blipFill>
          <a:blip r:embed="rId3"/>
          <a:stretch/>
        </p:blipFill>
        <p:spPr>
          <a:xfrm>
            <a:off x="5786280" y="2533680"/>
            <a:ext cx="3176640" cy="1752480"/>
          </a:xfrm>
          <a:prstGeom prst="rect">
            <a:avLst/>
          </a:prstGeom>
          <a:ln w="0">
            <a:noFill/>
          </a:ln>
        </p:spPr>
      </p:pic>
      <p:sp>
        <p:nvSpPr>
          <p:cNvPr id="258" name="TextBox 8"/>
          <p:cNvSpPr/>
          <p:nvPr/>
        </p:nvSpPr>
        <p:spPr>
          <a:xfrm>
            <a:off x="6400800" y="428616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rown Caim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9" name="Picture 8" descr="Photo: A gharial shows its characteristic long narrow snout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286680" y="4754520"/>
            <a:ext cx="2531880" cy="1746360"/>
          </a:xfrm>
          <a:prstGeom prst="rect">
            <a:avLst/>
          </a:prstGeom>
          <a:ln w="0">
            <a:noFill/>
          </a:ln>
        </p:spPr>
      </p:pic>
      <p:sp>
        <p:nvSpPr>
          <p:cNvPr id="260" name="TextBox 10"/>
          <p:cNvSpPr/>
          <p:nvPr/>
        </p:nvSpPr>
        <p:spPr>
          <a:xfrm>
            <a:off x="6529320" y="6458040"/>
            <a:ext cx="225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avial or Gha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108000" y="1125360"/>
            <a:ext cx="6408720" cy="50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 algn="just">
              <a:lnSpc>
                <a:spcPct val="12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A- Suborder: Sauria: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izards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السحالي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just">
              <a:lnSpc>
                <a:spcPct val="12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Usually have two pairs of leg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just">
              <a:lnSpc>
                <a:spcPct val="12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ost are oviparous, some are ovoviviparous or viviparou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just">
              <a:lnSpc>
                <a:spcPct val="12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erbivorous, omnivorous, and carnivorou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just">
              <a:lnSpc>
                <a:spcPct val="12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B- Suborder: Serpentes: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nakes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الحيات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just">
              <a:lnSpc>
                <a:spcPct val="12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ost are harmless, but about 300 species are venomou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just">
              <a:lnSpc>
                <a:spcPct val="12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longate and lack limbs, have more than 200 vertebrae and pairs of ribs – for locomotio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just">
              <a:lnSpc>
                <a:spcPct val="12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ll are carnivorou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just">
              <a:lnSpc>
                <a:spcPct val="12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just">
              <a:lnSpc>
                <a:spcPct val="12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5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62" name="Group 6"/>
          <p:cNvGrpSpPr/>
          <p:nvPr/>
        </p:nvGrpSpPr>
        <p:grpSpPr>
          <a:xfrm>
            <a:off x="6622920" y="3809880"/>
            <a:ext cx="2413080" cy="2040840"/>
            <a:chOff x="6622920" y="3809880"/>
            <a:chExt cx="2413080" cy="2040840"/>
          </a:xfrm>
        </p:grpSpPr>
        <p:sp>
          <p:nvSpPr>
            <p:cNvPr id="263" name="TextBox 4"/>
            <p:cNvSpPr/>
            <p:nvPr/>
          </p:nvSpPr>
          <p:spPr>
            <a:xfrm>
              <a:off x="7108560" y="5513400"/>
              <a:ext cx="1424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nstantia"/>
                </a:rPr>
                <a:t>Coral Snak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64" name="Picture 4" descr="http://t0.gstatic.com/images?q=tbn:ANd9GcRHsOCPSYaFJJ0FFnJAmAbqcWN93nU1z1hm6DURAmhAEvmeBX63ag"/>
            <p:cNvPicPr/>
            <p:nvPr/>
          </p:nvPicPr>
          <p:blipFill>
            <a:blip r:embed="rId1"/>
            <a:stretch/>
          </p:blipFill>
          <p:spPr>
            <a:xfrm>
              <a:off x="6622920" y="3809880"/>
              <a:ext cx="2413080" cy="1715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5" name="Group 5"/>
          <p:cNvGrpSpPr/>
          <p:nvPr/>
        </p:nvGrpSpPr>
        <p:grpSpPr>
          <a:xfrm>
            <a:off x="6300720" y="260280"/>
            <a:ext cx="2735280" cy="2231280"/>
            <a:chOff x="6300720" y="260280"/>
            <a:chExt cx="2735280" cy="2231280"/>
          </a:xfrm>
        </p:grpSpPr>
        <p:pic>
          <p:nvPicPr>
            <p:cNvPr id="266" name="Picture 6" descr="http://t0.gstatic.com/images?q=tbn:ANd9GcRpOCXu3f8xqDMKsR2E_unmdRqDEDf_L6vQPGfOzbsJ4IsMjc3SEQ"/>
            <p:cNvPicPr/>
            <p:nvPr/>
          </p:nvPicPr>
          <p:blipFill>
            <a:blip r:embed="rId2"/>
            <a:stretch/>
          </p:blipFill>
          <p:spPr>
            <a:xfrm>
              <a:off x="6300720" y="260280"/>
              <a:ext cx="2735280" cy="178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TextBox 7"/>
            <p:cNvSpPr/>
            <p:nvPr/>
          </p:nvSpPr>
          <p:spPr>
            <a:xfrm>
              <a:off x="6661080" y="2154240"/>
              <a:ext cx="2087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nstantia"/>
                </a:rPr>
                <a:t>Chamele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ar-SA" sz="1600" spc="-1" strike="noStrike">
                  <a:solidFill>
                    <a:srgbClr val="ff0000"/>
                  </a:solidFill>
                  <a:latin typeface="Times New Roman"/>
                  <a:cs typeface="Majalla UI"/>
                </a:rPr>
                <a:t>الحرباء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Rectangle 3"/>
          <p:cNvSpPr/>
          <p:nvPr/>
        </p:nvSpPr>
        <p:spPr>
          <a:xfrm>
            <a:off x="12600" y="404640"/>
            <a:ext cx="519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3- Order: Squamata</a:t>
            </a:r>
            <a:r>
              <a:rPr b="0" lang="ar-SA" sz="3200" spc="-1" strike="noStrike">
                <a:solidFill>
                  <a:srgbClr val="04617b"/>
                </a:solidFill>
                <a:latin typeface="Calibri"/>
                <a:ea typeface="Traditional Arabic"/>
              </a:rPr>
              <a:t> </a:t>
            </a: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ar-SA" sz="3200" spc="-1" strike="noStrike">
                <a:solidFill>
                  <a:srgbClr val="04617b"/>
                </a:solidFill>
                <a:latin typeface="Calibri"/>
                <a:ea typeface="Traditional Arabic"/>
              </a:rPr>
              <a:t> </a:t>
            </a:r>
            <a:r>
              <a:rPr b="0" lang="ar-SA" sz="2400" spc="-1" strike="noStrike">
                <a:solidFill>
                  <a:srgbClr val="ff0000"/>
                </a:solidFill>
                <a:latin typeface="Calibri"/>
                <a:cs typeface="Majalla UI"/>
              </a:rPr>
              <a:t>الحرشفي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08000" y="404640"/>
            <a:ext cx="3672000" cy="540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54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Constantia"/>
              </a:rPr>
              <a:t>6- Class: Ave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108000" y="1125360"/>
            <a:ext cx="885672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272880" indent="-272880">
              <a:lnSpc>
                <a:spcPct val="15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daptations for flight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272880" indent="-272880">
              <a:lnSpc>
                <a:spcPct val="150000"/>
              </a:lnSpc>
              <a:buClr>
                <a:srgbClr val="00b050"/>
              </a:buClr>
              <a:buSzPct val="101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ppendages modified as wing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272880" indent="-272880">
              <a:lnSpc>
                <a:spcPct val="15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ave feathers and lack teeth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272880" indent="-272880">
              <a:lnSpc>
                <a:spcPct val="15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ndothermic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ثابتة درجة الحرارة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272880" indent="-272880">
              <a:lnSpc>
                <a:spcPct val="15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igh Metabolic Rat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272880" indent="-272880">
              <a:lnSpc>
                <a:spcPct val="15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 Vertebral Column modified for flight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272880" indent="-272880">
              <a:lnSpc>
                <a:spcPct val="15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ones lightened by numerous air spaces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107640" y="404640"/>
            <a:ext cx="6264360" cy="156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37240" indent="-237240"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1-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 Order: Sphenisciforme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– Penguins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البطريق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476280" indent="-237240" algn="just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eavy bodied with fat, flightless, flipper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زعنفة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ike wings for swimming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2" name="Picture 3" descr="penguins.jpg"/>
          <p:cNvPicPr/>
          <p:nvPr/>
        </p:nvPicPr>
        <p:blipFill>
          <a:blip r:embed="rId1"/>
          <a:stretch/>
        </p:blipFill>
        <p:spPr>
          <a:xfrm>
            <a:off x="6659640" y="260280"/>
            <a:ext cx="2376360" cy="1782720"/>
          </a:xfrm>
          <a:prstGeom prst="rect">
            <a:avLst/>
          </a:prstGeom>
          <a:ln w="0">
            <a:noFill/>
          </a:ln>
        </p:spPr>
      </p:pic>
      <p:sp>
        <p:nvSpPr>
          <p:cNvPr id="273" name="TextBox 4"/>
          <p:cNvSpPr/>
          <p:nvPr/>
        </p:nvSpPr>
        <p:spPr>
          <a:xfrm>
            <a:off x="7164360" y="1989000"/>
            <a:ext cx="123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Pengui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Content Placeholder 2"/>
          <p:cNvSpPr/>
          <p:nvPr/>
        </p:nvSpPr>
        <p:spPr>
          <a:xfrm>
            <a:off x="108000" y="2060640"/>
            <a:ext cx="560700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2-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 Order: Strigiformes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– Owls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البو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45880" algn="just">
              <a:lnSpc>
                <a:spcPct val="10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Arial"/>
              </a:rPr>
              <a:t>Large head with eyes fixed forward.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Picture 2" descr="http://www.polkcountybirds.com/images/Barn_Owl_1.jpg"/>
          <p:cNvPicPr/>
          <p:nvPr/>
        </p:nvPicPr>
        <p:blipFill>
          <a:blip r:embed="rId2"/>
          <a:stretch/>
        </p:blipFill>
        <p:spPr>
          <a:xfrm>
            <a:off x="6659640" y="2324160"/>
            <a:ext cx="2376360" cy="1900080"/>
          </a:xfrm>
          <a:prstGeom prst="rect">
            <a:avLst/>
          </a:prstGeom>
          <a:ln w="0">
            <a:noFill/>
          </a:ln>
        </p:spPr>
      </p:pic>
      <p:sp>
        <p:nvSpPr>
          <p:cNvPr id="276" name="Rectangle 7"/>
          <p:cNvSpPr/>
          <p:nvPr/>
        </p:nvSpPr>
        <p:spPr>
          <a:xfrm>
            <a:off x="7577640" y="4195800"/>
            <a:ext cx="53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ow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Content Placeholder 2"/>
          <p:cNvSpPr/>
          <p:nvPr/>
        </p:nvSpPr>
        <p:spPr>
          <a:xfrm>
            <a:off x="108000" y="3429000"/>
            <a:ext cx="56070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  <a:ea typeface="Arial"/>
              </a:rPr>
              <a:t>3-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  <a:ea typeface="Arial"/>
              </a:rPr>
              <a:t> Order: Anseriforms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Arial"/>
              </a:rPr>
              <a:t>– Ducks, Geese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الوز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Arial"/>
              </a:rPr>
              <a:t>and Swans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البج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93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Content Placeholder 2"/>
          <p:cNvSpPr/>
          <p:nvPr/>
        </p:nvSpPr>
        <p:spPr>
          <a:xfrm>
            <a:off x="108000" y="4653000"/>
            <a:ext cx="5607000" cy="14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4-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 Order: Columbiformes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–Pigeons and Doves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اليما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45880" algn="just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Arial"/>
              </a:rPr>
              <a:t>Dense Feathers loosely set in skin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9" name="Picture 3" descr="ducks.jpg"/>
          <p:cNvPicPr/>
          <p:nvPr/>
        </p:nvPicPr>
        <p:blipFill>
          <a:blip r:embed="rId3"/>
          <a:srcRect l="0" t="0" r="0" b="15318"/>
          <a:stretch/>
        </p:blipFill>
        <p:spPr>
          <a:xfrm>
            <a:off x="6659640" y="4506840"/>
            <a:ext cx="2376360" cy="1978200"/>
          </a:xfrm>
          <a:prstGeom prst="rect">
            <a:avLst/>
          </a:prstGeom>
          <a:ln w="0">
            <a:noFill/>
          </a:ln>
        </p:spPr>
      </p:pic>
      <p:sp>
        <p:nvSpPr>
          <p:cNvPr id="280" name="TextBox 4"/>
          <p:cNvSpPr/>
          <p:nvPr/>
        </p:nvSpPr>
        <p:spPr>
          <a:xfrm>
            <a:off x="7451640" y="6440400"/>
            <a:ext cx="78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Duc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16000" y="1052280"/>
            <a:ext cx="3132000" cy="417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Major Concept: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Title 1"/>
          <p:cNvSpPr/>
          <p:nvPr/>
        </p:nvSpPr>
        <p:spPr>
          <a:xfrm>
            <a:off x="108000" y="333360"/>
            <a:ext cx="43196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rmAutofit/>
          </a:bodyPr>
          <a:p>
            <a:pPr marL="54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nstantia"/>
                <a:ea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  <a:ea typeface="Arial"/>
              </a:rPr>
              <a:t>7-</a:t>
            </a:r>
            <a:r>
              <a:rPr b="1" lang="en-US" sz="3200" spc="-1" strike="noStrike">
                <a:solidFill>
                  <a:srgbClr val="0000ff"/>
                </a:solidFill>
                <a:latin typeface="Constantia"/>
                <a:ea typeface="Arial"/>
              </a:rPr>
              <a:t> Class: Mamm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108000" y="1557000"/>
            <a:ext cx="892800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1-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The skin of mammals is thick for protection and has an  insulation covering of hair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4" name="Picture 3" descr="mammals-pic.jpg"/>
          <p:cNvPicPr/>
          <p:nvPr/>
        </p:nvPicPr>
        <p:blipFill>
          <a:blip r:embed="rId1"/>
          <a:stretch/>
        </p:blipFill>
        <p:spPr>
          <a:xfrm>
            <a:off x="1692360" y="2668680"/>
            <a:ext cx="5933880" cy="40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108000" y="404640"/>
            <a:ext cx="8928000" cy="120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2-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daptations of teeth and digestive tract allows mammals to exploit a wide variety of food resources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86" name="Group 3"/>
          <p:cNvGrpSpPr/>
          <p:nvPr/>
        </p:nvGrpSpPr>
        <p:grpSpPr>
          <a:xfrm>
            <a:off x="434880" y="1773360"/>
            <a:ext cx="2841840" cy="2535840"/>
            <a:chOff x="434880" y="1773360"/>
            <a:chExt cx="2841840" cy="2535840"/>
          </a:xfrm>
        </p:grpSpPr>
        <p:pic>
          <p:nvPicPr>
            <p:cNvPr id="287" name="Picture 3" descr="beaver_teeth.jpg"/>
            <p:cNvPicPr/>
            <p:nvPr/>
          </p:nvPicPr>
          <p:blipFill>
            <a:blip r:embed="rId1"/>
            <a:stretch/>
          </p:blipFill>
          <p:spPr>
            <a:xfrm>
              <a:off x="434880" y="1773360"/>
              <a:ext cx="2841840" cy="184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TextBox 6"/>
            <p:cNvSpPr/>
            <p:nvPr/>
          </p:nvSpPr>
          <p:spPr>
            <a:xfrm>
              <a:off x="990360" y="3605400"/>
              <a:ext cx="1710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nstantia"/>
                </a:rPr>
                <a:t>Beaver Tee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9" name="Group 1"/>
          <p:cNvGrpSpPr/>
          <p:nvPr/>
        </p:nvGrpSpPr>
        <p:grpSpPr>
          <a:xfrm>
            <a:off x="2921040" y="3800520"/>
            <a:ext cx="2946240" cy="2797200"/>
            <a:chOff x="2921040" y="3800520"/>
            <a:chExt cx="2946240" cy="2797200"/>
          </a:xfrm>
        </p:grpSpPr>
        <p:pic>
          <p:nvPicPr>
            <p:cNvPr id="290" name="Picture 5" descr="siberian_brown_bear_teeth-1545.jpg"/>
            <p:cNvPicPr/>
            <p:nvPr/>
          </p:nvPicPr>
          <p:blipFill>
            <a:blip r:embed="rId2"/>
            <a:stretch/>
          </p:blipFill>
          <p:spPr>
            <a:xfrm>
              <a:off x="2921040" y="4488120"/>
              <a:ext cx="2946240" cy="210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TextBox 7"/>
            <p:cNvSpPr/>
            <p:nvPr/>
          </p:nvSpPr>
          <p:spPr>
            <a:xfrm>
              <a:off x="3429000" y="3800520"/>
              <a:ext cx="19350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nstantia"/>
                </a:rPr>
                <a:t>Siberian Brown Bear - Tee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2" name="Group 2"/>
          <p:cNvGrpSpPr/>
          <p:nvPr/>
        </p:nvGrpSpPr>
        <p:grpSpPr>
          <a:xfrm>
            <a:off x="6091200" y="1700280"/>
            <a:ext cx="2728800" cy="2589480"/>
            <a:chOff x="6091200" y="1700280"/>
            <a:chExt cx="2728800" cy="2589480"/>
          </a:xfrm>
        </p:grpSpPr>
        <p:pic>
          <p:nvPicPr>
            <p:cNvPr id="293" name="Picture 4" descr="orca-whale-teeth.jpg"/>
            <p:cNvPicPr/>
            <p:nvPr/>
          </p:nvPicPr>
          <p:blipFill>
            <a:blip r:embed="rId3"/>
            <a:stretch/>
          </p:blipFill>
          <p:spPr>
            <a:xfrm>
              <a:off x="6091200" y="1700280"/>
              <a:ext cx="2728800" cy="21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TextBox 8"/>
            <p:cNvSpPr/>
            <p:nvPr/>
          </p:nvSpPr>
          <p:spPr>
            <a:xfrm>
              <a:off x="6645240" y="3890880"/>
              <a:ext cx="1671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nstantia"/>
                </a:rPr>
                <a:t>Whale tee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 txBox="1"/>
          <p:nvPr/>
        </p:nvSpPr>
        <p:spPr>
          <a:xfrm>
            <a:off x="108000" y="404640"/>
            <a:ext cx="885672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Efficient systems for circulation and gas exchange support the high metabolic rate associated with mammalian endothermy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96" name="Picture 3" descr="respiratorysystem.gif"/>
          <p:cNvPicPr/>
          <p:nvPr/>
        </p:nvPicPr>
        <p:blipFill>
          <a:blip r:embed="rId1"/>
          <a:stretch/>
        </p:blipFill>
        <p:spPr>
          <a:xfrm>
            <a:off x="4713120" y="1700280"/>
            <a:ext cx="3783240" cy="470988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4" descr="circulatory_system.jpg"/>
          <p:cNvPicPr/>
          <p:nvPr/>
        </p:nvPicPr>
        <p:blipFill>
          <a:blip r:embed="rId2"/>
          <a:stretch/>
        </p:blipFill>
        <p:spPr>
          <a:xfrm>
            <a:off x="1116000" y="1477800"/>
            <a:ext cx="3203640" cy="491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1T01:39:32Z</dcterms:created>
  <dc:creator>Karl Miyajima</dc:creator>
  <dc:description/>
  <dc:language>en-US</dc:language>
  <cp:lastModifiedBy>Dell</cp:lastModifiedBy>
  <cp:lastPrinted>2001-01-06T03:20:03Z</cp:lastPrinted>
  <dcterms:modified xsi:type="dcterms:W3CDTF">2015-11-24T16:41:09Z</dcterms:modified>
  <cp:revision>458</cp:revision>
  <dc:subject/>
  <dc:title>Nerve activates contraction</dc:title>
</cp:coreProperties>
</file>