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EC0-2085-4241-9A7D-0EA4FE71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3C2-5A85-4AD4-AA4B-E512BC29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98D-B98B-48F8-BF65-B6D0CBD1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44C-F730-4C1E-AB50-8DBC092C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B0F7-458B-4824-9084-A7C9B91A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A5A1-2106-4E88-B357-BDEB21C5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C990-3B3E-4AB0-A1CF-86B3115A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003D-2B1E-41FF-9828-4302E0CA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E7F4-A0CD-4305-8F27-069A2F85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7E89-31D6-4775-A500-B95423A7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F393-55BA-46C6-99EB-D443EF3C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F68-B7E1-4E28-9FCD-7B49B7DC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56E4-46F3-4EC8-B506-F7559221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4F33-4455-4211-8CAB-B1F8753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E60B-1C19-4D0F-ABD9-42F5AFCE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98B1-E436-4530-8778-3CBEB36A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33D4-06F2-44AC-8DB1-B2667183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337CE-4AB5-483F-AFDC-5BD4C2C7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9E00-46C1-4F6D-9E13-8D7AC5B9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E40E-0649-4C15-AD7F-54D657BC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EDCA-2E15-4E2A-BCA6-08ACDAA9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43CF-E106-46E2-B814-94F06187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64E-C993-4FBC-AAEF-892F6851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3E5E5-7B8C-468A-A368-F2FB210C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73A7B-FE7F-49F9-9020-EF7407E0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A10D-AE91-4A81-8935-3F8BF357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036C-9E7B-4D5E-B824-765EC876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3ACF-C6C7-40F8-8491-6F95813B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6C52F-D68C-4DAF-AB8B-6380A42B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31151-46A1-4269-9793-7A191012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38BDB-FEB2-4124-9D96-217B229A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C684-95BA-4C69-84CB-3B6EB242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C404-3831-4698-BAC3-00ABDA05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FFE-375E-4FF9-8E87-0DF6492B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845E3-28B2-441F-B0E3-67235B49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D416-5900-47B6-80E7-8D216E06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966C2-BC70-49EC-9395-AB8D79D4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34307-C490-45CC-9469-B29D44B4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CBFE-56A0-4A15-B1ED-20A2A8FF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D152-89E5-4377-B230-1D44D1CF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269A7-96C6-4056-A294-E71E3DB7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F8C2-F4EB-44D0-941D-576B1CC3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E68D-E5EF-4C7F-8A81-F1D7EF01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FEFBE-CB22-4121-8CE8-0799B0C7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B32-F22F-4611-9C71-E0FEAE14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26E45-D157-4CEA-8506-5FD72F70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32956-1636-431D-9477-55E4B8FF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8524C-1F25-4470-B0AA-47A38D41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76A8F-9254-48D0-997A-938D18DC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B2974-104A-482A-8681-A9F98430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CA37E-4B25-4F88-A91B-ED03CE4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334FE-745E-492F-AC81-DD18A925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D76AC-55AC-4F1F-9070-A8918720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B7084-4BD8-425B-B486-97655A73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465D-F36B-4DF3-83B6-5A2314D3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5DF-7918-4959-A531-2A20787E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DF37B-1650-4F6E-9A5D-673F2635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90F-D365-4C4B-B04A-BCC0E229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B0C-3837-4F10-A67C-95821AC9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B08-9C77-467B-96DB-B7619E98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B079-5DDF-4C1E-9F7D-1781F0807E0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3913-2104-4DFE-84AB-F51E282C5F19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3FE9-DA4A-44BD-A218-B09CC98FB63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F393-BE30-44C2-9E87-82027C2DEE9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1CAB-87F8-4612-AE9F-DA858BB720C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7640" y="1484280"/>
            <a:ext cx="8807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life on la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ders of reptiles, but only members 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main alive tod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957240" y="380880"/>
            <a:ext cx="7143840" cy="13129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 Class: Rept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07640" y="404640"/>
            <a:ext cx="4429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-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rain of mammals has an expanded cerebral cortex that processes information from various sensory structur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924280"/>
            <a:ext cx="4357800" cy="3313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kidney_eng.gif"/>
          <p:cNvPicPr/>
          <p:nvPr/>
        </p:nvPicPr>
        <p:blipFill>
          <a:blip r:embed="rId2"/>
          <a:stretch/>
        </p:blipFill>
        <p:spPr>
          <a:xfrm>
            <a:off x="4892760" y="2820960"/>
            <a:ext cx="4143240" cy="3416400"/>
          </a:xfrm>
          <a:prstGeom prst="rect">
            <a:avLst/>
          </a:prstGeom>
          <a:ln w="0">
            <a:noFill/>
          </a:ln>
        </p:spPr>
      </p:pic>
      <p:sp>
        <p:nvSpPr>
          <p:cNvPr id="301" name="Content Placeholder 2"/>
          <p:cNvSpPr/>
          <p:nvPr/>
        </p:nvSpPr>
        <p:spPr>
          <a:xfrm>
            <a:off x="4635360" y="404640"/>
            <a:ext cx="44006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5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etanephric kidneys permit mammals to excrete urea without excessive water lo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1280" y="404280"/>
            <a:ext cx="442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6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mplex behavior patterns enhance mammalian survival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179280" y="1773360"/>
            <a:ext cx="4000680" cy="2835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678200" y="3429000"/>
            <a:ext cx="4286520" cy="285768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4714920" y="404640"/>
            <a:ext cx="42498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st mammals are viviparous and have reproductive cycles that help ensure internal fertilization and successful develop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363600"/>
            <a:ext cx="5972400" cy="54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- Order: Testudines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سلاحف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8000" y="1268280"/>
            <a:ext cx="518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pecies of turt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لاحف البحر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tortois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لاحف البر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y sh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ضلو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نقار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tead of tee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662472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Order: Crocodilia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تماسيح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7640" y="1125360"/>
            <a:ext cx="554364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iving species; crocodiles, alligator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chambered heart, triangular eye orbits, other skull characteristic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8000" y="1125360"/>
            <a:ext cx="64087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- Suborder: Sau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zard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حال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- Suborder: Serpentes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nak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harmless, but about 300 species are venom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6622920" y="3809880"/>
            <a:ext cx="2413080" cy="2040840"/>
            <a:chOff x="6622920" y="3809880"/>
            <a:chExt cx="2413080" cy="2040840"/>
          </a:xfrm>
        </p:grpSpPr>
        <p:sp>
          <p:nvSpPr>
            <p:cNvPr id="263" name="TextBox 4"/>
            <p:cNvSpPr/>
            <p:nvPr/>
          </p:nvSpPr>
          <p:spPr>
            <a:xfrm>
              <a:off x="7108560" y="5513400"/>
              <a:ext cx="14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Coral Snak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Picture 4" descr="http://t0.gstatic.com/images?q=tbn:ANd9GcRHsOCPSYaFJJ0FFnJAmAbqcWN93nU1z1hm6DURAmhAEvmeBX63ag"/>
            <p:cNvPicPr/>
            <p:nvPr/>
          </p:nvPicPr>
          <p:blipFill>
            <a:blip r:embed="rId1"/>
            <a:stretch/>
          </p:blipFill>
          <p:spPr>
            <a:xfrm>
              <a:off x="6622920" y="3809880"/>
              <a:ext cx="2413080" cy="171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5"/>
          <p:cNvGrpSpPr/>
          <p:nvPr/>
        </p:nvGrpSpPr>
        <p:grpSpPr>
          <a:xfrm>
            <a:off x="6300720" y="260280"/>
            <a:ext cx="2735280" cy="2231280"/>
            <a:chOff x="6300720" y="260280"/>
            <a:chExt cx="2735280" cy="2231280"/>
          </a:xfrm>
        </p:grpSpPr>
        <p:pic>
          <p:nvPicPr>
            <p:cNvPr id="266" name="Picture 6" descr="http://t0.gstatic.com/images?q=tbn:ANd9GcRpOCXu3f8xqDMKsR2E_unmdRqDEDf_L6vQPGfOzbsJ4IsMjc3SEQ"/>
            <p:cNvPicPr/>
            <p:nvPr/>
          </p:nvPicPr>
          <p:blipFill>
            <a:blip r:embed="rId2"/>
            <a:stretch/>
          </p:blipFill>
          <p:spPr>
            <a:xfrm>
              <a:off x="6300720" y="260280"/>
              <a:ext cx="2735280" cy="17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7"/>
            <p:cNvSpPr/>
            <p:nvPr/>
          </p:nvSpPr>
          <p:spPr>
            <a:xfrm>
              <a:off x="6661080" y="2154240"/>
              <a:ext cx="20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Chamele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ربا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Rectangle 3"/>
          <p:cNvSpPr/>
          <p:nvPr/>
        </p:nvSpPr>
        <p:spPr>
          <a:xfrm>
            <a:off x="12600" y="404640"/>
            <a:ext cx="51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Order: Squamata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حرشف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367200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6- Class: A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8000" y="1125360"/>
            <a:ext cx="88567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50000"/>
              </a:lnSpc>
              <a:buClr>
                <a:srgbClr val="00b050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endages modified as w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feathers and lack tee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ic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ثابتة درج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7640" y="404640"/>
            <a:ext cx="626436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Sphenisciform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Pengui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طري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6280" indent="-2372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vy bodied with fat, flightless, flipper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زعنف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ke wings for swimm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3" descr="penguins.jpg"/>
          <p:cNvPicPr/>
          <p:nvPr/>
        </p:nvPicPr>
        <p:blipFill>
          <a:blip r:embed="rId1"/>
          <a:stretch/>
        </p:blipFill>
        <p:spPr>
          <a:xfrm>
            <a:off x="6659640" y="26028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164360" y="198900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engu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ntent Placeholder 2"/>
          <p:cNvSpPr/>
          <p:nvPr/>
        </p:nvSpPr>
        <p:spPr>
          <a:xfrm>
            <a:off x="108000" y="2060640"/>
            <a:ext cx="5607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Strigiform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Owl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و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6659640" y="2324160"/>
            <a:ext cx="2376360" cy="19000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"/>
          <p:cNvSpPr/>
          <p:nvPr/>
        </p:nvSpPr>
        <p:spPr>
          <a:xfrm>
            <a:off x="7577640" y="419580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108000" y="3429000"/>
            <a:ext cx="5607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3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 Order: Anseriform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– Ducks, Gees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ز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nd Swa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ntent Placeholder 2"/>
          <p:cNvSpPr/>
          <p:nvPr/>
        </p:nvSpPr>
        <p:spPr>
          <a:xfrm>
            <a:off x="108000" y="4653000"/>
            <a:ext cx="56070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4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Columbiform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Pigeons and Dov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ي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3" descr="ducks.jpg"/>
          <p:cNvPicPr/>
          <p:nvPr/>
        </p:nvPicPr>
        <p:blipFill>
          <a:blip r:embed="rId3"/>
          <a:srcRect l="0" t="0" r="0" b="15318"/>
          <a:stretch/>
        </p:blipFill>
        <p:spPr>
          <a:xfrm>
            <a:off x="6659640" y="4506840"/>
            <a:ext cx="2376360" cy="19782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7451640" y="644040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u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6000" y="1052280"/>
            <a:ext cx="3132000" cy="41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Major Concept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itle 1"/>
          <p:cNvSpPr/>
          <p:nvPr/>
        </p:nvSpPr>
        <p:spPr>
          <a:xfrm>
            <a:off x="108000" y="333360"/>
            <a:ext cx="431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7-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 Class: Mam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8000" y="1557000"/>
            <a:ext cx="8928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skin of mammals is thick for protection and has an  insulation covering of hai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3" descr="mammals-pic.jpg"/>
          <p:cNvPicPr/>
          <p:nvPr/>
        </p:nvPicPr>
        <p:blipFill>
          <a:blip r:embed="rId1"/>
          <a:stretch/>
        </p:blipFill>
        <p:spPr>
          <a:xfrm>
            <a:off x="1692360" y="2668680"/>
            <a:ext cx="59338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08000" y="404640"/>
            <a:ext cx="89280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of teeth and digestive tract allows mammals to exploit a wide variety of food resour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434880" y="1773360"/>
            <a:ext cx="2841840" cy="2535840"/>
            <a:chOff x="434880" y="1773360"/>
            <a:chExt cx="2841840" cy="2535840"/>
          </a:xfrm>
        </p:grpSpPr>
        <p:pic>
          <p:nvPicPr>
            <p:cNvPr id="287" name="Picture 3" descr="beaver_teeth.jpg"/>
            <p:cNvPicPr/>
            <p:nvPr/>
          </p:nvPicPr>
          <p:blipFill>
            <a:blip r:embed="rId1"/>
            <a:stretch/>
          </p:blipFill>
          <p:spPr>
            <a:xfrm>
              <a:off x="434880" y="1773360"/>
              <a:ext cx="2841840" cy="18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Box 6"/>
            <p:cNvSpPr/>
            <p:nvPr/>
          </p:nvSpPr>
          <p:spPr>
            <a:xfrm>
              <a:off x="990360" y="3605400"/>
              <a:ext cx="171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Beaver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1"/>
          <p:cNvGrpSpPr/>
          <p:nvPr/>
        </p:nvGrpSpPr>
        <p:grpSpPr>
          <a:xfrm>
            <a:off x="2921040" y="3800520"/>
            <a:ext cx="2946240" cy="2797200"/>
            <a:chOff x="2921040" y="3800520"/>
            <a:chExt cx="2946240" cy="2797200"/>
          </a:xfrm>
        </p:grpSpPr>
        <p:pic>
          <p:nvPicPr>
            <p:cNvPr id="290" name="Picture 5" descr="siberian_brown_bear_teeth-1545.jpg"/>
            <p:cNvPicPr/>
            <p:nvPr/>
          </p:nvPicPr>
          <p:blipFill>
            <a:blip r:embed="rId2"/>
            <a:stretch/>
          </p:blipFill>
          <p:spPr>
            <a:xfrm>
              <a:off x="2921040" y="4488120"/>
              <a:ext cx="294624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Box 7"/>
            <p:cNvSpPr/>
            <p:nvPr/>
          </p:nvSpPr>
          <p:spPr>
            <a:xfrm>
              <a:off x="3429000" y="3800520"/>
              <a:ext cx="1935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Siberian Brown Bear -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2"/>
          <p:cNvGrpSpPr/>
          <p:nvPr/>
        </p:nvGrpSpPr>
        <p:grpSpPr>
          <a:xfrm>
            <a:off x="6091200" y="1700280"/>
            <a:ext cx="2728800" cy="2589480"/>
            <a:chOff x="6091200" y="1700280"/>
            <a:chExt cx="2728800" cy="2589480"/>
          </a:xfrm>
        </p:grpSpPr>
        <p:pic>
          <p:nvPicPr>
            <p:cNvPr id="293" name="Picture 4" descr="orca-whale-teeth.jpg"/>
            <p:cNvPicPr/>
            <p:nvPr/>
          </p:nvPicPr>
          <p:blipFill>
            <a:blip r:embed="rId3"/>
            <a:stretch/>
          </p:blipFill>
          <p:spPr>
            <a:xfrm>
              <a:off x="6091200" y="1700280"/>
              <a:ext cx="2728800" cy="21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8"/>
            <p:cNvSpPr/>
            <p:nvPr/>
          </p:nvSpPr>
          <p:spPr>
            <a:xfrm>
              <a:off x="6645240" y="3890880"/>
              <a:ext cx="16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Whale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08000" y="40464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fficient systems for circulation and gas exchange support the high metabolic rate associated with mammalian endotherm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respiratorysystem.gif"/>
          <p:cNvPicPr/>
          <p:nvPr/>
        </p:nvPicPr>
        <p:blipFill>
          <a:blip r:embed="rId1"/>
          <a:stretch/>
        </p:blipFill>
        <p:spPr>
          <a:xfrm>
            <a:off x="4713120" y="1700280"/>
            <a:ext cx="3783240" cy="4709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circulatory_system.jpg"/>
          <p:cNvPicPr/>
          <p:nvPr/>
        </p:nvPicPr>
        <p:blipFill>
          <a:blip r:embed="rId2"/>
          <a:stretch/>
        </p:blipFill>
        <p:spPr>
          <a:xfrm>
            <a:off x="1116000" y="1477800"/>
            <a:ext cx="32036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24T16:41:09Z</dcterms:modified>
  <cp:revision>458</cp:revision>
  <dc:subject/>
  <dc:title>Nerve activates contraction</dc:title>
</cp:coreProperties>
</file>