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BA2-3A81-4D3A-81C2-E1A41F0E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F63-718F-4129-B0AC-6762ED1A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E31-8E8E-4EBD-A3F4-AEABF3AC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776-75E6-43B4-B7A5-9D8A9D04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7142-8195-4FDF-9422-670EEC04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D02E-A7EF-4AC8-8053-A75702A4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43DF-3914-4E5E-BEB0-D220C1E4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8BB5-E955-4F3A-8B36-7CDDA316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54CA-7D70-47BE-89C7-ED3C0566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1FA2-7CCB-4ABA-B066-74013603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1973-04B8-4DBE-8BF3-E6CA7D5F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762-A86A-4BD1-BCED-ACDC0A17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B313-B863-4981-A8B9-3897918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F4AA-FD24-4238-8A4F-02DE3EE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10D5-6316-4A6F-B821-8C4A1EC1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93D0-B9BA-4C70-A582-313DBA37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CAF3-B0AD-4795-ADFF-FFA2F91B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B56D-4065-48AF-988E-AA50BCEA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E489-3C55-47B3-93A5-DBD1A0A7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3DFD-1F4F-4784-ADC7-C84DB595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18A2-5AA1-4706-B710-219F7FD7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F31D-2332-4F3F-9984-7616DDCD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4DB-BD82-4136-854A-B86B63A8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1967-51C1-459E-B309-5CCA4275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4C41-5304-4D41-8793-F66BBD41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B99B-1EB3-4C08-8770-B5F0A8EC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F7C0-9A06-48D1-A1D8-82E9542C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41FE7-AB57-4504-8D73-46CCAE97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35F3-B4F9-49E5-8C2D-92E9615F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2A576-AA01-44AB-9864-2A0E5C9E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7AD3-2735-45A2-91D0-199D8C86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4B929-68E0-4DE2-A4BB-2BFB66E9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AF1A9-3352-4389-A365-F2CAAD76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CBE-ED4E-486C-9BEB-2D5BC994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0792-5250-4EB2-94AE-C2D6D199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1728D-7685-4C16-BDAD-88352473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5E820-C61B-4088-BBA0-28F2110D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FB23B-5A4A-4A0D-8CBA-E8ECBF7A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7966-2350-41F3-9E9B-27ABA1B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621BE-0A92-4364-B64E-5FAA09E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7FDB5-A436-4121-842B-1C640433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8BC1E-7526-4044-98D0-0D6B3198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82531-4138-459D-9542-3FB7E584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BFEDD-E545-4C08-A7C1-4D5C988C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5FD-ADA9-4C89-A644-3DAE3CA2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C5DF2-455A-4FB4-82E2-80C9245A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6504E-9C03-4FA6-B1A4-C335CAFB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7B9E9-6E6B-48EE-A719-52A19CBA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BF042-E517-4F52-8C5E-9CF772C4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3F156-F911-437E-A670-B3B17D63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8FA2E-CC1B-4886-A7FC-FDC498C4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13891-BBBC-419D-89A5-DF021467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0E72-D6B5-4C8A-AEBD-25BE0800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B737D-5F20-4808-A332-851417B0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F4A87-834F-4C62-BD4B-359BF980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E78-654E-46C2-8512-95FA5856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0A8EC-F5A1-40FF-A987-56E1471D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AA8-15FE-427B-9291-281C974C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708-29ED-402E-9C61-B605B42E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636-B7F3-4805-8DFA-DFD6ACFF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B7F2-B4C0-48C9-AB1C-1E1FDADCEAA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492E-4643-4930-8C3B-33FF8C3771C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C24B-3D11-4E71-9EEC-8B2C5247A971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8A22-DB24-4C91-8F2D-CB2E0319220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A95B-DD75-4E97-AF76-3CDFA4528D2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0080" y="993240"/>
            <a:ext cx="6043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lass Repti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4495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ations for life on l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tight scal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occipital condy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one point of attachement of the skull with the vertebral colum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ave 4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7 orders of reptiles, but only members of 4 remain alive toda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lizard copy"/>
          <p:cNvPicPr/>
          <p:nvPr/>
        </p:nvPicPr>
        <p:blipFill>
          <a:blip r:embed="rId1"/>
          <a:stretch/>
        </p:blipFill>
        <p:spPr>
          <a:xfrm>
            <a:off x="5929200" y="2389320"/>
            <a:ext cx="2928960" cy="4325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1611360" y="295200"/>
            <a:ext cx="581832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9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920" y="1937880"/>
            <a:ext cx="3286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8fe9"/>
                </a:solidFill>
                <a:latin typeface="Calibri"/>
              </a:rPr>
              <a:t>Major Concep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577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Mammalian characteristics evolved gradually over a 200-million-year period in the synapsid line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3" descr="therapsid.gif"/>
          <p:cNvPicPr/>
          <p:nvPr/>
        </p:nvPicPr>
        <p:blipFill>
          <a:blip r:embed="rId1"/>
          <a:stretch/>
        </p:blipFill>
        <p:spPr>
          <a:xfrm>
            <a:off x="1093680" y="3514680"/>
            <a:ext cx="6836040" cy="3200400"/>
          </a:xfrm>
          <a:prstGeom prst="rect">
            <a:avLst/>
          </a:prstGeom>
          <a:ln w="0">
            <a:noFill/>
          </a:ln>
        </p:spPr>
      </p:pic>
      <p:sp>
        <p:nvSpPr>
          <p:cNvPr id="310" name="Title 1"/>
          <p:cNvSpPr/>
          <p:nvPr/>
        </p:nvSpPr>
        <p:spPr>
          <a:xfrm>
            <a:off x="428760" y="800280"/>
            <a:ext cx="33955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alibri"/>
              </a:rPr>
              <a:t>Mammal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The skin of mammals is thick and protective and has an insulation covering of hai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3" descr="mammals-pic.jpg"/>
          <p:cNvPicPr/>
          <p:nvPr/>
        </p:nvPicPr>
        <p:blipFill>
          <a:blip r:embed="rId1"/>
          <a:stretch/>
        </p:blipFill>
        <p:spPr>
          <a:xfrm>
            <a:off x="1419120" y="2214720"/>
            <a:ext cx="6367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8571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daptations of teeth and digestive tract allows mammals to exploit a wide variety of food resour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3" descr="beaver_teeth.jpg"/>
          <p:cNvPicPr/>
          <p:nvPr/>
        </p:nvPicPr>
        <p:blipFill>
          <a:blip r:embed="rId1"/>
          <a:stretch/>
        </p:blipFill>
        <p:spPr>
          <a:xfrm>
            <a:off x="685800" y="2295360"/>
            <a:ext cx="2590920" cy="1684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orca-whale-teeth.jpg"/>
          <p:cNvPicPr/>
          <p:nvPr/>
        </p:nvPicPr>
        <p:blipFill>
          <a:blip r:embed="rId2"/>
          <a:stretch/>
        </p:blipFill>
        <p:spPr>
          <a:xfrm>
            <a:off x="6091200" y="2295360"/>
            <a:ext cx="2386080" cy="190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siberian_brown_bear_teeth-1545.jpg"/>
          <p:cNvPicPr/>
          <p:nvPr/>
        </p:nvPicPr>
        <p:blipFill>
          <a:blip r:embed="rId3"/>
          <a:stretch/>
        </p:blipFill>
        <p:spPr>
          <a:xfrm>
            <a:off x="3352680" y="4200480"/>
            <a:ext cx="2514600" cy="1800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847800" y="3938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3429000" y="3438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n Brown Bear -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6429240" y="421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ca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0000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Efficient systems for circulation and gas exchange support the high metabolic rate associated with mammalian endothe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Picture 3" descr="respiratorysystem.gif"/>
          <p:cNvPicPr/>
          <p:nvPr/>
        </p:nvPicPr>
        <p:blipFill>
          <a:blip r:embed="rId1"/>
          <a:stretch/>
        </p:blipFill>
        <p:spPr>
          <a:xfrm>
            <a:off x="5181480" y="2571840"/>
            <a:ext cx="3083040" cy="383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irculatory_system.jpg"/>
          <p:cNvPicPr/>
          <p:nvPr/>
        </p:nvPicPr>
        <p:blipFill>
          <a:blip r:embed="rId2"/>
          <a:stretch/>
        </p:blipFill>
        <p:spPr>
          <a:xfrm>
            <a:off x="1643040" y="2286000"/>
            <a:ext cx="267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2920" y="999720"/>
            <a:ext cx="38289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The brain of mammals has an expanded cerebral cortex that processes information from various sensory structur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548080"/>
            <a:ext cx="4071960" cy="3095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kidney_eng.gif"/>
          <p:cNvPicPr/>
          <p:nvPr/>
        </p:nvPicPr>
        <p:blipFill>
          <a:blip r:embed="rId2"/>
          <a:stretch/>
        </p:blipFill>
        <p:spPr>
          <a:xfrm>
            <a:off x="4714920" y="2571840"/>
            <a:ext cx="4143240" cy="3416040"/>
          </a:xfrm>
          <a:prstGeom prst="rect">
            <a:avLst/>
          </a:prstGeom>
          <a:ln w="0">
            <a:noFill/>
          </a:ln>
        </p:spPr>
      </p:pic>
      <p:sp>
        <p:nvSpPr>
          <p:cNvPr id="326" name="Content Placeholder 2"/>
          <p:cNvSpPr/>
          <p:nvPr/>
        </p:nvSpPr>
        <p:spPr>
          <a:xfrm>
            <a:off x="4457880" y="1071720"/>
            <a:ext cx="4257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Metanephric kidneys permit mammals to excrete urea without excessive wate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0920" y="121428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. Complex behavior patterns enhance mammalian surviv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214200" y="2500200"/>
            <a:ext cx="4000680" cy="2835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330" name="Content Placeholder 2"/>
          <p:cNvSpPr/>
          <p:nvPr/>
        </p:nvSpPr>
        <p:spPr>
          <a:xfrm>
            <a:off x="4714920" y="1214280"/>
            <a:ext cx="39718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Most mammals are viviparous and have reproductive cycles that help ensure internal fertilization and successful developmen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4320" y="1095480"/>
            <a:ext cx="59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Testudines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سلحفاة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4000" y="2071440"/>
            <a:ext cx="5040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0 species of turt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حرية (الترسة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ortois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y sh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ضلو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ق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tead of tee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es of the pectoral gird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زام الصدر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kin bones form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lastr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bottom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4240" y="885600"/>
            <a:ext cx="5873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Crocodylia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ماسيح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2960" y="1714680"/>
            <a:ext cx="44244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1 living species; crocodiles, alligato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4-chambered heart, triangular eye orbits, other skull characteristic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most unchanged in 170 million yea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040" y="691920"/>
            <a:ext cx="4981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Squama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12280" y="1452240"/>
            <a:ext cx="6435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erged 150 million years ago from lepidosa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auria –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erpentes – Sna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Amphisbaenia –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685800" y="6400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Sn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http://t0.gstatic.com/images?q=tbn:ANd9GcRHsOCPSYaFJJ0FFnJAmAbqcWN93nU1z1hm6DURAmhAEvmeBX63ag"/>
          <p:cNvPicPr/>
          <p:nvPr/>
        </p:nvPicPr>
        <p:blipFill>
          <a:blip r:embed="rId1"/>
          <a:stretch/>
        </p:blipFill>
        <p:spPr>
          <a:xfrm>
            <a:off x="228600" y="4191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ttp://t0.gstatic.com/images?q=tbn:ANd9GcRpOCXu3f8xqDMKsR2E_unmdRqDEDf_L6vQPGfOzbsJ4IsMjc3SEQ"/>
          <p:cNvPicPr/>
          <p:nvPr/>
        </p:nvPicPr>
        <p:blipFill>
          <a:blip r:embed="rId2"/>
          <a:stretch/>
        </p:blipFill>
        <p:spPr>
          <a:xfrm>
            <a:off x="3419640" y="4221000"/>
            <a:ext cx="2781000" cy="2206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3673440" y="6400800"/>
            <a:ext cx="21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meleon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حرب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http://www.sciencephoto.com/images/showFullWatermarked.html/Z765165-Speckled_Worm_Lizard-SPL.jpg?id=907650165"/>
          <p:cNvPicPr/>
          <p:nvPr/>
        </p:nvPicPr>
        <p:blipFill>
          <a:blip r:embed="rId3"/>
          <a:stretch/>
        </p:blipFill>
        <p:spPr>
          <a:xfrm>
            <a:off x="6443640" y="4221000"/>
            <a:ext cx="2594160" cy="21909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9"/>
          <p:cNvSpPr/>
          <p:nvPr/>
        </p:nvSpPr>
        <p:spPr>
          <a:xfrm>
            <a:off x="6659640" y="638172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m Lizard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سح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auria – the Lizard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8380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, 500 species of lizards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au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liz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and lower jaws unite anterio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a variety of habit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http://t1.gstatic.com/images?q=tbn:ANd9GcR0pcGD6tNq1b1P3FW1n2F0sTB5zPffO0tLhiHp0_aBXpKcBbqm"/>
          <p:cNvPicPr/>
          <p:nvPr/>
        </p:nvPicPr>
        <p:blipFill>
          <a:blip r:embed="rId1"/>
          <a:stretch/>
        </p:blipFill>
        <p:spPr>
          <a:xfrm>
            <a:off x="152280" y="41148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2286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lled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http://nzcryptozoology.ucoz.com/NZCryptozoology/varanid.jpg"/>
          <p:cNvPicPr/>
          <p:nvPr/>
        </p:nvPicPr>
        <p:blipFill>
          <a:blip r:embed="rId2"/>
          <a:stretch/>
        </p:blipFill>
        <p:spPr>
          <a:xfrm>
            <a:off x="6400800" y="3048120"/>
            <a:ext cx="2666880" cy="3557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"/>
          <p:cNvSpPr/>
          <p:nvPr/>
        </p:nvSpPr>
        <p:spPr>
          <a:xfrm>
            <a:off x="5257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6" descr="http://t2.gstatic.com/images?q=tbn:ANd9GcRBK8zlgKsk_ruf_vBFeOs_PYUO8-OUZEFRIdpkmwTEV_HlQFBQFA"/>
          <p:cNvPicPr/>
          <p:nvPr/>
        </p:nvPicPr>
        <p:blipFill>
          <a:blip r:embed="rId3"/>
          <a:stretch/>
        </p:blipFill>
        <p:spPr>
          <a:xfrm>
            <a:off x="2590920" y="42670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8"/>
          <p:cNvSpPr/>
          <p:nvPr/>
        </p:nvSpPr>
        <p:spPr>
          <a:xfrm>
            <a:off x="28954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ma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8" descr="http://t3.gstatic.com/images?q=tbn:ANd9GcQiwMM8gLA17DvPE45rfuqfvJjHNaeMNpAPiUnHqtPWOhYUSPjqZQ"/>
          <p:cNvPicPr/>
          <p:nvPr/>
        </p:nvPicPr>
        <p:blipFill>
          <a:blip r:embed="rId4"/>
          <a:stretch/>
        </p:blipFill>
        <p:spPr>
          <a:xfrm>
            <a:off x="6400800" y="8380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6629400" y="2590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-tongue Sk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" y="7142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erpentes- The Snak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1280" y="2066400"/>
            <a:ext cx="51055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bout 2,900 species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erp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craw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rmles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about 300 species are venom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per jaws are movable on the skull and upper and lower jaws loosely joined by flexible ligaments, so each half can move independently – allows swallowing large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AutoShape 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http://www.naturephoto-cz.com/photos/sevcik/indian-cobra--naja-naja-2.jpg"/>
          <p:cNvPicPr/>
          <p:nvPr/>
        </p:nvPicPr>
        <p:blipFill>
          <a:blip r:embed="rId1"/>
          <a:stretch/>
        </p:blipFill>
        <p:spPr>
          <a:xfrm>
            <a:off x="5219640" y="1306440"/>
            <a:ext cx="3840120" cy="2765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0" descr="http://www.uta.edu/biology/campbell/guatemala/images/Micrurus_diastema.JPG"/>
          <p:cNvPicPr/>
          <p:nvPr/>
        </p:nvPicPr>
        <p:blipFill>
          <a:blip r:embed="rId2"/>
          <a:stretch/>
        </p:blipFill>
        <p:spPr>
          <a:xfrm>
            <a:off x="5148360" y="41911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29718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Class A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ppendages modified as wing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Bird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ssess a horny bill and lack teeth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928800"/>
            <a:ext cx="540072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phenisciformes – Penguin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ري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avy bodied, flightless flipper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زعنف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ke wings for swimming, with insulated with f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penguins.jpg"/>
          <p:cNvPicPr/>
          <p:nvPr/>
        </p:nvPicPr>
        <p:blipFill>
          <a:blip r:embed="rId1"/>
          <a:stretch/>
        </p:blipFill>
        <p:spPr>
          <a:xfrm>
            <a:off x="5748480" y="857160"/>
            <a:ext cx="323820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6357960" y="3314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4214880"/>
            <a:ext cx="461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trigiformes – Ow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; raptorial foo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5715000" y="392904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6678720" y="6286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 ow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999720"/>
            <a:ext cx="4829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Anseriforms – Ducks, Geese and Swans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ج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de flat bill and an undercoat of dense down; webbed f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3" descr="ducks.jpg"/>
          <p:cNvPicPr/>
          <p:nvPr/>
        </p:nvPicPr>
        <p:blipFill>
          <a:blip r:embed="rId1"/>
          <a:stretch/>
        </p:blipFill>
        <p:spPr>
          <a:xfrm>
            <a:off x="5678640" y="928800"/>
            <a:ext cx="2608200" cy="2643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5591160" y="3571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emale Mallard Du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decorative Dove.jpg"/>
          <p:cNvPicPr/>
          <p:nvPr/>
        </p:nvPicPr>
        <p:blipFill>
          <a:blip r:embed="rId2"/>
          <a:stretch/>
        </p:blipFill>
        <p:spPr>
          <a:xfrm>
            <a:off x="5483160" y="414828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643720" y="635796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Decorative D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571680" y="4214880"/>
            <a:ext cx="4114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olumbiformes – Pigeons and Do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, well developed 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المستخدم</cp:lastModifiedBy>
  <cp:lastPrinted>2001-01-06T03:20:03Z</cp:lastPrinted>
  <dcterms:modified xsi:type="dcterms:W3CDTF">2014-04-02T07:33:22Z</dcterms:modified>
  <cp:revision>404</cp:revision>
  <dc:subject/>
  <dc:title>Nerve activates contraction</dc:title>
</cp:coreProperties>
</file>