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288-E593-439C-AE0A-AA01F2FB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AD3-8053-4AA2-BAF8-A70C7E3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80A-0837-40E0-9FBD-5FC0BA63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934-A022-4ECC-90C0-769F1AA1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703C-A89A-48A0-9763-0F46EA16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85EF-5CA0-4160-B4CA-E9ABDFC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2972-29F5-43B4-A744-AD86EC15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F2A1-B26E-49A1-89E6-BBA69297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F749-AB9C-447B-8D29-08C2783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35EB-08B9-40F8-B095-60DC842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B18E-4678-4822-8DC2-61EF16D6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8F0-054D-41C3-B57A-E683E26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1340-E620-4F73-8BC6-F2AF4973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A8FB-A2C5-4547-ABB0-4FBDC850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52A9-526B-4815-88BB-73710285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83A8-B8AB-4942-99C0-F932686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FD2D-4170-4D82-A35D-A7475E7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DB51-6726-4C7A-9D0C-A12FC18F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C08F-34CA-4C1B-92D3-F4B543F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DD860-87E2-4C16-A1AB-3AB58F9A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B01B-C468-4A72-ADDC-492E363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729F-3A68-4987-BD64-1B7FCDD8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AB7-9D64-4468-9E23-EE298DB6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36C1-12FB-47F1-BD72-B2EABE4A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C47A-776A-465E-A440-84DAE85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4B85-C651-47CB-9BB7-41A292AE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ED64-16E7-4B40-8E91-9E68149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E7C9-972D-4CE0-BD15-D76E6A2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E57E-0ACA-4027-A16A-9D4B83B9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C494-1423-45E1-9247-6F81A37C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7239-474D-4691-8874-19222C7E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967A-F2EF-4D3E-AD47-F49DB33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18BA4-761F-4857-A998-12367F2D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770-7F52-4AD1-AF02-A6269292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9F56-3CAE-4119-989F-A585E4D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12DE-96A4-448A-9D90-7AAE48F5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3479-B206-410B-82B3-27D5487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0ECE-8AD0-465B-B6B0-82ADD83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63BE-CF43-44F9-9390-34368D37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4162-6D7A-48C5-A4F9-5B4FCB4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D956-0933-4A93-9F23-9188ECD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86FC-62C6-49C7-A603-A1BEA95B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3DE8-53BC-4C8C-B089-3980DF73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F476-2D09-4CB7-8A7B-E28FA1D5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BD4-2EE3-4793-A5A0-BED8E917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5A4CE-384B-411E-B6FC-DD51783C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C6E0-1220-4751-881D-42EF268D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A469-0468-4590-AF6C-5B6898F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750A-930C-49FB-B59B-FC11452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873D-4B5E-445E-A9AE-67570C91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BF1E-44FF-4971-A125-B94E2B48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DA98-D75B-4EE0-9B0B-A2F401F2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1013-9D18-4C6B-9C40-7C11A90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CFF9-0081-4B82-837C-B02D08F6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B12E-5916-4A4A-AD24-9354DE5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D16-7DB6-436E-AD20-E718B3D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071B-7302-4E96-9CCB-2FE4607B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561-4E26-448E-AA8C-E0D0B74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B89-4A26-44C3-A5F5-F52175F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4D1-3C08-4FF5-A27E-BD3272F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58DB-6854-45D7-964C-79F3D0DCA06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F6C1-86BE-48EC-BAC6-0C729A3156F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5F27-E590-4B4D-82AA-6A2BA2FE0EF2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7C28-68AB-426F-A589-BBD97F83103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BB57-AB70-425A-803B-3487AACE09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المستخدم</cp:lastModifiedBy>
  <cp:lastPrinted>2001-01-06T03:20:03Z</cp:lastPrinted>
  <dcterms:modified xsi:type="dcterms:W3CDTF">2014-04-02T07:33:22Z</dcterms:modified>
  <cp:revision>404</cp:revision>
  <dc:subject/>
  <dc:title>Nerve activates contraction</dc:title>
</cp:coreProperties>
</file>