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F88-25AD-4D7C-A757-83516D36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AA6-AEF0-42CE-9563-C0F162A3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BF9-0C9E-4687-83BA-01EA276C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B9C-EADC-47E2-9966-03918108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340F-B803-4A6E-8F6B-BEF8BD27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A3E8-83F5-4E39-85C8-F1BFA221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7D10-F470-4D2E-B9B6-0F3A4092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3B9B-F7EF-408A-86F2-1C7FC32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EBE2-6FD2-49EF-90F2-2B97BE1E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9079-1724-4A1C-9082-6E98B450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2D8B-045C-4C07-90CD-CBA5BF54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5AB-BDF8-4B05-9E0B-AD2454D0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5DE3-C8BD-4F35-91AB-DE78C0CF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53E8-11DA-495C-883C-A0019B48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332D-86DB-439C-9F20-236744C8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C120-6F9C-42FF-88F0-3F4E2617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734B-AEB7-435F-8DC8-D83EAF23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24055-9B47-4073-BC8A-A47414EB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5281-6AEA-4FC8-A398-4C12B736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C39E-2E71-446D-B6A6-9EB247D5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25EE-AC51-4012-9E3E-64A9A5DF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049E4-6E00-4704-8AD3-B4AE8453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F92-7D7C-4140-94FC-FCBB8F0E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78D8-33A8-4722-9A5D-DBB5E3D4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2A0F-0E5C-442B-9506-B5DD03AA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72DC-4FD2-467C-8450-31BCCBAB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CA2C-D3A1-48DC-94C9-CE42405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3363B-D20E-4250-B659-B0D1AE6D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AFE3-CB40-4002-94FA-43A64F26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2124-72C7-4726-AD18-FD22C05B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0EFBF-39A4-4DC2-8FE9-4B0DD677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1804E-CCD6-441A-8370-CB0FBDFB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498A-7350-44FE-B7AC-08ACD6D9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E43-BB67-4F26-9322-8200E8BD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CBB5F-F1F1-428E-8082-C1711D27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040D9-ED76-4FD2-B1BC-562A3290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0DD58-8C2E-4F3C-9C3E-97EA40AC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DF92-CB81-4518-A2EA-7E0F283A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3605B-A35A-4A6F-BCE8-7C4C20E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D9FF-32A8-4250-B04F-20407238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80C43-CAED-45E1-B7D5-6E9E457C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48CC7-C591-4EBC-9CD1-8D4B5BAA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78566-0466-4B40-92A4-D6389B1C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D6CC7-26C1-4DE2-A4B5-546EF274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8E0-FA85-4123-B8B2-3E92C232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B000C-408C-494B-A9CD-3B95A621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74B6-A1C6-444E-B7DF-0AFD36E2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39413-D1C0-488C-A56F-47A4E0B8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50DD-2C63-4362-A66E-4CF61663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39C6-ECEC-41B2-AF0A-DB293571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9574D-D451-4134-B0EE-D2C3798D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CE5FC-69AB-424A-A343-061C54BE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F7BD7-F332-4B84-B039-882BB7C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6A6D6-3EBA-4418-84B6-64B2D259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9BD1B-FF63-4D9F-9CF8-D62F440D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102-E69B-45F9-9F85-09695F5B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27D39-6AFF-4CC5-8329-D153A085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F0C-5989-4CC9-A295-DB343C50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A51-6315-4023-BA32-44388A4D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E05-CF6D-4EF1-968E-08F607BA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0DAA-9AE8-4A3A-88DE-8CEC3F9A362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FDEA-526C-4054-BABF-F5EDEA6543B8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F2B5-1C7E-4726-8A4A-B2FB0C8EF5B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17B5-290A-4E62-8125-63BA63A9841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2E63-91A7-4E2C-B393-6D4EBBD850C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0080" y="993240"/>
            <a:ext cx="6043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lass Repti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4495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ations for life on l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tight scal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occipital condy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one point of attachement of the skull with the vertebral colum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ave 4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7 orders of reptiles, but only members of 4 remain alive toda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lizard copy"/>
          <p:cNvPicPr/>
          <p:nvPr/>
        </p:nvPicPr>
        <p:blipFill>
          <a:blip r:embed="rId1"/>
          <a:stretch/>
        </p:blipFill>
        <p:spPr>
          <a:xfrm>
            <a:off x="5929200" y="2389320"/>
            <a:ext cx="2928960" cy="4325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1611360" y="295200"/>
            <a:ext cx="581832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9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920" y="1937880"/>
            <a:ext cx="3286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8fe9"/>
                </a:solidFill>
                <a:latin typeface="Calibri"/>
              </a:rPr>
              <a:t>Major Concep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577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Mammalian characteristics evolved gradually over a 200-million-year period in the synapsid line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3" descr="therapsid.gif"/>
          <p:cNvPicPr/>
          <p:nvPr/>
        </p:nvPicPr>
        <p:blipFill>
          <a:blip r:embed="rId1"/>
          <a:stretch/>
        </p:blipFill>
        <p:spPr>
          <a:xfrm>
            <a:off x="1093680" y="3514680"/>
            <a:ext cx="6836040" cy="3200400"/>
          </a:xfrm>
          <a:prstGeom prst="rect">
            <a:avLst/>
          </a:prstGeom>
          <a:ln w="0">
            <a:noFill/>
          </a:ln>
        </p:spPr>
      </p:pic>
      <p:sp>
        <p:nvSpPr>
          <p:cNvPr id="310" name="Title 1"/>
          <p:cNvSpPr/>
          <p:nvPr/>
        </p:nvSpPr>
        <p:spPr>
          <a:xfrm>
            <a:off x="428760" y="800280"/>
            <a:ext cx="33955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alibri"/>
              </a:rPr>
              <a:t>Mammal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The skin of mammals is thick and protective and has an insulation covering of hai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3" descr="mammals-pic.jpg"/>
          <p:cNvPicPr/>
          <p:nvPr/>
        </p:nvPicPr>
        <p:blipFill>
          <a:blip r:embed="rId1"/>
          <a:stretch/>
        </p:blipFill>
        <p:spPr>
          <a:xfrm>
            <a:off x="1419120" y="2214720"/>
            <a:ext cx="6367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8571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daptations of teeth and digestive tract allows mammals to exploit a wide variety of food resour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3" descr="beaver_teeth.jpg"/>
          <p:cNvPicPr/>
          <p:nvPr/>
        </p:nvPicPr>
        <p:blipFill>
          <a:blip r:embed="rId1"/>
          <a:stretch/>
        </p:blipFill>
        <p:spPr>
          <a:xfrm>
            <a:off x="685800" y="2295360"/>
            <a:ext cx="2590920" cy="1684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orca-whale-teeth.jpg"/>
          <p:cNvPicPr/>
          <p:nvPr/>
        </p:nvPicPr>
        <p:blipFill>
          <a:blip r:embed="rId2"/>
          <a:stretch/>
        </p:blipFill>
        <p:spPr>
          <a:xfrm>
            <a:off x="6091200" y="2295360"/>
            <a:ext cx="2386080" cy="190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siberian_brown_bear_teeth-1545.jpg"/>
          <p:cNvPicPr/>
          <p:nvPr/>
        </p:nvPicPr>
        <p:blipFill>
          <a:blip r:embed="rId3"/>
          <a:stretch/>
        </p:blipFill>
        <p:spPr>
          <a:xfrm>
            <a:off x="3352680" y="4200480"/>
            <a:ext cx="2514600" cy="1800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847800" y="3938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3429000" y="3438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n Brown Bear -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6429240" y="421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ca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0000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Efficient systems for circulation and gas exchange support the high metabolic rate associated with mammalian endothe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Picture 3" descr="respiratorysystem.gif"/>
          <p:cNvPicPr/>
          <p:nvPr/>
        </p:nvPicPr>
        <p:blipFill>
          <a:blip r:embed="rId1"/>
          <a:stretch/>
        </p:blipFill>
        <p:spPr>
          <a:xfrm>
            <a:off x="5181480" y="2571840"/>
            <a:ext cx="3083040" cy="383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irculatory_system.jpg"/>
          <p:cNvPicPr/>
          <p:nvPr/>
        </p:nvPicPr>
        <p:blipFill>
          <a:blip r:embed="rId2"/>
          <a:stretch/>
        </p:blipFill>
        <p:spPr>
          <a:xfrm>
            <a:off x="1643040" y="2286000"/>
            <a:ext cx="267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2920" y="999720"/>
            <a:ext cx="38289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The brain of mammals has an expanded cerebral cortex that processes information from various sensory structur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548080"/>
            <a:ext cx="4071960" cy="3095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kidney_eng.gif"/>
          <p:cNvPicPr/>
          <p:nvPr/>
        </p:nvPicPr>
        <p:blipFill>
          <a:blip r:embed="rId2"/>
          <a:stretch/>
        </p:blipFill>
        <p:spPr>
          <a:xfrm>
            <a:off x="4714920" y="2571840"/>
            <a:ext cx="4143240" cy="3416040"/>
          </a:xfrm>
          <a:prstGeom prst="rect">
            <a:avLst/>
          </a:prstGeom>
          <a:ln w="0">
            <a:noFill/>
          </a:ln>
        </p:spPr>
      </p:pic>
      <p:sp>
        <p:nvSpPr>
          <p:cNvPr id="326" name="Content Placeholder 2"/>
          <p:cNvSpPr/>
          <p:nvPr/>
        </p:nvSpPr>
        <p:spPr>
          <a:xfrm>
            <a:off x="4457880" y="1071720"/>
            <a:ext cx="4257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Metanephric kidneys permit mammals to excrete urea without excessive wate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0920" y="121428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. Complex behavior patterns enhance mammalian surviv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214200" y="2500200"/>
            <a:ext cx="4000680" cy="2835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330" name="Content Placeholder 2"/>
          <p:cNvSpPr/>
          <p:nvPr/>
        </p:nvSpPr>
        <p:spPr>
          <a:xfrm>
            <a:off x="4714920" y="1214280"/>
            <a:ext cx="39718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Most mammals are viviparous and have reproductive cycles that help ensure internal fertilization and successful developmen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4320" y="1095480"/>
            <a:ext cx="59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Testudines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سلحفاة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4000" y="2071440"/>
            <a:ext cx="5040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0 species of turt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حرية (الترسة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ortois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y sh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ضلو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ق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tead of tee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es of the pectoral gird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زام الصدر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kin bones form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lastr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bottom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4240" y="885600"/>
            <a:ext cx="5873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Crocodylia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ماسيح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2960" y="1714680"/>
            <a:ext cx="44244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1 living species; crocodiles, alligato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4-chambered heart, triangular eye orbits, other skull characteristic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most unchanged in 170 million yea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040" y="691920"/>
            <a:ext cx="4981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Squama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12280" y="1452240"/>
            <a:ext cx="6435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erged 150 million years ago from lepidosa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auria –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erpentes – Sna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Amphisbaenia –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685800" y="6400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Sn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http://t0.gstatic.com/images?q=tbn:ANd9GcRHsOCPSYaFJJ0FFnJAmAbqcWN93nU1z1hm6DURAmhAEvmeBX63ag"/>
          <p:cNvPicPr/>
          <p:nvPr/>
        </p:nvPicPr>
        <p:blipFill>
          <a:blip r:embed="rId1"/>
          <a:stretch/>
        </p:blipFill>
        <p:spPr>
          <a:xfrm>
            <a:off x="228600" y="4191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ttp://t0.gstatic.com/images?q=tbn:ANd9GcRpOCXu3f8xqDMKsR2E_unmdRqDEDf_L6vQPGfOzbsJ4IsMjc3SEQ"/>
          <p:cNvPicPr/>
          <p:nvPr/>
        </p:nvPicPr>
        <p:blipFill>
          <a:blip r:embed="rId2"/>
          <a:stretch/>
        </p:blipFill>
        <p:spPr>
          <a:xfrm>
            <a:off x="3419640" y="4221000"/>
            <a:ext cx="2781000" cy="2206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3673440" y="6400800"/>
            <a:ext cx="21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meleon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حرب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http://www.sciencephoto.com/images/showFullWatermarked.html/Z765165-Speckled_Worm_Lizard-SPL.jpg?id=907650165"/>
          <p:cNvPicPr/>
          <p:nvPr/>
        </p:nvPicPr>
        <p:blipFill>
          <a:blip r:embed="rId3"/>
          <a:stretch/>
        </p:blipFill>
        <p:spPr>
          <a:xfrm>
            <a:off x="6443640" y="4221000"/>
            <a:ext cx="2594160" cy="21909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9"/>
          <p:cNvSpPr/>
          <p:nvPr/>
        </p:nvSpPr>
        <p:spPr>
          <a:xfrm>
            <a:off x="6659640" y="638172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m Lizard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سح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auria – the Lizard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8380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, 500 species of lizards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au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liz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and lower jaws unite anterio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a variety of habit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http://t1.gstatic.com/images?q=tbn:ANd9GcR0pcGD6tNq1b1P3FW1n2F0sTB5zPffO0tLhiHp0_aBXpKcBbqm"/>
          <p:cNvPicPr/>
          <p:nvPr/>
        </p:nvPicPr>
        <p:blipFill>
          <a:blip r:embed="rId1"/>
          <a:stretch/>
        </p:blipFill>
        <p:spPr>
          <a:xfrm>
            <a:off x="152280" y="41148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2286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lled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http://nzcryptozoology.ucoz.com/NZCryptozoology/varanid.jpg"/>
          <p:cNvPicPr/>
          <p:nvPr/>
        </p:nvPicPr>
        <p:blipFill>
          <a:blip r:embed="rId2"/>
          <a:stretch/>
        </p:blipFill>
        <p:spPr>
          <a:xfrm>
            <a:off x="6400800" y="3048120"/>
            <a:ext cx="2666880" cy="3557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"/>
          <p:cNvSpPr/>
          <p:nvPr/>
        </p:nvSpPr>
        <p:spPr>
          <a:xfrm>
            <a:off x="5257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6" descr="http://t2.gstatic.com/images?q=tbn:ANd9GcRBK8zlgKsk_ruf_vBFeOs_PYUO8-OUZEFRIdpkmwTEV_HlQFBQFA"/>
          <p:cNvPicPr/>
          <p:nvPr/>
        </p:nvPicPr>
        <p:blipFill>
          <a:blip r:embed="rId3"/>
          <a:stretch/>
        </p:blipFill>
        <p:spPr>
          <a:xfrm>
            <a:off x="2590920" y="42670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8"/>
          <p:cNvSpPr/>
          <p:nvPr/>
        </p:nvSpPr>
        <p:spPr>
          <a:xfrm>
            <a:off x="28954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ma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8" descr="http://t3.gstatic.com/images?q=tbn:ANd9GcQiwMM8gLA17DvPE45rfuqfvJjHNaeMNpAPiUnHqtPWOhYUSPjqZQ"/>
          <p:cNvPicPr/>
          <p:nvPr/>
        </p:nvPicPr>
        <p:blipFill>
          <a:blip r:embed="rId4"/>
          <a:stretch/>
        </p:blipFill>
        <p:spPr>
          <a:xfrm>
            <a:off x="6400800" y="8380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6629400" y="2590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-tongue Sk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" y="7142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erpentes- The Snak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1280" y="2066400"/>
            <a:ext cx="51055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bout 2,900 species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erp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craw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rmles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about 300 species are venom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per jaws are movable on the skull and upper and lower jaws loosely joined by flexible ligaments, so each half can move independently – allows swallowing large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AutoShape 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http://www.naturephoto-cz.com/photos/sevcik/indian-cobra--naja-naja-2.jpg"/>
          <p:cNvPicPr/>
          <p:nvPr/>
        </p:nvPicPr>
        <p:blipFill>
          <a:blip r:embed="rId1"/>
          <a:stretch/>
        </p:blipFill>
        <p:spPr>
          <a:xfrm>
            <a:off x="5219640" y="1306440"/>
            <a:ext cx="3840120" cy="2765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0" descr="http://www.uta.edu/biology/campbell/guatemala/images/Micrurus_diastema.JPG"/>
          <p:cNvPicPr/>
          <p:nvPr/>
        </p:nvPicPr>
        <p:blipFill>
          <a:blip r:embed="rId2"/>
          <a:stretch/>
        </p:blipFill>
        <p:spPr>
          <a:xfrm>
            <a:off x="5148360" y="41911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29718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Class A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ppendages modified as wing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Bird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ssess a horny bill and lack teeth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928800"/>
            <a:ext cx="540072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phenisciformes – Penguin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ري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avy bodied, flightless flipper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زعنف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ke wings for swimming, with insulated with f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penguins.jpg"/>
          <p:cNvPicPr/>
          <p:nvPr/>
        </p:nvPicPr>
        <p:blipFill>
          <a:blip r:embed="rId1"/>
          <a:stretch/>
        </p:blipFill>
        <p:spPr>
          <a:xfrm>
            <a:off x="5748480" y="857160"/>
            <a:ext cx="323820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6357960" y="3314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4214880"/>
            <a:ext cx="461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trigiformes – Ow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; raptorial foo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5715000" y="392904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6678720" y="6286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 ow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999720"/>
            <a:ext cx="4829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Anseriforms – Ducks, Geese and Swans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ج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de flat bill and an undercoat of dense down; webbed f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3" descr="ducks.jpg"/>
          <p:cNvPicPr/>
          <p:nvPr/>
        </p:nvPicPr>
        <p:blipFill>
          <a:blip r:embed="rId1"/>
          <a:stretch/>
        </p:blipFill>
        <p:spPr>
          <a:xfrm>
            <a:off x="5678640" y="928800"/>
            <a:ext cx="2608200" cy="2643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5591160" y="3571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emale Mallard Du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decorative Dove.jpg"/>
          <p:cNvPicPr/>
          <p:nvPr/>
        </p:nvPicPr>
        <p:blipFill>
          <a:blip r:embed="rId2"/>
          <a:stretch/>
        </p:blipFill>
        <p:spPr>
          <a:xfrm>
            <a:off x="5483160" y="414828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643720" y="635796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Decorative D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571680" y="4214880"/>
            <a:ext cx="4114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olumbiformes – Pigeons and Do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, well developed 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المستخدم</cp:lastModifiedBy>
  <cp:lastPrinted>2001-01-06T03:20:03Z</cp:lastPrinted>
  <dcterms:modified xsi:type="dcterms:W3CDTF">2014-04-02T07:33:22Z</dcterms:modified>
  <cp:revision>404</cp:revision>
  <dc:subject/>
  <dc:title>Nerve activates contraction</dc:title>
</cp:coreProperties>
</file>