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44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0.jpeg" ContentType="image/jpeg"/>
  <Override PartName="/ppt/media/image13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E613-93DB-45AD-B9B9-E9AD9141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4C18-B9B4-4B81-BBA0-2F8BAB20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A31-28BF-46C1-ACE8-5B0A7509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89F2-7E02-4A0E-BA34-339E5A0B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CA6C-79AF-46EC-B4F0-5194B81A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186B-9814-41E4-94CD-22C42DFB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2072-FE69-40EC-8018-3866CE46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04CD-F63A-414F-BBC5-3D27AAB9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6C22-4D4E-4C67-A824-8449AB81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50AB-EBB2-4D2C-86B6-309A87EF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FF15-66E9-4253-B618-25D905E9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F5D0-3D0D-4579-88C1-9FE3F86C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31B1-6D98-4D88-850E-38AE6844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46D9-2B15-435A-B800-987E0B3D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9669-1F92-4B84-A42F-6F29104A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DC2C-AD8B-4B16-82B1-5905210D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7C49-C584-4211-98CF-40C9A26A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E640F-6CB6-4BC6-8E0F-4DC16BC0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A2F4B-4F8B-4599-9241-DEB470E0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D1400-C3D1-4324-B8BE-FB9339F4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98B16-FBA1-4E1A-8035-396D7787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25195-F16E-4BA8-BFFD-36F08375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C5FD-FA92-4D64-9353-E1573164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8D37D-F100-4FD0-A1F5-93714E0F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83C48-BD84-4BE2-97AE-D44F0D39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81E49-8A88-4B04-99FA-98C54EC2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120AF-1806-46DA-8F5D-87FCD182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B7517-1CD4-42F7-AFA8-49F8E521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70E1D-6C16-4E97-8358-C87CB0EC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EEAB9-2F3A-44D7-8EDF-6A83A3B5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B9414-9C18-4A40-A95F-4A548402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26B41-EDE7-42B4-A238-B10EBBC0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5C63F-44D8-4B5A-B5A9-0828F118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169D-D984-49CF-BD10-2FC22913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A3379-3736-4720-88CF-771FCE4E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2DFBF-7011-45A3-80BD-3E8909E1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151B9-AA44-4455-8419-EDC50E71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6014A-035F-47B6-A3DA-B0E70DE3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6EC63-1C80-423C-8CD3-B08E0B40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57314-5C25-4BB7-831D-66065768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C0AF3-2F93-4518-80E2-E4665F83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CE0AE-01DD-4FBA-A0F6-A3081B40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C9A1F-7D25-451A-87EF-DA3B8AAC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569B8-917D-4E1B-ABBE-80310BB5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33A5-7177-4CB5-BC68-3CC043B9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0377D-A134-414E-A1E3-0D942832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A4908-B4E3-4298-AFC6-06C80746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246D6-29FE-4171-833C-E789E5A4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8BE5A-9467-42A6-9877-0A60440E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D36B9-BC38-4862-9372-5ACED2A3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54777-8B24-4C49-B3E2-C539C1CC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9AF70-C0E1-41BE-AA28-2280BB4A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0165E-6120-4687-B4C5-C824D6E6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1EC82-F204-4918-9C6B-832A9C8C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C04F5-5115-4733-9476-D85E2B49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0F1E-E4D5-44B9-89CE-CDE6556E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65C3C-E149-469E-8907-65D3CB1C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9D90-BB5D-4EA5-A5D6-4FB4257E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6699-454A-4758-B089-3C850A04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A03F-EC1A-47C6-A352-C5B71B1C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1115-F6DA-4A32-A991-7C22F45BE36D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2FB5-7381-47F7-B58D-C3693D595C34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D445-AB97-414F-888C-0044EBC6088C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EDFD-8E63-4E4D-ADA2-29625B8D07ED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E69E-E6AF-43EA-AC1C-60C2DD4DC5A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animals.nationalgeographic.com/animals/enlarge/gavial_image.html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00080" y="993240"/>
            <a:ext cx="60436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lass Reptili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2960" y="1928520"/>
            <a:ext cx="44956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aptations for life on l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mniotic eg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ter-tight scal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n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occipital condyle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– one point of attachement of the skull with the vertebral colum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ter-conserving kidne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ree-chambered hear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rocodilians have 4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aws for digging and locomo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mproved Respiratory System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oss of Lateral Line System of fish and amphibia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7 orders of reptiles, but only members of 4 remain alive toda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7" descr="lizard copy"/>
          <p:cNvPicPr/>
          <p:nvPr/>
        </p:nvPicPr>
        <p:blipFill>
          <a:blip r:embed="rId1"/>
          <a:stretch/>
        </p:blipFill>
        <p:spPr>
          <a:xfrm>
            <a:off x="5929200" y="2389320"/>
            <a:ext cx="2928960" cy="43257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2"/>
          <p:cNvSpPr/>
          <p:nvPr/>
        </p:nvSpPr>
        <p:spPr>
          <a:xfrm>
            <a:off x="1611360" y="295200"/>
            <a:ext cx="5818320" cy="56196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9: Animal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214200" y="1143000"/>
            <a:ext cx="450072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der Gaviiformes – Lo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trong straight bill diving adaptations include legs far back on bod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0" name="Picture 4" descr="common_loons.jpg"/>
          <p:cNvPicPr/>
          <p:nvPr/>
        </p:nvPicPr>
        <p:blipFill>
          <a:blip r:embed="rId1"/>
          <a:stretch/>
        </p:blipFill>
        <p:spPr>
          <a:xfrm>
            <a:off x="4929120" y="85716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311" name="TextBox 5"/>
          <p:cNvSpPr/>
          <p:nvPr/>
        </p:nvSpPr>
        <p:spPr>
          <a:xfrm>
            <a:off x="5572080" y="30718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Lo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3" descr="albatross.jpg"/>
          <p:cNvPicPr/>
          <p:nvPr/>
        </p:nvPicPr>
        <p:blipFill>
          <a:blip r:embed="rId2"/>
          <a:stretch/>
        </p:blipFill>
        <p:spPr>
          <a:xfrm>
            <a:off x="5000760" y="3500280"/>
            <a:ext cx="3419280" cy="262908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4714920" y="614988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ndering Albatross – wing span 11’1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Content Placeholder 2"/>
          <p:cNvSpPr/>
          <p:nvPr/>
        </p:nvSpPr>
        <p:spPr>
          <a:xfrm>
            <a:off x="214200" y="3714840"/>
            <a:ext cx="48294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der Procellariiformes – Albatro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Large nasal glands, Long and Narrow W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121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der Ciconiiformes – flamingos, storks, her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ng neck, often folded in flight, long legged wa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6" name="Picture 3" descr="Flamingos.jpg"/>
          <p:cNvPicPr/>
          <p:nvPr/>
        </p:nvPicPr>
        <p:blipFill>
          <a:blip r:embed="rId1"/>
          <a:stretch/>
        </p:blipFill>
        <p:spPr>
          <a:xfrm>
            <a:off x="228600" y="2643120"/>
            <a:ext cx="3038400" cy="2281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storks.jpg"/>
          <p:cNvPicPr/>
          <p:nvPr/>
        </p:nvPicPr>
        <p:blipFill>
          <a:blip r:embed="rId2"/>
          <a:stretch/>
        </p:blipFill>
        <p:spPr>
          <a:xfrm>
            <a:off x="3790800" y="3000240"/>
            <a:ext cx="2281320" cy="1947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heron-great-blue.jpg"/>
          <p:cNvPicPr/>
          <p:nvPr/>
        </p:nvPicPr>
        <p:blipFill>
          <a:blip r:embed="rId3"/>
          <a:stretch/>
        </p:blipFill>
        <p:spPr>
          <a:xfrm>
            <a:off x="6705720" y="2571840"/>
            <a:ext cx="2114280" cy="320040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57120" y="50007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Chilean Flamin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3938760" y="5072040"/>
            <a:ext cx="19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White St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8"/>
          <p:cNvSpPr/>
          <p:nvPr/>
        </p:nvSpPr>
        <p:spPr>
          <a:xfrm>
            <a:off x="6496200" y="5857920"/>
            <a:ext cx="25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Great Blue H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999720"/>
            <a:ext cx="482904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der Anseriforms – Ducks, Geese and Sw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de flat bill and an undercoat of dense down; webbed fe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Picture 3" descr="ducks.jpg"/>
          <p:cNvPicPr/>
          <p:nvPr/>
        </p:nvPicPr>
        <p:blipFill>
          <a:blip r:embed="rId1"/>
          <a:stretch/>
        </p:blipFill>
        <p:spPr>
          <a:xfrm>
            <a:off x="5678640" y="928800"/>
            <a:ext cx="2608200" cy="26431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4"/>
          <p:cNvSpPr/>
          <p:nvPr/>
        </p:nvSpPr>
        <p:spPr>
          <a:xfrm>
            <a:off x="5591160" y="3571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emale Mallard Du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3" descr="decorative Dove.jpg"/>
          <p:cNvPicPr/>
          <p:nvPr/>
        </p:nvPicPr>
        <p:blipFill>
          <a:blip r:embed="rId2"/>
          <a:stretch/>
        </p:blipFill>
        <p:spPr>
          <a:xfrm>
            <a:off x="5483160" y="4148280"/>
            <a:ext cx="2946600" cy="2209680"/>
          </a:xfrm>
          <a:prstGeom prst="rect">
            <a:avLst/>
          </a:prstGeom>
          <a:ln w="0">
            <a:noFill/>
          </a:ln>
        </p:spPr>
      </p:pic>
      <p:sp>
        <p:nvSpPr>
          <p:cNvPr id="326" name="TextBox 4"/>
          <p:cNvSpPr/>
          <p:nvPr/>
        </p:nvSpPr>
        <p:spPr>
          <a:xfrm>
            <a:off x="5643720" y="6357960"/>
            <a:ext cx="27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Decorative D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Content Placeholder 2"/>
          <p:cNvSpPr/>
          <p:nvPr/>
        </p:nvSpPr>
        <p:spPr>
          <a:xfrm>
            <a:off x="571680" y="4214880"/>
            <a:ext cx="411480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der Columbiformes – Pigeons and Do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Dense Feathers loosely set in skin, well developed c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1214280"/>
            <a:ext cx="4400640" cy="21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der Psittaciiforms – Parrots, lories, macaw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axilla hinged to skull, thick tongue; reversible fourth toe, usually brightly colore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9" name="Picture 3" descr="macaw1.jpg"/>
          <p:cNvPicPr/>
          <p:nvPr/>
        </p:nvPicPr>
        <p:blipFill>
          <a:blip r:embed="rId1"/>
          <a:stretch/>
        </p:blipFill>
        <p:spPr>
          <a:xfrm>
            <a:off x="5619600" y="1000080"/>
            <a:ext cx="3081600" cy="2357640"/>
          </a:xfrm>
          <a:prstGeom prst="rect">
            <a:avLst/>
          </a:prstGeom>
          <a:ln w="0">
            <a:noFill/>
          </a:ln>
        </p:spPr>
      </p:pic>
      <p:sp>
        <p:nvSpPr>
          <p:cNvPr id="330" name="TextBox 4"/>
          <p:cNvSpPr/>
          <p:nvPr/>
        </p:nvSpPr>
        <p:spPr>
          <a:xfrm>
            <a:off x="6348240" y="3314880"/>
            <a:ext cx="186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carlet Mac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2" descr="http://www.polkcountybirds.com/images/Barn_Owl_1.jpg"/>
          <p:cNvPicPr/>
          <p:nvPr/>
        </p:nvPicPr>
        <p:blipFill>
          <a:blip r:embed="rId2"/>
          <a:stretch/>
        </p:blipFill>
        <p:spPr>
          <a:xfrm>
            <a:off x="5715000" y="3929040"/>
            <a:ext cx="3024360" cy="241920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7"/>
          <p:cNvSpPr/>
          <p:nvPr/>
        </p:nvSpPr>
        <p:spPr>
          <a:xfrm>
            <a:off x="6678720" y="62866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n ow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Content Placeholder 2"/>
          <p:cNvSpPr/>
          <p:nvPr/>
        </p:nvSpPr>
        <p:spPr>
          <a:xfrm>
            <a:off x="457200" y="4214880"/>
            <a:ext cx="46148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der Strigiformes – Ow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Large head with eyes fixed forward; raptorial foot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0920" y="1937880"/>
            <a:ext cx="3286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8fe9"/>
                </a:solidFill>
                <a:latin typeface="Calibri"/>
              </a:rPr>
              <a:t>Major Concept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25779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Mammalian characteristics evolved gradually over a 200-million-year period in the synapsid linea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6" name="Picture 3" descr="therapsid.gif"/>
          <p:cNvPicPr/>
          <p:nvPr/>
        </p:nvPicPr>
        <p:blipFill>
          <a:blip r:embed="rId1"/>
          <a:stretch/>
        </p:blipFill>
        <p:spPr>
          <a:xfrm>
            <a:off x="1093680" y="3514680"/>
            <a:ext cx="6836040" cy="3200400"/>
          </a:xfrm>
          <a:prstGeom prst="rect">
            <a:avLst/>
          </a:prstGeom>
          <a:ln w="0">
            <a:noFill/>
          </a:ln>
        </p:spPr>
      </p:pic>
      <p:sp>
        <p:nvSpPr>
          <p:cNvPr id="337" name="Title 1"/>
          <p:cNvSpPr/>
          <p:nvPr/>
        </p:nvSpPr>
        <p:spPr>
          <a:xfrm>
            <a:off x="428760" y="800280"/>
            <a:ext cx="339552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48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Calibri"/>
              </a:rPr>
              <a:t>Mammal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7200" y="114264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The skin of mammals is thick and protective and has an insulation covering of hai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9" name="Picture 3" descr="mammals-pic.jpg"/>
          <p:cNvPicPr/>
          <p:nvPr/>
        </p:nvPicPr>
        <p:blipFill>
          <a:blip r:embed="rId1"/>
          <a:stretch/>
        </p:blipFill>
        <p:spPr>
          <a:xfrm>
            <a:off x="1419120" y="2214720"/>
            <a:ext cx="63676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57200" y="85716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Adaptations of teeth and digestive tract allows mammals to exploit a wide variety of food resourc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Picture 3" descr="beaver_teeth.jpg"/>
          <p:cNvPicPr/>
          <p:nvPr/>
        </p:nvPicPr>
        <p:blipFill>
          <a:blip r:embed="rId1"/>
          <a:stretch/>
        </p:blipFill>
        <p:spPr>
          <a:xfrm>
            <a:off x="685800" y="2295360"/>
            <a:ext cx="2590920" cy="1684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orca-whale-teeth.jpg"/>
          <p:cNvPicPr/>
          <p:nvPr/>
        </p:nvPicPr>
        <p:blipFill>
          <a:blip r:embed="rId2"/>
          <a:stretch/>
        </p:blipFill>
        <p:spPr>
          <a:xfrm>
            <a:off x="6091200" y="2295360"/>
            <a:ext cx="2386080" cy="1905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siberian_brown_bear_teeth-1545.jpg"/>
          <p:cNvPicPr/>
          <p:nvPr/>
        </p:nvPicPr>
        <p:blipFill>
          <a:blip r:embed="rId3"/>
          <a:stretch/>
        </p:blipFill>
        <p:spPr>
          <a:xfrm>
            <a:off x="3352680" y="4200480"/>
            <a:ext cx="2514600" cy="1800360"/>
          </a:xfrm>
          <a:prstGeom prst="rect">
            <a:avLst/>
          </a:prstGeom>
          <a:ln w="0">
            <a:noFill/>
          </a:ln>
        </p:spPr>
      </p:pic>
      <p:sp>
        <p:nvSpPr>
          <p:cNvPr id="344" name="TextBox 6"/>
          <p:cNvSpPr/>
          <p:nvPr/>
        </p:nvSpPr>
        <p:spPr>
          <a:xfrm>
            <a:off x="847800" y="39387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ver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3429000" y="34383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berian Brown Bear -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Box 8"/>
          <p:cNvSpPr/>
          <p:nvPr/>
        </p:nvSpPr>
        <p:spPr>
          <a:xfrm>
            <a:off x="6429240" y="42116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ca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0000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Efficient systems for circulation and gas exchange support the high metabolic rate associated with mammalian endotherm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8" name="Picture 3" descr="respiratorysystem.gif"/>
          <p:cNvPicPr/>
          <p:nvPr/>
        </p:nvPicPr>
        <p:blipFill>
          <a:blip r:embed="rId1"/>
          <a:stretch/>
        </p:blipFill>
        <p:spPr>
          <a:xfrm>
            <a:off x="5181480" y="2571840"/>
            <a:ext cx="3083040" cy="38383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circulatory_system.jpg"/>
          <p:cNvPicPr/>
          <p:nvPr/>
        </p:nvPicPr>
        <p:blipFill>
          <a:blip r:embed="rId2"/>
          <a:stretch/>
        </p:blipFill>
        <p:spPr>
          <a:xfrm>
            <a:off x="1643040" y="2286000"/>
            <a:ext cx="26766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42920" y="999720"/>
            <a:ext cx="3828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. The brain of mammals has an expanded cerebral cortex that processes information from various sensory structure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1" name="Picture 3" descr="cerebral_cortex.jpg"/>
          <p:cNvPicPr/>
          <p:nvPr/>
        </p:nvPicPr>
        <p:blipFill>
          <a:blip r:embed="rId1"/>
          <a:stretch/>
        </p:blipFill>
        <p:spPr>
          <a:xfrm>
            <a:off x="214200" y="2548080"/>
            <a:ext cx="4071960" cy="30956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kidney_eng.gif"/>
          <p:cNvPicPr/>
          <p:nvPr/>
        </p:nvPicPr>
        <p:blipFill>
          <a:blip r:embed="rId2"/>
          <a:stretch/>
        </p:blipFill>
        <p:spPr>
          <a:xfrm>
            <a:off x="4714920" y="2571840"/>
            <a:ext cx="4143240" cy="3416040"/>
          </a:xfrm>
          <a:prstGeom prst="rect">
            <a:avLst/>
          </a:prstGeom>
          <a:ln w="0">
            <a:noFill/>
          </a:ln>
        </p:spPr>
      </p:pic>
      <p:sp>
        <p:nvSpPr>
          <p:cNvPr id="353" name="Content Placeholder 2"/>
          <p:cNvSpPr/>
          <p:nvPr/>
        </p:nvSpPr>
        <p:spPr>
          <a:xfrm>
            <a:off x="4457880" y="1071720"/>
            <a:ext cx="42573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6. Metanephric kidneys permit mammals to excrete urea without excessive water lo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70920" y="1214280"/>
            <a:ext cx="371484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7. Complex behavior patterns enhance mammalian survival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5" name="Picture 3" descr="061030_elephantknows_hmed_1230p_grid-6x2.jpg"/>
          <p:cNvPicPr/>
          <p:nvPr/>
        </p:nvPicPr>
        <p:blipFill>
          <a:blip r:embed="rId1"/>
          <a:stretch/>
        </p:blipFill>
        <p:spPr>
          <a:xfrm>
            <a:off x="214200" y="2500200"/>
            <a:ext cx="4000680" cy="2835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lion-mom-&amp;-cub-Mashatu.jpg"/>
          <p:cNvPicPr/>
          <p:nvPr/>
        </p:nvPicPr>
        <p:blipFill>
          <a:blip r:embed="rId2"/>
          <a:stretch/>
        </p:blipFill>
        <p:spPr>
          <a:xfrm>
            <a:off x="4572000" y="2786040"/>
            <a:ext cx="4286160" cy="2857680"/>
          </a:xfrm>
          <a:prstGeom prst="rect">
            <a:avLst/>
          </a:prstGeom>
          <a:ln w="0">
            <a:noFill/>
          </a:ln>
        </p:spPr>
      </p:pic>
      <p:sp>
        <p:nvSpPr>
          <p:cNvPr id="357" name="Content Placeholder 2"/>
          <p:cNvSpPr/>
          <p:nvPr/>
        </p:nvSpPr>
        <p:spPr>
          <a:xfrm>
            <a:off x="4714920" y="1214280"/>
            <a:ext cx="397188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8. Most mammals are viviparous and have reproductive cycles that help ensure internal fertilization and successful development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14320" y="1095480"/>
            <a:ext cx="59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Testudin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90560" y="2071800"/>
            <a:ext cx="449568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00 species of turtles and tortois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ony shel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imbs articulate internally to the rib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eratinized beak instead of teet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usion of vertebrae, ribs and skin bones form plates –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arapac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top of the shel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ones of the pectoral girdle and skin bones form –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plastr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bottom of the shel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11" descr="Turtle"/>
          <p:cNvPicPr/>
          <p:nvPr/>
        </p:nvPicPr>
        <p:blipFill>
          <a:blip r:embed="rId1"/>
          <a:stretch/>
        </p:blipFill>
        <p:spPr>
          <a:xfrm>
            <a:off x="5429160" y="2736720"/>
            <a:ext cx="36435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14240" y="885600"/>
            <a:ext cx="4400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Crocodyli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42960" y="1714680"/>
            <a:ext cx="4424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1 living species; crocodiles, alligators, caiman, and gavia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atomically closer to birds and dinosaurs than other reptiles (have 4-chambered heart, triangular eye orbits, other skull characteristic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most unchanged in 170 million yea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2" descr="Photo: A saltwater crocodile on a beach"/>
          <p:cNvPicPr/>
          <p:nvPr/>
        </p:nvPicPr>
        <p:blipFill>
          <a:blip r:embed="rId1"/>
          <a:stretch/>
        </p:blipFill>
        <p:spPr>
          <a:xfrm>
            <a:off x="785880" y="4770360"/>
            <a:ext cx="2211480" cy="16588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/>
          <p:cNvSpPr/>
          <p:nvPr/>
        </p:nvSpPr>
        <p:spPr>
          <a:xfrm>
            <a:off x="671400" y="6357960"/>
            <a:ext cx="24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ltwater C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4" descr="Photo: American alligator basking on a riverbank"/>
          <p:cNvPicPr/>
          <p:nvPr/>
        </p:nvPicPr>
        <p:blipFill>
          <a:blip r:embed="rId2"/>
          <a:stretch/>
        </p:blipFill>
        <p:spPr>
          <a:xfrm>
            <a:off x="3571920" y="4754520"/>
            <a:ext cx="2219400" cy="16653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3490920" y="6400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erican Allig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6" descr="Image of: Caiman crocodilus (spectacled caiman)"/>
          <p:cNvPicPr/>
          <p:nvPr/>
        </p:nvPicPr>
        <p:blipFill>
          <a:blip r:embed="rId3"/>
          <a:stretch/>
        </p:blipFill>
        <p:spPr>
          <a:xfrm>
            <a:off x="5786280" y="2533680"/>
            <a:ext cx="3176640" cy="17524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8"/>
          <p:cNvSpPr/>
          <p:nvPr/>
        </p:nvSpPr>
        <p:spPr>
          <a:xfrm>
            <a:off x="6400800" y="428616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n Cai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8" descr="Photo: A gharial shows its characteristic long narrow snou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86680" y="4754520"/>
            <a:ext cx="2531880" cy="1746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0"/>
          <p:cNvSpPr/>
          <p:nvPr/>
        </p:nvSpPr>
        <p:spPr>
          <a:xfrm>
            <a:off x="6529320" y="645804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vial or Gha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Gharial (</a:t>
            </a:r>
            <a:r>
              <a:rPr b="0" i="1" lang="en-US" sz="4500" spc="-1" strike="noStrike">
                <a:solidFill>
                  <a:srgbClr val="04617b"/>
                </a:solidFill>
                <a:latin typeface="Calibri"/>
              </a:rPr>
              <a:t>Gavialis gangeticus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Picture 2" descr="http://www.gharialconservation.org/images/MaleHead.jpg"/>
          <p:cNvPicPr/>
          <p:nvPr/>
        </p:nvPicPr>
        <p:blipFill>
          <a:blip r:embed="rId1"/>
          <a:stretch/>
        </p:blipFill>
        <p:spPr>
          <a:xfrm>
            <a:off x="4572000" y="4815000"/>
            <a:ext cx="4354560" cy="1828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http://www.gharialconservation.org/images/femaleheadSureshChaudhari.jpg"/>
          <p:cNvPicPr/>
          <p:nvPr/>
        </p:nvPicPr>
        <p:blipFill>
          <a:blip r:embed="rId2"/>
          <a:stretch/>
        </p:blipFill>
        <p:spPr>
          <a:xfrm>
            <a:off x="200160" y="3963960"/>
            <a:ext cx="3657600" cy="1536840"/>
          </a:xfrm>
          <a:prstGeom prst="rect">
            <a:avLst/>
          </a:prstGeom>
          <a:ln w="0">
            <a:noFill/>
          </a:ln>
        </p:spPr>
      </p:pic>
      <p:sp>
        <p:nvSpPr>
          <p:cNvPr id="265" name="TextBox 7"/>
          <p:cNvSpPr/>
          <p:nvPr/>
        </p:nvSpPr>
        <p:spPr>
          <a:xfrm>
            <a:off x="457200" y="1995480"/>
            <a:ext cx="782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eth and jaws specially adapted to eat fish and crustace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 threat to hum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than  200 breeding adults left in the wi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8"/>
          <p:cNvSpPr/>
          <p:nvPr/>
        </p:nvSpPr>
        <p:spPr>
          <a:xfrm>
            <a:off x="3886200" y="3595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male Gh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9"/>
          <p:cNvSpPr/>
          <p:nvPr/>
        </p:nvSpPr>
        <p:spPr>
          <a:xfrm>
            <a:off x="2819520" y="557676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le Gh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>
            <a:off x="4952880" y="405288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Ghar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bulbous growth of adult males used to blow bubbles and produce sound to attract ma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Straight Arrow Connector 14"/>
          <p:cNvCxnSpPr/>
          <p:nvPr/>
        </p:nvCxnSpPr>
        <p:spPr>
          <a:xfrm flipH="1">
            <a:off x="5257440" y="4586040"/>
            <a:ext cx="53424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49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Squamat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2280" y="838080"/>
            <a:ext cx="6477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quam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scale +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t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to bear; lizards, snakes, worm liz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verged 150 million years ago from lepidosa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Sauria – Liz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Serpentes – Snak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Amphisbaenia – Worm Liz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685800" y="64008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al Sn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4" descr="http://t0.gstatic.com/images?q=tbn:ANd9GcRHsOCPSYaFJJ0FFnJAmAbqcWN93nU1z1hm6DURAmhAEvmeBX63ag"/>
          <p:cNvPicPr/>
          <p:nvPr/>
        </p:nvPicPr>
        <p:blipFill>
          <a:blip r:embed="rId1"/>
          <a:stretch/>
        </p:blipFill>
        <p:spPr>
          <a:xfrm>
            <a:off x="228600" y="4191120"/>
            <a:ext cx="2971800" cy="22255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http://t0.gstatic.com/images?q=tbn:ANd9GcRpOCXu3f8xqDMKsR2E_unmdRqDEDf_L6vQPGfOzbsJ4IsMjc3SEQ"/>
          <p:cNvPicPr/>
          <p:nvPr/>
        </p:nvPicPr>
        <p:blipFill>
          <a:blip r:embed="rId2"/>
          <a:stretch/>
        </p:blipFill>
        <p:spPr>
          <a:xfrm>
            <a:off x="4572000" y="4191120"/>
            <a:ext cx="2781360" cy="2206440"/>
          </a:xfrm>
          <a:prstGeom prst="rect">
            <a:avLst/>
          </a:prstGeom>
          <a:ln w="0">
            <a:noFill/>
          </a:ln>
        </p:spPr>
      </p:pic>
      <p:sp>
        <p:nvSpPr>
          <p:cNvPr id="275" name="TextBox 7"/>
          <p:cNvSpPr/>
          <p:nvPr/>
        </p:nvSpPr>
        <p:spPr>
          <a:xfrm>
            <a:off x="5257800" y="6400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mele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8" descr="http://www.sciencephoto.com/images/showFullWatermarked.html/Z765165-Speckled_Worm_Lizard-SPL.jpg?id=907650165"/>
          <p:cNvPicPr/>
          <p:nvPr/>
        </p:nvPicPr>
        <p:blipFill>
          <a:blip r:embed="rId3"/>
          <a:stretch/>
        </p:blipFill>
        <p:spPr>
          <a:xfrm>
            <a:off x="5608800" y="1066680"/>
            <a:ext cx="3385800" cy="2313000"/>
          </a:xfrm>
          <a:prstGeom prst="rect">
            <a:avLst/>
          </a:prstGeom>
          <a:ln w="0">
            <a:noFill/>
          </a:ln>
        </p:spPr>
      </p:pic>
      <p:sp>
        <p:nvSpPr>
          <p:cNvPr id="277" name="TextBox 9"/>
          <p:cNvSpPr/>
          <p:nvPr/>
        </p:nvSpPr>
        <p:spPr>
          <a:xfrm>
            <a:off x="7176960" y="34290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m Liz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order Sauria – the Lizard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51920" y="838080"/>
            <a:ext cx="6172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, 500 species of lizards;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sauro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lizar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ually have two pairs of le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pper and lower jaws unite anterior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are oviparous, some are ovoviviparous or viviparo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rbivorous, omnivorous, and carnivoro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ve in a variety of habita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0" name="Picture 2" descr="http://t1.gstatic.com/images?q=tbn:ANd9GcR0pcGD6tNq1b1P3FW1n2F0sTB5zPffO0tLhiHp0_aBXpKcBbqm"/>
          <p:cNvPicPr/>
          <p:nvPr/>
        </p:nvPicPr>
        <p:blipFill>
          <a:blip r:embed="rId1"/>
          <a:stretch/>
        </p:blipFill>
        <p:spPr>
          <a:xfrm>
            <a:off x="152280" y="4114800"/>
            <a:ext cx="2276640" cy="2009880"/>
          </a:xfrm>
          <a:prstGeom prst="rect">
            <a:avLst/>
          </a:prstGeom>
          <a:ln w="0">
            <a:noFill/>
          </a:ln>
        </p:spPr>
      </p:pic>
      <p:sp>
        <p:nvSpPr>
          <p:cNvPr id="281" name="TextBox 4"/>
          <p:cNvSpPr/>
          <p:nvPr/>
        </p:nvSpPr>
        <p:spPr>
          <a:xfrm>
            <a:off x="228600" y="6172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lled Liz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4" descr="http://nzcryptozoology.ucoz.com/NZCryptozoology/varanid.jpg"/>
          <p:cNvPicPr/>
          <p:nvPr/>
        </p:nvPicPr>
        <p:blipFill>
          <a:blip r:embed="rId2"/>
          <a:stretch/>
        </p:blipFill>
        <p:spPr>
          <a:xfrm>
            <a:off x="6400800" y="3048120"/>
            <a:ext cx="2666880" cy="3557520"/>
          </a:xfrm>
          <a:prstGeom prst="rect">
            <a:avLst/>
          </a:prstGeom>
          <a:ln w="0">
            <a:noFill/>
          </a:ln>
        </p:spPr>
      </p:pic>
      <p:sp>
        <p:nvSpPr>
          <p:cNvPr id="283" name="TextBox 6"/>
          <p:cNvSpPr/>
          <p:nvPr/>
        </p:nvSpPr>
        <p:spPr>
          <a:xfrm>
            <a:off x="5257800" y="594360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s 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6" descr="http://t2.gstatic.com/images?q=tbn:ANd9GcRBK8zlgKsk_ruf_vBFeOs_PYUO8-OUZEFRIdpkmwTEV_HlQFBQFA"/>
          <p:cNvPicPr/>
          <p:nvPr/>
        </p:nvPicPr>
        <p:blipFill>
          <a:blip r:embed="rId3"/>
          <a:stretch/>
        </p:blipFill>
        <p:spPr>
          <a:xfrm>
            <a:off x="2590920" y="4267080"/>
            <a:ext cx="2705040" cy="1685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8"/>
          <p:cNvSpPr/>
          <p:nvPr/>
        </p:nvSpPr>
        <p:spPr>
          <a:xfrm>
            <a:off x="2895480" y="60199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ama Liz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8" descr="http://t3.gstatic.com/images?q=tbn:ANd9GcQiwMM8gLA17DvPE45rfuqfvJjHNaeMNpAPiUnHqtPWOhYUSPjqZQ"/>
          <p:cNvPicPr/>
          <p:nvPr/>
        </p:nvPicPr>
        <p:blipFill>
          <a:blip r:embed="rId4"/>
          <a:stretch/>
        </p:blipFill>
        <p:spPr>
          <a:xfrm>
            <a:off x="6400800" y="83808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10"/>
          <p:cNvSpPr/>
          <p:nvPr/>
        </p:nvSpPr>
        <p:spPr>
          <a:xfrm>
            <a:off x="6629400" y="2590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-tongue Sk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280" y="71424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order Serpentes- The Snake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71280" y="2066400"/>
            <a:ext cx="51055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bout 2,900 species,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serp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to craw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harmles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but about 300 species are venomo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longate and lack limbs, have more than 200 vertebrae and pairs of ribs – for locomo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pper jaws are movable on the skull and upper and lower jaws loosely joined by flexible ligaments, so each half can move independently – allows swallowing large pr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 are carnivoro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AutoShape 2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10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12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14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16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18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4" descr="http://www.naturephoto-cz.com/photos/sevcik/indian-cobra--naja-naja-2.jpg"/>
          <p:cNvPicPr/>
          <p:nvPr/>
        </p:nvPicPr>
        <p:blipFill>
          <a:blip r:embed="rId1"/>
          <a:stretch/>
        </p:blipFill>
        <p:spPr>
          <a:xfrm>
            <a:off x="5303880" y="1306440"/>
            <a:ext cx="3840120" cy="27655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0" descr="http://www.uta.edu/biology/campbell/guatemala/images/Micrurus_diastema.JPG"/>
          <p:cNvPicPr/>
          <p:nvPr/>
        </p:nvPicPr>
        <p:blipFill>
          <a:blip r:embed="rId2"/>
          <a:stretch/>
        </p:blipFill>
        <p:spPr>
          <a:xfrm>
            <a:off x="5257800" y="41911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85520" y="857160"/>
            <a:ext cx="29718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8cca"/>
                </a:solidFill>
                <a:latin typeface="Calibri"/>
              </a:rPr>
              <a:t>Class Av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jor Characteris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aptations for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ppendages modified as wing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eath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dotherm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 Metabolic 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Vertebral Column modified for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nes lightened by numerous air spac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ern Bird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ossess a horny bill and lack teeth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928800"/>
            <a:ext cx="468648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der Sphenisciformes – Pengui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eavy bodied, flightless flipper like wings for swimming, with insulated with fa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Picture 3" descr="penguins.jpg"/>
          <p:cNvPicPr/>
          <p:nvPr/>
        </p:nvPicPr>
        <p:blipFill>
          <a:blip r:embed="rId1"/>
          <a:stretch/>
        </p:blipFill>
        <p:spPr>
          <a:xfrm>
            <a:off x="5748480" y="857160"/>
            <a:ext cx="3238200" cy="242892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6357960" y="3314880"/>
            <a:ext cx="20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eror Pengu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3" descr="ostriches.jpg"/>
          <p:cNvPicPr/>
          <p:nvPr/>
        </p:nvPicPr>
        <p:blipFill>
          <a:blip r:embed="rId2"/>
          <a:stretch/>
        </p:blipFill>
        <p:spPr>
          <a:xfrm>
            <a:off x="5751360" y="3714840"/>
            <a:ext cx="3249720" cy="2286000"/>
          </a:xfrm>
          <a:prstGeom prst="rect">
            <a:avLst/>
          </a:prstGeom>
          <a:ln w="0">
            <a:noFill/>
          </a:ln>
        </p:spPr>
      </p:pic>
      <p:sp>
        <p:nvSpPr>
          <p:cNvPr id="307" name="TextBox 4"/>
          <p:cNvSpPr/>
          <p:nvPr/>
        </p:nvSpPr>
        <p:spPr>
          <a:xfrm>
            <a:off x="6357960" y="61009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stri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Content Placeholder 2"/>
          <p:cNvSpPr/>
          <p:nvPr/>
        </p:nvSpPr>
        <p:spPr>
          <a:xfrm>
            <a:off x="528480" y="3825720"/>
            <a:ext cx="4400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der Struthioniformes – Ostri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Large, flightless birds, wings with numerous fluffy plu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10:34:26Z</dcterms:modified>
  <cp:revision>400</cp:revision>
  <dc:subject/>
  <dc:title>Nerve activates contraction</dc:title>
</cp:coreProperties>
</file>