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62A7-51E6-4AF0-BBC8-75C14ED0C6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48FF-7E39-42DA-B7FB-6643B54A95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011-1924-4229-8346-498660A17F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60A-DD9E-4E99-9E0E-DE9C957EB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1A77-B84A-492C-9179-C63D684622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E50B-3D9D-4EDF-978A-C484BD56C3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BE2-0CE7-4DB8-BC29-00EDD0F435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00760" cy="3751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6880" y="4749840"/>
            <a:ext cx="5502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399-F2FA-4B42-80F2-47A3BCDDD5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470-078E-4B45-9920-333B3CE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EB1-29B7-4006-BC09-33734AF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6BD-1F0E-4001-BCBF-5760464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E95-E9EB-4DD2-BD66-AE283184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BAB1-C149-4BA9-99DF-2AB44F2D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8537-5308-46A6-866C-342BF72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7B8-4638-4680-AD91-CEC047E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34D-D926-46DE-A8E9-D378B8D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2B4-D6B3-429E-BA98-FAF25BE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C616-C726-473D-A2CE-D4C64538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7CD7-322D-47EA-B72B-511EA78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92C-DE98-4B8C-BFEE-888B56A1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6747-C028-4F3A-8450-B8F60CB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DA5D-53E6-4886-8EF7-5B2C4D5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30E-2E34-4C2C-B91E-62DC88BA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DAEE-83DF-4B0D-A44C-71692409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D4E3-B5C0-46AB-817B-674D4FDF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84D-C64A-42F0-8AC6-2A49AAE0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FCE-F6E5-42D2-8918-D74358E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FE7-AFF5-4AB1-B59C-882977DC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04B-4F6B-4E22-9172-933BF32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4A6-CFFD-403F-9EC9-B3CCC599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2CE-FBEF-4C12-8FC6-98E7B1C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8D8-AE0A-4FC6-8F4D-59D1DD2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F4E-910F-49E2-95A8-BC45BB3631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F2AF-3E58-4239-8D3A-006A90C16F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9360">
            <a:solidFill>
              <a:srgbClr val="ba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F2A7-8433-423A-87CA-B7D189238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665-7A94-4ED9-AC8A-FF342E7969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alsugair@ksu.edu.sa" TargetMode="External"/><Relationship Id="rId2" Type="http://schemas.openxmlformats.org/officeDocument/2006/relationships/hyperlink" Target="http://www.fac.ksu.edu.sa/balsugair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365-362E-474D-9CAB-20336E0F755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533520"/>
            <a:ext cx="8763120" cy="4038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cture1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ntroduction to IT3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ftware Engineering 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45480" r="0" b="30273"/>
          <a:stretch/>
        </p:blipFill>
        <p:spPr>
          <a:xfrm>
            <a:off x="228600" y="46483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69F-F28F-410F-84DE-EF23A809324B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457200"/>
            <a:ext cx="8915400" cy="175248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edf"/>
                </a:solidFill>
                <a:latin typeface="Calibri"/>
              </a:rPr>
              <a:t>Course Instruc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r. Balsam AlSugai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50920" y="23842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nday 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esday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dnesday: 10-1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y Appointmen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rsday: 9-10, 1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balsugair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page: </a:t>
            </a:r>
            <a:r>
              <a:rPr b="0" lang="en-GB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fac.ksu.edu.sa/balsugai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02D-A5AC-4DA5-AFEB-3CAFF2CDECA8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urse Syllab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9"/>
          <p:cNvSpPr/>
          <p:nvPr/>
        </p:nvSpPr>
        <p:spPr>
          <a:xfrm>
            <a:off x="228600" y="1981080"/>
            <a:ext cx="52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199"/>
              </a:spcAft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Engineering.”, Sommerville, 9th Edition, Addison Wesley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lementary Boo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ing UML and Patterns.”, Craig Larman, 3rd  Edition, Prentice Hall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551640" y="2228760"/>
            <a:ext cx="1603440" cy="196848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4" descr=""/>
          <p:cNvPicPr/>
          <p:nvPr/>
        </p:nvPicPr>
        <p:blipFill>
          <a:blip r:embed="rId2"/>
          <a:stretch/>
        </p:blipFill>
        <p:spPr>
          <a:xfrm>
            <a:off x="8058240" y="2657520"/>
            <a:ext cx="379440" cy="154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551640" y="4624560"/>
            <a:ext cx="1571760" cy="1965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9" descr=""/>
          <p:cNvPicPr/>
          <p:nvPr/>
        </p:nvPicPr>
        <p:blipFill>
          <a:blip r:embed="rId4"/>
          <a:stretch/>
        </p:blipFill>
        <p:spPr>
          <a:xfrm>
            <a:off x="8058240" y="4475160"/>
            <a:ext cx="37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C22-D164-4DEA-8918-9E796F683741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Software Engineer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9"/>
          <p:cNvSpPr/>
          <p:nvPr/>
        </p:nvSpPr>
        <p:spPr>
          <a:xfrm>
            <a:off x="228600" y="19810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415b5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An engineering discipline that is concer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all aspects of software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ly sta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system specification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ing the system after it has gone into 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Sommerville, pg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415b5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oncerned with the practicalities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fu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F6FC-E3F0-41AF-B93C-A5B26860D200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urse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ontent Placeholder 9"/>
          <p:cNvSpPr/>
          <p:nvPr/>
        </p:nvSpPr>
        <p:spPr>
          <a:xfrm>
            <a:off x="228600" y="1981080"/>
            <a:ext cx="8772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y the end of this course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full project plan:  set goals, create action plans and schedule the project tasks, meet project milestone and complete the assigned 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the software requirements specification document for a software pro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ze user needs and produce the appropriate analysis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and develop the system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t software process models, system specifications, and the different approaches to system analysis an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3A6A-C4C1-4B2B-83A4-82980102B1D6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ades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dTerms 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ignments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: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l Exam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E99E-9B96-4FB0-97EC-0074CDBCE5B3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Dates 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term 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 Thursday 3 Nov. 2016 (3 Safar 1438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term 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: Thursday 8 Dec. 2016 (9 Rabi I 1438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Exam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ek 2 Thursday 8-11 am (Period 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9B20-DA0E-4AFB-92E9-3674506E95BA}" type="slidenum">
              <a:rPr b="0" lang="en-GB" sz="1400" spc="-1" strike="noStrike">
                <a:solidFill>
                  <a:srgbClr val="88a1a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457200"/>
            <a:ext cx="8915400" cy="1371600"/>
          </a:xfrm>
          <a:prstGeom prst="rect">
            <a:avLst/>
          </a:prstGeom>
          <a:solidFill>
            <a:srgbClr val="61898a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ide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ontent Placeholder 9"/>
          <p:cNvSpPr/>
          <p:nvPr/>
        </p:nvSpPr>
        <p:spPr>
          <a:xfrm>
            <a:off x="228600" y="1981080"/>
            <a:ext cx="8772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any questions during the lecture, please raise your hand to alert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be on time! Lectures will begin on the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endance will be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dlines (assignment, project phases, etc. )are fi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415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fice Hours are in place to support you, please make use of them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10:49Z</dcterms:created>
  <dc:creator>Areej</dc:creator>
  <dc:description/>
  <dc:language>en-US</dc:language>
  <cp:lastModifiedBy>Balsam Alsugair</cp:lastModifiedBy>
  <dcterms:modified xsi:type="dcterms:W3CDTF">2016-09-17T13:18:35Z</dcterms:modified>
  <cp:revision>145</cp:revision>
  <dc:subject/>
  <dc:title>Slide 1</dc:title>
</cp:coreProperties>
</file>