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7800" y="748800"/>
            <a:ext cx="500076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01B4-2F20-4861-8B58-479EA2D22A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3365-845B-4885-8E44-2FDB7DAF1D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8943-87C3-441F-86EB-150923A295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B150-CD13-4A52-A70A-6B25741EAC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A1B3-45ED-4195-AB2E-B7E5D31A1A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30DD-DF94-4CCD-99CD-7C5E4E755D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A094-2E54-44D8-B5E1-55B16B04A0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8669-0DF0-46CB-B078-CAC1DF4948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613-2A17-49AE-B2EA-E43E8794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55A-C95D-4505-862D-845512BB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E2E-9813-4A3E-AF89-32AA47C7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D5E-E1FB-4A68-BA30-7C7AC7B0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0D89-1E7B-493A-81D3-EB4BE0BA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A999-FB7D-4D70-9739-D5A77096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A161-C9FB-4AB6-A6FC-272B021E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4ED9-B6AB-44D5-BA1B-AC13C112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A99B-C2B4-4DB6-BC65-8CD7B5A4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84A0-B1D1-4C6B-BEC3-76C6DF45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21F6-EC6A-44BE-8BE1-19DB4644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AD1-8516-4613-8E0B-CCF7EBB6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ED22-873B-49A6-AD32-23FA7EBD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8074-C8FE-4B27-98B5-0EB848FB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6E32-AC64-4509-9200-145F7FC7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5BC3-595C-4815-84C5-A9A0C2C0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8764-54B8-46D1-BF8C-E19DF1B7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8F8-91ED-42D7-B36F-8D632CB3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84E-B876-49CD-A004-CEC1168F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121-588B-4616-BD21-1ECBF809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14E-21F3-4ECE-B779-BEBAFE83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74E-EBB8-4024-843E-4F8BD1C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1D0-C399-479D-9CBA-65E75B6F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781-5B57-4AF1-A499-FDEEEAF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E878-FA0F-4245-80B3-3D5B37E955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CD0A-A581-4FDE-90E1-F9EAE1E4E3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9360">
            <a:solidFill>
              <a:srgbClr val="ba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92A3-29F4-4F0F-B907-40211705D8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9719-C8E4-4645-B664-EF4814ACA81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balsugair@ksu.edu.sa" TargetMode="External"/><Relationship Id="rId2" Type="http://schemas.openxmlformats.org/officeDocument/2006/relationships/hyperlink" Target="http://www.fac.ksu.edu.sa/balsugair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0D76-0671-4F49-83E1-9EB9B2C83156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533520"/>
            <a:ext cx="8763120" cy="40384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b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cture1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ntroduction to IT32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ftware Engineering 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45480" r="0" b="30273"/>
          <a:stretch/>
        </p:blipFill>
        <p:spPr>
          <a:xfrm>
            <a:off x="228600" y="4648320"/>
            <a:ext cx="876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A6BE-51C2-4B0B-9657-5240686D5757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457200"/>
            <a:ext cx="8915400" cy="17524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edf"/>
                </a:solidFill>
                <a:latin typeface="Calibri"/>
              </a:rPr>
              <a:t>Course Instruc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r. Balsam AlSugai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50920" y="238428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ic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ice Ho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nday : 9-10, 1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esday: 9-10, 1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dnesday: 10-12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y Appointment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rsday: 9-10, 1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balsugair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page: </a:t>
            </a:r>
            <a:r>
              <a:rPr b="0" lang="en-GB" sz="24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fac.ksu.edu.sa/balsugai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7E4C-3BAF-4ADE-A495-1E7790CBCED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urse Syllab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9"/>
          <p:cNvSpPr/>
          <p:nvPr/>
        </p:nvSpPr>
        <p:spPr>
          <a:xfrm>
            <a:off x="228600" y="1981080"/>
            <a:ext cx="5243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1199"/>
              </a:spcAft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mary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Engineering.”, Sommerville, 9th Edition, Addison Wesley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lementary Boo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ying UML and Patterns.”, Craig Larman, 3rd  Edition, Prentice Hall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551640" y="2228760"/>
            <a:ext cx="1603440" cy="196848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4" descr=""/>
          <p:cNvPicPr/>
          <p:nvPr/>
        </p:nvPicPr>
        <p:blipFill>
          <a:blip r:embed="rId2"/>
          <a:stretch/>
        </p:blipFill>
        <p:spPr>
          <a:xfrm>
            <a:off x="8058240" y="2657520"/>
            <a:ext cx="379440" cy="154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6551640" y="4624560"/>
            <a:ext cx="1571760" cy="196524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9" descr=""/>
          <p:cNvPicPr/>
          <p:nvPr/>
        </p:nvPicPr>
        <p:blipFill>
          <a:blip r:embed="rId4"/>
          <a:stretch/>
        </p:blipFill>
        <p:spPr>
          <a:xfrm>
            <a:off x="8058240" y="4475160"/>
            <a:ext cx="3794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1F0E-35D3-4E50-9C88-1368EBFBCD9F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Software Engineer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9"/>
          <p:cNvSpPr/>
          <p:nvPr/>
        </p:nvSpPr>
        <p:spPr>
          <a:xfrm>
            <a:off x="228600" y="198108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 An engineering discipline that is concern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h all aspects of software p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arly stag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system specification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ing the system after it has gone into 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d16349"/>
                </a:solidFill>
                <a:latin typeface="Calibri"/>
              </a:rPr>
              <a:t>Sommerville, pg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415b5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concerned with the practicalities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fu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6DFF-76F0-4E29-BE68-8005B686B58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urse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tent Placeholder 9"/>
          <p:cNvSpPr/>
          <p:nvPr/>
        </p:nvSpPr>
        <p:spPr>
          <a:xfrm>
            <a:off x="228600" y="1981080"/>
            <a:ext cx="8772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y the end of this course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a full project plan:  set goals, create action plans and schedule the project tasks, meet project milestone and complete the assigned ph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the software requirements specification document for a software pro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yze user needs and produce the appropriate analysis dia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and develop the system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different software process models, system specifications, and the different approaches to system analysis and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D1BA-5197-441B-AFE7-C6BC289AAE52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ades Dis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ontent Placeholder 9"/>
          <p:cNvSpPr/>
          <p:nvPr/>
        </p:nvSpPr>
        <p:spPr>
          <a:xfrm>
            <a:off x="228600" y="1981080"/>
            <a:ext cx="8772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dTerms 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ignments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ject: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al Exam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C767-05B8-4A11-8EC7-D141DF386B4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mportant Dates 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ontent Placeholder 9"/>
          <p:cNvSpPr/>
          <p:nvPr/>
        </p:nvSpPr>
        <p:spPr>
          <a:xfrm>
            <a:off x="228600" y="1981080"/>
            <a:ext cx="8772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term 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: Thursday 3 Nov. 2016 (3 Safar 1438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5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term 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: Thursday 8 Dec. 2016 (9 Rabi I 1438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5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 Exam 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a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ek 2 Thursday 8-11 am (Period 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1FD3-584A-4548-88CB-57CEBA30B5F6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ide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ontent Placeholder 9"/>
          <p:cNvSpPr/>
          <p:nvPr/>
        </p:nvSpPr>
        <p:spPr>
          <a:xfrm>
            <a:off x="228600" y="1981080"/>
            <a:ext cx="8772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any questions during the lecture, please raise your hand to alert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 be on time! Lectures will begin on the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endance will b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adlines (assignment, project phases, etc. )are fin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fice Hours are in place to support you, please make use of them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10:49Z</dcterms:created>
  <dc:creator>Areej</dc:creator>
  <dc:description/>
  <dc:language>en-US</dc:language>
  <cp:lastModifiedBy>Balsam Alsugair</cp:lastModifiedBy>
  <dcterms:modified xsi:type="dcterms:W3CDTF">2016-09-17T13:18:35Z</dcterms:modified>
  <cp:revision>145</cp:revision>
  <dc:subject/>
  <dc:title>Slide 1</dc:title>
</cp:coreProperties>
</file>