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212FD-B502-4323-8F2B-CA472B2521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85F07-1D80-4FE9-87F2-754E89BA2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6B186-4986-47D4-AC65-E7BF915DF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C7B58-DD98-44A4-AB53-712129278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BDC77-2C60-4042-96C2-84E98F51A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3735D-AE55-41A7-8510-CF2F36190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01B92-739D-4033-B343-18EAF5C33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3F45A-AE7F-4F84-A19A-A0E52BA5E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8BDBE-14C7-4C5F-A8D4-33A5C12F4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A34F4-A9C5-4CDA-AF1A-0DB4332F6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D16DC-3E59-44C6-86EC-8E21B4CBE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2B5CE-19D4-4DC0-9A22-4EDC83F8B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E5E52-06B7-4713-A913-8BEF1A1E4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15494-5E87-412F-9022-C84E8C655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734D6-32CB-43CD-A7C8-098ABBE5A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ECFB6-3886-4880-B28D-B9B7E094A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35D81-7DB0-470D-B697-7BBAE2E95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78F42-2B47-4666-98E4-450582DF5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B608-E722-4B16-90A0-2520CDC9E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AE25-02FF-4DF8-8021-E67F7E7E9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7AC8-8DA7-476D-A8B9-98EB639AA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06AA-339A-4918-98FE-BEB6C3411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6164-258C-4D53-8921-D1C5E2483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988C-6AD2-484A-B5D0-209BA9B00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DB12-7DBB-45E9-B694-8862B7B19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81C2-1737-4DF0-98F0-ED6E48995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6A95-0B2F-4882-88F9-E5D81C776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F014-A9A4-4948-B0B7-88823806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80C3-6436-4014-868C-146FC64C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91D4-1F27-4BD7-91BA-CD3888A3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2A184-B0F7-4681-B2C3-49E3CA43DF2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F53DE-A142-4F9B-B7D7-238BDE3A7AA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Introduction to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d By: N.AlJaff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ied By: N.AlSheh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 rot="18888000">
            <a:off x="-575640" y="441000"/>
            <a:ext cx="2176200" cy="376200"/>
          </a:xfrm>
          <a:prstGeom prst="rect">
            <a:avLst/>
          </a:prstGeom>
          <a:solidFill>
            <a:srgbClr val="99cc00">
              <a:alpha val="75000"/>
            </a:srgbClr>
          </a:solidFill>
          <a:ln w="9360">
            <a:solidFill>
              <a:srgbClr val="bbe0e3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Light"/>
              </a:rPr>
              <a:t>Chapter 1</a:t>
            </a:r>
            <a:endParaRPr b="0" lang="en-US" sz="18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B6FF8-C80F-499B-AA8E-7261DDFD074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Categories Of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lvl="1" marL="631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w Cen MT Condensed"/>
              </a:rPr>
              <a:t>Mainfram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Is a large, expensive, powerful computer that can handle hundreds or thousands of connected user simultaneously through a technique called </a:t>
            </a:r>
            <a:r>
              <a:rPr b="1" lang="en-US" sz="2400" spc="-1" strike="noStrike">
                <a:solidFill>
                  <a:srgbClr val="000000"/>
                </a:solidFill>
                <a:latin typeface="Tw Cen MT Condensed"/>
              </a:rPr>
              <a:t>Timesharing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It store a huge amounts of data, instructions and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ex. A </a:t>
            </a:r>
            <a:r>
              <a:rPr b="1" lang="en-US" sz="2400" spc="-1" strike="noStrike">
                <a:solidFill>
                  <a:srgbClr val="000000"/>
                </a:solidFill>
                <a:latin typeface="Tw Cen MT Condensed"/>
              </a:rPr>
              <a:t>timesharing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system allows travel agents all over the country to make reservations using the same computer and the same flight information at the same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Ex: University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UNP01_12"/>
          <p:cNvPicPr/>
          <p:nvPr/>
        </p:nvPicPr>
        <p:blipFill>
          <a:blip r:embed="rId1"/>
          <a:stretch/>
        </p:blipFill>
        <p:spPr>
          <a:xfrm>
            <a:off x="3708360" y="1197000"/>
            <a:ext cx="4613400" cy="200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488A7-5643-45B7-9CD1-E5E533A6222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Categories Of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w Cen MT Condensed"/>
              </a:rPr>
              <a:t>Mainfram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Most major corporations use mainframes for business activ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Used by large organizations, such as banks and airlines, for big computing jo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Users communicate with a mainframe using a computer termi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network-server-laptops.jpg"/>
          <p:cNvPicPr/>
          <p:nvPr/>
        </p:nvPicPr>
        <p:blipFill>
          <a:blip r:embed="rId1"/>
          <a:stretch/>
        </p:blipFill>
        <p:spPr>
          <a:xfrm>
            <a:off x="6300720" y="981000"/>
            <a:ext cx="2714760" cy="1986120"/>
          </a:xfrm>
          <a:prstGeom prst="rect">
            <a:avLst/>
          </a:prstGeom>
          <a:ln w="0">
            <a:noFill/>
          </a:ln>
        </p:spPr>
      </p:pic>
      <p:sp>
        <p:nvSpPr>
          <p:cNvPr id="9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F092E-711B-4401-BC68-118C8B0C5DE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pperplate Gothic Bold"/>
              </a:rPr>
              <a:t>Categories Of Compu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21844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lvl="1" marL="6537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w Cen MT Condensed"/>
              </a:rPr>
              <a:t>Serve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Controls access to HW, SW and other resources on a net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Provides a centralized storage area for program, data,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Support from 2 to several thousand connected computers at the same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People use PC or terminals to access data, info., and programs on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 Condensed"/>
              </a:rPr>
              <a:t>Terminal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is a device with monitor, keyboard and mem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0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98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w Cen MT Condensed"/>
              </a:rPr>
              <a:t>Personal Computers (PC)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It’s a computer that can perform all of its inpu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processing, output and storage activities by itsel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There are 2 types of personal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Notebook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-- Fits on your hand or la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Desktop Computer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-- Fits entirely on or under de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صورة 10" descr="desktop-pc.jpg"/>
          <p:cNvPicPr/>
          <p:nvPr/>
        </p:nvPicPr>
        <p:blipFill>
          <a:blip r:embed="rId1"/>
          <a:stretch/>
        </p:blipFill>
        <p:spPr>
          <a:xfrm>
            <a:off x="6791400" y="4500720"/>
            <a:ext cx="1525680" cy="1449360"/>
          </a:xfrm>
          <a:prstGeom prst="rect">
            <a:avLst/>
          </a:prstGeom>
          <a:ln w="0">
            <a:noFill/>
          </a:ln>
        </p:spPr>
      </p:pic>
      <p:sp>
        <p:nvSpPr>
          <p:cNvPr id="10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C4DA4-7769-44C5-BFF1-E5AE50249F9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pperplate Gothic Bold"/>
              </a:rPr>
              <a:t>Categories Of Compu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8" descr="0CAAJX8TMCA1HS7SDCAR1FXRYCAOD3RBICAD03ZPCCA0YU4BQCAHH6819CA3DPM2HCA2F5W9ACAOK62SHCAXA1LTNCAI7AG7PCAHLGH6MCA6X86KUCAYXJ44ICA1WEEX9CAUS87TICADU0EZWCAE3A6M5.jpg"/>
          <p:cNvPicPr/>
          <p:nvPr/>
        </p:nvPicPr>
        <p:blipFill>
          <a:blip r:embed="rId2"/>
          <a:stretch/>
        </p:blipFill>
        <p:spPr>
          <a:xfrm>
            <a:off x="6786720" y="3143160"/>
            <a:ext cx="1857240" cy="11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69BA6-FB61-4F9B-AB81-DC1507D7FE6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pperplate Gothic Bold"/>
              </a:rPr>
              <a:t>Categories Of Compu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lvl="1" marL="646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w Cen MT Condensed"/>
              </a:rPr>
              <a:t>Mobile Computers And Mobile Devic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1" lang="en-US" sz="2400" spc="-1" strike="noStrike">
                <a:solidFill>
                  <a:srgbClr val="99cc00"/>
                </a:solidFill>
                <a:latin typeface="Tw Cen MT Condensed"/>
              </a:rPr>
              <a:t>Mobile computers is a personal computer that 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you can carry from place to pl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Tw Cen MT Condensed"/>
              </a:rPr>
              <a:t>Mobile Devices</a:t>
            </a:r>
            <a:r>
              <a:rPr b="0" lang="en-US" sz="2400" spc="-1" strike="noStrike">
                <a:solidFill>
                  <a:srgbClr val="99cc00"/>
                </a:solidFill>
                <a:latin typeface="Tw Cen MT Condense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is a computing device, small enough to hold in your h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Usually store programs &amp; data permanently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w Cen MT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memory inside the system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w Cen MT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on small storage media such as memory c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you can connect it to PC to exchang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Some Mobiles devices are </a:t>
            </a:r>
            <a:r>
              <a:rPr b="0" lang="en-US" sz="2400" spc="-1" strike="noStrike">
                <a:solidFill>
                  <a:srgbClr val="99cc00"/>
                </a:solidFill>
                <a:latin typeface="Tw Cen MT Condensed"/>
              </a:rPr>
              <a:t>Internet-enabled, 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its allow to connect to NET</a:t>
            </a:r>
            <a:r>
              <a:rPr b="0" lang="en-US" sz="2400" spc="-1" strike="noStrike">
                <a:solidFill>
                  <a:srgbClr val="99cc00"/>
                </a:solidFill>
                <a:latin typeface="Tw Cen MT Condensed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0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عنصر نائب للتذييل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4" name="عنصر نائب لرقم الشريحة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3500F-9D9F-4597-82D7-B1338422B7E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5" name="مستطيل 4"/>
          <p:cNvSpPr/>
          <p:nvPr/>
        </p:nvSpPr>
        <p:spPr>
          <a:xfrm>
            <a:off x="3530520" y="4508640"/>
            <a:ext cx="23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w Cen MT Condensed"/>
                <a:ea typeface="Arial"/>
              </a:rPr>
              <a:t>Mobile computers </a:t>
            </a:r>
            <a:endParaRPr b="0" lang="en-US" sz="18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116" name="صورة 5" descr="Mobile computers.png"/>
          <p:cNvPicPr/>
          <p:nvPr/>
        </p:nvPicPr>
        <p:blipFill>
          <a:blip r:embed="rId1"/>
          <a:stretch/>
        </p:blipFill>
        <p:spPr>
          <a:xfrm>
            <a:off x="2700360" y="1700280"/>
            <a:ext cx="324180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DC91C-7AA0-4574-989C-670E5963B09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pperplate Gothic Bold"/>
              </a:rPr>
              <a:t>Categories Of Compu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lvl="1" marL="6537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w Cen MT Condensed"/>
              </a:rPr>
              <a:t>Game Consol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Designed for single-player or multiplayer video ga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Tw Cen MT Condensed"/>
              </a:rPr>
              <a:t>Input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99cc00"/>
                </a:solidFill>
                <a:latin typeface="Tw Cen MT Condensed"/>
              </a:rPr>
              <a:t>device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handheld contro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99cc00"/>
                </a:solidFill>
                <a:latin typeface="Tw Cen MT Condensed"/>
              </a:rPr>
              <a:t>Output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TV scre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99cc00"/>
                </a:solidFill>
                <a:latin typeface="Tw Cen MT Condensed"/>
              </a:rPr>
              <a:t>Storage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Hard Disks, CDs, DVDs and memory ca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2 popular model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w Cen MT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Microsoft's</a:t>
            </a:r>
            <a:r>
              <a:rPr b="0" lang="en-US" sz="2800" spc="-1" strike="noStrike">
                <a:solidFill>
                  <a:srgbClr val="99cc00"/>
                </a:solidFill>
                <a:latin typeface="Tw Cen MT Condensed"/>
              </a:rPr>
              <a:t> Xbox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w Cen MT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Sony’s </a:t>
            </a:r>
            <a:r>
              <a:rPr b="0" lang="en-US" sz="2800" spc="-1" strike="noStrike">
                <a:solidFill>
                  <a:srgbClr val="99cc00"/>
                </a:solidFill>
                <a:latin typeface="Tw Cen MT Condensed"/>
              </a:rPr>
              <a:t>Play station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5"/>
          <p:cNvGrpSpPr/>
          <p:nvPr/>
        </p:nvGrpSpPr>
        <p:grpSpPr>
          <a:xfrm>
            <a:off x="5904000" y="4214880"/>
            <a:ext cx="3097080" cy="2188800"/>
            <a:chOff x="5904000" y="4214880"/>
            <a:chExt cx="3097080" cy="2188800"/>
          </a:xfrm>
        </p:grpSpPr>
        <p:pic>
          <p:nvPicPr>
            <p:cNvPr id="122" name="Picture 6" descr="xbox"/>
            <p:cNvPicPr/>
            <p:nvPr/>
          </p:nvPicPr>
          <p:blipFill>
            <a:blip r:embed="rId1"/>
            <a:stretch/>
          </p:blipFill>
          <p:spPr>
            <a:xfrm>
              <a:off x="5904000" y="4214880"/>
              <a:ext cx="1584720" cy="21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AutoShape 7"/>
            <p:cNvSpPr/>
            <p:nvPr/>
          </p:nvSpPr>
          <p:spPr>
            <a:xfrm>
              <a:off x="7487280" y="5078880"/>
              <a:ext cx="1513800" cy="576720"/>
            </a:xfrm>
            <a:prstGeom prst="roundRect">
              <a:avLst>
                <a:gd name="adj" fmla="val 50000"/>
              </a:avLst>
            </a:prstGeom>
            <a:solidFill>
              <a:srgbClr val="ffff00">
                <a:alpha val="4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w Cen MT Condensed"/>
                </a:rPr>
                <a:t>Handheld controller</a:t>
              </a:r>
              <a:endParaRPr b="0" lang="en-US" sz="1800" spc="-1" strike="noStrike">
                <a:solidFill>
                  <a:srgbClr val="000000"/>
                </a:solidFill>
                <a:latin typeface="Tw Cen MT Condensed"/>
              </a:endParaRPr>
            </a:p>
          </p:txBody>
        </p:sp>
        <p:sp>
          <p:nvSpPr>
            <p:cNvPr id="124" name="AutoShape 8"/>
            <p:cNvSpPr/>
            <p:nvPr/>
          </p:nvSpPr>
          <p:spPr>
            <a:xfrm>
              <a:off x="7487280" y="4359240"/>
              <a:ext cx="1513800" cy="576720"/>
            </a:xfrm>
            <a:prstGeom prst="roundRect">
              <a:avLst>
                <a:gd name="adj" fmla="val 50000"/>
              </a:avLst>
            </a:prstGeom>
            <a:solidFill>
              <a:srgbClr val="ffff00">
                <a:alpha val="4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w Cen MT Condensed"/>
                </a:rPr>
                <a:t>Game console</a:t>
              </a:r>
              <a:endParaRPr b="0" lang="en-US" sz="1800" spc="-1" strike="noStrike">
                <a:solidFill>
                  <a:srgbClr val="000000"/>
                </a:solidFill>
                <a:latin typeface="Tw Cen MT Condensed"/>
              </a:endParaRPr>
            </a:p>
          </p:txBody>
        </p:sp>
        <p:sp>
          <p:nvSpPr>
            <p:cNvPr id="125" name="Line 9"/>
            <p:cNvSpPr/>
            <p:nvPr/>
          </p:nvSpPr>
          <p:spPr>
            <a:xfrm flipH="1">
              <a:off x="7004880" y="4646520"/>
              <a:ext cx="41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w Cen MT Condensed"/>
              </a:endParaRPr>
            </a:p>
          </p:txBody>
        </p:sp>
        <p:sp>
          <p:nvSpPr>
            <p:cNvPr id="126" name="Line 10"/>
            <p:cNvSpPr/>
            <p:nvPr/>
          </p:nvSpPr>
          <p:spPr>
            <a:xfrm flipH="1">
              <a:off x="7211160" y="5583960"/>
              <a:ext cx="2757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w Cen MT Condensed"/>
              </a:endParaRPr>
            </a:p>
          </p:txBody>
        </p:sp>
      </p:grp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2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3A635-AAC9-483A-AB12-A140E1603C1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pperplate Gothic Bold"/>
              </a:rPr>
              <a:t>Categories Of Compu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w Cen MT Condensed"/>
              </a:rPr>
              <a:t>Game Consol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99cc00"/>
                </a:solidFill>
                <a:latin typeface="Tw Cen MT Condensed"/>
              </a:rPr>
              <a:t>Handheld game console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. Fit in one h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The controls, screen and speaker built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Communicate wirelessly with other similar conso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Allow users to listen to music, watch movies and connect to 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2 popular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Nintendo’s </a:t>
            </a:r>
            <a:r>
              <a:rPr b="0" lang="en-US" sz="2800" spc="-1" strike="noStrike">
                <a:solidFill>
                  <a:srgbClr val="99cc00"/>
                </a:solidFill>
                <a:latin typeface="Tw Cen MT Condensed"/>
              </a:rPr>
              <a:t>Game Boy Mic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Sony’s </a:t>
            </a:r>
            <a:r>
              <a:rPr b="0" lang="en-US" sz="2800" spc="-1" strike="noStrike">
                <a:solidFill>
                  <a:srgbClr val="99cc00"/>
                </a:solidFill>
                <a:latin typeface="Tw Cen MT Condensed"/>
              </a:rPr>
              <a:t>P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ps3psp_2007_psp_overview"/>
          <p:cNvPicPr/>
          <p:nvPr/>
        </p:nvPicPr>
        <p:blipFill>
          <a:blip r:embed="rId1"/>
          <a:stretch/>
        </p:blipFill>
        <p:spPr>
          <a:xfrm>
            <a:off x="6588000" y="4365720"/>
            <a:ext cx="2287800" cy="106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0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97606-0DDD-42E9-B7AB-1C862F8E0E5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pperplate Gothic Bold"/>
              </a:rPr>
              <a:t>Categories Of Compu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w Cen MT Condensed"/>
              </a:rPr>
              <a:t>Embedded Compute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Special – purpose computer that functions as a component in a larger produ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Usually are small &amp; have limited hard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Functions depending on the requirements of the product in which they res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some of them designed to improve your safety, security and perform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0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9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9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9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9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عنصر نائب للتذييل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7" name="عنصر نائب لرقم الشريحة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85587-D1E8-4310-BE23-8B408E9E24F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138" name="Picture 5" descr="tesla_touchscreen.jpg"/>
          <p:cNvPicPr/>
          <p:nvPr/>
        </p:nvPicPr>
        <p:blipFill>
          <a:blip r:embed="rId1"/>
          <a:stretch/>
        </p:blipFill>
        <p:spPr>
          <a:xfrm>
            <a:off x="2556000" y="2349360"/>
            <a:ext cx="4356000" cy="2903760"/>
          </a:xfrm>
          <a:prstGeom prst="rect">
            <a:avLst/>
          </a:prstGeom>
          <a:ln w="0">
            <a:noFill/>
          </a:ln>
        </p:spPr>
      </p:pic>
      <p:sp>
        <p:nvSpPr>
          <p:cNvPr id="139" name="مستطيل 5"/>
          <p:cNvSpPr/>
          <p:nvPr/>
        </p:nvSpPr>
        <p:spPr>
          <a:xfrm>
            <a:off x="1504080" y="1357200"/>
            <a:ext cx="58071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w Cen MT Condensed"/>
                <a:ea typeface="ＭＳ Ｐゴシック"/>
              </a:rPr>
              <a:t>Embedded Computers:</a:t>
            </a: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8B2BB-A56A-4616-BFF2-5E70F3F486A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Introduction to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What Is A Comput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Computer is an </a:t>
            </a:r>
            <a:r>
              <a:rPr b="0" lang="en-US" sz="3200" spc="-1" strike="noStrike">
                <a:solidFill>
                  <a:srgbClr val="99cc00"/>
                </a:solidFill>
                <a:latin typeface="Tw Cen MT Condensed"/>
              </a:rPr>
              <a:t>electronic device</a:t>
            </a: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pt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s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324000" y="5291280"/>
            <a:ext cx="85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Tw Cen MT Condensed"/>
                <a:ea typeface="Arial"/>
              </a:rPr>
              <a:t>USER</a:t>
            </a:r>
            <a:r>
              <a:rPr b="0" lang="en-US" sz="3200" spc="-1" strike="noStrike">
                <a:solidFill>
                  <a:srgbClr val="000000"/>
                </a:solidFill>
                <a:latin typeface="Tw Cen MT Condensed"/>
                <a:ea typeface="Arial"/>
              </a:rPr>
              <a:t> is anyone who communicates with a computer or utilizes the information.</a:t>
            </a:r>
            <a:endParaRPr b="0" lang="en-US" sz="3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550080" y="4500720"/>
            <a:ext cx="8226000" cy="520560"/>
          </a:xfrm>
          <a:prstGeom prst="rect">
            <a:avLst/>
          </a:prstGeom>
          <a:gradFill rotWithShape="0">
            <a:gsLst>
              <a:gs pos="0">
                <a:srgbClr val="f0ffff"/>
              </a:gs>
              <a:gs pos="100000">
                <a:srgbClr val="cfffff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all according to a series of store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struc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B19B2-CC78-430A-ABA7-80C9E7C63EA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Introduction to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4038480" cy="45259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 Extra Bold"/>
              </a:rPr>
              <a:t>Advantag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w Cen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Sp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w Cen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Relia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w Cen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Consisten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w Cen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Stor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w Cen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Communic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2920" y="1356840"/>
            <a:ext cx="4038840" cy="471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 Extra Bold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w Cen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Violation of Priva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w Cen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Impact on Labor For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w Cen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Health Ris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6714C-7531-4D53-9D98-D8F97587502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3747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Information Processing Cycle:</a:t>
            </a:r>
            <a:endParaRPr b="0" lang="en-US" sz="3200" spc="-1" strike="noStrike">
              <a:solidFill>
                <a:srgbClr val="000000"/>
              </a:solidFill>
              <a:latin typeface="Tw Cen MT Condense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Tw Cen MT Condensed"/>
              </a:rPr>
              <a:t>Data </a:t>
            </a:r>
            <a:r>
              <a:rPr b="1" lang="en-US" sz="2800" spc="-1" strike="noStrike">
                <a:solidFill>
                  <a:srgbClr val="000000"/>
                </a:solidFill>
                <a:latin typeface="Tw Cen MT Condensed"/>
              </a:rPr>
              <a:t>is a collection of unprocessed item, which can include text, numbers, images, audio and video.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Tw Cen MT Condensed"/>
              </a:rPr>
              <a:t>Information</a:t>
            </a:r>
            <a:r>
              <a:rPr b="1" lang="en-US" sz="2800" spc="-1" strike="noStrike">
                <a:solidFill>
                  <a:srgbClr val="000000"/>
                </a:solidFill>
                <a:latin typeface="Tw Cen MT Condensed"/>
              </a:rPr>
              <a:t> conveys meaning and useful to people.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Tw Cen MT Condensed"/>
              </a:rPr>
              <a:t>Processing</a:t>
            </a:r>
            <a:r>
              <a:rPr b="1" lang="en-US" sz="2800" spc="-1" strike="noStrike">
                <a:solidFill>
                  <a:srgbClr val="000000"/>
                </a:solidFill>
                <a:latin typeface="Tw Cen MT Condensed"/>
              </a:rPr>
              <a:t> Procedures that convert input data to output information.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Introduction to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F3F6D-5647-447A-8A74-50B816BFBAB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Introduction to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 Condensed Extra Bold"/>
              </a:rPr>
              <a:t>Information Processing Cycl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 Condensed"/>
              </a:rPr>
              <a:t>Computers read incoming data called </a:t>
            </a:r>
            <a:r>
              <a:rPr b="1" lang="en-US" sz="3200" spc="-1" strike="noStrike">
                <a:solidFill>
                  <a:srgbClr val="99cc00"/>
                </a:solidFill>
                <a:latin typeface="Tw Cen MT Condensed"/>
              </a:rPr>
              <a:t>input , process</a:t>
            </a:r>
            <a:r>
              <a:rPr b="1" lang="en-US" sz="3200" spc="-1" strike="noStrike">
                <a:solidFill>
                  <a:srgbClr val="000000"/>
                </a:solidFill>
                <a:latin typeface="Tw Cen MT Condensed"/>
              </a:rPr>
              <a:t> the data, and display outgoing information called </a:t>
            </a:r>
            <a:r>
              <a:rPr b="1" lang="en-US" sz="3200" spc="-1" strike="noStrike">
                <a:solidFill>
                  <a:srgbClr val="99cc00"/>
                </a:solidFill>
                <a:latin typeface="Tw Cen MT Condensed"/>
              </a:rPr>
              <a:t>outp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98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89FE4-94FA-4006-AFA5-876AB75E116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components of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1143000"/>
            <a:ext cx="874872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Tw Cen MT Condensed"/>
              </a:rPr>
              <a:t>1-Hardware</a:t>
            </a:r>
            <a:r>
              <a:rPr b="1" lang="en-US" sz="3200" spc="-1" strike="noStrike">
                <a:solidFill>
                  <a:srgbClr val="92d050"/>
                </a:solidFill>
                <a:latin typeface="Tw Cen MT Condensed"/>
              </a:rPr>
              <a:t>- H/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A group of machines in a computer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Tw Cen MT Condensed"/>
              </a:rPr>
              <a:t>2-Software (programs) </a:t>
            </a:r>
            <a:r>
              <a:rPr b="1" lang="en-US" sz="3200" spc="-1" strike="noStrike">
                <a:solidFill>
                  <a:srgbClr val="92d050"/>
                </a:solidFill>
                <a:latin typeface="Tw Cen MT Condensed"/>
              </a:rPr>
              <a:t>– S/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The instructions that tell the computer what to do and how to do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15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F3E0-8A7C-4348-84F6-E9A197A5D47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Tw Cen MT Condensed"/>
              </a:rPr>
              <a:t>2-Software</a:t>
            </a:r>
            <a:r>
              <a:rPr b="1" lang="en-US" sz="3600" spc="-1" strike="noStrike">
                <a:solidFill>
                  <a:srgbClr val="92d050"/>
                </a:solidFill>
                <a:latin typeface="Tw Cen MT Condensed"/>
              </a:rPr>
              <a:t>- S/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Tw Cen MT Condensed"/>
              </a:rPr>
              <a:t>The Components of Softw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There are  two categories of softwar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Tw Cen MT Condens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Tw Cen MT Condensed"/>
              </a:rPr>
              <a:t>System Software</a:t>
            </a: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Consists of programs that control or maintain the operations of  the computer and its devices. It’s serves as interface between the user and the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Tw Cen MT Condens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Tw Cen MT Condensed"/>
              </a:rPr>
              <a:t>Application software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: consists of programs designed to assist users with personal tas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AF3C-C496-4595-AEA2-86D5BEDA293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Categories Of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Tw Cen MT Condensed Extra Bold"/>
              </a:rPr>
              <a:t>Categories Of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Supercompu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Mainfra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Serv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Personal Compu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Mobile Computer  And Mobile De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Game Conso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Embedded compu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E6F12-6811-478F-9683-1B0577449BC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pperplate Gothic Bold"/>
              </a:rPr>
              <a:t>Categories Of Compu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w Cen MT Condensed"/>
              </a:rPr>
              <a:t>Supercompute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Is  the fastest, most powerful computers and the most expens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Capable of processing more than 100 trillion instructions in a single sec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They are used mostly in scientific and industrial research, by the government, and by very large organizations for controlling their networ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Weather forecasting, oil exploration, telephone network desig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1-16"/>
          <p:cNvPicPr/>
          <p:nvPr/>
        </p:nvPicPr>
        <p:blipFill>
          <a:blip r:embed="rId1"/>
          <a:stretch/>
        </p:blipFill>
        <p:spPr>
          <a:xfrm>
            <a:off x="5522760" y="1071720"/>
            <a:ext cx="3049920" cy="194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4T12:25:02Z</dcterms:created>
  <dc:creator>N. AlJaffan</dc:creator>
  <dc:description/>
  <cp:keywords/>
  <dc:language>en-US</dc:language>
  <cp:lastModifiedBy>Nawal</cp:lastModifiedBy>
  <dcterms:modified xsi:type="dcterms:W3CDTF">2014-02-05T20:46:14Z</dcterms:modified>
  <cp:revision>183</cp:revision>
  <dc:subject/>
  <dc:title>Introduction to Comput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ContentTypeId">
    <vt:lpwstr>0x010100CC6BB1F00AAFA34493B35981E2967FB1</vt:lpwstr>
  </property>
</Properties>
</file>