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0BA0-DDA9-46F6-80DA-D0D058D416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9171-6482-4EAA-97AE-8C72F0ECD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6CBC-043D-49A1-8666-EE0FE559C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6E05-86A8-43A6-BCBF-2B85AD53B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DBBF-64BC-4987-B2A2-08E442332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21A5-D65A-45D2-BBC4-53CD3A562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0213-1918-4389-9606-BDE217EB3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1AA9-5023-4DDF-BD92-DCEEF36C7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613E-D6F4-482D-AC84-E69EC5577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C0DC-9942-4FC0-A42E-6B47C0956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F07C-2C8E-4700-92B4-9CD9C74F9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3F93-F596-4D07-ACC4-19154EC5A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B1F5-820D-4CA4-B433-EDABF129D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3C82-4E9C-49A8-8142-A6313BE82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7D11-B824-44CA-831D-8D9E25B44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0578-8043-4563-B24E-CFECB6991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E941-91EA-40F5-B7A2-4B8B6E2FA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2D6F-9992-4B39-A3BD-802A2689B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B42-3CC2-4EEF-8AAB-8F56F01E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A42-677E-4A86-B209-1D0BCC78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CF6-32D6-48EB-A091-110F4ADB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8EB-D144-4441-ACFB-5697B5DB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FE6-F592-460E-93C5-E2902B34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46B-981F-4107-85D6-4A9369C0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6CE-47E8-4C11-A070-79377DB4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826-1F48-4BA1-A3E4-3EBAB1BA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D342-E1D6-4E15-907B-583143D3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6A5-BF70-4393-A2A9-737910C6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6D7-10E4-43D3-8D4B-02998E41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581-1C07-4E7E-B625-B1DC36AD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AE41-AE36-46D0-A8E9-8100B0E3C9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B860-C6CF-42F2-BFE6-747A65ACFE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: N.AlJaff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By: N.AlSheh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 rot="18888000">
            <a:off x="-575640" y="441000"/>
            <a:ext cx="2176200" cy="376200"/>
          </a:xfrm>
          <a:prstGeom prst="rect">
            <a:avLst/>
          </a:prstGeom>
          <a:solidFill>
            <a:srgbClr val="99cc00">
              <a:alpha val="75000"/>
            </a:srgbClr>
          </a:solidFill>
          <a:ln w="9360">
            <a:solidFill>
              <a:srgbClr val="bbe0e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Light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88D7-DE62-4C1D-9BD4-332CACE7EA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ainfra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a large, expensive, powerful computer that can handle hundreds or thousands of connected user simultaneously through a technique called </a:t>
            </a: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imesharing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t store a huge amounts of data, instructions 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ex. A </a:t>
            </a: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imesharing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system allows travel agents all over the country to make reservations using the same computer and the same flight information at the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Ex: University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UNP01_12"/>
          <p:cNvPicPr/>
          <p:nvPr/>
        </p:nvPicPr>
        <p:blipFill>
          <a:blip r:embed="rId1"/>
          <a:stretch/>
        </p:blipFill>
        <p:spPr>
          <a:xfrm>
            <a:off x="3708360" y="1197000"/>
            <a:ext cx="4613400" cy="200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3DFC-F9AC-487C-A909-CD8691AD48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ainfra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ost major corporations use mainframes for business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ed by large organizations, such as banks and airlines, for big computing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ers communicate with a mainframe using a computer term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network-server-laptops.jpg"/>
          <p:cNvPicPr/>
          <p:nvPr/>
        </p:nvPicPr>
        <p:blipFill>
          <a:blip r:embed="rId1"/>
          <a:stretch/>
        </p:blipFill>
        <p:spPr>
          <a:xfrm>
            <a:off x="6300720" y="981000"/>
            <a:ext cx="2714760" cy="198612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0235-CE06-4FB4-B122-01E22E967B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Serv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ontrols access to HW, SW and other resources on a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Provides a centralized storage area for program, data,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Support from 2 to several thousand connected computers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People use PC or terminals to access data, info., and programs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erminal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is a device with monitor, keyboard and 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Personal Computers (PC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It’s a computer that can perform all of its inpu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rocessing, output and storage activities by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re are 2 types of person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Notebook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-- Fits on your hand or 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Desktop Computer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-- Fits entirely on or under d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صورة 10" descr="desktop-pc.jpg"/>
          <p:cNvPicPr/>
          <p:nvPr/>
        </p:nvPicPr>
        <p:blipFill>
          <a:blip r:embed="rId1"/>
          <a:stretch/>
        </p:blipFill>
        <p:spPr>
          <a:xfrm>
            <a:off x="6791400" y="4500720"/>
            <a:ext cx="1525680" cy="144936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B04C-7D88-4D52-B653-5C8AC6F51A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0CAAJX8TMCA1HS7SDCAR1FXRYCAOD3RBICAD03ZPCCA0YU4BQCAHH6819CA3DPM2HCA2F5W9ACAOK62SHCAXA1LTNCAI7AG7PCAHLGH6MCA6X86KUCAYXJ44ICA1WEEX9CAUS87TICADU0EZWCAE3A6M5.jpg"/>
          <p:cNvPicPr/>
          <p:nvPr/>
        </p:nvPicPr>
        <p:blipFill>
          <a:blip r:embed="rId2"/>
          <a:stretch/>
        </p:blipFill>
        <p:spPr>
          <a:xfrm>
            <a:off x="6786720" y="3143160"/>
            <a:ext cx="185724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561D-F51E-4CEF-B86D-85640D6657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obile Computers And Mobile Devi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w Cen MT Condensed"/>
              </a:rPr>
              <a:t>Mobile computers is a personal computer that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you can carry from place to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w Cen MT Condensed"/>
              </a:rPr>
              <a:t>Mobile Devices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a computing device, small enough to hold in your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Usually store programs &amp; data permanently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memory inside the system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on small storage media such as memory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you can connect it to PC to exchang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Some Mobiles devices are 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Internet-enabled,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ts allow to connect to NET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عنصر نائب للتذييل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4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4289-AC1C-4D9B-A42E-49D2973DA0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مستطيل 4"/>
          <p:cNvSpPr/>
          <p:nvPr/>
        </p:nvSpPr>
        <p:spPr>
          <a:xfrm>
            <a:off x="3530520" y="450864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w Cen MT Condensed"/>
                <a:ea typeface="Arial"/>
              </a:rPr>
              <a:t>Mobile computers </a:t>
            </a: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16" name="صورة 5" descr="Mobile computers.png"/>
          <p:cNvPicPr/>
          <p:nvPr/>
        </p:nvPicPr>
        <p:blipFill>
          <a:blip r:embed="rId1"/>
          <a:stretch/>
        </p:blipFill>
        <p:spPr>
          <a:xfrm>
            <a:off x="2700360" y="1700280"/>
            <a:ext cx="32418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7246-322A-4952-B66E-40A5A9861E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Game Conso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Designed for single-player or multiplayer video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devic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handheld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TV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Storag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Hard Disks, CDs, DVDs and memory c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2 popular mode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icrosoft's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 Xbox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ny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Play station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5904000" y="4214880"/>
            <a:ext cx="3097080" cy="2188800"/>
            <a:chOff x="5904000" y="4214880"/>
            <a:chExt cx="3097080" cy="2188800"/>
          </a:xfrm>
        </p:grpSpPr>
        <p:pic>
          <p:nvPicPr>
            <p:cNvPr id="122" name="Picture 6" descr="xbox"/>
            <p:cNvPicPr/>
            <p:nvPr/>
          </p:nvPicPr>
          <p:blipFill>
            <a:blip r:embed="rId1"/>
            <a:stretch/>
          </p:blipFill>
          <p:spPr>
            <a:xfrm>
              <a:off x="5904000" y="4214880"/>
              <a:ext cx="1584720" cy="21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AutoShape 7"/>
            <p:cNvSpPr/>
            <p:nvPr/>
          </p:nvSpPr>
          <p:spPr>
            <a:xfrm>
              <a:off x="7487280" y="5078880"/>
              <a:ext cx="1513800" cy="57672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 Condensed"/>
                </a:rPr>
                <a:t>Handheld controller</a:t>
              </a:r>
              <a:endParaRPr b="0" lang="en-US" sz="18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4" name="AutoShape 8"/>
            <p:cNvSpPr/>
            <p:nvPr/>
          </p:nvSpPr>
          <p:spPr>
            <a:xfrm>
              <a:off x="7487280" y="4359240"/>
              <a:ext cx="1513800" cy="57672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 Condensed"/>
                </a:rPr>
                <a:t>Game console</a:t>
              </a:r>
              <a:endParaRPr b="0" lang="en-US" sz="18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H="1">
              <a:off x="7004880" y="464652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H="1">
              <a:off x="7211160" y="5583960"/>
              <a:ext cx="2757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</p:grp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F937-AE17-4416-9826-1950836541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Game Conso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Handheld game consol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 Fit in one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 controls, screen and speaker built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ommunicate wirelessly with other similar cons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Allow users to listen to music, watch movies and connect to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2 popula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Nintendo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Game Boy Mi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ny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P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ps3psp_2007_psp_overview"/>
          <p:cNvPicPr/>
          <p:nvPr/>
        </p:nvPicPr>
        <p:blipFill>
          <a:blip r:embed="rId1"/>
          <a:stretch/>
        </p:blipFill>
        <p:spPr>
          <a:xfrm>
            <a:off x="6588000" y="4365720"/>
            <a:ext cx="2287800" cy="106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F1A4-3CAF-4ADD-8FB7-8CBC628BAC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Embedded Compu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pecial – purpose computer that functions as a component in a larger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ually are small &amp; have limited hard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unctions depending on the requirements of the product in which they re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me of them designed to improve your safety, security and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9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عنصر نائب للتذييل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7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57E7-5985-41A7-B83D-453080EA27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38" name="Picture 5" descr="tesla_touchscreen.jpg"/>
          <p:cNvPicPr/>
          <p:nvPr/>
        </p:nvPicPr>
        <p:blipFill>
          <a:blip r:embed="rId1"/>
          <a:stretch/>
        </p:blipFill>
        <p:spPr>
          <a:xfrm>
            <a:off x="2556000" y="2349360"/>
            <a:ext cx="4356000" cy="2903760"/>
          </a:xfrm>
          <a:prstGeom prst="rect">
            <a:avLst/>
          </a:prstGeom>
          <a:ln w="0">
            <a:noFill/>
          </a:ln>
        </p:spPr>
      </p:pic>
      <p:sp>
        <p:nvSpPr>
          <p:cNvPr id="139" name="مستطيل 5"/>
          <p:cNvSpPr/>
          <p:nvPr/>
        </p:nvSpPr>
        <p:spPr>
          <a:xfrm>
            <a:off x="1504080" y="1357200"/>
            <a:ext cx="5807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  <a:ea typeface="ＭＳ Ｐゴシック"/>
              </a:rPr>
              <a:t>Embedded Computers: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D138-BEA5-4607-93B4-8A6663A46A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What Is A Comput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mputer is an </a:t>
            </a: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electronic device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5291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  <a:ea typeface="Arial"/>
              </a:rPr>
              <a:t>USER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  <a:ea typeface="Arial"/>
              </a:rPr>
              <a:t> is anyone who communicates with a computer or utilizes the information.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50080" y="4500720"/>
            <a:ext cx="8226000" cy="520560"/>
          </a:xfrm>
          <a:prstGeom prst="rect">
            <a:avLst/>
          </a:prstGeom>
          <a:gradFill rotWithShape="0">
            <a:gsLst>
              <a:gs pos="0">
                <a:srgbClr val="f0ffff"/>
              </a:gs>
              <a:gs pos="100000">
                <a:srgbClr val="cf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ll according to a series of stor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truc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855A-DAFA-4001-B1F6-8E106B940A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8480" cy="4525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Ad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Reli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nsist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to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2920" y="1356840"/>
            <a:ext cx="4038840" cy="471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Violation of Priv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Impact on Labor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Health Ri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48FE-2F03-45F8-B2CE-A425A1DE93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747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Information Processing Cycle: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Data 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is a collection of unprocessed item, which can include text, numbers, images, audio and video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Information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 conveys meaning and useful to people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Processing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 Procedures that convert input data to output information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63A0-3C67-48F3-A4F0-E827D616C1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 Extra Bold"/>
              </a:rPr>
              <a:t>Information Processing Cyc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 Condensed"/>
              </a:rPr>
              <a:t>Computers read incoming data called </a:t>
            </a:r>
            <a:r>
              <a:rPr b="1" lang="en-US" sz="3200" spc="-1" strike="noStrike">
                <a:solidFill>
                  <a:srgbClr val="99cc00"/>
                </a:solidFill>
                <a:latin typeface="Tw Cen MT Condensed"/>
              </a:rPr>
              <a:t>input , process</a:t>
            </a:r>
            <a:r>
              <a:rPr b="1" lang="en-US" sz="3200" spc="-1" strike="noStrike">
                <a:solidFill>
                  <a:srgbClr val="000000"/>
                </a:solidFill>
                <a:latin typeface="Tw Cen MT Condensed"/>
              </a:rPr>
              <a:t> the data, and display outgoing information called </a:t>
            </a:r>
            <a:r>
              <a:rPr b="1" lang="en-US" sz="3200" spc="-1" strike="noStrike">
                <a:solidFill>
                  <a:srgbClr val="99cc00"/>
                </a:solidFill>
                <a:latin typeface="Tw Cen MT Condensed"/>
              </a:rPr>
              <a:t>out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463C-564B-48B5-9F9F-C78D4B5C49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omponent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143000"/>
            <a:ext cx="87487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1-Hardware</a:t>
            </a: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- H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A group of machines in a comput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2-Software (programs) </a:t>
            </a: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– S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 instructions that tell the computer what to do and how to d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C868-1F80-4D4C-BC87-DD4B8B4463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w Cen MT Condensed"/>
              </a:rPr>
              <a:t>2-Software</a:t>
            </a:r>
            <a:r>
              <a:rPr b="1" lang="en-US" sz="3600" spc="-1" strike="noStrike">
                <a:solidFill>
                  <a:srgbClr val="92d050"/>
                </a:solidFill>
                <a:latin typeface="Tw Cen MT Condensed"/>
              </a:rPr>
              <a:t>- S/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The Components of Softw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There are  two categories of softwa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Tw Cen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System Software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onsists of programs that control or maintain the operations of  the computer and its devices. It’s serves as interface between the user and th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Tw Cen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Application softwar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: consists of programs designed to assist users with personal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6FDF-1EF9-4694-AA84-855A1C877E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 Extra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uper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ainfr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rv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ersonal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obile Computer  And Mobile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Game Cons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Embedded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8C0B-D39D-4711-9171-390992F6C4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Supercompu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 the fastest, most powerful computers and the most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apable of processing more than 100 trillion instructions in a single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They are used mostly in scientific and industrial research, by the government, and by very large organizations for controlling their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Weather forecasting, oil exploration, telephone network desig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1-16"/>
          <p:cNvPicPr/>
          <p:nvPr/>
        </p:nvPicPr>
        <p:blipFill>
          <a:blip r:embed="rId1"/>
          <a:stretch/>
        </p:blipFill>
        <p:spPr>
          <a:xfrm>
            <a:off x="5522760" y="1071720"/>
            <a:ext cx="3049920" cy="19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2:25:02Z</dcterms:created>
  <dc:creator>N. AlJaffan</dc:creator>
  <dc:description/>
  <cp:keywords/>
  <dc:language>en-US</dc:language>
  <cp:lastModifiedBy>Nawal</cp:lastModifiedBy>
  <dcterms:modified xsi:type="dcterms:W3CDTF">2014-02-05T20:46:14Z</dcterms:modified>
  <cp:revision>183</cp:revision>
  <dc:subject/>
  <dc:title>Introduction to Compu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ContentTypeId">
    <vt:lpwstr>0x010100CC6BB1F00AAFA34493B35981E2967FB1</vt:lpwstr>
  </property>
</Properties>
</file>