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846-6E81-436A-AA32-2612736E5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B637-FB29-4839-B78B-C818D8DB5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46F-C992-4B10-9A16-3731A0EAF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E17-25BF-4AFA-A2F5-4F77BFD9A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855-A94D-4ED9-A465-733AB7B98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CAF-9FDE-46A2-92A3-F6DBD3A94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B6B4-C6ED-44FC-A20E-DDF0B9AF0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934-1B05-45FE-9078-9ECA58A55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8FF-3BF7-461C-8D1F-95C8E250B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75C-8394-466E-9BB3-381A6980A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44A-BFA9-45AB-A62A-5DDA7919E4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85C-C741-48CB-8481-BA944F7E1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29A-D6B4-4B16-BE3E-BC1DF9968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319-E42D-4749-BED9-708137371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3AC9-F0C8-4A1D-A618-E30B9F018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7D3C-14C3-41A5-8311-1C79BEE22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924-3E7D-45DD-86D2-D4951DCA7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AE1-D8B5-4148-937D-08B85FA6C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CEE-58EF-4D99-B8AD-BFEAA8C75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88A3-AB2C-40B0-A3FD-B4E1311B9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BCB-BEDA-4C72-94C4-4B4B1A9DDB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935-ACF3-484B-896C-C93CD263D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43B0-0E58-4F5F-838F-EE5F606A72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820-4F50-4ADD-ACF3-AC2C51AB7E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62D-C18D-44B4-9A8C-49D580CCC2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AE68-6474-48EE-AC6F-D2DFCB0E20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2F48-8CDE-4687-88DE-0FA9EE8252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71A-D8DD-485E-AE97-31223A8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9FC-AFA5-4FDE-AACE-39EBD6B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3B3-A820-4A17-8846-D65134E0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D62-B5E2-4CF5-A263-1F02FE43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72A9-8A19-4053-9452-FBF1BB5B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22E0-69A8-4117-BB56-F2CFB866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CF8-C836-4338-8062-DEA23CA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9714-1EB9-4D91-B6A4-CA1F9877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607-FC88-40BF-AC5C-929E0524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109-7663-4D30-B99F-91FAEE1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8B0F-07BF-44A0-AF45-041A76E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B10-7F97-433B-8E46-82C21AD4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9646-91BD-45B1-B280-F266984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5E4-6336-4FA5-AD34-681D695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52A7-1060-4B18-A30A-82912E8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28B-5B27-40C1-818B-CEBCFA35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838-7740-435A-9F30-03323EB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0662-06F3-4D31-A286-3484BAF9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FC38-AF79-4E63-B47D-048ADB5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1505-F6B0-4D0D-9B10-8524E4A4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7B19-8B19-4A98-B4F1-562B140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6CC5-D71A-42F3-A35C-52F13C6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283-B238-4A58-8230-F226C294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70E2-7BCD-4276-8A5B-0EB71325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A9E9-C87E-416F-B498-FCF6D1E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E350-E2B0-4DE5-8E5C-ED6FBF9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56EA-8597-42DA-A00B-1CDD6CE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2D18-E722-4599-9C7E-AAC7839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1A02-83E5-49A2-B085-B34E0E92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368A-4BB2-430B-BFBF-F32088EF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DDD-9529-4D58-8F53-A08BC3B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824-E1FF-4D7E-803F-43F29F0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9DB-EAA8-4C4A-8C3F-CAD6281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9EE-67AD-41B4-B69C-63BB365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7A5-A2B3-4841-91AF-45CEEFD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232-5532-49F4-898E-DEA2E25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EE26-6DC9-4AB3-9843-3A9F7F762D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8AD-1DE2-477A-8C16-ACF306933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73C-FA03-4BDC-B417-108EBAD49EE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y.edu/~holler/html/p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ky.edu/~holler/html/p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hyperlink" Target="http://www.uky.edu/~holler/html/p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E49-C12F-4972-868D-DE258E461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06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14440" y="297144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038480" y="4068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419720" y="5105520"/>
            <a:ext cx="3733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By Dr. Ashraf  M. Ah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9000" y="2286000"/>
            <a:ext cx="37735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8" descr="A025"/>
          <p:cNvPicPr/>
          <p:nvPr/>
        </p:nvPicPr>
        <p:blipFill>
          <a:blip r:embed="rId2"/>
          <a:stretch/>
        </p:blipFill>
        <p:spPr>
          <a:xfrm>
            <a:off x="3048120" y="179280"/>
            <a:ext cx="3047760" cy="10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biglogo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10" descr="50year"/>
          <p:cNvPicPr/>
          <p:nvPr/>
        </p:nvPicPr>
        <p:blipFill>
          <a:blip r:embed="rId4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29-143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ParkAvenue BT"/>
              </a:rPr>
              <a:t>Good Lu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Dr. Ahmed Abdel.Za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64E-E263-4A6E-AA5F-2C5D5F6C9E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4572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04F-D7E0-470B-954F-6E445B8D3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0880" y="22860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828800" y="12952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175248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01992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792468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419720" y="609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152280" y="28195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08660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6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362-ED76-4E28-8290-66B532FDFC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276720" y="304920"/>
            <a:ext cx="48765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</a:rPr>
              <a:t>Cell Theor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04920" y="16765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1- All organisms are composed of one or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mor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2- Cell is the basic unit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80880" y="4800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- The new cell arises only from pre-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exist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98144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Line 7"/>
          <p:cNvSpPr/>
          <p:nvPr/>
        </p:nvSpPr>
        <p:spPr>
          <a:xfrm>
            <a:off x="152280" y="13971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4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392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6320" y="6477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320" y="2286000"/>
            <a:ext cx="899136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392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51460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924680" y="6553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590920" y="76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pperplate Gothic Bold"/>
              </a:rPr>
              <a:t>(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2362320" y="9144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Al-Mothnn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  <a:cs typeface="Al-Mothnna"/>
              </a:rPr>
              <a:t>الكائنات وحيدة الخلية ذات النواة البد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12, 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190512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cro-organisms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l-Mothnna"/>
              </a:rPr>
              <a:t>الأحياء الدقيق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280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7"/>
          <p:cNvSpPr/>
          <p:nvPr/>
        </p:nvSpPr>
        <p:spPr>
          <a:xfrm>
            <a:off x="2438280" y="2286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522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29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3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3352680" y="6094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1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2971800" y="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4"/>
          <p:cNvGrpSpPr/>
          <p:nvPr/>
        </p:nvGrpSpPr>
        <p:grpSpPr>
          <a:xfrm>
            <a:off x="0" y="0"/>
            <a:ext cx="9144000" cy="6707880"/>
            <a:chOff x="0" y="0"/>
            <a:chExt cx="9144000" cy="6707880"/>
          </a:xfrm>
        </p:grpSpPr>
        <p:sp>
          <p:nvSpPr>
            <p:cNvPr id="299" name="Rectangle 4"/>
            <p:cNvSpPr/>
            <p:nvPr/>
          </p:nvSpPr>
          <p:spPr>
            <a:xfrm>
              <a:off x="1981080" y="5927760"/>
              <a:ext cx="6400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Fig. 7.4  The prokaryotic cell is much simpler in structure, lacking a nucleus and the other membrane-enclosed organelles of the eukaryotic cell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"/>
            <p:cNvSpPr/>
            <p:nvPr/>
          </p:nvSpPr>
          <p:spPr>
            <a:xfrm>
              <a:off x="152280" y="64008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1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4343400" y="2387520"/>
              <a:ext cx="119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4444920" y="2921040"/>
              <a:ext cx="119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733920" y="12952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4114800" y="18288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4952880" y="354960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762120" y="396252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310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318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321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324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327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330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333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348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330-9F30-434A-A24B-0722CEA94F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s Consid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certain reaction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others not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rives these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organic molecules have certain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predict the presence or absence of certain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new materials with other desired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6858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52280" y="1749600"/>
            <a:ext cx="88394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, which 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562720" y="1890720"/>
            <a:ext cx="3200400" cy="214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3" name="Rectangle 5"/>
          <p:cNvSpPr/>
          <p:nvPr/>
        </p:nvSpPr>
        <p:spPr>
          <a:xfrm>
            <a:off x="7696440" y="63244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A)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الضغط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B)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368280" y="15494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152280" y="6095880"/>
            <a:ext cx="99072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5a Page 5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763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"/>
          <p:cNvPicPr/>
          <p:nvPr/>
        </p:nvPicPr>
        <p:blipFill>
          <a:blip r:embed="rId2"/>
          <a:stretch/>
        </p:blipFill>
        <p:spPr>
          <a:xfrm>
            <a:off x="76320" y="133200"/>
            <a:ext cx="167616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914400" y="3733920"/>
            <a:ext cx="7772400" cy="30114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76320" y="6461280"/>
            <a:ext cx="18288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5b Page 5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163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(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ى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962520" y="3181320"/>
            <a:ext cx="5105160" cy="3510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262800" y="6308640"/>
            <a:ext cx="216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9 Page 531 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Mov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9"/>
          <p:cNvSpPr/>
          <p:nvPr/>
        </p:nvSpPr>
        <p:spPr>
          <a:xfrm>
            <a:off x="2362320" y="457200"/>
            <a:ext cx="525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تكاثر فى البكت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572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8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52280" y="209376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2133720" y="609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792468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5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04920" y="5778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s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40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40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41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42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( C) 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0"/>
          <p:cNvSpPr/>
          <p:nvPr/>
        </p:nvSpPr>
        <p:spPr>
          <a:xfrm>
            <a:off x="2666880" y="5208480"/>
            <a:ext cx="1905120" cy="98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382-F134-4A86-8946-7D03AC1153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mater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13B-2901-47D6-AC0F-C085F7F340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in the Text is as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gra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col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discuss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vailable to you to determine if you understand th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B18-1C44-4C32-992A-947F3828BA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 you are adul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in lecture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at tests is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ssed examination will receive a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cuses will be accep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missed final exam will receive a zer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15B-3618-4EDF-BCAF-4C858DA09A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Word on the Final Ex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27F-584C-4EAA-8534-FE81F1B7AF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munication in C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class you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your cell phone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your desire to communicate with anyone but me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538B-6A96-42C0-A711-9A9464477E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fessional student is expec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cours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2DC0-880A-4A44-BEF2-53092D488C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ing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befor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ly on copies of Pow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read the chapter after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lecture notes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ing the lecture notes is strongly sug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, maintain, and study note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homework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arn the function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hmed</cp:lastModifiedBy>
  <dcterms:modified xsi:type="dcterms:W3CDTF">2009-03-08T20:55:10Z</dcterms:modified>
  <cp:revision>446</cp:revision>
  <dc:subject/>
  <dc:title>Slide 1</dc:title>
</cp:coreProperties>
</file>