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C292-6BD4-46DC-B74D-0B01E914B4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8657-CD83-4A49-8117-58BEC055C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A485-1FC9-4D60-ABAC-32D66B0AB3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6100-8FED-46F7-9898-58F87D36D3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AC1-C1F7-47B7-83C7-BC971AD1BE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0643-F067-4DCE-9DE1-F0BCDE8B79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F9DA-3246-45EA-9065-3ABFCA6C7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C929-EF43-4336-B185-2BF4ADB00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214C-AD05-4065-A277-B83139E8E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79C8-BCAD-4E89-B832-8DF02336C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04DA-25A5-43EF-8633-0E0873D221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5574-474F-4854-A852-B9F6CD528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7EE0-FACE-482E-852A-E9479CC5C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836A-36AD-411A-ADF5-6DF328443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BF5-6052-4510-9308-8D342ACB1C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D325-2BED-4CB2-8678-2197C15530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D12D-0BD4-4023-A363-5F0023A8A9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19BE-2323-4E9F-BF17-BAE4571EA0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4FE8-2ABA-455C-9C8F-5D020CF8DD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9A64-9984-422D-9731-9B74B5D2C5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9E41-5364-4204-A3D6-C1F1A32B6D4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21A-DA27-448F-B20D-C4A5CC45B7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1B47-F562-4B71-B482-955EA58673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EBFB-AA95-4DF7-AC6F-499EEDC4FB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951B-AF68-442D-9767-05BF54468EB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641-3A63-4380-B24A-B580881EA9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C57FC-773B-4860-9835-9A67BDF048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B7C-C5D5-4F3C-9B2F-E73050BF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9DF-2B63-4716-9A97-3F98C6F9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96A-3C72-4930-93FD-E8496DA5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7BDC-E5F7-4039-A9F7-0145F6EF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552E-F82B-4FA1-8CE1-1EE13997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402C-20F5-4D0B-ACA7-7995B1AE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C511-1A77-4B36-9D52-090EE5B7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C0D8-9381-4592-88A4-3E63CBFF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D215-E43C-4D99-A9D6-39FBAB47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AB0C-A284-47C4-988C-6D4524E1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028A-2225-4DF6-A2A2-EF0F931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DBB1-FFA9-4220-AC16-0A59193E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EDC-7ACB-4751-B919-5B8FB39B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5B17-6D09-4B01-B23A-DDCD2C1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0383-F0AD-4D2E-B58D-3713D260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8AD8-33F8-4D15-929E-A0328817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21F0-F38D-466A-A7B2-D77995FD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5E1F0-319F-4652-872F-C4A4F2551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3E89-66A5-46F3-9D22-406EA8A5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D7AD9-BC10-48E1-904F-E421F7C8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3FCC-48D5-4B71-BD3E-21B2300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1EA6-0A5B-46F7-802E-E2CD8EB5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C05-3658-4279-96D2-0A925391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361F-881C-46E6-9E9B-AFCF44A9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2510-2F64-40C4-8703-C6BBCBAA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E182-112C-47D9-A0A4-9C133A0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65EF-9820-42F0-86C9-68F3A6AE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D5C05-2DC0-4A75-AECA-E9B82421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EEB68-C7AD-40C0-AADA-93AC881F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EDA2-972C-4444-B329-AC23AB11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022-0516-4276-A6A8-C0402567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78D-52B8-4A2D-955C-8EC69A38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A2AB-5EC8-41BD-A7A8-CC3C1504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147-2389-4AD4-AAB0-CB146361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073-5262-4147-9196-4332A4E2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E5B-1D40-4EAE-8DA3-6A379747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7EED-1002-41A1-9D86-1F639EF1ED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CF4-2B17-4BD7-96DE-C6A9663BA1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7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1715-0B1C-418C-8F3C-0B6C1AE2617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ky.edu/~holler/html/p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ky.edu/~holler/html/p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hyperlink" Target="http://www.uky.edu/~holler/html/p.html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506C-F648-4F0B-AC4F-6D32CD1243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33440" y="2560680"/>
            <a:ext cx="4576680" cy="525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Impact"/>
              </a:rPr>
              <a:t>Zoology 106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114440" y="2971440"/>
            <a:ext cx="4876920" cy="685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Impact"/>
              </a:rPr>
              <a:t>General Animal 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038480" y="40687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FranklinGotTDemCon"/>
              </a:rPr>
              <a:t>For Premedical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419720" y="5105520"/>
            <a:ext cx="37335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Monotype Corsiva"/>
              </a:rPr>
              <a:t>By Dr. Ashraf  M. Ah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89000" y="2286000"/>
            <a:ext cx="37735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8" descr="A025"/>
          <p:cNvPicPr/>
          <p:nvPr/>
        </p:nvPicPr>
        <p:blipFill>
          <a:blip r:embed="rId2"/>
          <a:stretch/>
        </p:blipFill>
        <p:spPr>
          <a:xfrm>
            <a:off x="3048120" y="179280"/>
            <a:ext cx="3047760" cy="1040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biglogo"/>
          <p:cNvPicPr/>
          <p:nvPr/>
        </p:nvPicPr>
        <p:blipFill>
          <a:blip r:embed="rId3"/>
          <a:stretch/>
        </p:blipFill>
        <p:spPr>
          <a:xfrm>
            <a:off x="7315200" y="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6" name="Picture 10" descr="50year"/>
          <p:cNvPicPr/>
          <p:nvPr/>
        </p:nvPicPr>
        <p:blipFill>
          <a:blip r:embed="rId4"/>
          <a:stretch/>
        </p:blipFill>
        <p:spPr>
          <a:xfrm>
            <a:off x="0" y="0"/>
            <a:ext cx="16002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7" name="Line 11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54864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29-143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ParkAvenue BT"/>
              </a:rPr>
              <a:t>Good Luc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radley Hand ITC"/>
              </a:rPr>
              <a:t>Dr. Ahmed Abdel.Za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7ED-90C0-487A-B476-C3DAB8E4E2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53280" y="457200"/>
            <a:ext cx="5731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577B-E285-4959-AD5E-EF41883A17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380880" y="228600"/>
            <a:ext cx="37339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opperplate Gothic Bold"/>
              </a:rPr>
              <a:t>The Ce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828800" y="12952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Organism’s Basic Unit of Str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4"/>
          <p:cNvSpPr/>
          <p:nvPr/>
        </p:nvSpPr>
        <p:spPr>
          <a:xfrm>
            <a:off x="1066680" y="2971800"/>
            <a:ext cx="22860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5"/>
          <p:cNvSpPr/>
          <p:nvPr/>
        </p:nvSpPr>
        <p:spPr>
          <a:xfrm>
            <a:off x="6172200" y="2895480"/>
            <a:ext cx="228600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533520" y="228600"/>
            <a:ext cx="2819160" cy="144792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of ce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68580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5943600" y="44956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l other forms 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1752480" y="57913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6019920" y="57913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1"/>
          <p:cNvSpPr/>
          <p:nvPr/>
        </p:nvSpPr>
        <p:spPr>
          <a:xfrm>
            <a:off x="792468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4419720" y="609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llula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Small ro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152280" y="281952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بدائ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685800" y="49528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كائنات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7086600" y="2590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تقدم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1.11111E-006 L 0.3125 0.39444 E">
                                      <p:cBhvr>
                                        <p:cTn id="36" dur="1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D14E-E9EB-4C68-833E-45094621AAB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"/>
          <p:cNvSpPr/>
          <p:nvPr/>
        </p:nvSpPr>
        <p:spPr>
          <a:xfrm>
            <a:off x="3276720" y="304920"/>
            <a:ext cx="48765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opperplate Gothic Bold"/>
              </a:rPr>
              <a:t>Cell Theory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304920" y="16765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1- All organisms are composed of one or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more of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2- Cell is the basic unit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80880" y="4800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3- The new cell arises only from pre-</a:t>
            </a:r>
            <a:br>
              <a:rPr sz="3200"/>
            </a:b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    existing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981440" cy="1347840"/>
          </a:xfrm>
          <a:prstGeom prst="rect">
            <a:avLst/>
          </a:prstGeom>
          <a:ln w="0">
            <a:noFill/>
          </a:ln>
        </p:spPr>
      </p:pic>
      <p:sp>
        <p:nvSpPr>
          <p:cNvPr id="258" name="Line 7"/>
          <p:cNvSpPr/>
          <p:nvPr/>
        </p:nvSpPr>
        <p:spPr>
          <a:xfrm>
            <a:off x="152280" y="139716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51920" y="2209320"/>
            <a:ext cx="8915400" cy="394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are surrounded by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lasma membran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شاء بلاز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emi-fluid sub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ادة النصف سائ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in the cell is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cytoso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يتوبلاز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ing the cell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ِضيات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contain chromosomes which have genes in the form of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200000"/>
              </a:lnSpc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have tiny organell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ضيات صغي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ibosomes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make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676160" cy="13924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2514600" y="1600200"/>
            <a:ext cx="41148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imilariti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تشاب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76320" y="6477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76320" y="2286000"/>
            <a:ext cx="899136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jor difference </a:t>
            </a:r>
            <a:r>
              <a:rPr b="1" lang="ar-EG" sz="1400" spc="-1" strike="noStrike">
                <a:solidFill>
                  <a:srgbClr val="000000"/>
                </a:solidFill>
                <a:latin typeface="Arial"/>
              </a:rPr>
              <a:t>الفرق الأساس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prokaryotic and eukaryotic cells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cation of chromosomes</a:t>
            </a:r>
            <a:r>
              <a:rPr b="1" lang="en-US" sz="31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وضع الصبغيات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n eukaryotic cell, chromosomes are contained in a true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u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النواة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 prokaryotic cell, the DNA is concentrated in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nucleo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شـبه نوا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without a membrane 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دون غـش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eparating it from the rest of the c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rokaryotic cell, DNA is a single strand 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أحادى الشري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or double strand 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ثنائى الشري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DNA. But in eukaryotic cell, DNA is double str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"/>
          <p:cNvSpPr/>
          <p:nvPr/>
        </p:nvSpPr>
        <p:spPr>
          <a:xfrm>
            <a:off x="152280" y="14479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676160" cy="1392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1981080" y="1522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)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eukaryotic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cells</a:t>
            </a:r>
            <a:br>
              <a:rPr sz="26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    differ in size and complexity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514600" y="1600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fferences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800080"/>
                </a:solidFill>
                <a:latin typeface="Arial"/>
                <a:cs typeface="Al-Mothnna"/>
              </a:rPr>
              <a:t>أوجه الإختلا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7924680" y="65530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Line 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4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2590920" y="7632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pperplate Gothic Bold"/>
              </a:rPr>
              <a:t>(A)-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2362320" y="91440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  <a:ea typeface="Al-Mothnna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  <a:cs typeface="Al-Mothnna"/>
              </a:rPr>
              <a:t>الكائنات وحيدة الخلية ذات النواة البد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76320" y="6415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112, 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3"/>
          <p:cNvSpPr/>
          <p:nvPr/>
        </p:nvSpPr>
        <p:spPr>
          <a:xfrm>
            <a:off x="1905120" y="19810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cro-organisms 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  <a:cs typeface="Al-Mothnna"/>
              </a:rPr>
              <a:t>الأحياء الدقيقة</a:t>
            </a: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895480" y="1828800"/>
            <a:ext cx="335304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9"/>
          <p:cNvGrpSpPr/>
          <p:nvPr/>
        </p:nvGrpSpPr>
        <p:grpSpPr>
          <a:xfrm>
            <a:off x="2133720" y="2438280"/>
            <a:ext cx="4952880" cy="914400"/>
            <a:chOff x="2133720" y="2438280"/>
            <a:chExt cx="4952880" cy="914400"/>
          </a:xfrm>
        </p:grpSpPr>
        <p:sp>
          <p:nvSpPr>
            <p:cNvPr id="280" name="Line 5"/>
            <p:cNvSpPr/>
            <p:nvPr/>
          </p:nvSpPr>
          <p:spPr>
            <a:xfrm>
              <a:off x="4572000" y="24382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2133720" y="2895480"/>
              <a:ext cx="495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>
              <a:off x="213372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>
              <a:off x="7086600" y="2895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Oval 10"/>
          <p:cNvSpPr/>
          <p:nvPr/>
        </p:nvSpPr>
        <p:spPr>
          <a:xfrm>
            <a:off x="990720" y="3429000"/>
            <a:ext cx="236196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1"/>
          <p:cNvSpPr/>
          <p:nvPr/>
        </p:nvSpPr>
        <p:spPr>
          <a:xfrm>
            <a:off x="5943600" y="3429000"/>
            <a:ext cx="236232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4952880" y="4513320"/>
            <a:ext cx="3810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extreme environment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بيئات القاسية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hot and sal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838080" y="4565520"/>
            <a:ext cx="2667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Exist in most environ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380880" y="52578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re differing in some o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tructur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bio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 physiologic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haracteristic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6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17"/>
          <p:cNvSpPr/>
          <p:nvPr/>
        </p:nvSpPr>
        <p:spPr>
          <a:xfrm>
            <a:off x="2438280" y="22860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opperplate Gothic Bold"/>
              </a:rPr>
              <a:t>Types of Prokary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152280" y="640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5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0" y="1809720"/>
            <a:ext cx="9144000" cy="5048280"/>
          </a:xfrm>
          <a:prstGeom prst="rect">
            <a:avLst/>
          </a:prstGeom>
          <a:ln w="0">
            <a:noFill/>
          </a:ln>
        </p:spPr>
      </p:pic>
      <p:sp>
        <p:nvSpPr>
          <p:cNvPr id="294" name="Line 4"/>
          <p:cNvSpPr/>
          <p:nvPr/>
        </p:nvSpPr>
        <p:spPr>
          <a:xfrm>
            <a:off x="1087560" y="1674720"/>
            <a:ext cx="7751520" cy="180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981080" cy="16430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6"/>
          <p:cNvSpPr/>
          <p:nvPr/>
        </p:nvSpPr>
        <p:spPr>
          <a:xfrm>
            <a:off x="3352680" y="60948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Impact"/>
              </a:rPr>
              <a:t>1- 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2971800" y="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pperplate Gothic Bold"/>
              </a:rPr>
              <a:t>Prokary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4"/>
          <p:cNvGrpSpPr/>
          <p:nvPr/>
        </p:nvGrpSpPr>
        <p:grpSpPr>
          <a:xfrm>
            <a:off x="0" y="0"/>
            <a:ext cx="9144000" cy="6707880"/>
            <a:chOff x="0" y="0"/>
            <a:chExt cx="9144000" cy="6707880"/>
          </a:xfrm>
        </p:grpSpPr>
        <p:sp>
          <p:nvSpPr>
            <p:cNvPr id="299" name="Rectangle 4"/>
            <p:cNvSpPr/>
            <p:nvPr/>
          </p:nvSpPr>
          <p:spPr>
            <a:xfrm>
              <a:off x="1981080" y="5927760"/>
              <a:ext cx="64008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Fig. 7.4  The prokaryotic cell is much simpler in structure, lacking a nucleus and the other membrane-enclosed organelles of the eukaryotic cell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5"/>
            <p:cNvSpPr/>
            <p:nvPr/>
          </p:nvSpPr>
          <p:spPr>
            <a:xfrm>
              <a:off x="152280" y="640080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ge 1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1" name="Picture 3" descr=""/>
            <p:cNvPicPr/>
            <p:nvPr/>
          </p:nvPicPr>
          <p:blipFill>
            <a:blip r:embed="rId1"/>
            <a:srcRect l="0" t="0" r="0" b="3787"/>
            <a:stretch/>
          </p:blipFill>
          <p:spPr>
            <a:xfrm>
              <a:off x="0" y="0"/>
              <a:ext cx="914400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 Box 6"/>
            <p:cNvSpPr/>
            <p:nvPr/>
          </p:nvSpPr>
          <p:spPr>
            <a:xfrm>
              <a:off x="4343400" y="2387520"/>
              <a:ext cx="119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غشاء بلازم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7"/>
            <p:cNvSpPr/>
            <p:nvPr/>
          </p:nvSpPr>
          <p:spPr>
            <a:xfrm>
              <a:off x="4444920" y="2921040"/>
              <a:ext cx="1193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جدار الخل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3733920" y="129528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شبه نوا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4114800" y="1828800"/>
              <a:ext cx="1066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ريبوزوما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10"/>
            <p:cNvSpPr/>
            <p:nvPr/>
          </p:nvSpPr>
          <p:spPr>
            <a:xfrm>
              <a:off x="4952880" y="3549600"/>
              <a:ext cx="99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كبسول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762120" y="396252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سوا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13"/>
          <p:cNvSpPr/>
          <p:nvPr/>
        </p:nvSpPr>
        <p:spPr>
          <a:xfrm>
            <a:off x="1574640" y="2774880"/>
            <a:ext cx="5867640" cy="2057400"/>
          </a:xfrm>
          <a:prstGeom prst="flowChartTerminator">
            <a:avLst/>
          </a:prstGeom>
          <a:gradFill rotWithShape="0">
            <a:gsLst>
              <a:gs pos="0">
                <a:srgbClr val="150015"/>
              </a:gs>
              <a:gs pos="50000">
                <a:srgbClr val="cc00cc"/>
              </a:gs>
              <a:gs pos="100000">
                <a:srgbClr val="150015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8"/>
          <p:cNvGrpSpPr/>
          <p:nvPr/>
        </p:nvGrpSpPr>
        <p:grpSpPr>
          <a:xfrm>
            <a:off x="1523880" y="2711520"/>
            <a:ext cx="5943600" cy="2133360"/>
            <a:chOff x="1523880" y="2711520"/>
            <a:chExt cx="5943600" cy="2133360"/>
          </a:xfrm>
        </p:grpSpPr>
        <p:sp>
          <p:nvSpPr>
            <p:cNvPr id="310" name="AutoShape 7"/>
            <p:cNvSpPr/>
            <p:nvPr/>
          </p:nvSpPr>
          <p:spPr>
            <a:xfrm>
              <a:off x="1600200" y="2711520"/>
              <a:ext cx="5867280" cy="2057400"/>
            </a:xfrm>
            <a:prstGeom prst="flowChartTerminator">
              <a:avLst/>
            </a:prstGeom>
            <a:solidFill>
              <a:srgbClr val="cc00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5"/>
            <p:cNvSpPr/>
            <p:nvPr/>
          </p:nvSpPr>
          <p:spPr>
            <a:xfrm>
              <a:off x="1523880" y="2940120"/>
              <a:ext cx="5791320" cy="190476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 Box 4"/>
          <p:cNvSpPr/>
          <p:nvPr/>
        </p:nvSpPr>
        <p:spPr>
          <a:xfrm>
            <a:off x="76320" y="76320"/>
            <a:ext cx="3809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karyotic 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638360" y="3041640"/>
            <a:ext cx="5562720" cy="1676520"/>
          </a:xfrm>
          <a:prstGeom prst="flowChartTerminator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1739880" y="3130560"/>
            <a:ext cx="5359320" cy="1498680"/>
          </a:xfrm>
          <a:prstGeom prst="flowChartTerminator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1816200" y="3206880"/>
            <a:ext cx="5207040" cy="1346040"/>
          </a:xfrm>
          <a:prstGeom prst="flowChartTerminator">
            <a:avLst/>
          </a:prstGeom>
          <a:solidFill>
            <a:srgbClr val="66ff33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2806560" y="3444840"/>
            <a:ext cx="3517920" cy="776160"/>
          </a:xfrm>
          <a:prstGeom prst="cloudCallout">
            <a:avLst>
              <a:gd name="adj1" fmla="val -34564"/>
              <a:gd name="adj2" fmla="val -8689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7"/>
          <p:cNvGrpSpPr/>
          <p:nvPr/>
        </p:nvGrpSpPr>
        <p:grpSpPr>
          <a:xfrm>
            <a:off x="6934320" y="1339920"/>
            <a:ext cx="1752480" cy="1523880"/>
            <a:chOff x="6934320" y="1339920"/>
            <a:chExt cx="1752480" cy="1523880"/>
          </a:xfrm>
        </p:grpSpPr>
        <p:sp>
          <p:nvSpPr>
            <p:cNvPr id="318" name="Line 15"/>
            <p:cNvSpPr/>
            <p:nvPr/>
          </p:nvSpPr>
          <p:spPr>
            <a:xfrm flipV="1">
              <a:off x="6934320" y="1949400"/>
              <a:ext cx="761760" cy="91440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70102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cc"/>
                  </a:solidFill>
                  <a:latin typeface="Arial"/>
                </a:rPr>
                <a:t>Capsu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22"/>
          <p:cNvGrpSpPr/>
          <p:nvPr/>
        </p:nvGrpSpPr>
        <p:grpSpPr>
          <a:xfrm>
            <a:off x="4952880" y="1339920"/>
            <a:ext cx="1676520" cy="1675800"/>
            <a:chOff x="4952880" y="1339920"/>
            <a:chExt cx="1676520" cy="1675800"/>
          </a:xfrm>
        </p:grpSpPr>
        <p:sp>
          <p:nvSpPr>
            <p:cNvPr id="321" name="Line 20"/>
            <p:cNvSpPr/>
            <p:nvPr/>
          </p:nvSpPr>
          <p:spPr>
            <a:xfrm flipV="1">
              <a:off x="4952880" y="1949040"/>
              <a:ext cx="685800" cy="10666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4952880" y="13399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Arial"/>
                </a:rPr>
                <a:t>Cell W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25"/>
          <p:cNvGrpSpPr/>
          <p:nvPr/>
        </p:nvGrpSpPr>
        <p:grpSpPr>
          <a:xfrm>
            <a:off x="2438280" y="1339920"/>
            <a:ext cx="2057400" cy="1790280"/>
            <a:chOff x="2438280" y="1339920"/>
            <a:chExt cx="2057400" cy="1790280"/>
          </a:xfrm>
        </p:grpSpPr>
        <p:sp>
          <p:nvSpPr>
            <p:cNvPr id="324" name="Line 23"/>
            <p:cNvSpPr/>
            <p:nvPr/>
          </p:nvSpPr>
          <p:spPr>
            <a:xfrm flipV="1">
              <a:off x="2819520" y="1987200"/>
              <a:ext cx="45720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2438280" y="1339920"/>
              <a:ext cx="20574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Plasma membra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8"/>
          <p:cNvGrpSpPr/>
          <p:nvPr/>
        </p:nvGrpSpPr>
        <p:grpSpPr>
          <a:xfrm>
            <a:off x="4876920" y="4311720"/>
            <a:ext cx="2057400" cy="2013840"/>
            <a:chOff x="4876920" y="4311720"/>
            <a:chExt cx="2057400" cy="2013840"/>
          </a:xfrm>
        </p:grpSpPr>
        <p:sp>
          <p:nvSpPr>
            <p:cNvPr id="327" name="Line 26"/>
            <p:cNvSpPr/>
            <p:nvPr/>
          </p:nvSpPr>
          <p:spPr>
            <a:xfrm flipH="1">
              <a:off x="5791320" y="4311720"/>
              <a:ext cx="304560" cy="114300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27"/>
            <p:cNvSpPr/>
            <p:nvPr/>
          </p:nvSpPr>
          <p:spPr>
            <a:xfrm>
              <a:off x="4876920" y="5378400"/>
              <a:ext cx="205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Cytoplasm (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r>
                <a:rPr b="1" lang="en-GB" sz="2800" spc="-1" strike="noStrike">
                  <a:solidFill>
                    <a:srgbClr val="009900"/>
                  </a:solidFill>
                  <a:latin typeface="Arial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2"/>
          <p:cNvGrpSpPr/>
          <p:nvPr/>
        </p:nvGrpSpPr>
        <p:grpSpPr>
          <a:xfrm>
            <a:off x="2895480" y="3854520"/>
            <a:ext cx="2057400" cy="2044440"/>
            <a:chOff x="2895480" y="3854520"/>
            <a:chExt cx="2057400" cy="2044440"/>
          </a:xfrm>
        </p:grpSpPr>
        <p:sp>
          <p:nvSpPr>
            <p:cNvPr id="330" name="Line 30"/>
            <p:cNvSpPr/>
            <p:nvPr/>
          </p:nvSpPr>
          <p:spPr>
            <a:xfrm flipH="1">
              <a:off x="3809520" y="3854520"/>
              <a:ext cx="68580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31"/>
            <p:cNvSpPr/>
            <p:nvPr/>
          </p:nvSpPr>
          <p:spPr>
            <a:xfrm>
              <a:off x="2895480" y="537840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ucleoi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53"/>
          <p:cNvGrpSpPr/>
          <p:nvPr/>
        </p:nvGrpSpPr>
        <p:grpSpPr>
          <a:xfrm>
            <a:off x="2133720" y="3306600"/>
            <a:ext cx="4495320" cy="1219320"/>
            <a:chOff x="2133720" y="3306600"/>
            <a:chExt cx="4495320" cy="1219320"/>
          </a:xfrm>
        </p:grpSpPr>
        <p:sp>
          <p:nvSpPr>
            <p:cNvPr id="333" name="Oval 39"/>
            <p:cNvSpPr/>
            <p:nvPr/>
          </p:nvSpPr>
          <p:spPr>
            <a:xfrm>
              <a:off x="2133720" y="34588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0"/>
            <p:cNvSpPr/>
            <p:nvPr/>
          </p:nvSpPr>
          <p:spPr>
            <a:xfrm>
              <a:off x="2438280" y="414468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1"/>
            <p:cNvSpPr/>
            <p:nvPr/>
          </p:nvSpPr>
          <p:spPr>
            <a:xfrm>
              <a:off x="2209680" y="38401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2"/>
            <p:cNvSpPr/>
            <p:nvPr/>
          </p:nvSpPr>
          <p:spPr>
            <a:xfrm>
              <a:off x="4952880" y="4449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43"/>
            <p:cNvSpPr/>
            <p:nvPr/>
          </p:nvSpPr>
          <p:spPr>
            <a:xfrm>
              <a:off x="3657600" y="4297320"/>
              <a:ext cx="15192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44"/>
            <p:cNvSpPr/>
            <p:nvPr/>
          </p:nvSpPr>
          <p:spPr>
            <a:xfrm>
              <a:off x="3047760" y="437328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5"/>
            <p:cNvSpPr/>
            <p:nvPr/>
          </p:nvSpPr>
          <p:spPr>
            <a:xfrm>
              <a:off x="274320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6"/>
            <p:cNvSpPr/>
            <p:nvPr/>
          </p:nvSpPr>
          <p:spPr>
            <a:xfrm>
              <a:off x="51814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7"/>
            <p:cNvSpPr/>
            <p:nvPr/>
          </p:nvSpPr>
          <p:spPr>
            <a:xfrm>
              <a:off x="44193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8"/>
            <p:cNvSpPr/>
            <p:nvPr/>
          </p:nvSpPr>
          <p:spPr>
            <a:xfrm>
              <a:off x="3581280" y="3306600"/>
              <a:ext cx="15192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9"/>
            <p:cNvSpPr/>
            <p:nvPr/>
          </p:nvSpPr>
          <p:spPr>
            <a:xfrm>
              <a:off x="6476760" y="39924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50"/>
            <p:cNvSpPr/>
            <p:nvPr/>
          </p:nvSpPr>
          <p:spPr>
            <a:xfrm>
              <a:off x="6476760" y="36115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51"/>
            <p:cNvSpPr/>
            <p:nvPr/>
          </p:nvSpPr>
          <p:spPr>
            <a:xfrm>
              <a:off x="5562360" y="4297320"/>
              <a:ext cx="152280" cy="759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2"/>
            <p:cNvSpPr/>
            <p:nvPr/>
          </p:nvSpPr>
          <p:spPr>
            <a:xfrm>
              <a:off x="6019560" y="3306600"/>
              <a:ext cx="152280" cy="76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58"/>
          <p:cNvGrpSpPr/>
          <p:nvPr/>
        </p:nvGrpSpPr>
        <p:grpSpPr>
          <a:xfrm>
            <a:off x="304920" y="3916080"/>
            <a:ext cx="2146320" cy="1816200"/>
            <a:chOff x="304920" y="3916080"/>
            <a:chExt cx="2146320" cy="1816200"/>
          </a:xfrm>
        </p:grpSpPr>
        <p:sp>
          <p:nvSpPr>
            <p:cNvPr id="348" name="Text Box 54"/>
            <p:cNvSpPr/>
            <p:nvPr/>
          </p:nvSpPr>
          <p:spPr>
            <a:xfrm>
              <a:off x="304920" y="521172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Riboso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55"/>
            <p:cNvSpPr/>
            <p:nvPr/>
          </p:nvSpPr>
          <p:spPr>
            <a:xfrm flipV="1">
              <a:off x="1384560" y="4208400"/>
              <a:ext cx="1066680" cy="114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57"/>
            <p:cNvSpPr/>
            <p:nvPr/>
          </p:nvSpPr>
          <p:spPr>
            <a:xfrm flipV="1">
              <a:off x="1371960" y="3916080"/>
              <a:ext cx="838080" cy="1447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CBF-69D1-4DFF-ABE0-A238AF3940F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Questions Consid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certain reaction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others not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rives these proces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organic molecules have certain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predict the presence or absence of certain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ake new materials with other desired proper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53280" y="685800"/>
            <a:ext cx="5731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152280" y="1749600"/>
            <a:ext cx="883944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prokaryotes (bacteria)                                                   secrete a sticky                                              protective layer called                                                 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capsul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utside                                                           the cell wall, which  has the                                                        following functio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ظائ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here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ثبيت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 cells to their substratum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سطح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crease bacteria resistan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مقاوم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 host defens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ناعة العائل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tick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لصق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cter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ells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together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en live as colo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spcBef>
                <a:spcPts val="499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م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acterial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5562720" y="1890720"/>
            <a:ext cx="3200400" cy="2147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53" name="Rectangle 5"/>
          <p:cNvSpPr/>
          <p:nvPr/>
        </p:nvSpPr>
        <p:spPr>
          <a:xfrm>
            <a:off x="7696440" y="632448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057400" y="457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pperplate Gothic Bold"/>
              </a:rPr>
              <a:t>A) the bacterial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7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828800" cy="1517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22960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all prokaryotes, the functions of the cell wall are as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maintain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حافط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the shape of the cell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affords physical protection </a:t>
            </a:r>
            <a:r>
              <a:rPr b="1" lang="ar-EG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حماية الطبيعية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900" spc="-1" strike="noStrike">
                <a:solidFill>
                  <a:srgbClr val="000000"/>
                </a:solidFill>
                <a:latin typeface="Arial"/>
              </a:rPr>
              <a:t>توف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130000"/>
              </a:lnSpc>
              <a:spcBef>
                <a:spcPts val="575"/>
              </a:spcBef>
              <a:buClr>
                <a:srgbClr val="0000ff"/>
              </a:buClr>
              <a:buSzPct val="70000"/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prevents the cell from bursting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فجار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in a hypotonic environment 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البيئة ذات الضغط الأسموزى المنخفض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9564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bacterial cell walls contain </a:t>
            </a:r>
            <a:r>
              <a:rPr b="1" lang="en-US" sz="3000" spc="-1" strike="noStrike" u="sng">
                <a:solidFill>
                  <a:srgbClr val="800080"/>
                </a:solidFill>
                <a:uFillTx/>
                <a:latin typeface="Copperplate Gothic Bold"/>
              </a:rPr>
              <a:t>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     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lymer of modified sugars cross-linked by short polypeptid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5640" indent="-395640">
              <a:lnSpc>
                <a:spcPct val="130000"/>
              </a:lnSpc>
              <a:spcBef>
                <a:spcPts val="60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walls of Archaea lack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تـفـتـقـد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ptidogly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981080" y="411120"/>
            <a:ext cx="640080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pperplate Gothic Bold"/>
              </a:rPr>
              <a:t>B) The bacterial cell wall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Line 5"/>
          <p:cNvSpPr/>
          <p:nvPr/>
        </p:nvSpPr>
        <p:spPr>
          <a:xfrm>
            <a:off x="368280" y="154944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6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828800" cy="15177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229600" cy="21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tool for identifying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عري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bacteria, based on differences in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)- Gram-positiv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ram +ve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 bacter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rge amounts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ar-EG" sz="1600" spc="-1" strike="noStrike" u="sng">
                <a:solidFill>
                  <a:srgbClr val="000000"/>
                </a:solidFill>
                <a:uFillTx/>
                <a:latin typeface="Arial"/>
              </a:rPr>
              <a:t>كمية كبيرة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f peptidoglyca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react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m’s stain (appear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violet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ined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تـُصبغ بنفسج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rcRect l="0" t="0" r="0" b="51004"/>
          <a:stretch/>
        </p:blipFill>
        <p:spPr>
          <a:xfrm>
            <a:off x="1523880" y="4014720"/>
            <a:ext cx="6858000" cy="2691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152280" y="6095880"/>
            <a:ext cx="990720" cy="55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5a Page 52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981080" y="-166680"/>
            <a:ext cx="5943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6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76320" y="152388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"/>
          <p:cNvPicPr/>
          <p:nvPr/>
        </p:nvPicPr>
        <p:blipFill>
          <a:blip r:embed="rId2"/>
          <a:stretch/>
        </p:blipFill>
        <p:spPr>
          <a:xfrm>
            <a:off x="76320" y="133200"/>
            <a:ext cx="1676160" cy="1390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1612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B)- Gram-negativ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am -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cteri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ir cell walls hav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mall amount of  peptidoglyc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o, do not react or very weakly react with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’s stain (do not appear stained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لا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ظهر الصبغ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rcRect l="0" t="48410" r="0" b="3184"/>
          <a:stretch/>
        </p:blipFill>
        <p:spPr>
          <a:xfrm>
            <a:off x="914400" y="3733920"/>
            <a:ext cx="7772400" cy="30114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6"/>
          <p:cNvSpPr/>
          <p:nvPr/>
        </p:nvSpPr>
        <p:spPr>
          <a:xfrm>
            <a:off x="76320" y="6461280"/>
            <a:ext cx="182880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5b Page 52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8"/>
          <p:cNvSpPr/>
          <p:nvPr/>
        </p:nvSpPr>
        <p:spPr>
          <a:xfrm>
            <a:off x="304920" y="152388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9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828800" cy="151776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2209680" y="-136440"/>
            <a:ext cx="5943600" cy="11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Arial"/>
              </a:rPr>
              <a:t>The Gram’s stain: </a:t>
            </a:r>
            <a:r>
              <a:rPr b="1" lang="ar-EG" sz="3500" spc="-1" strike="noStrike">
                <a:solidFill>
                  <a:srgbClr val="0000ff"/>
                </a:solidFill>
                <a:latin typeface="Arial"/>
              </a:rPr>
              <a:t>صبغة جرام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5257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ff"/>
                </a:solidFill>
                <a:latin typeface="Arial"/>
              </a:rPr>
              <a:t>Gram Staining of Bacteri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1752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+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Large amount of peptidoglycan that stained 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violet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non-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غير 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200" spc="-1" strike="noStrike">
                <a:solidFill>
                  <a:srgbClr val="99009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3300"/>
                </a:solidFill>
                <a:latin typeface="Arial"/>
              </a:rPr>
              <a:t>Gram –ve bacteria: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Have small amount or no peptidoglycan (no staining) (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pathogen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676160" cy="1163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28600" y="3941640"/>
            <a:ext cx="8458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species are pathogenic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مرض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more threatening (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أكثر خطو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m-negative bacteria are commonly more resistant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كثر ممان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han gram-positive species to antibio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لمضادات الحيات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>
            <a:off x="152280" y="2108160"/>
            <a:ext cx="8229600" cy="22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reprodu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ـتـكاث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sexuall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جنس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binary fiss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إنقسـام الثـنائى الب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ingle cell produce                                              a colony of offspr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"/>
          <p:cNvPicPr/>
          <p:nvPr/>
        </p:nvPicPr>
        <p:blipFill>
          <a:blip r:embed="rId1"/>
          <a:stretch/>
        </p:blipFill>
        <p:spPr>
          <a:xfrm>
            <a:off x="3962520" y="3181320"/>
            <a:ext cx="5105160" cy="351000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6"/>
          <p:cNvSpPr/>
          <p:nvPr/>
        </p:nvSpPr>
        <p:spPr>
          <a:xfrm>
            <a:off x="262800" y="6308640"/>
            <a:ext cx="216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27.9 Page 531 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</a:rPr>
              <a:t>Mov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2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9"/>
          <p:cNvSpPr/>
          <p:nvPr/>
        </p:nvSpPr>
        <p:spPr>
          <a:xfrm>
            <a:off x="2362320" y="457200"/>
            <a:ext cx="52578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Reproduction of Bacteria </a:t>
            </a:r>
            <a:r>
              <a:rPr b="1" lang="ar-EG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التكاثر فى البكتري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7" descr="Pict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457200"/>
            <a:ext cx="573120" cy="9144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4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304920" y="4208400"/>
            <a:ext cx="77724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karyotes are group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صُنٍفـَ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o four categori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26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cording to how they obtain energy and carb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6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7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8"/>
          <p:cNvSpPr/>
          <p:nvPr/>
        </p:nvSpPr>
        <p:spPr>
          <a:xfrm>
            <a:off x="304920" y="2527200"/>
            <a:ext cx="853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utrition refers to how an organism obtains energy and a carbon source from the environment to build the organic molecules of its ce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76320" y="2158920"/>
            <a:ext cx="899136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ho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و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l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Chem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كيميائ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obtain energy from chemicals in their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Autotrophs</a:t>
            </a:r>
            <a:r>
              <a:rPr b="1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ذاتية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9933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Heterotrophs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تعدد التغذي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that use organic nutrients as a carbon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6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8"/>
          <p:cNvSpPr/>
          <p:nvPr/>
        </p:nvSpPr>
        <p:spPr>
          <a:xfrm>
            <a:off x="2590920" y="228600"/>
            <a:ext cx="5105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utrition of Prokaryotes </a:t>
            </a:r>
            <a:r>
              <a:rPr b="0" lang="ar-EG" sz="2800" spc="-1" strike="noStrike">
                <a:solidFill>
                  <a:srgbClr val="0000ff"/>
                </a:solidFill>
                <a:latin typeface="Times New Roman"/>
                <a:cs typeface="Al-Mothnna"/>
              </a:rPr>
              <a:t>التغذية فى الأحياء الدقي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52280" y="2093760"/>
            <a:ext cx="8839440" cy="472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autotrophs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 energ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s carbon source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to synthesis (</a:t>
            </a:r>
            <a:r>
              <a:rPr b="1" lang="ar-EG" sz="1700" spc="-1" strike="noStrike">
                <a:solidFill>
                  <a:srgbClr val="000000"/>
                </a:solidFill>
                <a:latin typeface="Arial"/>
              </a:rPr>
              <a:t>تخلق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) organic compound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aut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ذاتية التغذية الكيميائية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hemical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in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17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carbon sourc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25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Photoheterotrophs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ضو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ligh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energy source, and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carbon sourc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50000"/>
              </a:lnSpc>
              <a:spcBef>
                <a:spcPts val="425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60000"/>
              </a:lnSpc>
              <a:spcBef>
                <a:spcPts val="876"/>
              </a:spcBef>
              <a:buClr>
                <a:srgbClr val="0000ff"/>
              </a:buClr>
              <a:buSzPct val="7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ff"/>
                </a:solidFill>
                <a:latin typeface="Arial"/>
              </a:rPr>
              <a:t>Chemoheterotroph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3100" spc="-1" strike="noStrike">
                <a:solidFill>
                  <a:srgbClr val="000000"/>
                </a:solidFill>
                <a:latin typeface="Arial"/>
              </a:rPr>
              <a:t>متعدد التغذية الكيميائية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6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700" spc="-1" strike="noStrike" u="sng">
                <a:solidFill>
                  <a:srgbClr val="ff0000"/>
                </a:solidFill>
                <a:uFillTx/>
                <a:latin typeface="Arial"/>
              </a:rPr>
              <a:t>organic substanc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as a source for both energy and carbon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152280" y="16765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1"/>
          <a:stretch/>
        </p:blipFill>
        <p:spPr>
          <a:xfrm>
            <a:off x="76320" y="55440"/>
            <a:ext cx="1981080" cy="16448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7"/>
          <p:cNvSpPr/>
          <p:nvPr/>
        </p:nvSpPr>
        <p:spPr>
          <a:xfrm>
            <a:off x="2133720" y="609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re are four major modes of nutr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1676520" y="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karyotic modes of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7924680" y="2057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 5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304920" y="57780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Carbon source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000" spc="-1" strike="noStrike" u="sng">
                <a:solidFill>
                  <a:srgbClr val="ff3300"/>
                </a:solidFill>
                <a:uFillTx/>
                <a:latin typeface="Arial"/>
              </a:rPr>
              <a:t>Energy sourc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can be used       by a prokaryote organism to synthesise organic compou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5"/>
          <p:cNvGrpSpPr/>
          <p:nvPr/>
        </p:nvGrpSpPr>
        <p:grpSpPr>
          <a:xfrm>
            <a:off x="2666880" y="1676520"/>
            <a:ext cx="3657600" cy="1066680"/>
            <a:chOff x="2666880" y="1676520"/>
            <a:chExt cx="3657600" cy="1066680"/>
          </a:xfrm>
        </p:grpSpPr>
        <p:sp>
          <p:nvSpPr>
            <p:cNvPr id="402" name="Line 6"/>
            <p:cNvSpPr/>
            <p:nvPr/>
          </p:nvSpPr>
          <p:spPr>
            <a:xfrm>
              <a:off x="4648320" y="1676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7"/>
            <p:cNvSpPr/>
            <p:nvPr/>
          </p:nvSpPr>
          <p:spPr>
            <a:xfrm>
              <a:off x="2666880" y="2362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8"/>
            <p:cNvSpPr/>
            <p:nvPr/>
          </p:nvSpPr>
          <p:spPr>
            <a:xfrm>
              <a:off x="26668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9"/>
            <p:cNvSpPr/>
            <p:nvPr/>
          </p:nvSpPr>
          <p:spPr>
            <a:xfrm>
              <a:off x="6324480" y="2362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10"/>
          <p:cNvGrpSpPr/>
          <p:nvPr/>
        </p:nvGrpSpPr>
        <p:grpSpPr>
          <a:xfrm>
            <a:off x="1143000" y="3733920"/>
            <a:ext cx="2362320" cy="685800"/>
            <a:chOff x="1143000" y="3733920"/>
            <a:chExt cx="2362320" cy="685800"/>
          </a:xfrm>
        </p:grpSpPr>
        <p:sp>
          <p:nvSpPr>
            <p:cNvPr id="407" name="Line 11"/>
            <p:cNvSpPr/>
            <p:nvPr/>
          </p:nvSpPr>
          <p:spPr>
            <a:xfrm>
              <a:off x="243828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2"/>
            <p:cNvSpPr/>
            <p:nvPr/>
          </p:nvSpPr>
          <p:spPr>
            <a:xfrm>
              <a:off x="1143000" y="403848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3"/>
            <p:cNvSpPr/>
            <p:nvPr/>
          </p:nvSpPr>
          <p:spPr>
            <a:xfrm>
              <a:off x="11430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4"/>
            <p:cNvSpPr/>
            <p:nvPr/>
          </p:nvSpPr>
          <p:spPr>
            <a:xfrm>
              <a:off x="350532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5"/>
          <p:cNvGrpSpPr/>
          <p:nvPr/>
        </p:nvGrpSpPr>
        <p:grpSpPr>
          <a:xfrm>
            <a:off x="5486400" y="3733920"/>
            <a:ext cx="2438280" cy="685800"/>
            <a:chOff x="5486400" y="3733920"/>
            <a:chExt cx="2438280" cy="685800"/>
          </a:xfrm>
        </p:grpSpPr>
        <p:sp>
          <p:nvSpPr>
            <p:cNvPr id="412" name="Line 16"/>
            <p:cNvSpPr/>
            <p:nvPr/>
          </p:nvSpPr>
          <p:spPr>
            <a:xfrm>
              <a:off x="6629400" y="37339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7"/>
            <p:cNvSpPr/>
            <p:nvPr/>
          </p:nvSpPr>
          <p:spPr>
            <a:xfrm>
              <a:off x="5486400" y="4038480"/>
              <a:ext cx="243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8"/>
            <p:cNvSpPr/>
            <p:nvPr/>
          </p:nvSpPr>
          <p:spPr>
            <a:xfrm>
              <a:off x="548640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9"/>
            <p:cNvSpPr/>
            <p:nvPr/>
          </p:nvSpPr>
          <p:spPr>
            <a:xfrm>
              <a:off x="7924680" y="403848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20"/>
          <p:cNvSpPr/>
          <p:nvPr/>
        </p:nvSpPr>
        <p:spPr>
          <a:xfrm>
            <a:off x="1600200" y="26668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1"/>
          <p:cNvSpPr/>
          <p:nvPr/>
        </p:nvSpPr>
        <p:spPr>
          <a:xfrm>
            <a:off x="5257800" y="266688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457200" y="4419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3"/>
          <p:cNvSpPr/>
          <p:nvPr/>
        </p:nvSpPr>
        <p:spPr>
          <a:xfrm>
            <a:off x="2743200" y="4419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aut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4"/>
          <p:cNvSpPr/>
          <p:nvPr/>
        </p:nvSpPr>
        <p:spPr>
          <a:xfrm>
            <a:off x="7162920" y="4444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hem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5"/>
          <p:cNvSpPr/>
          <p:nvPr/>
        </p:nvSpPr>
        <p:spPr>
          <a:xfrm>
            <a:off x="4724280" y="44197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hoto-Heterotro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26"/>
          <p:cNvGrpSpPr/>
          <p:nvPr/>
        </p:nvGrpSpPr>
        <p:grpSpPr>
          <a:xfrm>
            <a:off x="1143000" y="3092400"/>
            <a:ext cx="6705360" cy="642600"/>
            <a:chOff x="1143000" y="3092400"/>
            <a:chExt cx="6705360" cy="642600"/>
          </a:xfrm>
        </p:grpSpPr>
        <p:sp>
          <p:nvSpPr>
            <p:cNvPr id="423" name="Text Box 27"/>
            <p:cNvSpPr/>
            <p:nvPr/>
          </p:nvSpPr>
          <p:spPr>
            <a:xfrm>
              <a:off x="1143000" y="3214800"/>
              <a:ext cx="276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CO</a:t>
              </a:r>
              <a:r>
                <a:rPr b="1" lang="en-GB" sz="2000" spc="-1" strike="noStrike" baseline="-25000">
                  <a:solidFill>
                    <a:srgbClr val="cc0099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 as Carbon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28"/>
            <p:cNvSpPr/>
            <p:nvPr/>
          </p:nvSpPr>
          <p:spPr>
            <a:xfrm>
              <a:off x="5087160" y="3092400"/>
              <a:ext cx="276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cc0099"/>
                  </a:solidFill>
                  <a:latin typeface="Arial"/>
                </a:rPr>
                <a:t>Organic compounds as Carbon ( C) 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29"/>
          <p:cNvSpPr/>
          <p:nvPr/>
        </p:nvSpPr>
        <p:spPr>
          <a:xfrm>
            <a:off x="228600" y="5181480"/>
            <a:ext cx="1905120" cy="98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Light as energy 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30"/>
          <p:cNvSpPr/>
          <p:nvPr/>
        </p:nvSpPr>
        <p:spPr>
          <a:xfrm>
            <a:off x="2666880" y="5208480"/>
            <a:ext cx="1905120" cy="984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CO</a:t>
            </a:r>
            <a:r>
              <a:rPr b="1" lang="en-GB" sz="16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1"/>
          <p:cNvSpPr/>
          <p:nvPr/>
        </p:nvSpPr>
        <p:spPr>
          <a:xfrm>
            <a:off x="4876920" y="5257800"/>
            <a:ext cx="1752480" cy="1437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Light a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2"/>
          <p:cNvSpPr/>
          <p:nvPr/>
        </p:nvSpPr>
        <p:spPr>
          <a:xfrm>
            <a:off x="7010280" y="5257800"/>
            <a:ext cx="1905120" cy="1437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Chemicals as</a:t>
            </a:r>
            <a:br>
              <a:rPr sz="16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energy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- Organic compounds as C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33526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rokary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4925-6276-4C37-822C-0B717D14E2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materi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F725-0CC4-418E-BD63-AAA7A1584C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blem in the Text is as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not be gra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not be col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not be discussed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available to you to determine if you understand the mate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573D-4A14-44C5-8119-57B44DBCBB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tten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:  you are adul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 in lecture is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ance at tests is exp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ssed examination will receive a z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cuses will be accep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missed final exam will receive a zero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8DBA-9FE7-4891-B13D-CFF5ED0196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 Word on the Final Ex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81A2-F7E6-4F8B-AC19-BEE1ACB844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mmunication in Cla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class you 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your cell phone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your desire to communicate with anyone but me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16CE-049B-4EC6-98CB-CBC1E4EEC4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fessional student is expec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cours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fo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prepared for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BF91-CC10-458A-82C6-6D167C4F49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ing W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before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d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rely on copies of Power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read the chapter after l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lecture notes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writing the lecture notes is strongly sug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, maintain, and study note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homework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 study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arn the function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8:57:57Z</dcterms:created>
  <dc:creator>Ash Ahm</dc:creator>
  <dc:description/>
  <dc:language>en-US</dc:language>
  <cp:lastModifiedBy>Ahmed</cp:lastModifiedBy>
  <dcterms:modified xsi:type="dcterms:W3CDTF">2009-03-08T20:55:10Z</dcterms:modified>
  <cp:revision>446</cp:revision>
  <dc:subject/>
  <dc:title>Slide 1</dc:title>
</cp:coreProperties>
</file>