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4A62-9BFE-4155-A246-E03301128377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9A4B-3789-4437-8A03-A1C4F9CF995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B3AB-6D4D-442A-AD8F-916CAD93CBA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003-4509-45F3-AB79-C823C12A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8C1-7CC9-4994-B8B3-91AA8C08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1DBF-9B1E-4989-8B25-C1C5A09A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BDCD-9D80-439B-B644-3EB55AAC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2A81-9730-42CC-A199-69F2EA36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95A-8CF3-4F8D-80C8-5799EE8E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395-7B20-4136-A734-6F2BA3A9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9510-431A-4476-B3E5-6A342869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F109-EAFE-402A-88B7-FDAB2C3C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D8B-3D3D-4CB8-A19A-2A86D32F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007C-34EA-4C86-BABE-7101376B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DFA-AD31-44F9-BD85-E4FED98A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25B4-42FC-4DEB-91D8-444309E342AB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259A-B578-4D08-AE4A-7425939C38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143000" y="0"/>
            <a:ext cx="6858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68800" y="2560680"/>
            <a:ext cx="343224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229280" y="3123720"/>
            <a:ext cx="36576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172040" y="4343400"/>
            <a:ext cx="34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025"/>
          <p:cNvPicPr/>
          <p:nvPr/>
        </p:nvPicPr>
        <p:blipFill>
          <a:blip r:embed="rId1"/>
          <a:stretch/>
        </p:blipFill>
        <p:spPr>
          <a:xfrm>
            <a:off x="3314880" y="407880"/>
            <a:ext cx="2286000" cy="104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iglogo"/>
          <p:cNvPicPr/>
          <p:nvPr/>
        </p:nvPicPr>
        <p:blipFill>
          <a:blip r:embed="rId2"/>
          <a:stretch/>
        </p:blipFill>
        <p:spPr>
          <a:xfrm>
            <a:off x="6629400" y="0"/>
            <a:ext cx="13716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10" descr="50year"/>
          <p:cNvPicPr/>
          <p:nvPr/>
        </p:nvPicPr>
        <p:blipFill>
          <a:blip r:embed="rId3"/>
          <a:stretch/>
        </p:blipFill>
        <p:spPr>
          <a:xfrm>
            <a:off x="1143000" y="0"/>
            <a:ext cx="120024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Line 11"/>
          <p:cNvSpPr/>
          <p:nvPr/>
        </p:nvSpPr>
        <p:spPr>
          <a:xfrm>
            <a:off x="1143000" y="1981080"/>
            <a:ext cx="6858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2578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434-14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5151" t="0" r="0" b="0"/>
          <a:stretch/>
        </p:blipFill>
        <p:spPr>
          <a:xfrm>
            <a:off x="1179360" y="2057400"/>
            <a:ext cx="282132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229280" y="5029200"/>
            <a:ext cx="34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- Di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ثنائ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533520" y="18288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 of 2 monosaccharide molecules and these are joined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304920" y="2971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8" descr=""/>
          <p:cNvPicPr/>
          <p:nvPr/>
        </p:nvPicPr>
        <p:blipFill>
          <a:blip r:embed="rId1"/>
          <a:srcRect l="1710" t="52591" r="1710" b="9426"/>
          <a:stretch/>
        </p:blipFill>
        <p:spPr>
          <a:xfrm>
            <a:off x="304920" y="4038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33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2DD3-B891-4E52-8564-041AE05FEF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3- Poly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عد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80880" y="1676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These are consist of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04920" y="3200400"/>
            <a:ext cx="85341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se are of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1F90-CF32-4BA3-9F9E-BB58ECAA4F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111276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Starch (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Source is plant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النش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28600" y="1752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28600" y="2224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consists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28600" y="2681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Thus, it gives glucose when </a:t>
            </a:r>
            <a:r>
              <a:rPr b="1" lang="en-GB" sz="1600" spc="-1" strike="noStrike" u="sng">
                <a:solidFill>
                  <a:srgbClr val="080808"/>
                </a:solidFill>
                <a:uFillTx/>
                <a:latin typeface="Arial"/>
              </a:rPr>
              <a:t>hydrolysed </a:t>
            </a:r>
            <a:r>
              <a:rPr b="0" lang="ar-EG" sz="1600" spc="-1" strike="noStrike" u="sng">
                <a:solidFill>
                  <a:srgbClr val="080808"/>
                </a:solidFill>
                <a:uFillTx/>
                <a:latin typeface="Arial"/>
              </a:rPr>
              <a:t>بإضافة الماء</a:t>
            </a: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by special enzymes in human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8600" y="3124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)- Storage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خزين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4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I- Glycogen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 animals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 is consisted 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04920" y="547056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us, it gives glucose when hydroly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1143000" y="198360"/>
            <a:ext cx="7162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)- Structur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كيب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1172880"/>
            <a:ext cx="281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80880" y="24224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0880" y="295596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04920" y="5851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s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80880" y="1889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41316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63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28600" y="3049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 </a:t>
            </a:r>
            <a:r>
              <a:rPr b="1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762120" y="3232080"/>
            <a:ext cx="7543800" cy="34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4724280" y="5943600"/>
            <a:ext cx="2971800" cy="673920"/>
            <a:chOff x="4724280" y="5943600"/>
            <a:chExt cx="2971800" cy="673920"/>
          </a:xfrm>
        </p:grpSpPr>
        <p:sp>
          <p:nvSpPr>
            <p:cNvPr id="372" name="Text Box 4"/>
            <p:cNvSpPr/>
            <p:nvPr/>
          </p:nvSpPr>
          <p:spPr>
            <a:xfrm>
              <a:off x="48769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5"/>
            <p:cNvSpPr/>
            <p:nvPr/>
          </p:nvSpPr>
          <p:spPr>
            <a:xfrm>
              <a:off x="4724280" y="631044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6"/>
            <p:cNvSpPr/>
            <p:nvPr/>
          </p:nvSpPr>
          <p:spPr>
            <a:xfrm>
              <a:off x="62485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7"/>
            <p:cNvSpPr/>
            <p:nvPr/>
          </p:nvSpPr>
          <p:spPr>
            <a:xfrm>
              <a:off x="6324480" y="63104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8"/>
          <p:cNvGrpSpPr/>
          <p:nvPr/>
        </p:nvGrpSpPr>
        <p:grpSpPr>
          <a:xfrm>
            <a:off x="914400" y="1676520"/>
            <a:ext cx="7696080" cy="685800"/>
            <a:chOff x="914400" y="1676520"/>
            <a:chExt cx="7696080" cy="685800"/>
          </a:xfrm>
        </p:grpSpPr>
        <p:sp>
          <p:nvSpPr>
            <p:cNvPr id="377" name="Text Box 9"/>
            <p:cNvSpPr/>
            <p:nvPr/>
          </p:nvSpPr>
          <p:spPr>
            <a:xfrm>
              <a:off x="1371600" y="2085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Gluc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914400" y="16765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1"/>
            <p:cNvSpPr/>
            <p:nvPr/>
          </p:nvSpPr>
          <p:spPr>
            <a:xfrm>
              <a:off x="3886200" y="17002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2"/>
            <p:cNvSpPr/>
            <p:nvPr/>
          </p:nvSpPr>
          <p:spPr>
            <a:xfrm>
              <a:off x="6248520" y="16891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3"/>
            <p:cNvSpPr/>
            <p:nvPr/>
          </p:nvSpPr>
          <p:spPr>
            <a:xfrm>
              <a:off x="3581280" y="2085840"/>
              <a:ext cx="266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Sucr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4"/>
          <p:cNvGrpSpPr/>
          <p:nvPr/>
        </p:nvGrpSpPr>
        <p:grpSpPr>
          <a:xfrm>
            <a:off x="3962520" y="2992320"/>
            <a:ext cx="4647960" cy="1198800"/>
            <a:chOff x="3962520" y="2992320"/>
            <a:chExt cx="4647960" cy="1198800"/>
          </a:xfrm>
        </p:grpSpPr>
        <p:sp>
          <p:nvSpPr>
            <p:cNvPr id="383" name="Text Box 15"/>
            <p:cNvSpPr/>
            <p:nvPr/>
          </p:nvSpPr>
          <p:spPr>
            <a:xfrm>
              <a:off x="4043520" y="299232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6"/>
            <p:cNvSpPr/>
            <p:nvPr/>
          </p:nvSpPr>
          <p:spPr>
            <a:xfrm>
              <a:off x="6904080" y="29923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7"/>
            <p:cNvSpPr/>
            <p:nvPr/>
          </p:nvSpPr>
          <p:spPr>
            <a:xfrm>
              <a:off x="3962520" y="336708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8"/>
            <p:cNvSpPr/>
            <p:nvPr/>
          </p:nvSpPr>
          <p:spPr>
            <a:xfrm>
              <a:off x="6659640" y="3397320"/>
              <a:ext cx="195084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9"/>
          <p:cNvSpPr/>
          <p:nvPr/>
        </p:nvSpPr>
        <p:spPr>
          <a:xfrm>
            <a:off x="2666880" y="609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ahoma"/>
                <a:ea typeface="Tahoma"/>
              </a:rPr>
              <a:t>No. of suga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0"/>
          <p:cNvGrpSpPr/>
          <p:nvPr/>
        </p:nvGrpSpPr>
        <p:grpSpPr>
          <a:xfrm>
            <a:off x="1981080" y="1066680"/>
            <a:ext cx="5334120" cy="685800"/>
            <a:chOff x="1981080" y="1066680"/>
            <a:chExt cx="5334120" cy="685800"/>
          </a:xfrm>
        </p:grpSpPr>
        <p:sp>
          <p:nvSpPr>
            <p:cNvPr id="389" name="Line 21"/>
            <p:cNvSpPr/>
            <p:nvPr/>
          </p:nvSpPr>
          <p:spPr>
            <a:xfrm>
              <a:off x="4800600" y="10666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2"/>
            <p:cNvSpPr/>
            <p:nvPr/>
          </p:nvSpPr>
          <p:spPr>
            <a:xfrm>
              <a:off x="1981080" y="1371600"/>
              <a:ext cx="5334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3"/>
            <p:cNvSpPr/>
            <p:nvPr/>
          </p:nvSpPr>
          <p:spPr>
            <a:xfrm>
              <a:off x="73152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4"/>
            <p:cNvSpPr/>
            <p:nvPr/>
          </p:nvSpPr>
          <p:spPr>
            <a:xfrm>
              <a:off x="48006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5"/>
            <p:cNvSpPr/>
            <p:nvPr/>
          </p:nvSpPr>
          <p:spPr>
            <a:xfrm>
              <a:off x="198108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6"/>
          <p:cNvGrpSpPr/>
          <p:nvPr/>
        </p:nvGrpSpPr>
        <p:grpSpPr>
          <a:xfrm>
            <a:off x="4724280" y="2057400"/>
            <a:ext cx="2971800" cy="990360"/>
            <a:chOff x="4724280" y="2057400"/>
            <a:chExt cx="2971800" cy="990360"/>
          </a:xfrm>
        </p:grpSpPr>
        <p:sp>
          <p:nvSpPr>
            <p:cNvPr id="395" name="Line 27"/>
            <p:cNvSpPr/>
            <p:nvPr/>
          </p:nvSpPr>
          <p:spPr>
            <a:xfrm>
              <a:off x="7315200" y="20574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8"/>
            <p:cNvSpPr/>
            <p:nvPr/>
          </p:nvSpPr>
          <p:spPr>
            <a:xfrm>
              <a:off x="4724280" y="26668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9"/>
            <p:cNvSpPr/>
            <p:nvPr/>
          </p:nvSpPr>
          <p:spPr>
            <a:xfrm>
              <a:off x="47242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0"/>
            <p:cNvSpPr/>
            <p:nvPr/>
          </p:nvSpPr>
          <p:spPr>
            <a:xfrm>
              <a:off x="76960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1"/>
          <p:cNvGrpSpPr/>
          <p:nvPr/>
        </p:nvGrpSpPr>
        <p:grpSpPr>
          <a:xfrm>
            <a:off x="5562720" y="5410080"/>
            <a:ext cx="1218960" cy="533520"/>
            <a:chOff x="5562720" y="5410080"/>
            <a:chExt cx="1218960" cy="533520"/>
          </a:xfrm>
        </p:grpSpPr>
        <p:sp>
          <p:nvSpPr>
            <p:cNvPr id="400" name="Line 32"/>
            <p:cNvSpPr/>
            <p:nvPr/>
          </p:nvSpPr>
          <p:spPr>
            <a:xfrm>
              <a:off x="5562720" y="5713560"/>
              <a:ext cx="1218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>
              <a:off x="556272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>
              <a:off x="678168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35"/>
            <p:cNvSpPr/>
            <p:nvPr/>
          </p:nvSpPr>
          <p:spPr>
            <a:xfrm>
              <a:off x="6172200" y="5410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6"/>
          <p:cNvGrpSpPr/>
          <p:nvPr/>
        </p:nvGrpSpPr>
        <p:grpSpPr>
          <a:xfrm>
            <a:off x="609480" y="4876920"/>
            <a:ext cx="6781680" cy="551160"/>
            <a:chOff x="609480" y="4876920"/>
            <a:chExt cx="6781680" cy="551160"/>
          </a:xfrm>
        </p:grpSpPr>
        <p:sp>
          <p:nvSpPr>
            <p:cNvPr id="405" name="Text Box 37"/>
            <p:cNvSpPr/>
            <p:nvPr/>
          </p:nvSpPr>
          <p:spPr>
            <a:xfrm>
              <a:off x="5333760" y="489564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80808"/>
                  </a:solidFill>
                  <a:latin typeface="Tahoma"/>
                </a:rPr>
                <a:t>Location of </a:t>
              </a:r>
              <a:r>
                <a:rPr b="1" lang="en-GB" sz="1800" spc="-1" strike="noStrike">
                  <a:solidFill>
                    <a:srgbClr val="ff0000"/>
                  </a:solidFill>
                  <a:latin typeface="Tahoma"/>
                </a:rPr>
                <a:t>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38"/>
            <p:cNvSpPr/>
            <p:nvPr/>
          </p:nvSpPr>
          <p:spPr>
            <a:xfrm>
              <a:off x="609480" y="48769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. of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39"/>
          <p:cNvGrpSpPr/>
          <p:nvPr/>
        </p:nvGrpSpPr>
        <p:grpSpPr>
          <a:xfrm>
            <a:off x="849240" y="5257800"/>
            <a:ext cx="2894040" cy="685800"/>
            <a:chOff x="849240" y="5257800"/>
            <a:chExt cx="2894040" cy="685800"/>
          </a:xfrm>
        </p:grpSpPr>
        <p:sp>
          <p:nvSpPr>
            <p:cNvPr id="408" name="Line 40"/>
            <p:cNvSpPr/>
            <p:nvPr/>
          </p:nvSpPr>
          <p:spPr>
            <a:xfrm>
              <a:off x="84924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41"/>
            <p:cNvSpPr/>
            <p:nvPr/>
          </p:nvSpPr>
          <p:spPr>
            <a:xfrm>
              <a:off x="21430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2"/>
            <p:cNvSpPr/>
            <p:nvPr/>
          </p:nvSpPr>
          <p:spPr>
            <a:xfrm>
              <a:off x="37432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3"/>
            <p:cNvSpPr/>
            <p:nvPr/>
          </p:nvSpPr>
          <p:spPr>
            <a:xfrm>
              <a:off x="849240" y="5639040"/>
              <a:ext cx="2894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4"/>
            <p:cNvSpPr/>
            <p:nvPr/>
          </p:nvSpPr>
          <p:spPr>
            <a:xfrm>
              <a:off x="2144880" y="525780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45"/>
          <p:cNvGrpSpPr/>
          <p:nvPr/>
        </p:nvGrpSpPr>
        <p:grpSpPr>
          <a:xfrm>
            <a:off x="229680" y="5921280"/>
            <a:ext cx="4343040" cy="520200"/>
            <a:chOff x="229680" y="5921280"/>
            <a:chExt cx="4343040" cy="520200"/>
          </a:xfrm>
        </p:grpSpPr>
        <p:sp>
          <p:nvSpPr>
            <p:cNvPr id="414" name="Rectangle 46"/>
            <p:cNvSpPr/>
            <p:nvPr/>
          </p:nvSpPr>
          <p:spPr>
            <a:xfrm>
              <a:off x="229680" y="59212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7"/>
            <p:cNvSpPr/>
            <p:nvPr/>
          </p:nvSpPr>
          <p:spPr>
            <a:xfrm>
              <a:off x="1685880" y="59212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8"/>
            <p:cNvSpPr/>
            <p:nvPr/>
          </p:nvSpPr>
          <p:spPr>
            <a:xfrm>
              <a:off x="3363120" y="59212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9"/>
          <p:cNvGrpSpPr/>
          <p:nvPr/>
        </p:nvGrpSpPr>
        <p:grpSpPr>
          <a:xfrm>
            <a:off x="1905120" y="2360520"/>
            <a:ext cx="4419360" cy="2592360"/>
            <a:chOff x="1905120" y="2360520"/>
            <a:chExt cx="4419360" cy="2592360"/>
          </a:xfrm>
        </p:grpSpPr>
        <p:sp>
          <p:nvSpPr>
            <p:cNvPr id="418" name="Line 50"/>
            <p:cNvSpPr/>
            <p:nvPr/>
          </p:nvSpPr>
          <p:spPr>
            <a:xfrm>
              <a:off x="1905120" y="2360520"/>
              <a:ext cx="0" cy="2592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1"/>
            <p:cNvSpPr/>
            <p:nvPr/>
          </p:nvSpPr>
          <p:spPr>
            <a:xfrm>
              <a:off x="1905120" y="4572000"/>
              <a:ext cx="4419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2"/>
            <p:cNvSpPr/>
            <p:nvPr/>
          </p:nvSpPr>
          <p:spPr>
            <a:xfrm>
              <a:off x="6324480" y="4572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E48F-6141-48C0-AC15-6547F5EA4D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52560" y="76320"/>
            <a:ext cx="1319040" cy="144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9826-5062-4E41-98A5-7B46DBE00D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498680"/>
            <a:ext cx="8686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 organic molecules 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ono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ogether to form larger molecules (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acromolecules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olymer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may be composed of thousands of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romolecules are organic molecules that weigh more than 100,000 daltons 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OMIC MASS UN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ur major classes of macromolecul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Carbohydrate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Lipid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Protein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Nucleic acids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e studied later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1828440" y="76320"/>
            <a:ext cx="4876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FBBE-6639-4972-98DD-CBFE3FBA07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960" y="557280"/>
            <a:ext cx="518148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requires energy and is aided by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6320" y="3886200"/>
            <a:ext cx="90676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hydration)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,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rcRect l="0" t="10670" r="0" b="0"/>
          <a:stretch/>
        </p:blipFill>
        <p:spPr>
          <a:xfrm>
            <a:off x="5238720" y="914400"/>
            <a:ext cx="3905280" cy="255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320040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9907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1905120" y="1523880"/>
            <a:ext cx="5562360" cy="1567800"/>
            <a:chOff x="1905120" y="1523880"/>
            <a:chExt cx="5562360" cy="1567800"/>
          </a:xfrm>
        </p:grpSpPr>
        <p:sp>
          <p:nvSpPr>
            <p:cNvPr id="80" name="Line 5"/>
            <p:cNvSpPr/>
            <p:nvPr/>
          </p:nvSpPr>
          <p:spPr>
            <a:xfrm>
              <a:off x="3581280" y="152388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4800600" y="1523880"/>
              <a:ext cx="0" cy="896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1905120" y="24199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8"/>
            <p:cNvSpPr/>
            <p:nvPr/>
          </p:nvSpPr>
          <p:spPr>
            <a:xfrm>
              <a:off x="190512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480060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746748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1"/>
          <p:cNvSpPr/>
          <p:nvPr/>
        </p:nvSpPr>
        <p:spPr>
          <a:xfrm>
            <a:off x="8380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8098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3244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28600" y="4892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2"/>
          <p:cNvGrpSpPr/>
          <p:nvPr/>
        </p:nvGrpSpPr>
        <p:grpSpPr>
          <a:xfrm>
            <a:off x="1219320" y="3625920"/>
            <a:ext cx="6858000" cy="1267200"/>
            <a:chOff x="1219320" y="3625920"/>
            <a:chExt cx="6858000" cy="1267200"/>
          </a:xfrm>
        </p:grpSpPr>
        <p:sp>
          <p:nvSpPr>
            <p:cNvPr id="91" name="Text Box 19"/>
            <p:cNvSpPr/>
            <p:nvPr/>
          </p:nvSpPr>
          <p:spPr>
            <a:xfrm>
              <a:off x="1219320" y="362592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0"/>
            <p:cNvSpPr/>
            <p:nvPr/>
          </p:nvSpPr>
          <p:spPr>
            <a:xfrm>
              <a:off x="4343400" y="3701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1"/>
            <p:cNvSpPr/>
            <p:nvPr/>
          </p:nvSpPr>
          <p:spPr>
            <a:xfrm>
              <a:off x="6858000" y="36259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.  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nosaccharid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implest form of carbohydrates (simple sug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a single sug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acchari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two monosaccharides joined via dehydration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sacchari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ers of many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339920"/>
            <a:ext cx="883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s, Carbo = carbon, hydrate = water; Used as an immediate energy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olecular formula is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eans,  carbon, hydrogen and oxygen are found in the ratio = 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102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107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- Monosaccharides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سكر</a:t>
            </a:r>
            <a:r>
              <a:rPr b="0" lang="ar-SA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أح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13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25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26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32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37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42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47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52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57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60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99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202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OH group is attached to each carbon except one, which is double bonded to an oxygen (carbony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207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210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49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52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53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75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76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311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14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17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0666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Monosaccharides are classified as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 group within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داخل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905120" y="1066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the carbonyl group,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371600" y="4191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User</cp:lastModifiedBy>
  <dcterms:modified xsi:type="dcterms:W3CDTF">2017-02-06T01:16:50Z</dcterms:modified>
  <cp:revision>611</cp:revision>
  <dc:subject/>
  <dc:title>Cell Molecules</dc:title>
</cp:coreProperties>
</file>