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FA22-3BCA-4D54-8A5A-EFA8E21C6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C164-776A-4A85-99BA-699CF2EBB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B43D-00B5-483D-A1B3-EA10C9B03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78B3-E03A-4427-94CA-BD92D7151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6694-D154-47A6-9F33-A1DC73156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5767-0C59-414B-A45F-17E7F2C04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305C-2086-4386-BD7E-59C0E318B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98B8-2FE1-47F4-A9F5-7BF2FBCDA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B473-6555-48AD-9A6F-7FB0D765B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7FC7-47A9-4B95-AFAE-90CA54519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56DA-BF64-4770-A67D-938DBFFA9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B3EC-D914-4FE4-AE92-D9D2C8BA9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64BC-31A2-4B05-BAE5-A5322CF32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A13D-868A-4A98-BD0D-BA56BCF66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0D27-8AC2-44B9-999A-DB0984D44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7E12-3E09-43D3-BD39-0C90A85EC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CF06-C2BD-435C-9F33-56D380786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7D78-4D0B-43CC-9ED5-F235B43DB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08F-29C9-41AC-A4B8-98ACF10D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CAA-38B5-4B2A-A4F5-8172E0EF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DD9-65FE-44FD-9375-EABC79B0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FFE3-153B-478D-BBFA-0E0CC034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A82-2640-45DB-AA5D-5BAA0986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3B5-8767-4209-8278-9ACD3E10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D3D-3D0E-4E5E-B515-A197B4C2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2B0-A276-4DB5-B407-556206DC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3A6-CE99-4A03-8C96-63ECA3A9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1CA-4103-4702-9C11-A3A8AA80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B0E-6112-445A-A210-F679A7C7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E85-9879-481B-8CAC-40C482B8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5B57-53EE-4F08-AD84-AD2FC1517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2F87-BB53-49E1-BBB6-6C1642047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: N.AlJaff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y: N.AlSheh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 rot="18888000">
            <a:off x="-575640" y="441000"/>
            <a:ext cx="2176200" cy="376200"/>
          </a:xfrm>
          <a:prstGeom prst="rect">
            <a:avLst/>
          </a:prstGeom>
          <a:solidFill>
            <a:srgbClr val="99cc00">
              <a:alpha val="75000"/>
            </a:srgbClr>
          </a:solidFill>
          <a:ln w="9360">
            <a:solidFill>
              <a:srgbClr val="bbe0e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Light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521D-882A-4FA8-8D82-3E2ED681C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large, expensive, powerful computer that can handle hundreds or thousands of connected user simultaneously through a technique called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 store a huge amounts of data, instructions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. A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system allows travel agents all over the country to make reservations using the same computer and the same flight information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: University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UNP01_12"/>
          <p:cNvPicPr/>
          <p:nvPr/>
        </p:nvPicPr>
        <p:blipFill>
          <a:blip r:embed="rId1"/>
          <a:stretch/>
        </p:blipFill>
        <p:spPr>
          <a:xfrm>
            <a:off x="3708360" y="1197000"/>
            <a:ext cx="4613400" cy="20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750E-54A4-466C-9DE3-57C3011CC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st major corporations use mainframes for business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d by large organizations, such as banks and airlines, for big computing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rs communicate with a mainframe using a computer term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network-server-laptops.jpg"/>
          <p:cNvPicPr/>
          <p:nvPr/>
        </p:nvPicPr>
        <p:blipFill>
          <a:blip r:embed="rId1"/>
          <a:stretch/>
        </p:blipFill>
        <p:spPr>
          <a:xfrm>
            <a:off x="6300720" y="981000"/>
            <a:ext cx="2714760" cy="198612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CE64-0453-4D3A-B481-6C6AEF60D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erv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ontrols access to HW, SW and other resources on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rovides a centralized storage area for program, data,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upport from 2 to several thousand connected computers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eople use PC or terminals to access data, info., and programs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erminal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is a device with monitor, keyboard and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Personal Computers (PC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It’s a computer that can perform all of its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rocessing, output and storage activities by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re are 2 types of person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otebook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on your hand or 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ktop Computer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entirely on or under 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صورة 10" descr="desktop-pc.jpg"/>
          <p:cNvPicPr/>
          <p:nvPr/>
        </p:nvPicPr>
        <p:blipFill>
          <a:blip r:embed="rId1"/>
          <a:stretch/>
        </p:blipFill>
        <p:spPr>
          <a:xfrm>
            <a:off x="6791400" y="4500720"/>
            <a:ext cx="1525680" cy="14493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186C-481D-4D16-B7DC-F65536D86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0CAAJX8TMCA1HS7SDCAR1FXRYCAOD3RBICAD03ZPCCA0YU4BQCAHH6819CA3DPM2HCA2F5W9ACAOK62SHCAXA1LTNCAI7AG7PCAHLGH6MCA6X86KUCAYXJ44ICA1WEEX9CAUS87TICADU0EZWCAE3A6M5.jpg"/>
          <p:cNvPicPr/>
          <p:nvPr/>
        </p:nvPicPr>
        <p:blipFill>
          <a:blip r:embed="rId2"/>
          <a:stretch/>
        </p:blipFill>
        <p:spPr>
          <a:xfrm>
            <a:off x="6786720" y="3143160"/>
            <a:ext cx="185724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ABAD-1A15-4B47-AD8C-1BE3DA749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obile Computers And Mobile Devi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computers is a personal computer that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arry from place to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Devices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computing device, small enough to hold in your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Usually store programs &amp; data permanentl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memory inside the system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on small storage media such as memory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onnect it to PC to exchang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ome Mobiles devices are 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Internet-enabled,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s allow to connect to NET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6E89-6E30-4433-B3A8-83E45E0B4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مستطيل 4"/>
          <p:cNvSpPr/>
          <p:nvPr/>
        </p:nvSpPr>
        <p:spPr>
          <a:xfrm>
            <a:off x="3530520" y="450864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w Cen MT Condensed"/>
              </a:rPr>
              <a:t>Mobile computers 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246320"/>
            <a:ext cx="3996000" cy="2997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635280" y="2011320"/>
            <a:ext cx="3349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7B45-1FD9-4F57-B21B-9DA3BA940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igned for single-player or multiplayer video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devic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ndheld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TV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Storag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rd Disks, CDs, DVDs and memory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icrosoft's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 Xbox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lay station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904000" y="4214880"/>
            <a:ext cx="3097080" cy="2188800"/>
            <a:chOff x="5904000" y="4214880"/>
            <a:chExt cx="3097080" cy="2188800"/>
          </a:xfrm>
        </p:grpSpPr>
        <p:pic>
          <p:nvPicPr>
            <p:cNvPr id="123" name="Picture 6" descr="xbox"/>
            <p:cNvPicPr/>
            <p:nvPr/>
          </p:nvPicPr>
          <p:blipFill>
            <a:blip r:embed="rId1"/>
            <a:stretch/>
          </p:blipFill>
          <p:spPr>
            <a:xfrm>
              <a:off x="5904000" y="4214880"/>
              <a:ext cx="1584720" cy="21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AutoShape 7"/>
            <p:cNvSpPr/>
            <p:nvPr/>
          </p:nvSpPr>
          <p:spPr>
            <a:xfrm>
              <a:off x="7487280" y="507888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Handheld controller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5" name="AutoShape 8"/>
            <p:cNvSpPr/>
            <p:nvPr/>
          </p:nvSpPr>
          <p:spPr>
            <a:xfrm>
              <a:off x="7487280" y="435924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Game console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7004880" y="46465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H="1">
              <a:off x="7211160" y="5583960"/>
              <a:ext cx="2757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</p:grp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9746-956E-4B39-BB74-05B156C28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Handheld game consol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Fit in one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controls, screen and speaker built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mmunicate wirelessly with other similar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llow users to listen to music, watch movies and connect to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intendo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Game Boy 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s3psp_2007_psp_overview"/>
          <p:cNvPicPr/>
          <p:nvPr/>
        </p:nvPicPr>
        <p:blipFill>
          <a:blip r:embed="rId1"/>
          <a:stretch/>
        </p:blipFill>
        <p:spPr>
          <a:xfrm>
            <a:off x="6588000" y="4365720"/>
            <a:ext cx="2287800" cy="10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91B1-4751-410E-AAF1-6BF1B78B7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pecial – purpose computer that functions as a component in a larger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ually are small &amp; have limited hard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unctions depending on the requirements of the product in which they re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me of them designed to improve your safety, security and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9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8D22-D191-4A77-9624-E51F28BBF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39" name="Picture 5" descr="tesla_touchscreen.jpg"/>
          <p:cNvPicPr/>
          <p:nvPr/>
        </p:nvPicPr>
        <p:blipFill>
          <a:blip r:embed="rId1"/>
          <a:stretch/>
        </p:blipFill>
        <p:spPr>
          <a:xfrm>
            <a:off x="2556000" y="2349360"/>
            <a:ext cx="4356000" cy="2903760"/>
          </a:xfrm>
          <a:prstGeom prst="rect">
            <a:avLst/>
          </a:prstGeom>
          <a:ln w="0">
            <a:noFill/>
          </a:ln>
        </p:spPr>
      </p:pic>
      <p:sp>
        <p:nvSpPr>
          <p:cNvPr id="140" name="مستطيل 5"/>
          <p:cNvSpPr/>
          <p:nvPr/>
        </p:nvSpPr>
        <p:spPr>
          <a:xfrm>
            <a:off x="1504080" y="135720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301D-BB64-4550-AAA7-FF2525D00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What Is A Compu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puter is an </a:t>
            </a: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electronic devic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5291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 is anyone who communicates with a computer or utilizes the information.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50080" y="4500720"/>
            <a:ext cx="8226000" cy="52056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ll according to a series of stor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ruc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33F1-E3CB-4223-ACF4-59CC2D8A2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8480" cy="4525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Reli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nsist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2920" y="1356840"/>
            <a:ext cx="4038840" cy="471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Violation of Priv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Impact on Labor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Health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6766-4BA8-4CCC-804A-342B5F996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47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Data 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is a collection of unprocessed item, which can include text, numbers, images, audio and video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Information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conveys meaning and useful to people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Processing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Procedures that convert input data to output information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35A8-2E6B-4269-BFE5-0CA26A496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Computers read incoming data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input , process</a:t>
            </a: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 the data, and display outgoing information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3D23-AB8D-47F9-B7A0-D6395F310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omponent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1-Hardware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- H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 group of machines in a comput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2-Software (programs) 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– S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instructions that tell the computer what to do and how to d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1D4B-BE77-49DF-BEAA-8EA635EAF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2-Software</a:t>
            </a: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- S/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The Components of Soft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There are  two categories of softwa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System Softwar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nsists of programs that control or maintain the operations of  the computer and its devices. It’s serves as interface between the user and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Application softwar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: consists of programs designed to assist users with personal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724A-55A4-40D0-A8C2-8C07A380C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 Extra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uper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ainfr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r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ersonal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bile Computer  And Mobil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Game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Embedded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85E3-5733-4157-ACD0-0296CFCFB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uper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 the fastest, most powerful computers and the most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apable of processing more than 100 trillion instructions in a singl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They are used mostly in scientific and industrial research, by the government, and by very large organizations for controlling their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Weather forecasting, oil exploration, telephone network desig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1-16"/>
          <p:cNvPicPr/>
          <p:nvPr/>
        </p:nvPicPr>
        <p:blipFill>
          <a:blip r:embed="rId1"/>
          <a:stretch/>
        </p:blipFill>
        <p:spPr>
          <a:xfrm>
            <a:off x="5522760" y="1071720"/>
            <a:ext cx="3049920" cy="19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2:25:02Z</dcterms:created>
  <dc:creator>N. AlJaffan</dc:creator>
  <dc:description/>
  <cp:keywords/>
  <dc:language>en-US</dc:language>
  <cp:lastModifiedBy>Nouf</cp:lastModifiedBy>
  <dcterms:modified xsi:type="dcterms:W3CDTF">2017-09-21T06:27:24Z</dcterms:modified>
  <cp:revision>184</cp:revision>
  <dc:subject/>
  <dc:title>Introduction to Compu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CC6BB1F00AAFA34493B35981E2967FB1</vt:lpwstr>
  </property>
</Properties>
</file>