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9C21-98C5-425F-8E4C-43BC924FC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0C3A-9D21-4CCB-8716-43F281B35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C605-87C0-426E-8179-121F83531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7BAB-575F-48EC-833A-68F9045F0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2C93-154F-4AAE-BFA4-F1F39DBC5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635A-3EF7-437A-830D-6B20AB9DA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BD2C-7A9B-4E9F-8D7F-2C882FA03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492B-7AA8-4B92-8C8A-CAA997686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5488-A472-4DA0-B9CB-E30F0309F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01C1-9073-4F31-9C03-E8FCD277A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03F9-37F5-4568-A6E1-90FF63D00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9642-2EE4-4096-BA23-FF7588EBA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2891-427A-49CC-9924-A11E3B805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FDA0-0A33-415C-B12D-05D1AB9F3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566A-2440-48CA-B90B-BD9973AD0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FAB8-1304-4DBC-800D-7640F3E45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04F4-4A54-4093-AFA8-9CA85B451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59E1-E1BE-4DCC-BBB4-1C5DDF5CD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978F-29AE-4826-83CE-E5A7A479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ECA1-B346-475E-8DCD-0CAC09F2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FB75-F0C6-4F24-AC36-F5EAC61FC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9C73-F5AD-4C1E-B999-F112C5F2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1B1-1E6D-4C27-B808-B825EAA0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CCFC-B9EC-4B08-92C9-96F7B573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728A-5DD3-4499-8B28-B484FA64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A273-CF2A-4827-8264-1506AEBB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73D2-FFBE-46FC-BFD9-3BF487DD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2109-27FC-4B76-9F79-E9A5BEF1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E6B9-E828-4496-B99E-F30ED66F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9C88-159C-4665-92FA-CCB00834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5798-FB32-4218-B5F2-42454AC3E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0F8C-7F6B-4C4E-A811-6DF857A81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By: N.AlJaff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By: N.AlSheh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 rot="18888000">
            <a:off x="-575640" y="441000"/>
            <a:ext cx="2176200" cy="376200"/>
          </a:xfrm>
          <a:prstGeom prst="rect">
            <a:avLst/>
          </a:prstGeom>
          <a:solidFill>
            <a:srgbClr val="99cc00">
              <a:alpha val="75000"/>
            </a:srgbClr>
          </a:solidFill>
          <a:ln w="9360">
            <a:solidFill>
              <a:srgbClr val="bbe0e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Light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BE0F-888B-4745-A596-8A2437A4E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3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Mainfram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s a large, expensive, powerful computer that can handle hundreds or thousands of connected user simultaneously through a technique called </a:t>
            </a:r>
            <a:r>
              <a:rPr b="1" lang="en-US" sz="2400" spc="-1" strike="noStrike">
                <a:solidFill>
                  <a:srgbClr val="000000"/>
                </a:solidFill>
                <a:latin typeface="Tw Cen MT Condensed"/>
              </a:rPr>
              <a:t>Timesharing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t store a huge amounts of data, instructions an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ex. A </a:t>
            </a:r>
            <a:r>
              <a:rPr b="1" lang="en-US" sz="2400" spc="-1" strike="noStrike">
                <a:solidFill>
                  <a:srgbClr val="000000"/>
                </a:solidFill>
                <a:latin typeface="Tw Cen MT Condensed"/>
              </a:rPr>
              <a:t>timesharing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system allows travel agents all over the country to make reservations using the same computer and the same flight information at the same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Ex: University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UNP01_12"/>
          <p:cNvPicPr/>
          <p:nvPr/>
        </p:nvPicPr>
        <p:blipFill>
          <a:blip r:embed="rId1"/>
          <a:stretch/>
        </p:blipFill>
        <p:spPr>
          <a:xfrm>
            <a:off x="3708360" y="1197000"/>
            <a:ext cx="4613400" cy="200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F84E-7FF1-49EA-BC41-367F4979B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Mainfram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Most major corporations use mainframes for business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Used by large organizations, such as banks and airlines, for big computing jo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Users communicate with a mainframe using a computer term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network-server-laptops.jpg"/>
          <p:cNvPicPr/>
          <p:nvPr/>
        </p:nvPicPr>
        <p:blipFill>
          <a:blip r:embed="rId1"/>
          <a:stretch/>
        </p:blipFill>
        <p:spPr>
          <a:xfrm>
            <a:off x="6300720" y="981000"/>
            <a:ext cx="2714760" cy="1986120"/>
          </a:xfrm>
          <a:prstGeom prst="rect">
            <a:avLst/>
          </a:prstGeom>
          <a:ln w="0">
            <a:noFill/>
          </a:ln>
        </p:spPr>
      </p:pic>
      <p:sp>
        <p:nvSpPr>
          <p:cNvPr id="9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FCF3-7E24-47D2-AFD7-31F1A1AEF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Serv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ontrols access to HW, SW and other resources on a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Provides a centralized storage area for program, data,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Support from 2 to several thousand connected computers at the sam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People use PC or terminals to access data, info., and programs on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 Condensed"/>
              </a:rPr>
              <a:t>Terminal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is a device with monitor, keyboard and mem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Personal Computers (PC)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It’s a computer that can perform all of its inpu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processing, output and storage activities by it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There are 2 types of personal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Notebook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-- Fits on your hand or l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Desktop Computer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-- Fits entirely on or under de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صورة 10" descr="desktop-pc.jpg"/>
          <p:cNvPicPr/>
          <p:nvPr/>
        </p:nvPicPr>
        <p:blipFill>
          <a:blip r:embed="rId1"/>
          <a:stretch/>
        </p:blipFill>
        <p:spPr>
          <a:xfrm>
            <a:off x="6791400" y="4500720"/>
            <a:ext cx="1525680" cy="1449360"/>
          </a:xfrm>
          <a:prstGeom prst="rect">
            <a:avLst/>
          </a:prstGeom>
          <a:ln w="0">
            <a:noFill/>
          </a:ln>
        </p:spPr>
      </p:pic>
      <p:sp>
        <p:nvSpPr>
          <p:cNvPr id="10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CC96-E391-461D-BBD9-B7A781ABC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0CAAJX8TMCA1HS7SDCAR1FXRYCAOD3RBICAD03ZPCCA0YU4BQCAHH6819CA3DPM2HCA2F5W9ACAOK62SHCAXA1LTNCAI7AG7PCAHLGH6MCA6X86KUCAYXJ44ICA1WEEX9CAUS87TICADU0EZWCAE3A6M5.jpg"/>
          <p:cNvPicPr/>
          <p:nvPr/>
        </p:nvPicPr>
        <p:blipFill>
          <a:blip r:embed="rId2"/>
          <a:stretch/>
        </p:blipFill>
        <p:spPr>
          <a:xfrm>
            <a:off x="6786720" y="3143160"/>
            <a:ext cx="1857240" cy="11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406D-CB49-46EA-A550-5CD8753A5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646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Mobile Computers And Mobile Devic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Tw Cen MT Condensed"/>
              </a:rPr>
              <a:t>Mobile computers is a personal computer that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you can carry from place to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w Cen MT Condensed"/>
              </a:rPr>
              <a:t>Mobile Devices</a:t>
            </a:r>
            <a:r>
              <a:rPr b="0" lang="en-US" sz="2400" spc="-1" strike="noStrike">
                <a:solidFill>
                  <a:srgbClr val="99cc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s a computing device, small enough to hold in your h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Usually store programs &amp; data permanently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w Cen MT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memory inside the system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w Cen MT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on small storage media such as memory c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you can connect it to PC to exchang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Some Mobiles devices are </a:t>
            </a:r>
            <a:r>
              <a:rPr b="0" lang="en-US" sz="2400" spc="-1" strike="noStrike">
                <a:solidFill>
                  <a:srgbClr val="99cc00"/>
                </a:solidFill>
                <a:latin typeface="Tw Cen MT Condensed"/>
              </a:rPr>
              <a:t>Internet-enabled,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ts allow to connect to NET</a:t>
            </a:r>
            <a:r>
              <a:rPr b="0" lang="en-US" sz="2400" spc="-1" strike="noStrike">
                <a:solidFill>
                  <a:srgbClr val="99cc00"/>
                </a:solidFill>
                <a:latin typeface="Tw Cen MT Condensed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عنصر نائب للتذييل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4" name="عنصر نائب لرقم الشريحة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DFF2-3016-42F1-9841-07BB0DE08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5" name="مستطيل 4"/>
          <p:cNvSpPr/>
          <p:nvPr/>
        </p:nvSpPr>
        <p:spPr>
          <a:xfrm>
            <a:off x="3530520" y="450864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w Cen MT Condensed"/>
              </a:rPr>
              <a:t>Mobile computers </a:t>
            </a:r>
            <a:endParaRPr b="0" lang="en-US" sz="18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187280" y="1246320"/>
            <a:ext cx="3996000" cy="2997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3635280" y="2011320"/>
            <a:ext cx="3349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B517-1D0D-4F13-BA3B-18A91285A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Game Conso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Designed for single-player or multiplayer video g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Input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device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handheld contr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Output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TV scr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Storage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Hard Disks, CDs, DVDs and memory c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2 popular model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w Cen MT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Microsoft's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 Xbox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w Cen MT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ony’s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Play station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5904000" y="4214880"/>
            <a:ext cx="3097080" cy="2188800"/>
            <a:chOff x="5904000" y="4214880"/>
            <a:chExt cx="3097080" cy="2188800"/>
          </a:xfrm>
        </p:grpSpPr>
        <p:pic>
          <p:nvPicPr>
            <p:cNvPr id="123" name="Picture 6" descr="xbox"/>
            <p:cNvPicPr/>
            <p:nvPr/>
          </p:nvPicPr>
          <p:blipFill>
            <a:blip r:embed="rId1"/>
            <a:stretch/>
          </p:blipFill>
          <p:spPr>
            <a:xfrm>
              <a:off x="5904000" y="4214880"/>
              <a:ext cx="1584720" cy="21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AutoShape 7"/>
            <p:cNvSpPr/>
            <p:nvPr/>
          </p:nvSpPr>
          <p:spPr>
            <a:xfrm>
              <a:off x="7487280" y="5078880"/>
              <a:ext cx="1513800" cy="576720"/>
            </a:xfrm>
            <a:prstGeom prst="roundRect">
              <a:avLst>
                <a:gd name="adj" fmla="val 50000"/>
              </a:avLst>
            </a:prstGeom>
            <a:solidFill>
              <a:srgbClr val="ffff0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 Condensed"/>
                </a:rPr>
                <a:t>Handheld controller</a:t>
              </a:r>
              <a:endParaRPr b="0" lang="en-US" sz="1800" spc="-1" strike="noStrike">
                <a:solidFill>
                  <a:srgbClr val="000000"/>
                </a:solidFill>
                <a:latin typeface="Tw Cen MT Condensed"/>
              </a:endParaRPr>
            </a:p>
          </p:txBody>
        </p:sp>
        <p:sp>
          <p:nvSpPr>
            <p:cNvPr id="125" name="AutoShape 8"/>
            <p:cNvSpPr/>
            <p:nvPr/>
          </p:nvSpPr>
          <p:spPr>
            <a:xfrm>
              <a:off x="7487280" y="4359240"/>
              <a:ext cx="1513800" cy="576720"/>
            </a:xfrm>
            <a:prstGeom prst="roundRect">
              <a:avLst>
                <a:gd name="adj" fmla="val 50000"/>
              </a:avLst>
            </a:prstGeom>
            <a:solidFill>
              <a:srgbClr val="ffff0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 Condensed"/>
                </a:rPr>
                <a:t>Game console</a:t>
              </a:r>
              <a:endParaRPr b="0" lang="en-US" sz="1800" spc="-1" strike="noStrike">
                <a:solidFill>
                  <a:srgbClr val="000000"/>
                </a:solidFill>
                <a:latin typeface="Tw Cen MT Condensed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 flipH="1">
              <a:off x="7004880" y="4646520"/>
              <a:ext cx="41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w Cen MT Condensed"/>
              </a:endParaRPr>
            </a:p>
          </p:txBody>
        </p:sp>
        <p:sp>
          <p:nvSpPr>
            <p:cNvPr id="127" name="Line 10"/>
            <p:cNvSpPr/>
            <p:nvPr/>
          </p:nvSpPr>
          <p:spPr>
            <a:xfrm flipH="1">
              <a:off x="7211160" y="5583960"/>
              <a:ext cx="2757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w Cen MT Condensed"/>
              </a:endParaRPr>
            </a:p>
          </p:txBody>
        </p:sp>
      </p:grp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8ECE-0E3C-4C02-BD0E-86E762733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Game Conso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Handheld game console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. Fit in one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The controls, screen and speaker built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Communicate wirelessly with other similar cons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Allow users to listen to music, watch movies and connect to 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2 popular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Nintendo’s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Game Boy Mic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ony’s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P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ps3psp_2007_psp_overview"/>
          <p:cNvPicPr/>
          <p:nvPr/>
        </p:nvPicPr>
        <p:blipFill>
          <a:blip r:embed="rId1"/>
          <a:stretch/>
        </p:blipFill>
        <p:spPr>
          <a:xfrm>
            <a:off x="6588000" y="4365720"/>
            <a:ext cx="2287800" cy="106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4916-03DE-4835-B425-DD89C873B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Embedded Comput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pecial – purpose computer that functions as a component in a larger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Usually are small &amp; have limited hard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Functions depending on the requirements of the product in which they re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ome of them designed to improve your safety, security and perform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9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9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9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9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عنصر نائب للتذييل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8" name="عنصر نائب لرقم الشريحة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A98C-3357-42BE-9434-610FC20C1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139" name="Picture 5" descr="tesla_touchscreen.jpg"/>
          <p:cNvPicPr/>
          <p:nvPr/>
        </p:nvPicPr>
        <p:blipFill>
          <a:blip r:embed="rId1"/>
          <a:stretch/>
        </p:blipFill>
        <p:spPr>
          <a:xfrm>
            <a:off x="2556000" y="2349360"/>
            <a:ext cx="4356000" cy="2903760"/>
          </a:xfrm>
          <a:prstGeom prst="rect">
            <a:avLst/>
          </a:prstGeom>
          <a:ln w="0">
            <a:noFill/>
          </a:ln>
        </p:spPr>
      </p:pic>
      <p:sp>
        <p:nvSpPr>
          <p:cNvPr id="140" name="مستطيل 5"/>
          <p:cNvSpPr/>
          <p:nvPr/>
        </p:nvSpPr>
        <p:spPr>
          <a:xfrm>
            <a:off x="1504080" y="1357200"/>
            <a:ext cx="5807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Embedded Computers: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0156-F0B3-478B-8C28-55A874BBC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What Is A Comput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Computer is an </a:t>
            </a:r>
            <a:r>
              <a:rPr b="0" lang="en-US" sz="3200" spc="-1" strike="noStrike">
                <a:solidFill>
                  <a:srgbClr val="99cc00"/>
                </a:solidFill>
                <a:latin typeface="Tw Cen MT Condensed"/>
              </a:rPr>
              <a:t>electronic device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" y="529128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w Cen MT Condensed"/>
              </a:rPr>
              <a:t>USER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 is anyone who communicates with a computer or utilizes the information.</a:t>
            </a:r>
            <a:endParaRPr b="0" lang="en-US" sz="3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550080" y="4500720"/>
            <a:ext cx="8226000" cy="520560"/>
          </a:xfrm>
          <a:prstGeom prst="rect">
            <a:avLst/>
          </a:prstGeom>
          <a:gradFill rotWithShape="0">
            <a:gsLst>
              <a:gs pos="0">
                <a:srgbClr val="f0ffff"/>
              </a:gs>
              <a:gs pos="100000">
                <a:srgbClr val="cfffff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ll according to a series of stor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struc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95C3-71CF-4DAA-B92B-40A52207F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38480" cy="45259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 Extra Bold"/>
              </a:rPr>
              <a:t>Advant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Sp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Reli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Consist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Stor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2920" y="1356840"/>
            <a:ext cx="4038840" cy="471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 Extra Bold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Violation of Priva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Impact on Labor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Health Ri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3F21-933D-48C6-83C8-5F1FF2EC3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747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Information Processing Cycle:</a:t>
            </a:r>
            <a:endParaRPr b="0" lang="en-US" sz="3200" spc="-1" strike="noStrike">
              <a:solidFill>
                <a:srgbClr val="000000"/>
              </a:solidFill>
              <a:latin typeface="Tw Cen MT Condense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w Cen MT Condensed"/>
              </a:rPr>
              <a:t>Data </a:t>
            </a:r>
            <a:r>
              <a:rPr b="1" lang="en-US" sz="2800" spc="-1" strike="noStrike">
                <a:solidFill>
                  <a:srgbClr val="000000"/>
                </a:solidFill>
                <a:latin typeface="Tw Cen MT Condensed"/>
              </a:rPr>
              <a:t>is a collection of unprocessed item, which can include text, numbers, images, audio and video.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w Cen MT Condensed"/>
              </a:rPr>
              <a:t>Information</a:t>
            </a:r>
            <a:r>
              <a:rPr b="1" lang="en-US" sz="2800" spc="-1" strike="noStrike">
                <a:solidFill>
                  <a:srgbClr val="000000"/>
                </a:solidFill>
                <a:latin typeface="Tw Cen MT Condensed"/>
              </a:rPr>
              <a:t> conveys meaning and useful to people.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w Cen MT Condensed"/>
              </a:rPr>
              <a:t>Processing</a:t>
            </a:r>
            <a:r>
              <a:rPr b="1" lang="en-US" sz="2800" spc="-1" strike="noStrike">
                <a:solidFill>
                  <a:srgbClr val="000000"/>
                </a:solidFill>
                <a:latin typeface="Tw Cen MT Condensed"/>
              </a:rPr>
              <a:t> Procedures that convert input data to output information.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569F-A829-49CA-8851-9DFB57E69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 Extra Bold"/>
              </a:rPr>
              <a:t>Information Processing Cyc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 Condensed"/>
              </a:rPr>
              <a:t>Computers read incoming data called </a:t>
            </a:r>
            <a:r>
              <a:rPr b="1" lang="en-US" sz="3200" spc="-1" strike="noStrike">
                <a:solidFill>
                  <a:srgbClr val="99cc00"/>
                </a:solidFill>
                <a:latin typeface="Tw Cen MT Condensed"/>
              </a:rPr>
              <a:t>input , process</a:t>
            </a:r>
            <a:r>
              <a:rPr b="1" lang="en-US" sz="3200" spc="-1" strike="noStrike">
                <a:solidFill>
                  <a:srgbClr val="000000"/>
                </a:solidFill>
                <a:latin typeface="Tw Cen MT Condensed"/>
              </a:rPr>
              <a:t> the data, and display outgoing information called </a:t>
            </a:r>
            <a:r>
              <a:rPr b="1" lang="en-US" sz="3200" spc="-1" strike="noStrike">
                <a:solidFill>
                  <a:srgbClr val="99cc00"/>
                </a:solidFill>
                <a:latin typeface="Tw Cen MT Condensed"/>
              </a:rPr>
              <a:t>outp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6ACE-E945-4ACA-ABC3-B60E1485F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component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143000"/>
            <a:ext cx="874872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1-Hardware</a:t>
            </a: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- H/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A group of machines in a computer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2-Software (programs) </a:t>
            </a: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– S/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The instructions that tell the computer what to do and how to do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1931-B434-49B6-8D0A-4AA1ECCD5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w Cen MT Condensed"/>
              </a:rPr>
              <a:t>2-Software</a:t>
            </a:r>
            <a:r>
              <a:rPr b="1" lang="en-US" sz="3600" spc="-1" strike="noStrike">
                <a:solidFill>
                  <a:srgbClr val="92d050"/>
                </a:solidFill>
                <a:latin typeface="Tw Cen MT Condensed"/>
              </a:rPr>
              <a:t>- S/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The Components of Softw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There are  two categories of softwa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Tw Cen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w Cen MT Condensed"/>
              </a:rPr>
              <a:t>System Software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Consists of programs that control or maintain the operations of  the computer and its devices. It’s serves as interface between the user and the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Tw Cen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w Cen MT Condensed"/>
              </a:rPr>
              <a:t>Application software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: consists of programs designed to assist users with personal tas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C419-360E-45CC-9A06-494568005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w Cen MT Condensed Extra Bold"/>
              </a:rPr>
              <a:t>Categorie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uper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Mainfr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erv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Personal 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Mobile Computer  And Mobile De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Game Cons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Embedded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0E48-879A-4B0A-AD8F-808CECD0E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Supercomput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s  the fastest, most powerful computers and the most expen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apable of processing more than 100 trillion instructions in a single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They are used mostly in scientific and industrial research, by the government, and by very large organizations for controlling their net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Weather forecasting, oil exploration, telephone network desig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1-16"/>
          <p:cNvPicPr/>
          <p:nvPr/>
        </p:nvPicPr>
        <p:blipFill>
          <a:blip r:embed="rId1"/>
          <a:stretch/>
        </p:blipFill>
        <p:spPr>
          <a:xfrm>
            <a:off x="5522760" y="1071720"/>
            <a:ext cx="3049920" cy="194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12:25:02Z</dcterms:created>
  <dc:creator>N. AlJaffan</dc:creator>
  <dc:description/>
  <cp:keywords/>
  <dc:language>en-US</dc:language>
  <cp:lastModifiedBy>Nouf</cp:lastModifiedBy>
  <dcterms:modified xsi:type="dcterms:W3CDTF">2017-09-21T06:27:24Z</dcterms:modified>
  <cp:revision>184</cp:revision>
  <dc:subject/>
  <dc:title>Introduction to Compu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ContentTypeId">
    <vt:lpwstr>0x010100CC6BB1F00AAFA34493B35981E2967FB1</vt:lpwstr>
  </property>
</Properties>
</file>