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674B1-9A08-4344-B0B1-676311DC7E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5F26C-A50C-4E88-A096-33FD429E3CC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2ED25-EFB3-4322-B329-3FF7EDBF820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77B0E-3E24-45E0-8850-FF5877A61E0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F5B5F-0827-4782-A531-35D0BBF0726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4424B-7657-4667-9345-3605476C022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FFC6C-F4A2-4D6F-B8E8-2E1773792AB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9CA3E-E117-460E-818F-D2F4D42C343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2A4FD-177E-44F9-8853-21018F8A283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ECFC9-FA0A-43FB-B60A-1845E2C676F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CB0B1-9B50-45FF-9E69-DEF32333642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CE45B-6D37-4E95-9CEC-16C9592CBDB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84FB-4732-4403-9AE9-C748A5659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5918-F0B3-4581-BE83-80FA33F2D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1F86-8664-45EE-A886-738C706D4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64F9-BF70-4E7C-AA43-7F8BD5218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BF331-C71B-4A27-8D17-C5071E850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828CD-2255-4742-85AD-7720EFA7A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B5E9D-892E-48BC-BF6B-7A05EEF44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C1B73-1FEF-4A4D-BD4E-5968071C7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A3375-984E-421C-8605-F626CA1EB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1C378-A6C2-44D5-AA7C-6C0D763BE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AB7F0-E3C6-4CC9-B378-3CE0305E2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FA2A-C24D-4A90-9494-7274B966A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29A33-A519-4FB5-97EE-E2CA20B66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6180E-C55E-43B1-97E0-CB39F0D5E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8A3F3-C2A7-45FF-833A-43809BBC9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F5F9E-D0A7-40D2-9BFF-EA6373790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EE0A1-7141-411A-8585-54DB11F35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268F-29DB-47C8-8D7E-0B875A26D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19DB-0CA4-4E53-B01A-A4953F16C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0E24-8406-4733-A919-CEE6F20D8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7153-5A1D-4EEC-87AD-36270A03E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26A4-DF66-4B20-A0A1-DE373D60B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7B59-F913-4BB0-A9D3-EEBFC34F9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BEE8-7A16-4678-94DD-D4619E1E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20B16-293C-48AF-B4FE-DCB7E51D6E0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8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E9D1D-67AC-40DC-A656-0F8793E11B5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25146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99ff"/>
                </a:solidFill>
                <a:latin typeface="Arial"/>
              </a:rPr>
              <a:t>Introduction &amp; Classification of</a:t>
            </a:r>
            <a:br>
              <a:rPr sz="4800"/>
            </a:br>
            <a:r>
              <a:rPr b="0" lang="en-US" sz="4800" spc="-1" strike="noStrike">
                <a:solidFill>
                  <a:srgbClr val="3399ff"/>
                </a:solidFill>
                <a:latin typeface="Arial"/>
              </a:rPr>
              <a:t>Arthropod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Dr. Mohammed Iqbal Siddiqu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ass Merostomat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rseshoe crabs belong to this cla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remained unchanged since Cambrian peri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exoskeletons similar to trilobi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ed on seaweed, mollusks, and worms on bottom of ocea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males lay eggs on la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990720" y="4656240"/>
            <a:ext cx="1981080" cy="15192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"/>
          <p:cNvPicPr/>
          <p:nvPr/>
        </p:nvPicPr>
        <p:blipFill>
          <a:blip r:embed="rId2"/>
          <a:stretch/>
        </p:blipFill>
        <p:spPr>
          <a:xfrm>
            <a:off x="6629400" y="4419720"/>
            <a:ext cx="1905120" cy="1790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"/>
          <p:cNvPicPr/>
          <p:nvPr/>
        </p:nvPicPr>
        <p:blipFill>
          <a:blip r:embed="rId3"/>
          <a:stretch/>
        </p:blipFill>
        <p:spPr>
          <a:xfrm>
            <a:off x="3809880" y="4191120"/>
            <a:ext cx="1714680" cy="2666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ass Insect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sects are the largest group and most successful arthropod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sects may only mate once or twice in their lifetim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al ferti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rge number of eggs are produced to ensure a large number of offspr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emales lay eggs in wood or the groun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y go through complete or incomplete metamorphosis depending on spec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1371600" y="4191120"/>
            <a:ext cx="1919160" cy="25146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"/>
          <p:cNvPicPr/>
          <p:nvPr/>
        </p:nvPicPr>
        <p:blipFill>
          <a:blip r:embed="rId2"/>
          <a:stretch/>
        </p:blipFill>
        <p:spPr>
          <a:xfrm>
            <a:off x="5410080" y="4038480"/>
            <a:ext cx="2667240" cy="2598840"/>
          </a:xfrm>
          <a:prstGeom prst="rect">
            <a:avLst/>
          </a:prstGeom>
          <a:ln w="0">
            <a:noFill/>
          </a:ln>
        </p:spPr>
      </p:pic>
      <p:pic>
        <p:nvPicPr>
          <p:cNvPr id="152" name="MSSN2616.wav" descr=""/>
          <p:cNvPicPr/>
          <p:nvPr/>
        </p:nvPicPr>
        <p:blipFill>
          <a:blip r:embed="rId3"/>
          <a:stretch/>
        </p:blipFill>
        <p:spPr>
          <a:xfrm>
            <a:off x="9296280" y="1143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4808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Insects Cont’d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lete metamorphosis: egg, larva, pupa, and adul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omplete metamorphosis: egg, nymph, and adul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ymphs compete with adults for same resources and are not sexually ma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6" descr=""/>
          <p:cNvPicPr/>
          <p:nvPr/>
        </p:nvPicPr>
        <p:blipFill>
          <a:blip r:embed="rId1"/>
          <a:stretch/>
        </p:blipFill>
        <p:spPr>
          <a:xfrm>
            <a:off x="4724280" y="3429000"/>
            <a:ext cx="3905280" cy="2997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"/>
          <p:cNvPicPr/>
          <p:nvPr/>
        </p:nvPicPr>
        <p:blipFill>
          <a:blip r:embed="rId2"/>
          <a:stretch/>
        </p:blipFill>
        <p:spPr>
          <a:xfrm>
            <a:off x="838080" y="3429000"/>
            <a:ext cx="2506680" cy="3238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Features of All Arthropod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have exoskeletons for support and prot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have jointed append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dy regions include: a head, thorax, and an abdome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have a cephalothorax (head and thorax are fused togeth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arthropods molt (shed exoskelet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63680"/>
            <a:ext cx="8229600" cy="7682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General Characteristics Cont’d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thropods use either gills, tracheal tubes, or book lungs for gas exchan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ute senses include simple and compound eyes, brains, and many gangl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thropods use pheromones to communica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have open circulatory systems, complete digestive system, and efficient means of wastes excre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thropods reproduce sexually, but some exhibit parthenogenes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hylum Arthropoda is classified into four subphylla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- Trilobita   Extinct (Fossilised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ustacia (All aquatic forms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licerata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-2034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ass Arachni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-2034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 includes three important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de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-2034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  Acarina    (Ticks and mit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-2034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orpionida (All forms of scorpion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-2034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C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inida (all spide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ramia – Three classes-Hexapoda; Chilopoda; and Diplopod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ass Arachnid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iders, scorpions and mites belong to this clas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iders are the largest group of arachnid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st arachnids have only 2 body regions- a cephalothorax and the abdom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achnids have 2 chelicerae for poisoning prey and 2 pedipalps for sensing and handling foo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 remaining appendages aid in locomo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1"/>
          <a:stretch/>
        </p:blipFill>
        <p:spPr>
          <a:xfrm>
            <a:off x="3505320" y="4038480"/>
            <a:ext cx="2565360" cy="2676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rachnids Cont’d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iders have silk glands for spinning webs and for wrapping their eggs in a coco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icks and mites have only one body segm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icks feed on mammalian blood and can expand up to 1 c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tes are very small and cannot be seen by the naked eye. However their bites, called chiggers, can be fel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orpions have many body segments and 2 pincers and have a long tail with a venomous stinger at the en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380880" y="5029200"/>
            <a:ext cx="1524240" cy="14097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"/>
          <p:cNvPicPr/>
          <p:nvPr/>
        </p:nvPicPr>
        <p:blipFill>
          <a:blip r:embed="rId2"/>
          <a:stretch/>
        </p:blipFill>
        <p:spPr>
          <a:xfrm>
            <a:off x="2743200" y="3962520"/>
            <a:ext cx="1752480" cy="15174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"/>
          <p:cNvPicPr/>
          <p:nvPr/>
        </p:nvPicPr>
        <p:blipFill>
          <a:blip r:embed="rId3"/>
          <a:stretch/>
        </p:blipFill>
        <p:spPr>
          <a:xfrm>
            <a:off x="4876920" y="5410080"/>
            <a:ext cx="1523880" cy="11462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"/>
          <p:cNvPicPr/>
          <p:nvPr/>
        </p:nvPicPr>
        <p:blipFill>
          <a:blip r:embed="rId4"/>
          <a:stretch/>
        </p:blipFill>
        <p:spPr>
          <a:xfrm>
            <a:off x="7010280" y="3809880"/>
            <a:ext cx="1346400" cy="14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ass Crustace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st crustaceans are aquatic and use gills for gas exchang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 pairs of antennae for sens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dibles for crushing food that move side to sid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yes are located on movable stalk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y have five pairs of walking legs used for seizing prey and cleaning other appendag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rst pair is often modified into strong claw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1"/>
          <a:stretch/>
        </p:blipFill>
        <p:spPr>
          <a:xfrm>
            <a:off x="380880" y="4562640"/>
            <a:ext cx="3048120" cy="2124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"/>
          <p:cNvPicPr/>
          <p:nvPr/>
        </p:nvPicPr>
        <p:blipFill>
          <a:blip r:embed="rId2"/>
          <a:stretch/>
        </p:blipFill>
        <p:spPr>
          <a:xfrm>
            <a:off x="4267080" y="5029200"/>
            <a:ext cx="1152720" cy="1314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"/>
          <p:cNvPicPr/>
          <p:nvPr/>
        </p:nvPicPr>
        <p:blipFill>
          <a:blip r:embed="rId3"/>
          <a:stretch/>
        </p:blipFill>
        <p:spPr>
          <a:xfrm>
            <a:off x="6553080" y="4267080"/>
            <a:ext cx="1398600" cy="1943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rustaceans Cont’d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abs, lobsters, shrimp, crayfish, barnacles, water fleas, and pill bugs are crustacea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have three body sections, and others have only tw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nd crustaceans like pill bugs must live in damp environments for efficient gas exchan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3505320" y="4495680"/>
            <a:ext cx="1746000" cy="2210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ass Chilopoda and Diplopoda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entipedes belong to class Chilopoda and millipedes belong to class Diplopod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entipedes are carnivorous and eat soil arthropods, snails, slugs, and worm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entipede bites are painful to huma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oth have Malphigian tubes for waste excre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oth have tracheal tubes for gas exchang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llipedes eat mostly plants and dead materi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llipedes also have stink glands for scaring predato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838080" y="4952880"/>
            <a:ext cx="1676520" cy="14702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"/>
          <p:cNvPicPr/>
          <p:nvPr/>
        </p:nvPicPr>
        <p:blipFill>
          <a:blip r:embed="rId2"/>
          <a:stretch/>
        </p:blipFill>
        <p:spPr>
          <a:xfrm>
            <a:off x="3581280" y="4800600"/>
            <a:ext cx="1828800" cy="1709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"/>
          <p:cNvPicPr/>
          <p:nvPr/>
        </p:nvPicPr>
        <p:blipFill>
          <a:blip r:embed="rId3"/>
          <a:stretch/>
        </p:blipFill>
        <p:spPr>
          <a:xfrm>
            <a:off x="6172200" y="4784760"/>
            <a:ext cx="2286000" cy="1701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8T15:59:25Z</dcterms:created>
  <dc:creator>fhsstudent</dc:creator>
  <dc:description/>
  <dc:language>en-US</dc:language>
  <cp:lastModifiedBy>User</cp:lastModifiedBy>
  <cp:lastPrinted>2016-09-26T11:57:30Z</cp:lastPrinted>
  <dcterms:modified xsi:type="dcterms:W3CDTF">2016-10-25T07:29:01Z</dcterms:modified>
  <cp:revision>10</cp:revision>
  <dc:subject/>
  <dc:title>Characteristics and Classes of Arthropods</dc:title>
</cp:coreProperties>
</file>