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FBF6-7EF8-42FE-82F2-97E523D0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336-10F8-47DF-84D3-5F036ED06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442-D297-4B18-8821-592DC1EC4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C25-F485-453F-A7AB-8915B008A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62E8-7413-40BD-8245-5D9D927E7D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9BF-8856-471F-8C96-529952892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CBE3-D616-404A-820F-4014CC45B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CD3-375D-44B8-8043-8C0E321EF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254-54CB-43B7-B1C2-17935BC1A8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F2A-AFCC-4F61-8401-107DB3C4C6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05C5-50DF-4323-A2B2-86CEC0738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F9C-798E-42D8-989D-47E397DB95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132-81AB-4843-B97E-0148F510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484-AA23-44E0-AA88-5992059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3B8-E6FD-4BAB-83E5-CDF3CFD3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F9B-5FE6-4576-8ADB-BDED71C2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B43-584E-4C7F-A7B7-BE7BA7E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BD3A-7E24-43B5-9E9C-4ECA381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A54-1A81-4C55-9AD8-F289DEC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3701-75BA-47FC-8C8C-994FB24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9A3-0AC8-4218-82AB-5474B78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B85-7A8E-4375-87BE-FC3E374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25FF-76E8-49E1-A993-B4870B4B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A6F-67C9-4DC5-8811-F342B7A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A1CB-30E3-4592-A141-52E57F2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1AA-890D-4514-A606-7219BC2B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E12-88E7-40F4-BA3E-7D0E2EE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2A27-E7EE-4E7B-A14D-902D5A8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0BC8-7C30-482D-A451-76D873BA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FEC-1080-462C-80F5-DC7C0D3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726-00D7-46AF-B2C0-FEC3596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6F7-D384-47AF-9836-A1BFF3E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482-ED27-45DB-9505-2C5C1360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EE8-3AED-4BD6-B687-3814CC8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8BB-DF37-4FC8-9744-D3644FE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F09-DEB9-4BD3-836C-E1F640E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CE6E-1A30-4A9F-9FAE-48A964D2A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BED-F5E0-4CB7-A182-423D159F78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Introduction &amp; Classification of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Arthropod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r. Mohammed Iqbal Siddiq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Merostoma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seshoe crabs belong to this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remained unchanged since Cambrian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exoskeletons similar to trilo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seaweed, mollusks, and worms on bottom of oce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s lay eggs on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90720" y="465624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1905120" cy="179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7146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Insec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cts are the largest group and most successful arthrop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cts may only mate once or twice in their lifeti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fer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number of eggs are produced to ensure a large number of offsp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males lay eggs in wood or the gr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go through complete or incomplete metamorphosis depending on spe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191916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2667240" cy="2598840"/>
          </a:xfrm>
          <a:prstGeom prst="rect">
            <a:avLst/>
          </a:prstGeom>
          <a:ln w="0">
            <a:noFill/>
          </a:ln>
        </p:spPr>
      </p:pic>
      <p:pic>
        <p:nvPicPr>
          <p:cNvPr id="152" name="MSSN2616.wav" descr=""/>
          <p:cNvPicPr/>
          <p:nvPr/>
        </p:nvPicPr>
        <p:blipFill>
          <a:blip r:embed="rId3"/>
          <a:stretch/>
        </p:blipFill>
        <p:spPr>
          <a:xfrm>
            <a:off x="92962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80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sect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metamorphosis: egg, larva, pupa, and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lete metamorphosis: egg, nymph, and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ymphs compete with adults for same resources and are not sexually m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905280" cy="299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06680" cy="32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eatures of All Arthropod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ave exoskeletons for support an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ave jointed append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regions include: a head, thorax, and an abd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ave a cephalothorax (head and thorax are fused toge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rthropods molt (shed exoskelet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8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Characteristic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use either gills, tracheal tubes, or book lungs f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senses include simple and compound eyes, brains, and many gangl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use pheromones to communi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open circulatory systems, complete digestive system, and efficient means of wastes excr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reproduce sexually, but some exhibit parthenogen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lum Arthropoda is classified into four subphylla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Trilobita   Extinct (Fossilised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tacia (All aquatic form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licerat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Arach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includes three importa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 Acarina    (Ticks and mi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pionida (All forms of scorp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inida (all spi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ramia – Three classes-Hexapoda; Chilopoda; and Diplopo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Arachnid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, scorpions and mites belong to this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 are the largest group of arachn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rachnids have only 2 body regions- a cephalothorax and the abdo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achnids have 2 chelicerae for poisoning prey and 2 pedipalps for sensing and handling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remaining appendages aid in locomo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565360" cy="26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achnid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 have silk glands for spinning webs and for wrapping their eggs in a coc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s and mites have only one body seg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s feed on mammalian blood and can expand up to 1 c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es are very small and cannot be seen by the naked eye. However their bites, called chiggers, can be fe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pions have many body segments and 2 pincers and have a long tail with a venomous stinger at the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1752480" cy="151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876920" y="5410080"/>
            <a:ext cx="152388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010280" y="3809880"/>
            <a:ext cx="1346400" cy="14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Crustace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crustaceans are aquatic and use gills for gas ex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pairs of antennae for sen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ibles for crushing food that move side to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s are located on movable stal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have five pairs of walking legs used for seizing prey and cleaning other append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pair is often modified into strong c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80880" y="4562640"/>
            <a:ext cx="304812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139860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ustacean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, lobsters, shrimp, crayfish, barnacles, water fleas, and pill bugs are crustac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ave three body sections, and others have only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crustaceans like pill bugs must live in damp environments for efficient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1746000" cy="22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Chilopoda and Diplopoda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s belong to class Chilopoda and millipedes belong to class Diplopo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s are carnivorous and eat soil arthropods, snails, slugs, and wor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 bites are painful to hum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have Malphigian tubes for waste excre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have tracheal tubes for gas ex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ipedes eat mostly plants and dead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ipedes also have stink glands for scaring pred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1676520" cy="147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828800" cy="170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172200" y="4784760"/>
            <a:ext cx="2286000" cy="17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59:25Z</dcterms:created>
  <dc:creator>fhsstudent</dc:creator>
  <dc:description/>
  <dc:language>en-US</dc:language>
  <cp:lastModifiedBy>User</cp:lastModifiedBy>
  <cp:lastPrinted>2016-09-26T11:57:30Z</cp:lastPrinted>
  <dcterms:modified xsi:type="dcterms:W3CDTF">2016-10-25T07:29:01Z</dcterms:modified>
  <cp:revision>10</cp:revision>
  <dc:subject/>
  <dc:title>Characteristics and Classes of Arthropods</dc:title>
</cp:coreProperties>
</file>