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923766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5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CB76-931F-49A6-A111-9361F2AEC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9A9F-6055-43BE-81D1-CEDB2DC7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0A4A-58CB-4C5D-913E-11C9D289A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5300-C83E-46D4-A9C4-7B9B874AC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29FB-2AF0-4402-9C37-2FE79D53F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E630-75EE-4A62-B2E3-0A11780B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31FA-C411-43C1-AD1F-3408A603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35F9-4481-426B-8335-6DACBCD3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33D1-C086-423A-AF07-727B1E75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1AF8-7AB2-4000-9593-14379F25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CBEB-5195-4854-A28F-DDE87D1C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09C6-A488-4222-8C16-8FBAFA2E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C0C6-1F3F-4B67-A613-C3512D50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6043-1AC6-461C-9208-FD6A38F5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480E-E27D-4C99-8458-EEC323FB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877A-91D2-4374-93A9-5FF5CC95E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3C38-D99C-4AFA-8A0A-DA93E4429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64BA-3443-415A-99FB-94F15EA1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D4C3-4530-423C-AD44-FBF9769D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045C-995D-4C0D-BA0F-410D8E49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982F-847D-4700-B6C0-E1E3FBA7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3309-AD0F-4A20-8108-F34A163C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1E5D-043A-45B4-AED8-D1C88D53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B302-6A74-49E6-82D9-8148D717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GYNECOLOGY NURSING (NUR 352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F0BB-A1E0-4C59-B6D6-8F2BFE71EB95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GYNECOLOGY NURSING (NUR 352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9476-DAD4-4406-AB2C-2DF3E8AE2C91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8"/>
          <p:cNvSpPr/>
          <p:nvPr/>
        </p:nvSpPr>
        <p:spPr>
          <a:xfrm>
            <a:off x="53640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066320"/>
            <a:ext cx="6934320" cy="4800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productive Health Nursing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UR 324</a:t>
            </a:r>
            <a:br>
              <a:rPr sz="4000"/>
            </a:br>
            <a:br>
              <a:rPr sz="1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cture 1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 1+2</a:t>
            </a:r>
            <a:br>
              <a:rPr sz="2800"/>
            </a:br>
            <a:br>
              <a:rPr sz="4000"/>
            </a:br>
            <a:br>
              <a:rPr sz="2000"/>
            </a:b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natomy of the Female Reproductive System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he Vulva consists of the following structur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9. 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Bartholin's gland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are two small glands which open on either side of the vaginal orif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secrete mucus, which lubricates the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ginal ope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tion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posterior part of the labia majo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33"/>
                </a:solidFill>
                <a:latin typeface="Times New Roman"/>
              </a:rPr>
              <a:t>INTERNAL GENITAL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internal genitalia consists of th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g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rv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er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lopian Tub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fema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Date Placeholder 1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33"/>
                </a:solidFill>
                <a:latin typeface="Times New Roman"/>
              </a:rPr>
              <a:t>VAGIN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534160" cy="403884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vagina connects the cervix to the external genita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located between the bladder and rectu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functions 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s a passageway for the menstrual flo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or uterine secretions to pass down through the introit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s the birth canal during lab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ing may be covered by a thin sheath called the hym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33"/>
                </a:solidFill>
                <a:latin typeface="Times New Roman"/>
              </a:rPr>
              <a:t>PERINEU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uscle and tissue located between the vaginal opening and anal ca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supports and surrounds the lower parts of the urinary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erinium contains an abundance of nerve endings that make it sensi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33"/>
                </a:solidFill>
                <a:latin typeface="Times New Roman"/>
              </a:rPr>
              <a:t>CERVIX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ervix connects the uterus to the vagin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ervical opening to the vagina is smal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acts as a safety precaution against foreign bodies entering the uteru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ring childbirth, the cervix dilates to accommodate the passage of the fetu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dilation is a sign that labor has begu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33"/>
                </a:solidFill>
                <a:latin typeface="Times New Roman"/>
              </a:rPr>
              <a:t>UTERU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ly referred to as the wo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ear shaped or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owerful muscles of the uterus expand to accommodate a growing fetus and push it through the birth ca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33"/>
                </a:solidFill>
                <a:latin typeface="Times New Roman"/>
              </a:rPr>
              <a:t>UTERU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ers of the Uterine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er layer = the Serosa or perimetr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ddle layer = the muscularis or myometr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Inner layer = the mucosa of the endometr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33"/>
                </a:solidFill>
                <a:latin typeface="Times New Roman"/>
              </a:rPr>
              <a:t>UTERU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er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ter the fetus during pregnancy. It prep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this possibility each month and following pregnancy it expels the uterine cont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tuated in the true pelvis , between the bladder and rectum.( In pelvic cavi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99ff33"/>
                </a:solidFill>
                <a:latin typeface="Times New Roman"/>
              </a:rPr>
              <a:t>FALLOPIAN TUB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 as a pathway for the ovum to the uter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the site of fertilization by the male sper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referred to as the oviducts or uterine tub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rtilized egg takes approximately 6 to 10 days to travel through the fallopian tube to implant in the uterine lin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33"/>
                </a:solidFill>
                <a:latin typeface="Times New Roman"/>
              </a:rPr>
              <a:t>Anatomy of female reproductive system consists of</a:t>
            </a:r>
            <a:r>
              <a:rPr b="1" lang="en-US" sz="3600" spc="-1" strike="noStrike">
                <a:solidFill>
                  <a:srgbClr val="99ff33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ony pelvis &amp; soft tissu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oft tissue consists of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emale genital organs {The Vulva}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emale genital organs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8" descr="fallopiantubes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5790960"/>
          </a:xfrm>
          <a:prstGeom prst="rect">
            <a:avLst/>
          </a:prstGeom>
          <a:ln w="0">
            <a:noFill/>
          </a:ln>
        </p:spPr>
      </p:pic>
      <p:sp>
        <p:nvSpPr>
          <p:cNvPr id="147" name="Date Placeholder 1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99ff33"/>
                </a:solidFill>
                <a:latin typeface="Times New Roman"/>
              </a:rPr>
              <a:t>FALLOPIAN TUB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Receives the spermatozoa as they travel upw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-Ovum transport and pick 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- provides a site for fertiliz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-Embryo transport and nourish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33"/>
                </a:solidFill>
                <a:latin typeface="Times New Roman"/>
              </a:rPr>
              <a:t>OVARI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ovaries: (female gonads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rable to the testes in the mal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 to almonds in size &amp; shap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tion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located on either side of the uterus ,below and behind the fimbriated ends of the ova du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s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ovaries produce ova (ovulation) and the hormones estrogen, progester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33"/>
                </a:solidFill>
                <a:latin typeface="Times New Roman"/>
              </a:rPr>
              <a:t>OVARI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emale glan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develop and expel an ovum each mon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woman is born with approximately 400,000 immature eggs called folli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ring a lifetime a woman release about 400 to 500 fully matured eggs for fert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ollicles in the ovaries produce the female sex hormones, progesterone and estro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se hormones prepare the uterus for implantation of the fertilized eg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Date Placeholder 4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33"/>
                </a:solidFill>
                <a:latin typeface="Times New Roman"/>
              </a:rPr>
              <a:t>BREAS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762120" y="259092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easts may exhibit cyclical changes, including increased swelling and tenderness prior to menstru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33"/>
                </a:solidFill>
                <a:latin typeface="Times New Roman"/>
              </a:rPr>
              <a:t>Placent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s of the Plac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s blood and nutrition from the mother to the fet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 waste product from the fetal metabolism to the maternal circulation for dispos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ernal circulation is separated from the fetal circ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umbilical cord consist of two arteries and one v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4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33"/>
                </a:solidFill>
                <a:latin typeface="Times New Roman"/>
              </a:rPr>
              <a:t>SEX HORMON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98880" cy="40384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llicle stimulating hormone F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uteinizing hormone LH-signals ovul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rogen- produced throughout the menstrual cy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esterone-produced during second half of cy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87920" y="1828800"/>
            <a:ext cx="3998880" cy="40384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FSH and LH are produced in the pituitary g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estrogen and progesterone are produced by the follicles in the ova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0021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5639040"/>
          </a:xfrm>
          <a:prstGeom prst="rect">
            <a:avLst/>
          </a:prstGeom>
          <a:ln w="0">
            <a:noFill/>
          </a:ln>
        </p:spPr>
      </p:pic>
      <p:sp>
        <p:nvSpPr>
          <p:cNvPr id="168" name="Date Placeholder 1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3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13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99ff33"/>
                </a:solidFill>
                <a:latin typeface="Arial"/>
              </a:rPr>
              <a:t>The Menstrual Cycle</a:t>
            </a:r>
            <a:endParaRPr b="0" lang="en-US" sz="5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ate Placeholder 4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33"/>
                </a:solidFill>
                <a:latin typeface="Times New Roman"/>
              </a:rPr>
              <a:t>MENSTR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98880" cy="40384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arch, the onset of menstruation signals the bodily changes that transform a female bod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erage age is 12yr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ount of bleeding varies from woman to woma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ulsion of blood clot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87920" y="1828800"/>
            <a:ext cx="3998880" cy="403848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ood color can vary from bright red to dark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ually occurs every 25 to 32 day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men can experience fluid retention, cramping, mood swings, weight gain, breast tenderness, diarrhea/ constipation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External female genital organs {The Vulva} consists of the following structur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ff33"/>
                </a:solidFill>
                <a:uFillTx/>
                <a:latin typeface="Times New Roman"/>
                <a:ea typeface="Times New Roman"/>
              </a:rPr>
              <a:t>The mons pubi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 pad of fat, covered with pubic hair from the time of pube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ion of the symphysis pubis during intercou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tion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 the symphysis pub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Biology and the Menstrual Cyc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nstrual cycle is regulated by fluctuating levels of sex hormon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se hormones produce certain changes in the ovaries and uteru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Ovarian Cyc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The Phases of the Menstrual Cyc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llicular pha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vul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uteal phas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enstru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What Happens in the Ovaries</a:t>
            </a:r>
            <a:br>
              <a:rPr sz="4400"/>
            </a:b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During the Menstrual Cyc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73280" y="1977840"/>
            <a:ext cx="79135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llicular phase - high levels of FSH secret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is to stimulate follicles in the ovari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e follicle begins to ripen and brings an egg to maturit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llicle secretes estroge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Ovulation - follicle ruptures open and releases the ripened egg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What Happens in the Ovaries</a:t>
            </a:r>
            <a:br>
              <a:rPr sz="4400"/>
            </a:b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 During the Menstrual Cyc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73280" y="2126880"/>
            <a:ext cx="791352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uteal phase - after releasing an egg, the follicle turns into the </a:t>
            </a:r>
            <a:r>
              <a:rPr b="0" i="1" lang="en-US" sz="2700" spc="-1" strike="noStrike">
                <a:solidFill>
                  <a:srgbClr val="ffffff"/>
                </a:solidFill>
                <a:latin typeface="Arial"/>
              </a:rPr>
              <a:t>corpus luteum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i="1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nufactures progesteron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enstruation - shedding of the inner lining of the uteru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What Happens in the Uterus</a:t>
            </a:r>
            <a:br>
              <a:rPr sz="4400"/>
            </a:b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 During the Menstrual Cyc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52480" y="1977840"/>
            <a:ext cx="78343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llicular phase - high levels of estrogen stimulate the endometrium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uteal phase - progesterone secreted by the corpus luteum stimulates the glands of the endometrium to start secreting nourishing substanc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What Happens in the Uterus</a:t>
            </a:r>
            <a:br>
              <a:rPr sz="4400"/>
            </a:b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 During the Menstrual Cyc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rpus luteum continues to produce estrogen and progesterone for about 10 to 12 day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f pregnancy has not occurred, hormone output decline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enstrual fluid is combination of blood from the endometrium, degenerated cells, and mucus from the cervix and vagina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ovaries call the shots in regulating the cycl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33"/>
                </a:solidFill>
                <a:latin typeface="Times New Roman"/>
              </a:rPr>
              <a:t>Length and Timing of the Menstrual Cycle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Normal menstrual cycle = 20 to 40 days; average is about 28 days. In an average cycle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nstruation begins on day 1 and continues until about day 4 or 5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llicular phase -  about days 5-13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vulation occurs on day 14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uteal phase - day 15 to the end of the cycle, day 28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1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2" descr="Menstrual_cyc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8"/>
          <p:cNvSpPr/>
          <p:nvPr/>
        </p:nvSpPr>
        <p:spPr>
          <a:xfrm>
            <a:off x="53640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19320" y="3809520"/>
            <a:ext cx="6781680" cy="1111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onception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4" descr="logo1"/>
          <p:cNvPicPr/>
          <p:nvPr/>
        </p:nvPicPr>
        <p:blipFill>
          <a:blip r:embed="rId1"/>
          <a:stretch/>
        </p:blipFill>
        <p:spPr>
          <a:xfrm>
            <a:off x="3505320" y="1523880"/>
            <a:ext cx="22096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33"/>
                </a:solidFill>
                <a:latin typeface="Times New Roman"/>
              </a:rPr>
              <a:t>Anatomy of female reproductive system consists of</a:t>
            </a:r>
            <a:r>
              <a:rPr b="1" lang="en-US" sz="3600" spc="-1" strike="noStrike">
                <a:solidFill>
                  <a:srgbClr val="99ff33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4" descr="Vulva Health Library Fremont, CA"/>
          <p:cNvPicPr/>
          <p:nvPr/>
        </p:nvPicPr>
        <p:blipFill>
          <a:blip r:embed="rId1"/>
          <a:stretch/>
        </p:blipFill>
        <p:spPr>
          <a:xfrm>
            <a:off x="1752480" y="2209680"/>
            <a:ext cx="5486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Concep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ion is the union of an egg from the mother and sperm from the father – these are germ cells or game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metes contain only half of the genetic material (23 chromosomes) found in other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Pre-fertiliz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3" descr="ovum"/>
          <p:cNvPicPr/>
          <p:nvPr/>
        </p:nvPicPr>
        <p:blipFill>
          <a:blip r:embed="rId1"/>
          <a:stretch/>
        </p:blipFill>
        <p:spPr>
          <a:xfrm>
            <a:off x="762120" y="1828800"/>
            <a:ext cx="769608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06600" y="1887480"/>
            <a:ext cx="7860960" cy="37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s with the release of an egg from the woman’s ovar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rm swim up the female reproductive tract for about 6 hours aided by muscular contractions of the ute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millions that enter the vagina only about 200 get near the eg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Fertiliz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33"/>
                </a:solidFill>
                <a:latin typeface="Times New Roman"/>
              </a:rPr>
              <a:t>Journey of Ovu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Picture 3" descr="Figure 25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4"/>
          <p:cNvSpPr/>
          <p:nvPr/>
        </p:nvSpPr>
        <p:spPr>
          <a:xfrm>
            <a:off x="1036800" y="57150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v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6"/>
          <p:cNvSpPr/>
          <p:nvPr/>
        </p:nvSpPr>
        <p:spPr>
          <a:xfrm flipH="1" flipV="1">
            <a:off x="1143000" y="5181480"/>
            <a:ext cx="7632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7"/>
          <p:cNvSpPr/>
          <p:nvPr/>
        </p:nvSpPr>
        <p:spPr>
          <a:xfrm>
            <a:off x="457200" y="1905120"/>
            <a:ext cx="53352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6629400" y="6095880"/>
            <a:ext cx="25146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ure ovum in folli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1600200" y="4495680"/>
            <a:ext cx="533520" cy="533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10"/>
          <p:cNvSpPr/>
          <p:nvPr/>
        </p:nvSpPr>
        <p:spPr>
          <a:xfrm flipV="1" rot="21463800">
            <a:off x="1904760" y="4951800"/>
            <a:ext cx="5257800" cy="53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079"/>
                </a:moveTo>
                <a:lnTo>
                  <a:pt x="12427" y="0"/>
                </a:lnTo>
                <a:lnTo>
                  <a:pt x="12427" y="6079"/>
                </a:lnTo>
                <a:cubicBezTo>
                  <a:pt x="5564" y="6079"/>
                  <a:pt x="0" y="8801"/>
                  <a:pt x="0" y="12158"/>
                </a:cubicBezTo>
                <a:lnTo>
                  <a:pt x="0" y="21600"/>
                </a:lnTo>
                <a:lnTo>
                  <a:pt x="0" y="12158"/>
                </a:lnTo>
                <a:cubicBezTo>
                  <a:pt x="0" y="8801"/>
                  <a:pt x="5564" y="6079"/>
                  <a:pt x="12427" y="6079"/>
                </a:cubicBezTo>
                <a:lnTo>
                  <a:pt x="12427" y="12158"/>
                </a:lnTo>
                <a:lnTo>
                  <a:pt x="21600" y="6079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0" y="1523880"/>
            <a:ext cx="9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1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2" descr="fertilization 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Date Placeholder 1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2" descr="fertilization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the first sperm enters, the egg changes in the zona to prevent entry of other sper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i of ovum and sperm unite to form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ygo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Date Placeholder 2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Group 2"/>
          <p:cNvGrpSpPr/>
          <p:nvPr/>
        </p:nvGrpSpPr>
        <p:grpSpPr>
          <a:xfrm>
            <a:off x="838080" y="1371600"/>
            <a:ext cx="7467480" cy="4800600"/>
            <a:chOff x="838080" y="1371600"/>
            <a:chExt cx="7467480" cy="4800600"/>
          </a:xfrm>
        </p:grpSpPr>
        <p:sp>
          <p:nvSpPr>
            <p:cNvPr id="231" name="Rectangle 3"/>
            <p:cNvSpPr/>
            <p:nvPr/>
          </p:nvSpPr>
          <p:spPr>
            <a:xfrm>
              <a:off x="838080" y="1371600"/>
              <a:ext cx="7467480" cy="480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2" name="Picture 4" descr="Fig1602"/>
            <p:cNvPicPr/>
            <p:nvPr/>
          </p:nvPicPr>
          <p:blipFill>
            <a:blip r:embed="rId1"/>
            <a:stretch/>
          </p:blipFill>
          <p:spPr>
            <a:xfrm>
              <a:off x="838080" y="1600200"/>
              <a:ext cx="7467480" cy="431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3" name="Group 5"/>
          <p:cNvGrpSpPr/>
          <p:nvPr/>
        </p:nvGrpSpPr>
        <p:grpSpPr>
          <a:xfrm>
            <a:off x="0" y="762120"/>
            <a:ext cx="9143640" cy="6095520"/>
            <a:chOff x="0" y="762120"/>
            <a:chExt cx="9143640" cy="6095520"/>
          </a:xfrm>
        </p:grpSpPr>
        <p:sp>
          <p:nvSpPr>
            <p:cNvPr id="234" name="Rectangle 6"/>
            <p:cNvSpPr/>
            <p:nvPr/>
          </p:nvSpPr>
          <p:spPr>
            <a:xfrm>
              <a:off x="0" y="762120"/>
              <a:ext cx="9143640" cy="6095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5" name="Picture 7" descr="Fig1602"/>
            <p:cNvPicPr/>
            <p:nvPr/>
          </p:nvPicPr>
          <p:blipFill>
            <a:blip r:embed="rId2"/>
            <a:stretch/>
          </p:blipFill>
          <p:spPr>
            <a:xfrm>
              <a:off x="0" y="1052280"/>
              <a:ext cx="9143640" cy="548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59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Fertiliz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Fertilized Ovu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3" descr="fertegg"/>
          <p:cNvPicPr/>
          <p:nvPr/>
        </p:nvPicPr>
        <p:blipFill>
          <a:blip r:embed="rId1"/>
          <a:stretch/>
        </p:blipFill>
        <p:spPr>
          <a:xfrm>
            <a:off x="2057400" y="2212920"/>
            <a:ext cx="4876920" cy="3484440"/>
          </a:xfrm>
          <a:prstGeom prst="rect">
            <a:avLst/>
          </a:prstGeom>
          <a:ln w="0">
            <a:noFill/>
          </a:ln>
        </p:spPr>
      </p:pic>
      <p:sp>
        <p:nvSpPr>
          <p:cNvPr id="240" name="Line 4"/>
          <p:cNvSpPr/>
          <p:nvPr/>
        </p:nvSpPr>
        <p:spPr>
          <a:xfrm flipV="1">
            <a:off x="4800600" y="2895120"/>
            <a:ext cx="266688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5"/>
          <p:cNvSpPr/>
          <p:nvPr/>
        </p:nvSpPr>
        <p:spPr>
          <a:xfrm flipH="1">
            <a:off x="5334120" y="2895480"/>
            <a:ext cx="2133360" cy="10670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7391520" y="236232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 individual ce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9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99ff33"/>
                </a:solidFill>
                <a:latin typeface="Times New Roman"/>
              </a:rPr>
              <a:t>From Zygote to Embryo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ll div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zygote divides into 2, 4, eight, etc. A hollow ball of cell forms called the blastocy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ll mi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ls move to go somewhere else and form 3 different lay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ll different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ls take on specific structure and fun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he Vulva consists of the following structur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lang="en-US" sz="2800" spc="-1" strike="noStrike" u="sng">
                <a:solidFill>
                  <a:srgbClr val="99ff33"/>
                </a:solidFill>
                <a:uFillTx/>
                <a:latin typeface="Times New Roman"/>
                <a:ea typeface="Times New Roman"/>
              </a:rPr>
              <a:t>The labia major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are two folds of fat and areolar tissue, covered with skin and pubic hair on the outer surf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ion of the vaginal introi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tion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ise in th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s pub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merge into the perineum behi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Date Placeholder 1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2" descr="cleava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Twi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zygotic or identical twins occur when a single egg is fertilized but dividing cells break into two groups and develop into two individuals. Genetically ident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zygotic or fraternal twins occur when two separate eggs are ovulated and both are fertilized. May be of different sex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300px_Identical_fraternal_sperm_egg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2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Group 2"/>
          <p:cNvGrpSpPr/>
          <p:nvPr/>
        </p:nvGrpSpPr>
        <p:grpSpPr>
          <a:xfrm>
            <a:off x="0" y="1600200"/>
            <a:ext cx="9143640" cy="5257440"/>
            <a:chOff x="0" y="1600200"/>
            <a:chExt cx="9143640" cy="5257440"/>
          </a:xfrm>
        </p:grpSpPr>
        <p:sp>
          <p:nvSpPr>
            <p:cNvPr id="257" name="Rectangle 3"/>
            <p:cNvSpPr/>
            <p:nvPr/>
          </p:nvSpPr>
          <p:spPr>
            <a:xfrm>
              <a:off x="0" y="1600200"/>
              <a:ext cx="9143640" cy="5257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8" name="Picture 4" descr="Fig1604"/>
            <p:cNvPicPr/>
            <p:nvPr/>
          </p:nvPicPr>
          <p:blipFill>
            <a:blip r:embed="rId1"/>
            <a:stretch/>
          </p:blipFill>
          <p:spPr>
            <a:xfrm>
              <a:off x="82440" y="2267640"/>
              <a:ext cx="8982360" cy="376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Early Developmental St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2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Group 2"/>
          <p:cNvGrpSpPr/>
          <p:nvPr/>
        </p:nvGrpSpPr>
        <p:grpSpPr>
          <a:xfrm>
            <a:off x="0" y="1143000"/>
            <a:ext cx="9143640" cy="5715000"/>
            <a:chOff x="0" y="1143000"/>
            <a:chExt cx="9143640" cy="5715000"/>
          </a:xfrm>
        </p:grpSpPr>
        <p:sp>
          <p:nvSpPr>
            <p:cNvPr id="262" name="Rectangle 3"/>
            <p:cNvSpPr/>
            <p:nvPr/>
          </p:nvSpPr>
          <p:spPr>
            <a:xfrm>
              <a:off x="0" y="1143000"/>
              <a:ext cx="9143640" cy="571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3" name="Picture 4" descr="Fig1603"/>
            <p:cNvPicPr/>
            <p:nvPr/>
          </p:nvPicPr>
          <p:blipFill>
            <a:blip r:embed="rId1"/>
            <a:stretch/>
          </p:blipFill>
          <p:spPr>
            <a:xfrm>
              <a:off x="90360" y="1293120"/>
              <a:ext cx="8926560" cy="547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Human Development before Implan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Date Placeholder 1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2" descr="16_05c"/>
          <p:cNvPicPr/>
          <p:nvPr/>
        </p:nvPicPr>
        <p:blipFill>
          <a:blip r:embed="rId1"/>
          <a:stretch/>
        </p:blipFill>
        <p:spPr>
          <a:xfrm>
            <a:off x="3240" y="3240"/>
            <a:ext cx="9140760" cy="68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Date Placeholder 1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2" descr="16_01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4"/>
          <p:cNvSpPr/>
          <p:nvPr/>
        </p:nvSpPr>
        <p:spPr>
          <a:xfrm>
            <a:off x="385200" y="457200"/>
            <a:ext cx="843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Germ Layer Theory of Organ –System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he Vulva consists of the following structur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</a:t>
            </a:r>
            <a:r>
              <a:rPr b="1" lang="en-US" sz="2700" spc="-1" strike="noStrike" u="sng">
                <a:solidFill>
                  <a:srgbClr val="99ff33"/>
                </a:solidFill>
                <a:uFillTx/>
                <a:latin typeface="Times New Roman"/>
                <a:ea typeface="Times New Roman"/>
              </a:rPr>
              <a:t>The labia minor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thin folds of skin lying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ween the labia majora. Anteriorly, divide to enclose the clitoris, posteriorly, fuse forming the fourchet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otic, in response to stimulation and are highly sensit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tion: betwee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abia majo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he Vulva consists of the following structur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The clitori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orresponding to the male penis). is a small rudimentary organ, very sensitive and highly vascul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xual stimulation.( plays a part in the orgasm of sexual intercourse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he Vulva consists of the following structur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5. The vestibu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tion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rea in which the openings of the urethra and the vagina are situated &amp; enclosed by the labia mino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6. The urethral orif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tion 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5 cm posterior to the clitor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3"/>
          <p:cNvSpPr/>
          <p:nvPr/>
        </p:nvSpPr>
        <p:spPr>
          <a:xfrm>
            <a:off x="5335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LECTURE 1 +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he Vulva consists of the following structur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7. 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The Vaginal orifice 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(Vaginal introitus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ccupies the posterior two-thirds of the vestibu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orifice is partially closed by the hy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8. 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The Hyme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 thin membrane which tears during sexual intercourse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has one or more openings to allow escape of menstrual blo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User-PC</cp:lastModifiedBy>
  <cp:lastPrinted>2017-02-09T08:24:56Z</cp:lastPrinted>
  <dcterms:modified xsi:type="dcterms:W3CDTF">2017-02-19T06:51:28Z</dcterms:modified>
  <cp:revision>64</cp:revision>
  <dc:subject/>
  <dc:title>FEMALE REPRODUCTIVE ANATOMY</dc:title>
</cp:coreProperties>
</file>