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0024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0024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60BABB-25A2-4A59-82A3-9886DBC4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8B6B60-4C1E-4FA6-98F9-F0787E83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0F94FB-E9D3-43A7-96BA-04E8A9B2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.</a:t>
            </a:r>
            <a:fld id="{1788715C-7BB9-4E2C-ADC5-084121A73A23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:  Introduction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1 Part 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tartu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31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strap progra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aded at power-up or 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tored in ROM, generally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m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s all aspects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operating system kernel and star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5760" y="1233360"/>
            <a:ext cx="759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CPUs, device controllers connect through common bus providing access to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CPUs and devices competing for memor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785960" y="2963880"/>
            <a:ext cx="60595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-System Oper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devices and the CPU ca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vice controller is in charge of a particular devi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vice controller has a loca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moves data from/to main memory to/from local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s from the device to local buffer of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controller informs CPU that it has finished its operation by causing a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4608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mon Functions of Interru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57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transfers control to the interrupt service routine generally, through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tains the addresses of all the service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architecture must save the address of the interrup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oftware-generated interrupt caused either by an error or a us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3800" y="-954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620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preserves the state of the CPU by storing registers and the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which type of interrupt has occur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rup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segments of code determine what action should be taken for each type of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4960" y="1244160"/>
            <a:ext cx="68454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/O starts, control returns to user program only upon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instruction idles the CPU until the next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loop (contention for memory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one I/O request is outstanding at a time, no simultaneous I/O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/O starts, control returns to user program without waiting for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 c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request to the OS to allow user to wait for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-status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ntry for each I/O device indicating its type, address, an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ndexes into I/O device table to determine device status and to modify table entry to include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7360" y="277920"/>
            <a:ext cx="7399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torage Definitions and Notation Review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47720" y="1177920"/>
            <a:ext cx="7440480" cy="523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unit of computer storage is th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A bit can contain one of two values, 0 and 1. All other storage in a computer is based on collections of bits. Given enough bits, it is amazing how many things a computer can represent: numbers, letters, images, movies, sounds, documents, and programs, to name a few. 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y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8 bits, and on most computers it is the smallest convenient chunk of storage. For example, most computers don’t have an instruction to move a bit but do have one to move a byte. A less common term is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which is a given computer architecture’s native unit of data. A word is made up of one or more bytes. For example, a computer that has 64-bit registers and 64-bit memory addressing typically has 64-bit (8-byte) words. A computer executes many operations in its native word size rather than a byte at a ti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torage, along with most computer throughput, is generally measured and manipulated in bytes and collections of byt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ilo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g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ig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t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t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manufacturers often round off these numbers and say that a megabyte is 1 million bytes and a gigabyte is 1 billion bytes. Networking measurements are an exception to this general rule; they are given in bits (because networks move data a bit at a time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040" y="1138320"/>
            <a:ext cx="76122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– only large storage media that th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andom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ola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torage – extension of main memory that provides larg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volati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s – rigid metal or glass platters covered with magnetic recording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surface is logically divided into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tra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are subdivided into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isk control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the logical interaction between the device and the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624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Hierarc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492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ystems organized 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pying information into faster storage system; main memory can be viewed as a cache for secondary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device controller to manag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uniform interface between controller and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-Device Hierarc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7" name="Picture 3" descr="C:\Users\as668\Desktop\1_04.jpg"/>
          <p:cNvPicPr/>
          <p:nvPr/>
        </p:nvPicPr>
        <p:blipFill>
          <a:blip r:embed="rId1"/>
          <a:stretch/>
        </p:blipFill>
        <p:spPr>
          <a:xfrm>
            <a:off x="1992240" y="1370160"/>
            <a:ext cx="532296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: Introdu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rating Systems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00160" y="198000"/>
            <a:ext cx="7586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-System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6400" y="1233000"/>
            <a:ext cx="83376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use a single general-purpose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have special-purpose processor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cessor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growing in use and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allel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ghtly-coupl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is assigned a specie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performs al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996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" name="Picture 7" descr="1"/>
          <p:cNvPicPr/>
          <p:nvPr/>
        </p:nvPicPr>
        <p:blipFill>
          <a:blip r:embed="rId1"/>
          <a:stretch/>
        </p:blipFill>
        <p:spPr>
          <a:xfrm>
            <a:off x="1598760" y="1760400"/>
            <a:ext cx="63198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9920" y="16632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834840"/>
            <a:ext cx="783288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gramm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tch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eeded for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cannot keep CPU and I/O devices busy at all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rogramming organizes jobs (code and data) so CPU always has one to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set of total jobs in system is kept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job selected and run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it has to wait (for I/O for example), OS switches to another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mesha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task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gical extension in which CPU switches jobs so frequently that users can interact with each job while it is running, creat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ponse 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&lt; 1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user has at least one program executing in memory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veral jobs ready to run at the same time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356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emory Layout for Multiprogrammed Syste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887560" y="1230480"/>
            <a:ext cx="28148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4960" y="16632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-System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153800"/>
            <a:ext cx="68868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Interrup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nterrupt by one of the de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interrupt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rror (e.g., division by 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operating system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cess problems include infinite loop, processes modifying each other or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9000" y="19800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-System Operation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29792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ual-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allows OS to protect itself and other syste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de b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bility to distinguish when system is running user code or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structions designated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nly executable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changes mode to kernel, return from call resets it to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ly CPUs support multi-mod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2720" y="136080"/>
            <a:ext cx="8415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ansition from User to Kernel Mo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060200"/>
            <a:ext cx="77533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to prevent infinite loop / process hogg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s set to interrupt the computer after some ti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that is decremented by the physical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et the counter (privileged i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unter zero generate an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before scheduling process to regain control or terminate program that exceeds allott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3895560"/>
            <a:ext cx="76024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8640" y="19800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0640" y="809640"/>
            <a:ext cx="719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. It is a unit of work within the system. Program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ive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e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needs resources to accomplish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 memory, I/O,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threaded process has on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 counter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location of next instruction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instructions sequentially, one at a time, unti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threaded process has one program counter per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ystem has many processes, some user, some operating system running concurrently on one or more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28240" y="15192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 Activit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25360" y="1587240"/>
            <a:ext cx="79581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nd deleting both user and syste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ding and resum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process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85960" y="12384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responsible for the following activities in connection with process manageme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0080" y="166320"/>
            <a:ext cx="759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107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a program all (or part) of the instructions must b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 (or part) of the data that is needed by the program must be 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track of which parts of memory are currently being used and 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ing which processes (or parts thereof) and data to move into and out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and deallocating memory space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492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asic organization of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grand tour of the major components of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an overview of the many types of computing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several open-source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28240" y="18216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0880" y="1104480"/>
            <a:ext cx="7434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vides uniform, logical view of information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 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edium is controlled by device (i.e., disk drive, tape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properties include access speed, capacity, data-transfer rate, access method (sequential or ran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usually organized into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on most systems to determine who can acces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activitie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nd deleting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to manipulate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files onto stable (non-volatile) storag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2400" y="18216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 and Secur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48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ny mechanism for controlling access of processes or users to resources defin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efense of the system against internal and external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range, including denial-of-service, worms, viruses, identity theft, 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generally first distinguish among users, to determine who can do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entitie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curity IDs) include name and associated number, one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 then associated with all files, processes of that user to determine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identifier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llows set of users to be defined and controls managed, then also associated with each process,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3360" y="19800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5560" y="1268280"/>
            <a:ext cx="71215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that acts as an intermediary between a user of a computer and the computer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user programs and make solving user problems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computer system convenien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mputer hardware in an effici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1120" y="18216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0280" y="120456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ystem can be divided into four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– provides basic comput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 memory,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and coordinates use of hardware among various applications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– define the ways in which the system resources are used to solve the computing problems of th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processors, compilers, web browsers, database systems, video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, machines, other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4560" y="120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our Components of a Computer Syste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52640" y="1533600"/>
            <a:ext cx="54482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Operating Systems D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6400" y="1233360"/>
            <a:ext cx="724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the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nt convenience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good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re abou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urc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hared computer such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in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inicomp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keep all user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of dedicate systems such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s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dedicated resources but frequently use shared resources fro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computers are resource poor,  optimized for usability and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puters have little or no user interface, such as embedded computers in devices and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480" y="166320"/>
            <a:ext cx="7510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Defini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028880"/>
            <a:ext cx="6639120" cy="42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urce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s between conflicting requests for efficient and fair resourc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ro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execution of programs to prevent errors and improper use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33200" y="198000"/>
            <a:ext cx="8024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Defini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3520" y="1247400"/>
            <a:ext cx="68086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niversally accepte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a vendor ships when you order an operating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good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varies wil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program running at all times on the compu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else i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program (ships with the operating system) 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USER</cp:lastModifiedBy>
  <cp:lastPrinted>2001-06-14T13:58:17Z</cp:lastPrinted>
  <dcterms:modified xsi:type="dcterms:W3CDTF">2017-09-26T07:26:09Z</dcterms:modified>
  <cp:revision>202</cp:revision>
  <dc:subject/>
  <dc:title>2.01</dc:title>
</cp:coreProperties>
</file>