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11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900240" y="0"/>
            <a:ext cx="29811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-360" y="8832600"/>
            <a:ext cx="298116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900240" y="8832600"/>
            <a:ext cx="298116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7AC19EA-745D-4D59-829B-B3D353547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00600" y="8832960"/>
            <a:ext cx="2981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9A2347F-860B-4E5B-BA6E-64958F0C0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00600" y="8832960"/>
            <a:ext cx="2981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1E4C97C-5B9F-40A7-971B-EF9C95742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03164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1.</a:t>
            </a:r>
            <a:fld id="{5A01E009-CCC6-4D3D-B902-00468396AD1C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253080" y="662148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4320" y="661356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0680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1160" y="18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Chapter 1:  Introduction</a:t>
            </a:r>
            <a:br>
              <a:rPr sz="4300"/>
            </a:b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Lecture 1 Part 1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mputer Startup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6318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ootstrap program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loaded at power-up or reb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stored in ROM, generally known 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rm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es all aspects of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s operating system kernel and starts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mputer System Organiz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15760" y="1233360"/>
            <a:ext cx="7597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-system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r more CPUs, device controllers connect through common bus providing access to shar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execution of CPUs and devices competing for memory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1785960" y="2963880"/>
            <a:ext cx="605952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mputer-System Oper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67453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devices and the CPU can execute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device controller is in charge of a particular devic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device controller has a local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moves data from/to main memory to/from local 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is from the device to local buffer of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controller informs CPU that it has finished its operation by causing an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46080" y="1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mmon Functions of Interrupt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6572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upt transfers control to the interrupt service routine generally, through th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terrup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e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contains the addresses of all the service rout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upt architecture must save the address of the interrupted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r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xce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oftware-generated interrupt caused either by an error or a user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3800" y="-9540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nterrupt Hand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66200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erating system preserves the state of the CPU by storing registers and the program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s which type of interrupt has occurr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ecto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rup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segments of code determine what action should be taken for each type of 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I/O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94960" y="1244160"/>
            <a:ext cx="68454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I/O starts, control returns to user program only upon I/O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 instruction idles the CPU until the next 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 loop (contention for memory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most one I/O request is outstanding at a time, no simultaneous I/O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I/O starts, control returns to user program without waiting for I/O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ystem ca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request to the OS to allow user to wait for I/O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vice-status t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entry for each I/O device indicating its type, address, an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indexes into I/O device table to determine device status and to modify table entry to include 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87360" y="277920"/>
            <a:ext cx="73994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torage Definitions and Notation Review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747720" y="1177920"/>
            <a:ext cx="7440480" cy="5238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asic unit of computer storage is the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i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 A bit can contain one of two values, 0 and 1. All other storage in a computer is based on collections of bits. Given enough bits, it is amazing how many things a computer can represent: numbers, letters, images, movies, sounds, documents, and programs, to name a few. A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yt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8 bits, and on most computers it is the smallest convenient chunk of storage. For example, most computers don’t have an instruction to move a bit but do have one to move a byte. A less common term is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or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which is a given computer architecture’s native unit of data. A word is made up of one or more bytes. For example, a computer that has 64-bit registers and 64-bit memory addressing typically has 64-bit (8-byte) words. A computer executes many operations in its native word size rather than a byte at a ti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 storage, along with most computer throughput, is generally measured and manipulated in bytes and collections of byte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iloby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B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is 1,024 by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egaby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B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is 1,02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by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igaby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B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is 1,02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by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eraby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B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is 1,02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4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te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taby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o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B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is 1,02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by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 manufacturers often round off these numbers and say that a megabyte is 1 million bytes and a gigabyte is 1 billion bytes. Networking measurements are an exception to this general rule; they are given in bits (because networks move data a bit at a time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torage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06040" y="1138320"/>
            <a:ext cx="76122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mory – only large storage media that the CPU can access 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Random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volat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ary storage – extension of main memory that provides larg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nonvolatil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disks – rigid metal or glass platters covered with magnetic recording mate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k surface is logically divided into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trac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which are subdivided into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s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disk controll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s the logical interaction between the device and the compu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76240" y="182160"/>
            <a:ext cx="7810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torage Hierarch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6492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systems organized 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a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ac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pying information into faster storage system; main memory can be viewed as a cache for secondary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vice Driv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device controller to manag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uniform interface between controller and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torage-Device Hierarch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37" name="Picture 3" descr="C:\Users\as668\Desktop\1_04.jpg"/>
          <p:cNvPicPr/>
          <p:nvPr/>
        </p:nvPicPr>
        <p:blipFill>
          <a:blip r:embed="rId1"/>
          <a:stretch/>
        </p:blipFill>
        <p:spPr>
          <a:xfrm>
            <a:off x="1992240" y="1370160"/>
            <a:ext cx="532296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hapter 1: Introdu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Operating Systems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-System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-System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-Syste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-System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and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00160" y="198000"/>
            <a:ext cx="75866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mputer-System Archite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06400" y="1233000"/>
            <a:ext cx="8337600" cy="48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systems use a single general-purpose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systems have special-purpose processor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ultiprocessors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growing in use and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rallel 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ightly-coupl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009900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Asymmetric Multiprocess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each processor is assigned a specie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buClr>
                <a:srgbClr val="009900"/>
              </a:buClr>
              <a:buSzPct val="75000"/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ymmetric Multiprocess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each processor performs all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343080">
              <a:spcBef>
                <a:spcPts val="788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9960" y="15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Symmetric Multiprocessing Architecture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1" name="Picture 7" descr="1"/>
          <p:cNvPicPr/>
          <p:nvPr/>
        </p:nvPicPr>
        <p:blipFill>
          <a:blip r:embed="rId1"/>
          <a:stretch/>
        </p:blipFill>
        <p:spPr>
          <a:xfrm>
            <a:off x="1598760" y="1760400"/>
            <a:ext cx="631980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9920" y="166320"/>
            <a:ext cx="7616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ng System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920" y="834840"/>
            <a:ext cx="783288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ultiprogramm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atch sys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needed for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le user cannot keep CPU and I/O devices busy at all ti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rogramming organizes jobs (code and data) so CPU always has one to 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ubset of total jobs in system is kept in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job selected and run vi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job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it has to wait (for I/O for example), OS switches to another jo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imeshar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ultitask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logical extension in which CPU switches jobs so frequently that users can interact with each job while it is running, creating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teract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p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sponse tim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be &lt; 1 sec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user has at least one program executing in memory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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everal jobs ready to run at the same time </a:t>
            </a:r>
            <a:r>
              <a:rPr b="0" lang="en-U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PU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3356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Memory Layout for Multiprogrammed System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2887560" y="1230480"/>
            <a:ext cx="281484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94960" y="166320"/>
            <a:ext cx="7791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ng-System Operat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153800"/>
            <a:ext cx="68868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types of Interrup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interrupt by one of the de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interrupt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xcep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rap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error (e.g., division by z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for operating system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process problems include infinite loop, processes modifying each other or the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9000" y="198000"/>
            <a:ext cx="7791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ng-System Operation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06400" y="1233000"/>
            <a:ext cx="729792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ual-mo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 allows OS to protect itself and other system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ser mo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kernel mo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ode b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by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ability to distinguish when system is running user code or kernel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instructions designated 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ivileg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nly executable in kerne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 changes mode to kernel, return from call resets it to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ingly CPUs support multi-mod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2720" y="136080"/>
            <a:ext cx="8415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Transition from User to Kernel Mo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1880" y="1060200"/>
            <a:ext cx="7753320" cy="281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 to prevent infinite loop / process hogging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 is set to interrupt the computer after some tim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counter that is decremented by the physical c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set the counter (privileged instru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ounter zero generate an 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before scheduling process to regain control or terminate program that exceeds allotted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768240" y="3895560"/>
            <a:ext cx="76024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8640" y="198000"/>
            <a:ext cx="7597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Manage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0640" y="809640"/>
            <a:ext cx="7197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 is a program in execution. It is a unit of work within the system. Program is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ssive ent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ocess 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tive ent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needs resources to accomplish it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, memory, I/O,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atio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threaded process has on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gram counter</a:t>
            </a: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ing location of next instruction to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executes instructions sequentially, one at a time, until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threaded process has one program counter per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system has many processes, some user, some operating system running concurrently on one or more C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28240" y="151920"/>
            <a:ext cx="75582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cess Management Activiti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25360" y="1587240"/>
            <a:ext cx="795816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nd deleting both user and system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pending and resum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 mechanisms for process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 mechanisms for process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ing mechanisms for deadlock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885960" y="1238400"/>
            <a:ext cx="75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erating system is responsible for the following activities in connection with process managemen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0080" y="166320"/>
            <a:ext cx="7596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emory Manage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107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a program all (or part) of the instructions must b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 (or part) of the data that is needed by the program must be in mem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management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ing track of which parts of memory are currently being used and by 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ing which processes (or parts thereof) and data to move into and out of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ng and deallocating memory space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64929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basic organization of comput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ovide a grand tour of the major components of operat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ive an overview of the many types of computing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ore several open-source operat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28240" y="182160"/>
            <a:ext cx="75582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torage Managemen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20880" y="1104480"/>
            <a:ext cx="743400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provides uniform, logical view of information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storage unit  -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edium is controlled by device (i.e., disk drive, tape d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ying properties include access speed, capacity, data-transfer rate, access method (sequential or rand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System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usually organized into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control on most systems to determine who can access w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activities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nd deleting files and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tives to manipulate files and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up files onto stable (non-volatile) storage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22400" y="182160"/>
            <a:ext cx="7664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tection and Securit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7648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t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any mechanism for controlling access of processes or users to resources defined by the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cur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defense of the system against internal and external at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ge range, including denial-of-service, worms, viruses, identity theft, theft of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generally first distinguish among users, to determine who can do w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dentities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ser 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curity IDs) include name and associated number, one per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D then associated with all files, processes of that user to determine ac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identifier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group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llows set of users to be defined and controls managed, then also associated with each process,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End of Chapter 1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63360" y="198000"/>
            <a:ext cx="7723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hat is an Operating System?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25560" y="1268280"/>
            <a:ext cx="7121520" cy="41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gram that acts as an intermediary between a user of a computer and the computer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go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user programs and make solving user problems ea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e computer system convenient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computer hardware in an efficient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1120" y="182160"/>
            <a:ext cx="7645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mputer System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90280" y="120456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system can be divided into four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– provides basic computing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, memory, I/O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and coordinates use of hardware among various applications and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grams – define the ways in which the system resources are used to solve the computing problems of the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 processors, compilers, web browsers, database systems, video g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, machines, other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44560" y="12024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Four Components of a Computer System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952640" y="1533600"/>
            <a:ext cx="544824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hat Operating Systems Do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06400" y="1233360"/>
            <a:ext cx="7245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s on the point of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want convenience,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as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of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 good 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re about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sourc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hared computer such 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ainfr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inicompu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keep all users hap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of dedicate systems such 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workst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dedicated resources but frequently use shared resources from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held computers are resource poor,  optimized for usability and battery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computers have little or no user interface, such as embedded computers in devices and automob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6480" y="166320"/>
            <a:ext cx="7510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ng System Defini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028880"/>
            <a:ext cx="6639120" cy="42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is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source allo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s al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s between conflicting requests for efficient and fair resourc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is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ntro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execution of programs to prevent errors and improper use of the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33200" y="198000"/>
            <a:ext cx="80247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ng System Definition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3520" y="1247400"/>
            <a:ext cx="680868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universally accepted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a vendor ships when you order an operating syste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good approx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varies wild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ne program running at all times on the comput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kern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else is ei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ystem program (ships with the operating system) 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pplication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3:43:38Z</dcterms:created>
  <dc:creator>Lucent End User</dc:creator>
  <dc:description/>
  <dc:language>en-US</dc:language>
  <cp:lastModifiedBy>USER</cp:lastModifiedBy>
  <cp:lastPrinted>2001-06-14T13:58:17Z</cp:lastPrinted>
  <dcterms:modified xsi:type="dcterms:W3CDTF">2017-09-26T07:26:09Z</dcterms:modified>
  <cp:revision>202</cp:revision>
  <dc:subject/>
  <dc:title>2.01</dc:title>
</cp:coreProperties>
</file>