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4706-96D3-44D5-B416-4C5BDF232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CC65-4D1E-4C47-92C3-F6146158D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D35E-A69C-437E-A845-9EA4C5F1F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E1C2-8242-4623-BA44-21DFF8539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F56C-741E-4C96-BC9A-A47DCD558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5E24-4631-4642-AE8D-60A7B25F3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51BD-16BB-44F2-8848-BE1751DE3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AB01-00B7-4E09-935F-033A551A7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F004-A727-4980-BA67-1CC5F16B9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76CF-9627-4175-A10F-522AABBA6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40FC-B9E1-49BA-8E85-9AB814B5A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09E6-4C7D-4E5D-9EE9-4D758DB60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D836-5C9B-4671-B216-160526231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1673-08DB-4611-B3EC-3EDE67FBB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8C9A-3C6A-408C-8740-810901BA0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D9B6-CE27-4EDF-8739-63E654B4D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9AF9-7D48-4515-9C16-7472A5ACF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3539-DDC5-4EDE-9631-1946313E8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A939-0B8F-4120-AD97-146AE1928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960E-3E3D-4CC5-BEB8-076C7121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3527-05D7-4AEA-A46D-DCB2B4E68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DC93-488A-4D1B-83EE-2F755377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E811-9091-4674-B599-6F675403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8D27-7459-450C-9F52-A803D999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16A0-BE9D-42D2-A635-4264F721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6CFD-1A16-4D6B-B48E-3E7D27E3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F3FD-372B-44F7-81E7-4F99D949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E02E-A14C-4138-89F4-1B5EBA3D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D4EB-C8B6-4D2E-A852-8EBFBB97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66A9-B5F7-4579-8988-2B34361C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1F21-CE8A-478B-A55A-4D5F4EA71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E996-358D-456D-B8D4-7DA84BB97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ntroduction to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By: N.AlJaff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By: N.AlSheh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 rot="18888000">
            <a:off x="-575640" y="441000"/>
            <a:ext cx="2176200" cy="376200"/>
          </a:xfrm>
          <a:prstGeom prst="rect">
            <a:avLst/>
          </a:prstGeom>
          <a:solidFill>
            <a:srgbClr val="99cc00">
              <a:alpha val="75000"/>
            </a:srgbClr>
          </a:solidFill>
          <a:ln w="9360">
            <a:solidFill>
              <a:srgbClr val="bbe0e3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Light"/>
              </a:rPr>
              <a:t>Chapter 1</a:t>
            </a:r>
            <a:endParaRPr b="0" lang="en-US" sz="1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681A-5493-4E8E-B47B-2A32057DD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63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Mainfram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Is a large, expensive, powerful computer that can handle hundreds or thousands of connected user simultaneously through a technique called </a:t>
            </a:r>
            <a:r>
              <a:rPr b="1" lang="en-US" sz="2400" spc="-1" strike="noStrike">
                <a:solidFill>
                  <a:srgbClr val="000000"/>
                </a:solidFill>
                <a:latin typeface="Tw Cen MT Condensed"/>
              </a:rPr>
              <a:t>Timesharing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It store a huge amounts of data, instructions an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ex. A </a:t>
            </a:r>
            <a:r>
              <a:rPr b="1" lang="en-US" sz="2400" spc="-1" strike="noStrike">
                <a:solidFill>
                  <a:srgbClr val="000000"/>
                </a:solidFill>
                <a:latin typeface="Tw Cen MT Condensed"/>
              </a:rPr>
              <a:t>timesharing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system allows travel agents all over the country to make reservations using the same computer and the same flight information at the same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Ex: University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UNP01_12"/>
          <p:cNvPicPr/>
          <p:nvPr/>
        </p:nvPicPr>
        <p:blipFill>
          <a:blip r:embed="rId1"/>
          <a:stretch/>
        </p:blipFill>
        <p:spPr>
          <a:xfrm>
            <a:off x="3708360" y="1197000"/>
            <a:ext cx="4613400" cy="200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F851-9D27-4CCB-A173-C68E8FBDE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Mainfram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Most major corporations use mainframes for business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Used by large organizations, such as banks and airlines, for big computing jo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Users communicate with a mainframe using a computer term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network-server-laptops.jpg"/>
          <p:cNvPicPr/>
          <p:nvPr/>
        </p:nvPicPr>
        <p:blipFill>
          <a:blip r:embed="rId1"/>
          <a:stretch/>
        </p:blipFill>
        <p:spPr>
          <a:xfrm>
            <a:off x="6300720" y="981000"/>
            <a:ext cx="2714760" cy="1986120"/>
          </a:xfrm>
          <a:prstGeom prst="rect">
            <a:avLst/>
          </a:prstGeom>
          <a:ln w="0">
            <a:noFill/>
          </a:ln>
        </p:spPr>
      </p:pic>
      <p:sp>
        <p:nvSpPr>
          <p:cNvPr id="9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C512-16E9-47EA-BBA6-AE8D01139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6537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Serv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ontrols access to HW, SW and other resources on a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Provides a centralized storage area for program, data,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Support from 2 to several thousand connected computers at the sam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People use PC or terminals to access data, info., and programs on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 Condensed"/>
              </a:rPr>
              <a:t>Terminal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is a device with monitor, keyboard and mem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Personal Computers (PC)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It’s a computer that can perform all of its inpu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processing, output and storage activities by itse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There are 2 types of personal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Notebook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-- Fits on your hand or la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Desktop Computer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-- Fits entirely on or under de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صورة 10" descr="desktop-pc.jpg"/>
          <p:cNvPicPr/>
          <p:nvPr/>
        </p:nvPicPr>
        <p:blipFill>
          <a:blip r:embed="rId1"/>
          <a:stretch/>
        </p:blipFill>
        <p:spPr>
          <a:xfrm>
            <a:off x="6791400" y="4500720"/>
            <a:ext cx="1525680" cy="1449360"/>
          </a:xfrm>
          <a:prstGeom prst="rect">
            <a:avLst/>
          </a:prstGeom>
          <a:ln w="0">
            <a:noFill/>
          </a:ln>
        </p:spPr>
      </p:pic>
      <p:sp>
        <p:nvSpPr>
          <p:cNvPr id="10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2748-04BF-41B5-A7E4-3D84F99A2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0CAAJX8TMCA1HS7SDCAR1FXRYCAOD3RBICAD03ZPCCA0YU4BQCAHH6819CA3DPM2HCA2F5W9ACAOK62SHCAXA1LTNCAI7AG7PCAHLGH6MCA6X86KUCAYXJ44ICA1WEEX9CAUS87TICADU0EZWCAE3A6M5.jpg"/>
          <p:cNvPicPr/>
          <p:nvPr/>
        </p:nvPicPr>
        <p:blipFill>
          <a:blip r:embed="rId2"/>
          <a:stretch/>
        </p:blipFill>
        <p:spPr>
          <a:xfrm>
            <a:off x="6786720" y="3143160"/>
            <a:ext cx="1857240" cy="11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91E7-3FA9-4144-BAD4-BCCFBA093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646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Mobile Computers And Mobile Devic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Tw Cen MT Condensed"/>
              </a:rPr>
              <a:t>Mobile computers is a personal computer that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you can carry from place to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w Cen MT Condensed"/>
              </a:rPr>
              <a:t>Mobile Devices</a:t>
            </a:r>
            <a:r>
              <a:rPr b="0" lang="en-US" sz="2400" spc="-1" strike="noStrike">
                <a:solidFill>
                  <a:srgbClr val="99cc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is a computing device, small enough to hold in your h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Usually store programs &amp; data permanently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w Cen MT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memory inside the system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w Cen MT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on small storage media such as memory c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you can connect it to PC to exchang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Some Mobiles devices are </a:t>
            </a:r>
            <a:r>
              <a:rPr b="0" lang="en-US" sz="2400" spc="-1" strike="noStrike">
                <a:solidFill>
                  <a:srgbClr val="99cc00"/>
                </a:solidFill>
                <a:latin typeface="Tw Cen MT Condensed"/>
              </a:rPr>
              <a:t>Internet-enabled,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its allow to connect to NET</a:t>
            </a:r>
            <a:r>
              <a:rPr b="0" lang="en-US" sz="2400" spc="-1" strike="noStrike">
                <a:solidFill>
                  <a:srgbClr val="99cc00"/>
                </a:solidFill>
                <a:latin typeface="Tw Cen MT Condensed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عنصر نائب للتذييل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4" name="عنصر نائب لرقم الشريحة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2BB7-441D-4264-8E87-E7C7CD7C2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5" name="مستطيل 4"/>
          <p:cNvSpPr/>
          <p:nvPr/>
        </p:nvSpPr>
        <p:spPr>
          <a:xfrm>
            <a:off x="3530520" y="450864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w Cen MT Condensed"/>
              </a:rPr>
              <a:t>Mobile computers </a:t>
            </a:r>
            <a:endParaRPr b="0" lang="en-US" sz="18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1187280" y="1246320"/>
            <a:ext cx="3996000" cy="2997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3635280" y="2011320"/>
            <a:ext cx="33498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5543-083E-4AC3-80AE-32B154ADE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6537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Game Conso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Designed for single-player or multiplayer video g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Input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device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handheld contro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Output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TV scr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Storage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Hard Disks, CDs, DVDs and memory c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2 popular model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w Cen MT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Microsoft's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 Xbox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w Cen MT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ony’s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Play station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5904000" y="4214880"/>
            <a:ext cx="3097080" cy="2188800"/>
            <a:chOff x="5904000" y="4214880"/>
            <a:chExt cx="3097080" cy="2188800"/>
          </a:xfrm>
        </p:grpSpPr>
        <p:pic>
          <p:nvPicPr>
            <p:cNvPr id="123" name="Picture 6" descr="xbox"/>
            <p:cNvPicPr/>
            <p:nvPr/>
          </p:nvPicPr>
          <p:blipFill>
            <a:blip r:embed="rId1"/>
            <a:stretch/>
          </p:blipFill>
          <p:spPr>
            <a:xfrm>
              <a:off x="5904000" y="4214880"/>
              <a:ext cx="1584720" cy="21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AutoShape 7"/>
            <p:cNvSpPr/>
            <p:nvPr/>
          </p:nvSpPr>
          <p:spPr>
            <a:xfrm>
              <a:off x="7487280" y="5078880"/>
              <a:ext cx="1513800" cy="576720"/>
            </a:xfrm>
            <a:prstGeom prst="roundRect">
              <a:avLst>
                <a:gd name="adj" fmla="val 50000"/>
              </a:avLst>
            </a:prstGeom>
            <a:solidFill>
              <a:srgbClr val="ffff00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 Condensed"/>
                </a:rPr>
                <a:t>Handheld controller</a:t>
              </a:r>
              <a:endParaRPr b="0" lang="en-US" sz="1800" spc="-1" strike="noStrike">
                <a:solidFill>
                  <a:srgbClr val="000000"/>
                </a:solidFill>
                <a:latin typeface="Tw Cen MT Condensed"/>
              </a:endParaRPr>
            </a:p>
          </p:txBody>
        </p:sp>
        <p:sp>
          <p:nvSpPr>
            <p:cNvPr id="125" name="AutoShape 8"/>
            <p:cNvSpPr/>
            <p:nvPr/>
          </p:nvSpPr>
          <p:spPr>
            <a:xfrm>
              <a:off x="7487280" y="4359240"/>
              <a:ext cx="1513800" cy="576720"/>
            </a:xfrm>
            <a:prstGeom prst="roundRect">
              <a:avLst>
                <a:gd name="adj" fmla="val 50000"/>
              </a:avLst>
            </a:prstGeom>
            <a:solidFill>
              <a:srgbClr val="ffff00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w Cen MT Condensed"/>
                </a:rPr>
                <a:t>Game console</a:t>
              </a:r>
              <a:endParaRPr b="0" lang="en-US" sz="1800" spc="-1" strike="noStrike">
                <a:solidFill>
                  <a:srgbClr val="000000"/>
                </a:solidFill>
                <a:latin typeface="Tw Cen MT Condensed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 flipH="1">
              <a:off x="7004880" y="4646520"/>
              <a:ext cx="41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w Cen MT Condensed"/>
              </a:endParaRPr>
            </a:p>
          </p:txBody>
        </p:sp>
        <p:sp>
          <p:nvSpPr>
            <p:cNvPr id="127" name="Line 10"/>
            <p:cNvSpPr/>
            <p:nvPr/>
          </p:nvSpPr>
          <p:spPr>
            <a:xfrm flipH="1">
              <a:off x="7211160" y="5583960"/>
              <a:ext cx="2757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w Cen MT Condensed"/>
              </a:endParaRPr>
            </a:p>
          </p:txBody>
        </p:sp>
      </p:grp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9535-24E2-4E1C-B509-BF5832276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Game Conso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Handheld game console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. Fit in one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The controls, screen and speaker built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Communicate wirelessly with other similar cons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Allow users to listen to music, watch movies and connect to 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2 popular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Nintendo’s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Game Boy Mic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ony’s </a:t>
            </a:r>
            <a:r>
              <a:rPr b="0" lang="en-US" sz="2800" spc="-1" strike="noStrike">
                <a:solidFill>
                  <a:srgbClr val="99cc00"/>
                </a:solidFill>
                <a:latin typeface="Tw Cen MT Condensed"/>
              </a:rPr>
              <a:t>P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ps3psp_2007_psp_overview"/>
          <p:cNvPicPr/>
          <p:nvPr/>
        </p:nvPicPr>
        <p:blipFill>
          <a:blip r:embed="rId1"/>
          <a:stretch/>
        </p:blipFill>
        <p:spPr>
          <a:xfrm>
            <a:off x="6588000" y="4365720"/>
            <a:ext cx="2287800" cy="106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A0F8-F60F-4C97-B030-489358E74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Embedded Comput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pecial – purpose computer that functions as a component in a larger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Usually are small &amp; have limited hard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Functions depending on the requirements of the product in which they re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ome of them designed to improve your safety, security and perform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9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9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9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9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عنصر نائب للتذييل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138" name="عنصر نائب لرقم الشريحة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E51D-75F2-42EE-BE90-02E229CDF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pic>
        <p:nvPicPr>
          <p:cNvPr id="139" name="Picture 5" descr="tesla_touchscreen.jpg"/>
          <p:cNvPicPr/>
          <p:nvPr/>
        </p:nvPicPr>
        <p:blipFill>
          <a:blip r:embed="rId1"/>
          <a:stretch/>
        </p:blipFill>
        <p:spPr>
          <a:xfrm>
            <a:off x="2556000" y="2349360"/>
            <a:ext cx="4356000" cy="2903760"/>
          </a:xfrm>
          <a:prstGeom prst="rect">
            <a:avLst/>
          </a:prstGeom>
          <a:ln w="0">
            <a:noFill/>
          </a:ln>
        </p:spPr>
      </p:pic>
      <p:sp>
        <p:nvSpPr>
          <p:cNvPr id="140" name="مستطيل 5"/>
          <p:cNvSpPr/>
          <p:nvPr/>
        </p:nvSpPr>
        <p:spPr>
          <a:xfrm>
            <a:off x="1504080" y="1357200"/>
            <a:ext cx="5807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Embedded Computers:</a:t>
            </a:r>
            <a:endParaRPr b="0" lang="en-US" sz="36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AC57-F0BC-4AD0-9F11-189F179DF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ntroduction to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What Is A Comput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Computer is an </a:t>
            </a:r>
            <a:r>
              <a:rPr b="0" lang="en-US" sz="3200" spc="-1" strike="noStrike">
                <a:solidFill>
                  <a:srgbClr val="99cc00"/>
                </a:solidFill>
                <a:latin typeface="Tw Cen MT Condensed"/>
              </a:rPr>
              <a:t>electronic device</a:t>
            </a: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p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4000" y="529128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w Cen MT Condensed"/>
              </a:rPr>
              <a:t>USER</a:t>
            </a: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 is anyone who communicates with a computer or utilizes the information.</a:t>
            </a:r>
            <a:endParaRPr b="0" lang="en-US" sz="32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550080" y="4500720"/>
            <a:ext cx="8226000" cy="520560"/>
          </a:xfrm>
          <a:prstGeom prst="rect">
            <a:avLst/>
          </a:prstGeom>
          <a:gradFill rotWithShape="0">
            <a:gsLst>
              <a:gs pos="0">
                <a:srgbClr val="f0ffff"/>
              </a:gs>
              <a:gs pos="100000">
                <a:srgbClr val="cfffff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ll according to a series of stor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struc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3964-BBB7-4165-B0E7-63A220076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ntroduction to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38480" cy="45259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 Extra Bold"/>
              </a:rPr>
              <a:t>Advant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Sp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Reli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Consist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Stor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Commun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2920" y="1356840"/>
            <a:ext cx="4038840" cy="471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 Extra Bold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Violation of Priva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Impact on Labor Fo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Health Ri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3CB5-59A5-4AC1-B76C-6BBFF95A2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747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 Extra Bold"/>
              </a:rPr>
              <a:t>Information Processing Cycle:</a:t>
            </a:r>
            <a:endParaRPr b="0" lang="en-US" sz="3200" spc="-1" strike="noStrike">
              <a:solidFill>
                <a:srgbClr val="000000"/>
              </a:solidFill>
              <a:latin typeface="Tw Cen MT Condense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w Cen MT Condensed"/>
              </a:rPr>
              <a:t>Data </a:t>
            </a:r>
            <a:r>
              <a:rPr b="1" lang="en-US" sz="2800" spc="-1" strike="noStrike">
                <a:solidFill>
                  <a:srgbClr val="000000"/>
                </a:solidFill>
                <a:latin typeface="Tw Cen MT Condensed"/>
              </a:rPr>
              <a:t>is a collection of unprocessed item, which can include text, numbers, images, audio and video.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w Cen MT Condensed"/>
              </a:rPr>
              <a:t>Information</a:t>
            </a:r>
            <a:r>
              <a:rPr b="1" lang="en-US" sz="2800" spc="-1" strike="noStrike">
                <a:solidFill>
                  <a:srgbClr val="000000"/>
                </a:solidFill>
                <a:latin typeface="Tw Cen MT Condensed"/>
              </a:rPr>
              <a:t> conveys meaning and useful to people.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w Cen MT Condensed"/>
              </a:rPr>
              <a:t>Processing</a:t>
            </a:r>
            <a:r>
              <a:rPr b="1" lang="en-US" sz="2800" spc="-1" strike="noStrike">
                <a:solidFill>
                  <a:srgbClr val="000000"/>
                </a:solidFill>
                <a:latin typeface="Tw Cen MT Condensed"/>
              </a:rPr>
              <a:t> Procedures that convert input data to output information.</a:t>
            </a:r>
            <a:endParaRPr b="0" lang="en-US" sz="28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ntroduction to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8EA2-17B9-41F2-A490-70B573C02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ntroduction to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 Extra Bold"/>
              </a:rPr>
              <a:t>Information Processing Cyc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 Condensed"/>
              </a:rPr>
              <a:t>Computers read incoming data called </a:t>
            </a:r>
            <a:r>
              <a:rPr b="1" lang="en-US" sz="3200" spc="-1" strike="noStrike">
                <a:solidFill>
                  <a:srgbClr val="99cc00"/>
                </a:solidFill>
                <a:latin typeface="Tw Cen MT Condensed"/>
              </a:rPr>
              <a:t>input , process</a:t>
            </a:r>
            <a:r>
              <a:rPr b="1" lang="en-US" sz="3200" spc="-1" strike="noStrike">
                <a:solidFill>
                  <a:srgbClr val="000000"/>
                </a:solidFill>
                <a:latin typeface="Tw Cen MT Condensed"/>
              </a:rPr>
              <a:t> the data, and display outgoing information called </a:t>
            </a:r>
            <a:r>
              <a:rPr b="1" lang="en-US" sz="3200" spc="-1" strike="noStrike">
                <a:solidFill>
                  <a:srgbClr val="99cc00"/>
                </a:solidFill>
                <a:latin typeface="Tw Cen MT Condensed"/>
              </a:rPr>
              <a:t>outp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1360-9372-4C2B-BA86-6F5667A75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components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143000"/>
            <a:ext cx="874872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Tw Cen MT Condensed"/>
              </a:rPr>
              <a:t>1-Hardware</a:t>
            </a:r>
            <a:r>
              <a:rPr b="1" lang="en-US" sz="3200" spc="-1" strike="noStrike">
                <a:solidFill>
                  <a:srgbClr val="92d050"/>
                </a:solidFill>
                <a:latin typeface="Tw Cen MT Condensed"/>
              </a:rPr>
              <a:t>- H/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A group of machines in a computer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Tw Cen MT Condensed"/>
              </a:rPr>
              <a:t>2-Software (programs) </a:t>
            </a:r>
            <a:r>
              <a:rPr b="1" lang="en-US" sz="3200" spc="-1" strike="noStrike">
                <a:solidFill>
                  <a:srgbClr val="92d050"/>
                </a:solidFill>
                <a:latin typeface="Tw Cen MT Condensed"/>
              </a:rPr>
              <a:t>– S/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The instructions that tell the computer what to do and how to do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8898-D083-487C-B202-181994D4F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Tw Cen MT Condensed"/>
              </a:rPr>
              <a:t>2-Software</a:t>
            </a:r>
            <a:r>
              <a:rPr b="1" lang="en-US" sz="3600" spc="-1" strike="noStrike">
                <a:solidFill>
                  <a:srgbClr val="92d050"/>
                </a:solidFill>
                <a:latin typeface="Tw Cen MT Condensed"/>
              </a:rPr>
              <a:t>- S/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Tw Cen MT Condensed"/>
              </a:rPr>
              <a:t>The Components of Softw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There are  two categories of softwa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Tw Cen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w Cen MT Condensed"/>
              </a:rPr>
              <a:t>System Software</a:t>
            </a:r>
            <a:r>
              <a:rPr b="0" lang="en-US" sz="3200" spc="-1" strike="noStrike">
                <a:solidFill>
                  <a:srgbClr val="000000"/>
                </a:solidFill>
                <a:latin typeface="Tw Cen MT Condensed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Consists of programs that control or maintain the operations of  the computer and its devices. It’s serves as interface between the user and the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Tw Cen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w Cen MT Condensed"/>
              </a:rPr>
              <a:t>Application software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: consists of programs designed to assist users with personal tas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52D4-2952-4DB8-AB1E-F7838CC98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Tw Cen MT Condensed Extra Bold"/>
              </a:rPr>
              <a:t>Categories Of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uper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Mainfr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Serv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Personal Compu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Mobile Computer  And Mobile De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Game Cons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 Condensed"/>
              </a:rPr>
              <a:t>Embedded 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©2008 N.AlJaffan®KSU</a:t>
            </a:r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0C03-314D-461A-91A8-DE8F32EB9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 Gothic Bold"/>
              </a:rPr>
              <a:t>Categories Of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w Cen MT Condensed"/>
              </a:rPr>
              <a:t>Supercomput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Is  the fastest, most powerful computers and the most expens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apable of processing more than 100 trillion instructions in a single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They are used mostly in scientific and industrial research, by the government, and by very large organizations for controlling their net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Weather forecasting, oil exploration, telephone network desig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1-16"/>
          <p:cNvPicPr/>
          <p:nvPr/>
        </p:nvPicPr>
        <p:blipFill>
          <a:blip r:embed="rId1"/>
          <a:stretch/>
        </p:blipFill>
        <p:spPr>
          <a:xfrm>
            <a:off x="5522760" y="1071720"/>
            <a:ext cx="3049920" cy="194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12:25:02Z</dcterms:created>
  <dc:creator>N. AlJaffan</dc:creator>
  <dc:description/>
  <cp:keywords/>
  <dc:language>en-US</dc:language>
  <cp:lastModifiedBy>Abdulrahman Abdullah O Alomair</cp:lastModifiedBy>
  <dcterms:modified xsi:type="dcterms:W3CDTF">2017-10-30T15:58:56Z</dcterms:modified>
  <cp:revision>184</cp:revision>
  <dc:subject/>
  <dc:title>Introduction to Compu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ContentTypeId">
    <vt:lpwstr>0x010100CC6BB1F00AAFA34493B35981E2967FB1</vt:lpwstr>
  </property>
</Properties>
</file>