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92FC-3719-4FA2-A02E-FD173AFF0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1F6E-B369-4DEB-B76A-B8505E96E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6CF0-65CB-4C94-985A-B83099E9C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330C-2ABA-4FE3-A226-1F0FB5C46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94F7-0E02-44B8-B273-535B9F5F4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96A7-B466-496B-A252-01CC677D0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6761-7B93-454C-9B36-73B3E0CA3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E16F-343B-4AD8-A93D-521A88A06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AC32-6618-41E1-9DE1-C0C2E11F8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2E98-D4B5-48C9-B601-9A5FCE63E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4418-B5EE-4A01-A843-00264D6E5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A851-BD41-415F-A0D9-B46BAD2AE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F324-95B3-4DFF-8F33-FAA6A023C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7F04-D819-4B46-8C6C-413E73F59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17B8-4A78-46DE-A71D-41A00283E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3971-A5CA-431E-BF27-5D264C8A3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6B38-5F4D-4590-94CB-BAB48977C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78A5-EC4D-4481-99F0-14724E155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BBCE-D44C-400C-B542-AE4D60AA4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3567-9002-4FFE-AA8E-A0FBC657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12BE-2D47-499C-8EFA-6220FF8A5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F144-5C4D-4A20-81E0-7A7A15AA0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98DB-7367-4EEB-8097-C275A622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17CD-867D-4DD5-9739-5059CE08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E572-EC83-4758-86BD-73E664F1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6D66-47DC-407A-8FC0-0B7944C7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64D3-4DDC-4A17-8243-0CC686C8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334D-A858-4FF8-857F-903FBEB0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1B0C-098E-4AAC-AC08-8790773C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DE81-3F37-4EA2-B855-1A6444E8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4536-9624-4390-B97C-9DCCF4736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9FDA-AB99-482B-95D5-814F05D53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ntroduction to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By: N.AlJaff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By: N.AlSheh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 rot="18888000">
            <a:off x="-575640" y="441000"/>
            <a:ext cx="2176200" cy="376200"/>
          </a:xfrm>
          <a:prstGeom prst="rect">
            <a:avLst/>
          </a:prstGeom>
          <a:solidFill>
            <a:srgbClr val="99cc00">
              <a:alpha val="75000"/>
            </a:srgbClr>
          </a:solidFill>
          <a:ln w="9360">
            <a:solidFill>
              <a:srgbClr val="bbe0e3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Light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E103-50BE-4562-9604-DEBA22E28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63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Mainfram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Is a large, expensive, powerful computer that can handle hundreds or thousands of connected user simultaneously through a technique called </a:t>
            </a:r>
            <a:r>
              <a:rPr b="1" lang="en-US" sz="2400" spc="-1" strike="noStrike">
                <a:solidFill>
                  <a:srgbClr val="000000"/>
                </a:solidFill>
                <a:latin typeface="Tw Cen MT Condensed"/>
              </a:rPr>
              <a:t>Timesharing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It store a huge amounts of data, instructions an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ex. A </a:t>
            </a:r>
            <a:r>
              <a:rPr b="1" lang="en-US" sz="2400" spc="-1" strike="noStrike">
                <a:solidFill>
                  <a:srgbClr val="000000"/>
                </a:solidFill>
                <a:latin typeface="Tw Cen MT Condensed"/>
              </a:rPr>
              <a:t>timesharing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system allows travel agents all over the country to make reservations using the same computer and the same flight information at the same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Ex: University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UNP01_12"/>
          <p:cNvPicPr/>
          <p:nvPr/>
        </p:nvPicPr>
        <p:blipFill>
          <a:blip r:embed="rId1"/>
          <a:stretch/>
        </p:blipFill>
        <p:spPr>
          <a:xfrm>
            <a:off x="3708360" y="1197000"/>
            <a:ext cx="4613400" cy="200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773B-311A-4994-A76D-C22DFFC5A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Mainfram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Most major corporations use mainframes for business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Used by large organizations, such as banks and airlines, for big computing jo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Users communicate with a mainframe using a computer term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network-server-laptops.jpg"/>
          <p:cNvPicPr/>
          <p:nvPr/>
        </p:nvPicPr>
        <p:blipFill>
          <a:blip r:embed="rId1"/>
          <a:stretch/>
        </p:blipFill>
        <p:spPr>
          <a:xfrm>
            <a:off x="6300720" y="981000"/>
            <a:ext cx="2714760" cy="1986120"/>
          </a:xfrm>
          <a:prstGeom prst="rect">
            <a:avLst/>
          </a:prstGeom>
          <a:ln w="0">
            <a:noFill/>
          </a:ln>
        </p:spPr>
      </p:pic>
      <p:sp>
        <p:nvSpPr>
          <p:cNvPr id="9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4597-D12F-4E15-B3A6-B87ADC2D2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6537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Serv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ontrols access to HW, SW and other resources on a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Provides a centralized storage area for program, data,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Support from 2 to several thousand connected computers at the sam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People use PC or terminals to access data, info., and programs on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 Condensed"/>
              </a:rPr>
              <a:t>Terminal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is a device with monitor, keyboard and mem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Personal Computers (PC)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It’s a computer that can perform all of its inpu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processing, output and storage activities by itse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There are 2 types of personal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Notebook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-- Fits on your hand or la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Desktop Computer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-- Fits entirely on or under de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صورة 10" descr="desktop-pc.jpg"/>
          <p:cNvPicPr/>
          <p:nvPr/>
        </p:nvPicPr>
        <p:blipFill>
          <a:blip r:embed="rId1"/>
          <a:stretch/>
        </p:blipFill>
        <p:spPr>
          <a:xfrm>
            <a:off x="6791400" y="4500720"/>
            <a:ext cx="1525680" cy="1449360"/>
          </a:xfrm>
          <a:prstGeom prst="rect">
            <a:avLst/>
          </a:prstGeom>
          <a:ln w="0">
            <a:noFill/>
          </a:ln>
        </p:spPr>
      </p:pic>
      <p:sp>
        <p:nvSpPr>
          <p:cNvPr id="10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9966-B333-4C3D-AA3E-3FC3D786F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0CAAJX8TMCA1HS7SDCAR1FXRYCAOD3RBICAD03ZPCCA0YU4BQCAHH6819CA3DPM2HCA2F5W9ACAOK62SHCAXA1LTNCAI7AG7PCAHLGH6MCA6X86KUCAYXJ44ICA1WEEX9CAUS87TICADU0EZWCAE3A6M5.jpg"/>
          <p:cNvPicPr/>
          <p:nvPr/>
        </p:nvPicPr>
        <p:blipFill>
          <a:blip r:embed="rId2"/>
          <a:stretch/>
        </p:blipFill>
        <p:spPr>
          <a:xfrm>
            <a:off x="6786720" y="3143160"/>
            <a:ext cx="1857240" cy="11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6236-75BE-4273-B844-D73B38E3A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646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Mobile Computers And Mobile Devic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Tw Cen MT Condensed"/>
              </a:rPr>
              <a:t>Mobile computers is a personal computer that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you can carry from place to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w Cen MT Condensed"/>
              </a:rPr>
              <a:t>Mobile Devices</a:t>
            </a:r>
            <a:r>
              <a:rPr b="0" lang="en-US" sz="2400" spc="-1" strike="noStrike">
                <a:solidFill>
                  <a:srgbClr val="99cc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is a computing device, small enough to hold in your h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Usually store programs &amp; data permanently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w Cen MT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memory inside the system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w Cen MT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on small storage media such as memory c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you can connect it to PC to exchang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Some Mobiles devices are </a:t>
            </a:r>
            <a:r>
              <a:rPr b="0" lang="en-US" sz="2400" spc="-1" strike="noStrike">
                <a:solidFill>
                  <a:srgbClr val="99cc00"/>
                </a:solidFill>
                <a:latin typeface="Tw Cen MT Condensed"/>
              </a:rPr>
              <a:t>Internet-enabled,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its allow to connect to NET</a:t>
            </a:r>
            <a:r>
              <a:rPr b="0" lang="en-US" sz="2400" spc="-1" strike="noStrike">
                <a:solidFill>
                  <a:srgbClr val="99cc00"/>
                </a:solidFill>
                <a:latin typeface="Tw Cen MT Condensed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عنصر نائب للتذييل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4" name="عنصر نائب لرقم الشريحة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8623-6EDB-446A-82AD-4792EE1D7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5" name="مستطيل 4"/>
          <p:cNvSpPr/>
          <p:nvPr/>
        </p:nvSpPr>
        <p:spPr>
          <a:xfrm>
            <a:off x="3530520" y="450864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w Cen MT Condensed"/>
              </a:rPr>
              <a:t>Mobile computers </a:t>
            </a:r>
            <a:endParaRPr b="0" lang="en-US" sz="18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1187280" y="1246320"/>
            <a:ext cx="3996000" cy="2997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3635280" y="2011320"/>
            <a:ext cx="33498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AA97-CAAC-45B8-87A2-EB27324DC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6537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Game Conso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Designed for single-player or multiplayer video g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Input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device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handheld contro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Output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TV scr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Storage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Hard Disks, CDs, DVDs and memory c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2 popular model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w Cen MT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Microsoft's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 Xbox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w Cen MT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ony’s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Play station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5904000" y="4214880"/>
            <a:ext cx="3097080" cy="2188800"/>
            <a:chOff x="5904000" y="4214880"/>
            <a:chExt cx="3097080" cy="2188800"/>
          </a:xfrm>
        </p:grpSpPr>
        <p:pic>
          <p:nvPicPr>
            <p:cNvPr id="123" name="Picture 6" descr="xbox"/>
            <p:cNvPicPr/>
            <p:nvPr/>
          </p:nvPicPr>
          <p:blipFill>
            <a:blip r:embed="rId1"/>
            <a:stretch/>
          </p:blipFill>
          <p:spPr>
            <a:xfrm>
              <a:off x="5904000" y="4214880"/>
              <a:ext cx="1584720" cy="21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AutoShape 7"/>
            <p:cNvSpPr/>
            <p:nvPr/>
          </p:nvSpPr>
          <p:spPr>
            <a:xfrm>
              <a:off x="7487280" y="5078880"/>
              <a:ext cx="1513800" cy="576720"/>
            </a:xfrm>
            <a:prstGeom prst="roundRect">
              <a:avLst>
                <a:gd name="adj" fmla="val 50000"/>
              </a:avLst>
            </a:prstGeom>
            <a:solidFill>
              <a:srgbClr val="ffff00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 Condensed"/>
                </a:rPr>
                <a:t>Handheld controller</a:t>
              </a:r>
              <a:endParaRPr b="0" lang="en-US" sz="1800" spc="-1" strike="noStrike">
                <a:solidFill>
                  <a:srgbClr val="000000"/>
                </a:solidFill>
                <a:latin typeface="Tw Cen MT Condensed"/>
              </a:endParaRPr>
            </a:p>
          </p:txBody>
        </p:sp>
        <p:sp>
          <p:nvSpPr>
            <p:cNvPr id="125" name="AutoShape 8"/>
            <p:cNvSpPr/>
            <p:nvPr/>
          </p:nvSpPr>
          <p:spPr>
            <a:xfrm>
              <a:off x="7487280" y="4359240"/>
              <a:ext cx="1513800" cy="576720"/>
            </a:xfrm>
            <a:prstGeom prst="roundRect">
              <a:avLst>
                <a:gd name="adj" fmla="val 50000"/>
              </a:avLst>
            </a:prstGeom>
            <a:solidFill>
              <a:srgbClr val="ffff00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 Condensed"/>
                </a:rPr>
                <a:t>Game console</a:t>
              </a:r>
              <a:endParaRPr b="0" lang="en-US" sz="1800" spc="-1" strike="noStrike">
                <a:solidFill>
                  <a:srgbClr val="000000"/>
                </a:solidFill>
                <a:latin typeface="Tw Cen MT Condensed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 flipH="1">
              <a:off x="7004880" y="4646520"/>
              <a:ext cx="41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w Cen MT Condensed"/>
              </a:endParaRPr>
            </a:p>
          </p:txBody>
        </p:sp>
        <p:sp>
          <p:nvSpPr>
            <p:cNvPr id="127" name="Line 10"/>
            <p:cNvSpPr/>
            <p:nvPr/>
          </p:nvSpPr>
          <p:spPr>
            <a:xfrm flipH="1">
              <a:off x="7211160" y="5583960"/>
              <a:ext cx="2757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w Cen MT Condensed"/>
              </a:endParaRPr>
            </a:p>
          </p:txBody>
        </p:sp>
      </p:grp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6957-B9E1-4342-90E3-3C8C59802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Game Conso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Handheld game console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. Fit in one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The controls, screen and speaker built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Communicate wirelessly with other similar cons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Allow users to listen to music, watch movies and connect to 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2 popular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Nintendo’s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Game Boy Mic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ony’s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P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ps3psp_2007_psp_overview"/>
          <p:cNvPicPr/>
          <p:nvPr/>
        </p:nvPicPr>
        <p:blipFill>
          <a:blip r:embed="rId1"/>
          <a:stretch/>
        </p:blipFill>
        <p:spPr>
          <a:xfrm>
            <a:off x="6588000" y="4365720"/>
            <a:ext cx="2287800" cy="106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ABF3-CFAE-4A8E-BCFA-8145C6951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Embedded Comput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pecial – purpose computer that functions as a component in a larger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Usually are small &amp; have limited hard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Functions depending on the requirements of the product in which they re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ome of them designed to improve your safety, security and perform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9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9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9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9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عنصر نائب للتذييل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8" name="عنصر نائب لرقم الشريحة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833F-B8AB-4E10-B83F-A8A98A3BD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139" name="Picture 5" descr="tesla_touchscreen.jpg"/>
          <p:cNvPicPr/>
          <p:nvPr/>
        </p:nvPicPr>
        <p:blipFill>
          <a:blip r:embed="rId1"/>
          <a:stretch/>
        </p:blipFill>
        <p:spPr>
          <a:xfrm>
            <a:off x="2556000" y="2349360"/>
            <a:ext cx="4356000" cy="2903760"/>
          </a:xfrm>
          <a:prstGeom prst="rect">
            <a:avLst/>
          </a:prstGeom>
          <a:ln w="0">
            <a:noFill/>
          </a:ln>
        </p:spPr>
      </p:pic>
      <p:sp>
        <p:nvSpPr>
          <p:cNvPr id="140" name="مستطيل 5"/>
          <p:cNvSpPr/>
          <p:nvPr/>
        </p:nvSpPr>
        <p:spPr>
          <a:xfrm>
            <a:off x="1504080" y="1357200"/>
            <a:ext cx="5807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Embedded Computers:</a:t>
            </a: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1999-C106-436B-A0D6-2E1B02D82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ntroduction to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What Is A Comput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Computer is an </a:t>
            </a:r>
            <a:r>
              <a:rPr b="0" lang="en-US" sz="3200" spc="-1" strike="noStrike">
                <a:solidFill>
                  <a:srgbClr val="99cc00"/>
                </a:solidFill>
                <a:latin typeface="Tw Cen MT Condensed"/>
              </a:rPr>
              <a:t>electronic device</a:t>
            </a: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p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4000" y="529128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w Cen MT Condensed"/>
              </a:rPr>
              <a:t>USER</a:t>
            </a: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 is anyone who communicates with a computer or utilizes the information.</a:t>
            </a:r>
            <a:endParaRPr b="0" lang="en-US" sz="3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550080" y="4500720"/>
            <a:ext cx="8226000" cy="520560"/>
          </a:xfrm>
          <a:prstGeom prst="rect">
            <a:avLst/>
          </a:prstGeom>
          <a:gradFill rotWithShape="0">
            <a:gsLst>
              <a:gs pos="0">
                <a:srgbClr val="f0ffff"/>
              </a:gs>
              <a:gs pos="100000">
                <a:srgbClr val="cfffff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ll according to a series of stor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struc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5C80-FEF4-4218-998F-977502C8E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ntroduction to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38480" cy="45259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 Extra Bold"/>
              </a:rPr>
              <a:t>Advant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Sp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Reli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Consist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Stor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Commun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2920" y="1356840"/>
            <a:ext cx="4038840" cy="471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 Extra Bold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Violation of Priva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Impact on Labor Fo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Health Ri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302C-EBE3-469B-9ED4-FD3B1C7DB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747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Information Processing Cycle:</a:t>
            </a:r>
            <a:endParaRPr b="0" lang="en-US" sz="3200" spc="-1" strike="noStrike">
              <a:solidFill>
                <a:srgbClr val="000000"/>
              </a:solidFill>
              <a:latin typeface="Tw Cen MT Condense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w Cen MT Condensed"/>
              </a:rPr>
              <a:t>Data </a:t>
            </a:r>
            <a:r>
              <a:rPr b="1" lang="en-US" sz="2800" spc="-1" strike="noStrike">
                <a:solidFill>
                  <a:srgbClr val="000000"/>
                </a:solidFill>
                <a:latin typeface="Tw Cen MT Condensed"/>
              </a:rPr>
              <a:t>is a collection of unprocessed item, which can include text, numbers, images, audio and video.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w Cen MT Condensed"/>
              </a:rPr>
              <a:t>Information</a:t>
            </a:r>
            <a:r>
              <a:rPr b="1" lang="en-US" sz="2800" spc="-1" strike="noStrike">
                <a:solidFill>
                  <a:srgbClr val="000000"/>
                </a:solidFill>
                <a:latin typeface="Tw Cen MT Condensed"/>
              </a:rPr>
              <a:t> conveys meaning and useful to people.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w Cen MT Condensed"/>
              </a:rPr>
              <a:t>Processing</a:t>
            </a:r>
            <a:r>
              <a:rPr b="1" lang="en-US" sz="2800" spc="-1" strike="noStrike">
                <a:solidFill>
                  <a:srgbClr val="000000"/>
                </a:solidFill>
                <a:latin typeface="Tw Cen MT Condensed"/>
              </a:rPr>
              <a:t> Procedures that convert input data to output information.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ntroduction to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492B-9E8A-40C1-8629-058B36982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ntroduction to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 Extra Bold"/>
              </a:rPr>
              <a:t>Information Processing Cyc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 Condensed"/>
              </a:rPr>
              <a:t>Computers read incoming data called </a:t>
            </a:r>
            <a:r>
              <a:rPr b="1" lang="en-US" sz="3200" spc="-1" strike="noStrike">
                <a:solidFill>
                  <a:srgbClr val="99cc00"/>
                </a:solidFill>
                <a:latin typeface="Tw Cen MT Condensed"/>
              </a:rPr>
              <a:t>input , process</a:t>
            </a:r>
            <a:r>
              <a:rPr b="1" lang="en-US" sz="3200" spc="-1" strike="noStrike">
                <a:solidFill>
                  <a:srgbClr val="000000"/>
                </a:solidFill>
                <a:latin typeface="Tw Cen MT Condensed"/>
              </a:rPr>
              <a:t> the data, and display outgoing information called </a:t>
            </a:r>
            <a:r>
              <a:rPr b="1" lang="en-US" sz="3200" spc="-1" strike="noStrike">
                <a:solidFill>
                  <a:srgbClr val="99cc00"/>
                </a:solidFill>
                <a:latin typeface="Tw Cen MT Condensed"/>
              </a:rPr>
              <a:t>outp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E58E-5A85-4B9C-A6BF-6E8309462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components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143000"/>
            <a:ext cx="874872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Tw Cen MT Condensed"/>
              </a:rPr>
              <a:t>1-Hardware</a:t>
            </a:r>
            <a:r>
              <a:rPr b="1" lang="en-US" sz="3200" spc="-1" strike="noStrike">
                <a:solidFill>
                  <a:srgbClr val="92d050"/>
                </a:solidFill>
                <a:latin typeface="Tw Cen MT Condensed"/>
              </a:rPr>
              <a:t>- H/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A group of machines in a computer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Tw Cen MT Condensed"/>
              </a:rPr>
              <a:t>2-Software (programs) </a:t>
            </a:r>
            <a:r>
              <a:rPr b="1" lang="en-US" sz="3200" spc="-1" strike="noStrike">
                <a:solidFill>
                  <a:srgbClr val="92d050"/>
                </a:solidFill>
                <a:latin typeface="Tw Cen MT Condensed"/>
              </a:rPr>
              <a:t>– S/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The instructions that tell the computer what to do and how to do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51F9-6043-4A0D-A1B7-FE6B0CC34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Tw Cen MT Condensed"/>
              </a:rPr>
              <a:t>2-Software</a:t>
            </a:r>
            <a:r>
              <a:rPr b="1" lang="en-US" sz="3600" spc="-1" strike="noStrike">
                <a:solidFill>
                  <a:srgbClr val="92d050"/>
                </a:solidFill>
                <a:latin typeface="Tw Cen MT Condensed"/>
              </a:rPr>
              <a:t>- S/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Tw Cen MT Condensed"/>
              </a:rPr>
              <a:t>The Components of Softw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There are  two categories of softwa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Tw Cen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w Cen MT Condensed"/>
              </a:rPr>
              <a:t>System Software</a:t>
            </a: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Consists of programs that control or maintain the operations of  the computer and its devices. It’s serves as interface between the user and the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Tw Cen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w Cen MT Condensed"/>
              </a:rPr>
              <a:t>Application software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: consists of programs designed to assist users with personal tas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7082-5F49-4C39-AB5E-E78654D82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w Cen MT Condensed Extra Bold"/>
              </a:rPr>
              <a:t>Categories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uper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Mainfr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erv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Personal Compu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Mobile Computer  And Mobile De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Game Cons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Embedded 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CD4F-1C2B-4977-97E5-72B771789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Supercomput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Is  the fastest, most powerful computers and the most expens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apable of processing more than 100 trillion instructions in a single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They are used mostly in scientific and industrial research, by the government, and by very large organizations for controlling their net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Weather forecasting, oil exploration, telephone network desig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1-16"/>
          <p:cNvPicPr/>
          <p:nvPr/>
        </p:nvPicPr>
        <p:blipFill>
          <a:blip r:embed="rId1"/>
          <a:stretch/>
        </p:blipFill>
        <p:spPr>
          <a:xfrm>
            <a:off x="5522760" y="1071720"/>
            <a:ext cx="3049920" cy="194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12:25:02Z</dcterms:created>
  <dc:creator>N. AlJaffan</dc:creator>
  <dc:description/>
  <cp:keywords/>
  <dc:language>en-US</dc:language>
  <cp:lastModifiedBy>Abdulrahman Abdullah O Alomair</cp:lastModifiedBy>
  <dcterms:modified xsi:type="dcterms:W3CDTF">2017-10-30T15:58:56Z</dcterms:modified>
  <cp:revision>184</cp:revision>
  <dc:subject/>
  <dc:title>Introduction to Compu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ContentTypeId">
    <vt:lpwstr>0x010100CC6BB1F00AAFA34493B35981E2967FB1</vt:lpwstr>
  </property>
</Properties>
</file>