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29D5-3C88-498C-928C-888E5D088083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A7D1-272B-4B35-907F-EB7D7E7061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CC23-AFFC-4355-8F67-F262C556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573-3BC1-4851-80A6-9FBD7FD2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6FE-56A5-4C57-82E7-0FADA993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87A-52EC-4136-BBD7-CA098FF0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028-8CD2-4DDB-97FB-0D0CC8C0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ED6-500A-46A0-A52C-CF7168FE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DB7-CE36-4368-965E-4ED5A5B3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9F4-A000-4F69-B73C-862E0794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5B6F-54B5-4F36-BDED-8A03E9D3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E6F-DA57-4407-92F6-2F97D728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182-5212-4FBD-9D96-59BB41E5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004-95F6-4521-A571-BDA24242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E0BA-858D-47DA-8473-0D928915CDCF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D7BC-82B6-448A-96D8-1FBA4E0E22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52560" y="76320"/>
            <a:ext cx="131904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كيب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123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4F87-307E-4B81-89FA-4B0ED8C87B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49832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r organic molecules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acromolecul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Carbohyd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Lipi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Prote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Nucleic acid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2133360" y="1519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B409-C26B-4425-BB6F-C8A431109D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5960" y="557280"/>
            <a:ext cx="518148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6320" y="3886200"/>
            <a:ext cx="90676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,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238720" y="914400"/>
            <a:ext cx="3905280" cy="2552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1905120" y="1523880"/>
            <a:ext cx="5562360" cy="1567800"/>
            <a:chOff x="1905120" y="1523880"/>
            <a:chExt cx="5562360" cy="1567800"/>
          </a:xfrm>
        </p:grpSpPr>
        <p:sp>
          <p:nvSpPr>
            <p:cNvPr id="68" name="Line 5"/>
            <p:cNvSpPr/>
            <p:nvPr/>
          </p:nvSpPr>
          <p:spPr>
            <a:xfrm>
              <a:off x="3581280" y="152388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6"/>
            <p:cNvSpPr/>
            <p:nvPr/>
          </p:nvSpPr>
          <p:spPr>
            <a:xfrm>
              <a:off x="4800600" y="1523880"/>
              <a:ext cx="0" cy="89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7"/>
            <p:cNvSpPr/>
            <p:nvPr/>
          </p:nvSpPr>
          <p:spPr>
            <a:xfrm>
              <a:off x="1905120" y="24199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8"/>
            <p:cNvSpPr/>
            <p:nvPr/>
          </p:nvSpPr>
          <p:spPr>
            <a:xfrm>
              <a:off x="190512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9"/>
            <p:cNvSpPr/>
            <p:nvPr/>
          </p:nvSpPr>
          <p:spPr>
            <a:xfrm>
              <a:off x="480060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0"/>
            <p:cNvSpPr/>
            <p:nvPr/>
          </p:nvSpPr>
          <p:spPr>
            <a:xfrm>
              <a:off x="746748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22"/>
          <p:cNvGrpSpPr/>
          <p:nvPr/>
        </p:nvGrpSpPr>
        <p:grpSpPr>
          <a:xfrm>
            <a:off x="1219320" y="3625920"/>
            <a:ext cx="6858000" cy="1267200"/>
            <a:chOff x="1219320" y="3625920"/>
            <a:chExt cx="6858000" cy="1267200"/>
          </a:xfrm>
        </p:grpSpPr>
        <p:sp>
          <p:nvSpPr>
            <p:cNvPr id="79" name="Text Box 19"/>
            <p:cNvSpPr/>
            <p:nvPr/>
          </p:nvSpPr>
          <p:spPr>
            <a:xfrm>
              <a:off x="1219320" y="362592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0"/>
            <p:cNvSpPr/>
            <p:nvPr/>
          </p:nvSpPr>
          <p:spPr>
            <a:xfrm>
              <a:off x="4343400" y="3701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1"/>
            <p:cNvSpPr/>
            <p:nvPr/>
          </p:nvSpPr>
          <p:spPr>
            <a:xfrm>
              <a:off x="6858000" y="3625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form of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1339920"/>
            <a:ext cx="883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olecular formula is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eans,  carbon, hydrogen and oxygen are found in the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ثنائ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and these are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9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5064-E179-48CD-93BB-541B25C1BB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These are consist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se are of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4CAD-A073-4A66-99F6-220E586EB1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Source is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ش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8600" y="2681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0" lang="ar-EG" sz="1600" spc="-1" strike="noStrike" u="sng">
                <a:solidFill>
                  <a:srgbClr val="080808"/>
                </a:solidFill>
                <a:uFillTx/>
                <a:latin typeface="Arial"/>
              </a:rPr>
              <a:t>بإضافة الماء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by special enzymes in human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زين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10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 is consisted 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57200" y="5572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us, it gives glucose when hydro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المستخدم</cp:lastModifiedBy>
  <dcterms:modified xsi:type="dcterms:W3CDTF">2017-10-09T11:06:30Z</dcterms:modified>
  <cp:revision>614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615C855-5DC6-4021-AEE9-549D7F3015EF</vt:lpwstr>
  </property>
  <property fmtid="{D5CDD505-2E9C-101B-9397-08002B2CF9AE}" pid="3" name="ArticulatePath">
    <vt:lpwstr>Lecture 1</vt:lpwstr>
  </property>
</Properties>
</file>