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A3F2-67CC-43D5-8486-82285E3EAD2D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7C4B-E58B-478F-80C4-D951D75C3B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C2D9-292C-4760-90FE-11909577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8E6-6689-4B7B-BC3F-D05A0C34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B7D-C6C3-4B04-BCFF-9D048562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A7A-70F5-4665-9F70-4E0A6C58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A28-8064-4B58-A46A-D8B0A7CA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88D-C951-42C3-824C-C0127D07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77D-EB82-415D-93AE-3A88A409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F1BB-0196-4343-89DB-8BEF360A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5B3-3F81-48FE-9A72-36340912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854-F3FB-4B55-8432-84BC09D0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F1C-EB73-4D2E-AE75-74EDAE62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53B7-26C4-443B-AA3C-2DF1AFC7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188A-FB57-4CA7-AECC-1CEE4AD8EFDC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3ED2-A1B3-4FA8-B8D7-3F9565063C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12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396D-7667-4A8E-B398-7583B78C6E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85B4-04D1-4C73-9E0C-E9A43E9F7B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68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79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9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32EF-EB49-4EE1-BDF5-781B76E20F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4BC3-CA87-4F35-B43B-BC1B03FEC6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10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المستخدم</cp:lastModifiedBy>
  <dcterms:modified xsi:type="dcterms:W3CDTF">2017-10-09T11:06:30Z</dcterms:modified>
  <cp:revision>614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