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26E-0CFE-4030-AD3B-BA5B02F21B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ACD4-D2CD-44AC-BA20-60AFE33AC40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053C-5554-4932-9171-52444E26FE7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904-AD9A-4DBC-8D1D-3CA63BAE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695-0848-4123-8C8D-BFF55375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27F-0057-41FE-A075-C765D8B5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711-645B-4309-ADD5-31E17AA4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C20B-AE18-49E2-944B-D25256C5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413E-51F4-423F-865C-5646BB17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4913-62B1-4E67-BFDB-7C11B175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64AC-17EF-4A8C-AF7D-1C222576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321D-DE79-4AFA-A62C-5F045D54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CB10-34FF-4435-A5F5-37ADC99B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B02A-802B-471D-BE6D-C9537E2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A84-FC28-4E9D-8ABB-FBE58057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B371-57D8-4A16-BC03-5087D3CA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46FD-7F64-48ED-A404-B40DE985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B91A-3CF0-4DF7-ACB3-99E71ED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9E09-0F38-473C-80DB-0A11D937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FBDE-A86D-4353-B847-FC00348F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5E3A0-A0A0-49EA-A00E-A9581B2B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B67F0-A6E3-4B1E-BB84-216DA659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2CD7-94C1-42AE-9A90-B4A8AFF9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701D2-686A-49FD-A156-9EB5F2D1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E5B5-C78A-41E7-93E7-6A8B080D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E28-193F-41B5-BF8A-F201F3FC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6556F-4D30-4F51-BE30-6228097E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672F-85C2-4CA9-BAC7-6DD76093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F98D-CE7E-4C4C-8200-2647CC5D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A5B7-A0C8-42CB-84E7-637BA58D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0427-28B5-4FF8-BCD4-8C14D8C9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4232-D142-4908-85FC-6362E022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D69D-E73D-4C0C-AB25-0F955983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AAC-86C7-4CE1-8B74-4E7EAF1C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E87-5404-4B10-8CEF-BE36B7A8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183-3FF8-4C68-A6B7-9E202895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7AF-86BF-4A06-A2E8-8DC63B6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383-95B0-457F-982B-05DC8A5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44C-05EF-4382-AA83-37A0B9F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6FC0-3956-4364-B97A-67FED1FE461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D7F4-1E8D-41BB-96AE-F5D7913B7F3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0095-D842-4313-8E5E-64CF7543965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281E-04C1-43B6-841A-FBDB23A3B0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14440" y="312372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038480" y="43434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5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3-1434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covery of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figure 5-1b"/>
          <p:cNvPicPr/>
          <p:nvPr/>
        </p:nvPicPr>
        <p:blipFill>
          <a:blip r:embed="rId1"/>
          <a:stretch/>
        </p:blipFill>
        <p:spPr>
          <a:xfrm>
            <a:off x="2971800" y="41911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211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18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ACE6-7EF6-4987-A4ED-CF64F590ED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8580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685800" y="49528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p1"/>
          <p:cNvPicPr/>
          <p:nvPr/>
        </p:nvPicPr>
        <p:blipFill>
          <a:blip r:embed="rId1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35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4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around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52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كلية العوم</cp:lastModifiedBy>
  <dcterms:modified xsi:type="dcterms:W3CDTF">2013-01-26T06:00:27Z</dcterms:modified>
  <cp:revision>477</cp:revision>
  <dc:subject/>
  <dc:title>Slide 1</dc:title>
</cp:coreProperties>
</file>