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A795-3ECF-478E-B12C-9113C0621E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7108-9468-413D-BC2F-D61D770CE70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33E6-09E5-470D-9CB1-A885FD7DC6A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60B-A6C7-44C2-9C57-155E836A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C33-6782-4D1D-9C42-66A065CA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D16-1ED6-4091-9755-942BB9A8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E24-8D0A-4AAB-89E0-DF8C2A86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1FF0-1942-4F38-9C63-033A05F1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081C-458C-4CCD-ABBC-DF7A5111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25DF-7DFE-410D-9936-F27BA272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3FA6-90D6-4A54-8D89-3361E2CB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DBBD-6347-4086-89BD-1487A61F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6D42-7EBE-44B2-AB13-1A2F41A9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5B89-D9A4-4E66-9E35-F5B9054C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754-B686-4F1A-9EFA-832BADB3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4AEB-2CE2-49A9-AEF9-713323F1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C91E-B5E1-4DD4-BDD3-DEFA81DE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DA96-D6B1-4C2D-9602-9A0A9FC3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EE02-3E36-4442-932C-E979450E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9CC1-F4CC-4E87-8980-E58ABFCC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8D07C-B66D-45B1-B208-9F7B8F23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91132-E53F-4262-BE53-D7918D23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4B68-018E-402B-8330-8653BBD6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82306-EB7C-48B7-8B0B-B152D46E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8BB0-E20A-4FA9-9C7B-65776684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EC3-C40A-43AE-BCB0-8D8843A3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A7A9-58FE-4A7A-86F6-7BF060BC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E63B0-44CA-47C2-8561-DFAC5468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FC00-DDE6-4405-92AF-E60C7268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0FB5-D05C-457B-899D-B47BAA52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B1FCC-28B2-4188-A550-CAA39698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6924-56D8-4851-BC4A-FE90F418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3C80-0576-4950-80F5-E91E4AE6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49A-2AF8-470E-91C7-BB69E70E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154-0A7F-469E-BB1F-4362CCF4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BB2-B9EE-4284-8544-8E482375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092-57D0-4190-92AC-A4335D10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CF5-BE9B-4287-973A-80D1ABD9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B26E-4CF7-4BAA-AFFA-3E141F83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F20C-B2A7-4397-B7D8-0DB50D2FFD1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BA1E-40BC-49A3-9E51-8A31597FCC2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7256-4789-4FCC-B7AA-EA0ACC9CF15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CD51-A9BA-48CB-9DC5-5E8D2D65D6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114440" y="312372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038480" y="43434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5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3-1434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covery of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figure 5-1b"/>
          <p:cNvPicPr/>
          <p:nvPr/>
        </p:nvPicPr>
        <p:blipFill>
          <a:blip r:embed="rId1"/>
          <a:stretch/>
        </p:blipFill>
        <p:spPr>
          <a:xfrm>
            <a:off x="2971800" y="41911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211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18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6AD8-A489-4993-8F6C-244B03DA45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8580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685800" y="49528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p1"/>
          <p:cNvPicPr/>
          <p:nvPr/>
        </p:nvPicPr>
        <p:blipFill>
          <a:blip r:embed="rId1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35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4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around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52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كلية العوم</cp:lastModifiedBy>
  <dcterms:modified xsi:type="dcterms:W3CDTF">2013-01-26T06:00:27Z</dcterms:modified>
  <cp:revision>477</cp:revision>
  <dc:subject/>
  <dc:title>Slide 1</dc:title>
</cp:coreProperties>
</file>