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22AF-7774-403E-8EE8-B72A00D47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AFE9-E3E6-4628-9B69-AA042C9A4E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C3FC-D786-4B3C-8410-267BEA6B85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DD15-B420-4F0D-825C-2408EE2681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0A87-7E2D-4169-8708-626B31C669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A368-3E1F-44B4-8243-D4DCBB5E41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4627-96C7-47E2-ADE7-40CC709CBF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D3AC-7F2C-47A2-BC6B-435F46DC15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35C2-7FBD-45CA-BD50-66D7ECE0F1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031E-6BB1-4134-B9FF-227FB5233C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61B9-A50B-42B2-A833-7E6F981221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CCD7-418D-429D-B995-FD81AE626C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6B69-F5A6-4DA1-9E41-9C7278B628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922A-770B-4679-8B60-DD772E10CB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027B-E3A0-4360-8E47-58A05FF150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EF87-8FC1-4DAA-9615-C429E3B727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31D2-19B7-4EAA-A578-DF04F689A0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27DA-873C-4CD3-B0D6-1AB7140E4F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B155-A0C5-4675-8BE8-3EB2BD83B8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5DD1-6999-4A0F-91EA-1DD66DF9EC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815D-EAAB-41BA-8B25-A9702000A0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245B-46A0-4F0A-ACB0-E1310414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8EAB-29A5-4DD2-8F26-BBBC8385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7E44-154D-462B-9D37-80F960F9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79ED-FC84-4329-B45A-8DE2C086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3B7D-5DD8-451F-B26D-F94174DD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43E2-2A25-4DFC-BFCB-4AEDA9B7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590D-307A-44DD-A102-493E3148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ABC0-6E80-4934-822F-3E9A729E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9131-747F-47F6-9C12-9C676EA6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8C00-5100-446D-A5D5-92D37CF8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17DF-C9E6-4661-B7E5-4BB0B493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EFE9-704A-4537-95C1-B19EE50E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796e"/>
            </a:gs>
            <a:gs pos="100000">
              <a:srgbClr val="6699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6DAC-0A67-4A07-8FA7-DB0AD7F70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371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students gain by doing resear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???????????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assessments of learn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ical thinking and reasoning in science maj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is of pap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ical Thinking and Reasoning –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For nursing and chemistry/engineering, those engaged in research showed greater increase in critical thi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Questions 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aspects of the research experience are most cruci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makes the difference between successful and unsuccessful progra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. How is the world chang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MPj04388030000[1]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ces changing skill dem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14040" y="19807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o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plac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mographic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al risk and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Times New Roman"/>
              </a:rPr>
              <a:t>Auto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Times New Roman"/>
              </a:rPr>
              <a:t>Glob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3" descr="MPj04331390000[1]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place 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6" descr="MPj04330570000[1]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graphic 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9" descr="MPj04394530000[1]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C:\Documents and Settings\pbarth\Local Settings\Temporary Internet Files\Content.IE5\8AODW8WX\MPj04067840000[1].jpg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onal risk and respon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C:\Documents and Settings\pbarth\Local Settings\Temporary Internet Files\Content.IE5\BF9QAX8V\MPj03210560000[1].jpg"/>
          <p:cNvPicPr/>
          <p:nvPr/>
        </p:nvPicPr>
        <p:blipFill>
          <a:blip r:embed="rId2"/>
          <a:stretch/>
        </p:blipFill>
        <p:spPr>
          <a:xfrm>
            <a:off x="-139680" y="1463760"/>
            <a:ext cx="3863880" cy="47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I. What kind of knowledge and skills will young people ne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" descr="MPj04387270000[1]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What Is Researc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Brainst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different ways to define 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sear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down at least three different definitions of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sear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r up with someone to choose the best ONE of your six-plus defin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 your definitions with the group, one at a time in sequ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ore important in the 21</a:t>
            </a:r>
            <a:r>
              <a:rPr b="0" lang="en-US" sz="4400" spc="-1" strike="noStrike" baseline="30000">
                <a:solidFill>
                  <a:srgbClr val="ff0000"/>
                </a:solidFill>
                <a:latin typeface="Times New Roman"/>
              </a:rPr>
              <a:t>st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14040" y="236196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tsecondary education and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ademic knowledge and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actical literacies: The ability to use knowledge of math, English, science, civics etc. to meet real-world challe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ader competencies: Critical thinking and problem solving, communications and collaboration, creativity, self-sufficienc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road Competenc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Which are most critical? The 3 C’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920" y="20570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tical thinking and problem 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bor economists Levy &amp; Murnane call it “expert thinkin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mmunication/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vy and Murnane call it “complex communication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ritical Thinking &amp; Problem Solving: Require deep content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9051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gnitive scientists used to believe that “thinking skills” could be taught directly and then applied to any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w they believe that’s wrong.  Critical thinking is not a generic skill, but rather tied closely to contextual knowledge—deep understanding of the topic in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 “deep knowledge”? Getting below the surf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s: Factual knowledge about the field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s &amp; HOWs: How those facts fit together, how and why things are the way they are, and how things work the way they 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ommunication &amp; Collaboration: What are the most critical sub-skil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609480" y="6613560"/>
            <a:ext cx="723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ference Board. (2006, October).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Are they really ready to work?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New York: Author. (pp. 32-34, Tables 6-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1"/>
          <a:stretch/>
        </p:blipFill>
        <p:spPr>
          <a:xfrm>
            <a:off x="324000" y="1676520"/>
            <a:ext cx="8496000" cy="4921200"/>
          </a:xfrm>
          <a:prstGeom prst="rect">
            <a:avLst/>
          </a:prstGeom>
          <a:ln w="0">
            <a:noFill/>
          </a:ln>
        </p:spPr>
      </p:pic>
      <p:sp>
        <p:nvSpPr>
          <p:cNvPr id="95" name="Oval 13"/>
          <p:cNvSpPr/>
          <p:nvPr/>
        </p:nvSpPr>
        <p:spPr>
          <a:xfrm>
            <a:off x="4495680" y="2286000"/>
            <a:ext cx="2895840" cy="1905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14"/>
          <p:cNvSpPr/>
          <p:nvPr/>
        </p:nvSpPr>
        <p:spPr>
          <a:xfrm>
            <a:off x="4495680" y="4038480"/>
            <a:ext cx="2362320" cy="1219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15"/>
          <p:cNvSpPr/>
          <p:nvPr/>
        </p:nvSpPr>
        <p:spPr>
          <a:xfrm>
            <a:off x="3276720" y="2743200"/>
            <a:ext cx="129528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2" dur="1" fill="hold"/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REA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II. Im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MPj04393770000[1]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9480" y="1557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o we want students to gain from their research experienc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o they actually gai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direct assess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1001"/>
              </a:spcBef>
              <a:buClr>
                <a:srgbClr val="000000"/>
              </a:buClr>
              <a:buFont typeface="Time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rect assess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earch Benefits:  Faculty 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a topic in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ility to work and think independ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ility to read scientific lit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al and written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olving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eciation of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al application of cours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Lopatto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earch Benefits:  Student Respo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hancement of credent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arification of career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imes New Roman"/>
              </a:rPr>
              <a:t>Understanding the research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imes New Roman"/>
              </a:rPr>
              <a:t>Learning a topic in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ionship with faculty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imes New Roman"/>
              </a:rPr>
              <a:t>Learning to work independ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ing laboratory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Lopatto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ect and Indirect Assess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r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direct observation of the ob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dir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indirect measure of the objective (e. g. subjective report, reten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rect Assessments of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ent Retention: 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rect Assessment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participating in resear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lower attrition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more likely to pursue further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more satisfied with their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greater increases in a variety of cognitive and personal dom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6:27:16Z</dcterms:created>
  <dc:creator>Linda Rueckert</dc:creator>
  <dc:description/>
  <dc:language>en-US</dc:language>
  <cp:lastModifiedBy>Elham Fayad</cp:lastModifiedBy>
  <cp:lastPrinted>2003-01-08T21:20:10Z</cp:lastPrinted>
  <dcterms:modified xsi:type="dcterms:W3CDTF">2015-09-03T04:39:53Z</dcterms:modified>
  <cp:revision>63</cp:revision>
  <dc:subject/>
  <dc:title>What do students gain from their research experienc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EEB71A15-36E2-48C9-988B-0A77545A4FB2</vt:lpwstr>
  </property>
  <property fmtid="{D5CDD505-2E9C-101B-9397-08002B2CF9AE}" pid="3" name="ArticulatePath">
    <vt:lpwstr>lecture 1</vt:lpwstr>
  </property>
</Properties>
</file>