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68C-2CED-4594-B51B-EBF0CAD7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72E-AD4C-4DB7-9E0F-79C0503A8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7CA-0460-4725-B229-F2DBD226F6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E986-3574-4028-936E-67E9BD7B3C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FDB-AF75-43EB-A6C3-5527E6B9E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CEBD-2CDA-488C-B038-ADCAD56896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73C-5898-47A4-9DCE-5FCCCA9D0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02E-1B80-4379-80E8-FF1DFE26A6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9A5-DE6C-44AA-8695-D17CE4781B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73AF-FF54-4A85-A576-F529A2700D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004-B787-4176-9963-8E92B78DCB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120-4B39-470A-8F15-6F691F8200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CBF-E70C-4A38-BEEF-9F8F222886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EBC-AB32-457F-BBCF-82F455A4AE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DE2-5D78-4D42-9E35-6D81F71D5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5D8-C472-4A2D-9E33-D4298FB23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668-625C-4778-81FF-019119FBB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58F-1F44-432F-8B15-DAFCDD0E39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D89-1C2D-4EB8-AFF9-1D15D17CD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568-80BB-409B-B71A-C98212796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D07-D97D-48A6-9ED6-DEAC7B279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725-3E9A-4842-81A9-85097EFA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C0F-7D2B-48E6-9297-39A26E2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DA-B487-4B22-9364-057951B1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F2-D453-449D-A199-E7D893C3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289-C3BA-42E1-8D36-1E98DE0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5B5-081C-474E-8319-BE80819D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D1F-89DA-4032-912B-0DCF12A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93A-26F0-424C-A8CB-182E5E9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C81-C048-4BC3-9E36-AC5F751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ACF-D56F-4776-9F1E-DD74D9D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AC9-5320-4DD3-A275-187AA51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721-9318-4A7A-84DE-F917A22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796e"/>
            </a:gs>
            <a:gs pos="100000">
              <a:srgbClr val="6699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9335-71DF-431B-8463-F1D6DAB6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students gain by doing re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????????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assessments of learn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inking and reasoning in science maj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pap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inking and Reasoning –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For nursing and chemistry/engineering, those engaged in research showed greater increase in critical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Questions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spects of the research experience are most cruc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kes the difference between successful and unsuccessful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How is the world chang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Pj0438803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s changing skill de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0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pla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graph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risk and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Times New Roman"/>
              </a:rPr>
              <a:t>Auto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Times New Roman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3" descr="MPj0433139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plac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6" descr="MPj043305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graphic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MPj0439453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:\Documents and Settings\pbarth\Local Settings\Temporary Internet Files\Content.IE5\8AODW8WX\MPj04067840000[1]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risk and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Documents and Settings\pbarth\Local Settings\Temporary Internet Files\Content.IE5\BF9QAX8V\MPj03210560000[1].jpg"/>
          <p:cNvPicPr/>
          <p:nvPr/>
        </p:nvPicPr>
        <p:blipFill>
          <a:blip r:embed="rId2"/>
          <a:stretch/>
        </p:blipFill>
        <p:spPr>
          <a:xfrm>
            <a:off x="-139680" y="1463760"/>
            <a:ext cx="38638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What kind of knowledge and skills will young people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MPj043872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Re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rainst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different ways to define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down at least three different definitions of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 up with someone to choose the best ONE of your six-plus defin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your definitions with the group, one at a time in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re important in the 2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04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secondary education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c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cal literacies: The ability to use knowledge of math, English, science, civics etc. to meet real-worl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er competencies: Critical thinking and problem solving, communications and collaboration, creativity, self-sufficienc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road Competenc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Which are most critical? The 3 C’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tical thinking and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or economists Levy &amp; Murnane call it “expert thin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munication/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y and Murnane call it “complex communica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itical Thinking &amp; Problem Solving: Require deep conten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gnitive scientists used to believe that “thinking skills” could be taught directly and then applied to any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they believe that’s wrong.  Critical thinking is not a generic skill, but rather tied closely to contextual knowledge—deep understanding of the topic in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“deep knowledge”? Getting below the su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s: Factual knowledge about the field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s &amp; HOWs: How those facts fit together, how and why things are the way they are, and how things work the way they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munication &amp; Collaboration: What are the most critical sub-ski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09480" y="6613560"/>
            <a:ext cx="723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erence Board. (2006, October)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re they really ready to work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ew York: Author. (pp. 32-34, Tables 6-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324000" y="1676520"/>
            <a:ext cx="8496000" cy="4921200"/>
          </a:xfrm>
          <a:prstGeom prst="rect">
            <a:avLst/>
          </a:prstGeom>
          <a:ln w="0">
            <a:noFill/>
          </a:ln>
        </p:spPr>
      </p:pic>
      <p:sp>
        <p:nvSpPr>
          <p:cNvPr id="95" name="Oval 13"/>
          <p:cNvSpPr/>
          <p:nvPr/>
        </p:nvSpPr>
        <p:spPr>
          <a:xfrm>
            <a:off x="4495680" y="2286000"/>
            <a:ext cx="289584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4495680" y="4038480"/>
            <a:ext cx="23623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3276720" y="2743200"/>
            <a:ext cx="12952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II.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MPj043937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we want students to gain from their research experi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they actually g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rect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Benefits:  Faculty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 topic in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work and think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read scientific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and written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on of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application of cours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Lopatto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Benefits:  Student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ment of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rification of career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Understanding the research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Learning a topic in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ship with faculty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Learning to work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 laboratory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Lopatto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and Indirec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irect observation of the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direct measure of the objective (e. g. subjective report, reten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rect Assessment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Retention: 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rect Assessmen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participating in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ower attri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likely to pursue furthe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satisfied with thei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greater increases in a variety of cognitive and person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6:27:16Z</dcterms:created>
  <dc:creator>Linda Rueckert</dc:creator>
  <dc:description/>
  <dc:language>en-US</dc:language>
  <cp:lastModifiedBy>Elham Fayad</cp:lastModifiedBy>
  <cp:lastPrinted>2003-01-08T21:20:10Z</cp:lastPrinted>
  <dcterms:modified xsi:type="dcterms:W3CDTF">2015-09-03T04:39:53Z</dcterms:modified>
  <cp:revision>63</cp:revision>
  <dc:subject/>
  <dc:title>What do students gain from their research experienc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EEB71A15-36E2-48C9-988B-0A77545A4FB2</vt:lpwstr>
  </property>
  <property fmtid="{D5CDD505-2E9C-101B-9397-08002B2CF9AE}" pid="3" name="ArticulatePath">
    <vt:lpwstr>lecture 1</vt:lpwstr>
  </property>
</Properties>
</file>