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C715-1EE6-4237-B8F2-72E21B6AC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340E-6FEB-4BE5-95CA-8A61B1A24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5D6C-FC59-4FBA-86CF-016172024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2546-C05E-4B90-9EBA-54E632B7B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3FD1-869E-49D3-B2E6-9A2B90AEC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47EF-5A6A-4713-A484-D75CECE15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DC97-E1AF-417E-B813-CD6C76C66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88D4-AB67-4B7E-8EE9-0DD1B2B33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1D61-902F-4020-BCE8-F31A997A4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55E2-5A45-420A-825D-845A4A328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29B4-9B25-4B20-9FDB-391AC9A1D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FA5E-5BE7-4918-9DF9-A1C526FF3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F4A7-704A-43F7-AD67-DB7D40A42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571E-55E4-4C7C-8C1E-5FCE32311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92FC-9579-41E3-BF39-42A786EF6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F6B3-E359-465F-B307-BE0579DB5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12BB-B5CD-463A-ADA9-B20A8014C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75F9-3BE7-4D91-87E2-6CA77A958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F960-A4E4-4600-B2B9-B62D7A24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4384-464E-4F91-89E0-986EF8C8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C3CB-CBCF-44F6-A1AA-9BB5A2DF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6EF-06E7-42B2-B9DC-EE922014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02A-CAC1-4381-957A-2D70F7B1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2F43-9D13-475A-AA3D-082953EA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D68B-8DBD-4ECA-87A6-7555DA83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D13-AC0A-463F-8C9B-FCB7354B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2765-1BC7-4D95-85C1-ADE9F142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0C3-2E0D-4F23-AA15-7068E9E0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627-30FE-4B84-913C-B46C1D45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4926-E38E-43AE-A539-26BD5A16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A4AD-2DA8-4DE5-BC9F-DBEF3800D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FC8D-20A6-4CFE-9C91-CA2A0F9E1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: N.AlJaff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By: N.AlSheh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 rot="18888000">
            <a:off x="-575640" y="441000"/>
            <a:ext cx="2176200" cy="376200"/>
          </a:xfrm>
          <a:prstGeom prst="rect">
            <a:avLst/>
          </a:prstGeom>
          <a:solidFill>
            <a:srgbClr val="99cc00">
              <a:alpha val="75000"/>
            </a:srgbClr>
          </a:solidFill>
          <a:ln w="9360">
            <a:solidFill>
              <a:srgbClr val="bbe0e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Light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DE01-A0B9-413E-8488-D2745F85D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ainfra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a large, expensive, powerful computer that can handle hundreds or thousands of connected user simultaneously through a technique called </a:t>
            </a: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imesharing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t store a huge amounts of data, instructions a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ex. A </a:t>
            </a: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imesharing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system allows travel agents all over the country to make reservations using the same computer and the same flight information at the sam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Ex: University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UNP01_12"/>
          <p:cNvPicPr/>
          <p:nvPr/>
        </p:nvPicPr>
        <p:blipFill>
          <a:blip r:embed="rId1"/>
          <a:stretch/>
        </p:blipFill>
        <p:spPr>
          <a:xfrm>
            <a:off x="3708360" y="1197000"/>
            <a:ext cx="4613400" cy="200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B793-3632-4283-8C8E-A2AAC3FA9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ainfra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ost major corporations use mainframes for business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ed by large organizations, such as banks and airlines, for big computing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ers communicate with a mainframe using a computer term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network-server-laptops.jpg"/>
          <p:cNvPicPr/>
          <p:nvPr/>
        </p:nvPicPr>
        <p:blipFill>
          <a:blip r:embed="rId1"/>
          <a:stretch/>
        </p:blipFill>
        <p:spPr>
          <a:xfrm>
            <a:off x="6300720" y="981000"/>
            <a:ext cx="2714760" cy="198612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27E8-D627-4B08-9217-70C4FFFB4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Serv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ontrols access to HW, SW and other resources on a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Provides a centralized storage area for program, data,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Support from 2 to several thousand connected computers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People use PC or terminals to access data, info., and programs 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erminal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is a device with monitor, keyboard and mem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Personal Computers (PC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It’s a computer that can perform all of its inpu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processing, output and storage activities by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re are 2 types of personal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Notebook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-- Fits on your hand or l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Desktop Computer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-- Fits entirely on or under de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صورة 10" descr="desktop-pc.jpg"/>
          <p:cNvPicPr/>
          <p:nvPr/>
        </p:nvPicPr>
        <p:blipFill>
          <a:blip r:embed="rId1"/>
          <a:stretch/>
        </p:blipFill>
        <p:spPr>
          <a:xfrm>
            <a:off x="6791400" y="4500720"/>
            <a:ext cx="1525680" cy="144936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5E2F-0592-49D4-B34E-9DE8AB15D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0CAAJX8TMCA1HS7SDCAR1FXRYCAOD3RBICAD03ZPCCA0YU4BQCAHH6819CA3DPM2HCA2F5W9ACAOK62SHCAXA1LTNCAI7AG7PCAHLGH6MCA6X86KUCAYXJ44ICA1WEEX9CAUS87TICADU0EZWCAE3A6M5.jpg"/>
          <p:cNvPicPr/>
          <p:nvPr/>
        </p:nvPicPr>
        <p:blipFill>
          <a:blip r:embed="rId2"/>
          <a:stretch/>
        </p:blipFill>
        <p:spPr>
          <a:xfrm>
            <a:off x="6786720" y="3143160"/>
            <a:ext cx="1857240" cy="11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DE25-02E0-4BE7-9426-C926AF488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obile Computers And Mobile Devi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w Cen MT Condensed"/>
              </a:rPr>
              <a:t>Mobile computers is a personal computer that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you can carry from place to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w Cen MT Condensed"/>
              </a:rPr>
              <a:t>Mobile Devices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a computing device, small enough to hold in your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Usually store programs &amp; data permanently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memory inside the system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on small storage media such as memory 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you can connect it to PC to exchang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Some Mobiles devices are 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Internet-enabled,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ts allow to connect to NET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عنصر نائب للتذييل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4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4E1C-EE0D-4CB8-AD8A-2E6587B8D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" name="مستطيل 4"/>
          <p:cNvSpPr/>
          <p:nvPr/>
        </p:nvSpPr>
        <p:spPr>
          <a:xfrm>
            <a:off x="3530520" y="450864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w Cen MT Condensed"/>
              </a:rPr>
              <a:t>Mobile computers </a:t>
            </a:r>
            <a:endParaRPr b="0" lang="en-US" sz="1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16" name="صورة 5" descr="Mobile computers.png"/>
          <p:cNvPicPr/>
          <p:nvPr/>
        </p:nvPicPr>
        <p:blipFill>
          <a:blip r:embed="rId1"/>
          <a:stretch/>
        </p:blipFill>
        <p:spPr>
          <a:xfrm>
            <a:off x="2700360" y="1700280"/>
            <a:ext cx="32418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857F-C452-4D4D-91AD-96BF485B6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Game Conso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Designed for single-player or multiplayer video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devic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handheld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TV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Storag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Hard Disks, CDs, DVDs and memory c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2 popular model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icrosoft's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 Xbox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ny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Play station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5904000" y="4214880"/>
            <a:ext cx="3097080" cy="2188800"/>
            <a:chOff x="5904000" y="4214880"/>
            <a:chExt cx="3097080" cy="2188800"/>
          </a:xfrm>
        </p:grpSpPr>
        <p:pic>
          <p:nvPicPr>
            <p:cNvPr id="122" name="Picture 6" descr="xbox"/>
            <p:cNvPicPr/>
            <p:nvPr/>
          </p:nvPicPr>
          <p:blipFill>
            <a:blip r:embed="rId1"/>
            <a:stretch/>
          </p:blipFill>
          <p:spPr>
            <a:xfrm>
              <a:off x="5904000" y="4214880"/>
              <a:ext cx="1584720" cy="21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AutoShape 7"/>
            <p:cNvSpPr/>
            <p:nvPr/>
          </p:nvSpPr>
          <p:spPr>
            <a:xfrm>
              <a:off x="7487280" y="5078880"/>
              <a:ext cx="1513800" cy="576720"/>
            </a:xfrm>
            <a:prstGeom prst="roundRect">
              <a:avLst>
                <a:gd name="adj" fmla="val 50000"/>
              </a:avLst>
            </a:prstGeom>
            <a:solidFill>
              <a:srgbClr val="ff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 Condensed"/>
                </a:rPr>
                <a:t>Handheld controller</a:t>
              </a:r>
              <a:endParaRPr b="0" lang="en-US" sz="18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4" name="AutoShape 8"/>
            <p:cNvSpPr/>
            <p:nvPr/>
          </p:nvSpPr>
          <p:spPr>
            <a:xfrm>
              <a:off x="7487280" y="4359240"/>
              <a:ext cx="1513800" cy="576720"/>
            </a:xfrm>
            <a:prstGeom prst="roundRect">
              <a:avLst>
                <a:gd name="adj" fmla="val 50000"/>
              </a:avLst>
            </a:prstGeom>
            <a:solidFill>
              <a:srgbClr val="ff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 Condensed"/>
                </a:rPr>
                <a:t>Game console</a:t>
              </a:r>
              <a:endParaRPr b="0" lang="en-US" sz="18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H="1">
              <a:off x="7004880" y="464652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H="1">
              <a:off x="7211160" y="5583960"/>
              <a:ext cx="2757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</p:grp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9D04-06AE-48AF-B0D5-F7A376BD5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Game Conso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Handheld game consol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 Fit in one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 controls, screen and speaker built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ommunicate wirelessly with other similar cons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Allow users to listen to music, watch movies and connect to 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2 popular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Nintendo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Game Boy Mi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ny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P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ps3psp_2007_psp_overview"/>
          <p:cNvPicPr/>
          <p:nvPr/>
        </p:nvPicPr>
        <p:blipFill>
          <a:blip r:embed="rId1"/>
          <a:stretch/>
        </p:blipFill>
        <p:spPr>
          <a:xfrm>
            <a:off x="6588000" y="4365720"/>
            <a:ext cx="2287800" cy="106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EB6E-213A-4F4D-A212-760A4FAC6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Embedded Compu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pecial – purpose computer that functions as a component in a larger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ually are small &amp; have limited hard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unctions depending on the requirements of the product in which they re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me of them designed to improve your safety, security and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9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9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عنصر نائب للتذييل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7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D261-A93F-45FA-BC50-5F1ED1097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38" name="Picture 5" descr="tesla_touchscreen.jpg"/>
          <p:cNvPicPr/>
          <p:nvPr/>
        </p:nvPicPr>
        <p:blipFill>
          <a:blip r:embed="rId1"/>
          <a:stretch/>
        </p:blipFill>
        <p:spPr>
          <a:xfrm>
            <a:off x="2556000" y="2349360"/>
            <a:ext cx="4356000" cy="2903760"/>
          </a:xfrm>
          <a:prstGeom prst="rect">
            <a:avLst/>
          </a:prstGeom>
          <a:ln w="0">
            <a:noFill/>
          </a:ln>
        </p:spPr>
      </p:pic>
      <p:sp>
        <p:nvSpPr>
          <p:cNvPr id="139" name="مستطيل 5"/>
          <p:cNvSpPr/>
          <p:nvPr/>
        </p:nvSpPr>
        <p:spPr>
          <a:xfrm>
            <a:off x="1504080" y="1357200"/>
            <a:ext cx="5807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Embedded Computers: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3ACD-D74B-4AFA-8D28-E06C9CB20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What Is A Comput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mputer is an </a:t>
            </a: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electronic device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529128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USER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 is anyone who communicates with a computer or utilizes the information.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550080" y="4500720"/>
            <a:ext cx="8226000" cy="520560"/>
          </a:xfrm>
          <a:prstGeom prst="rect">
            <a:avLst/>
          </a:prstGeom>
          <a:gradFill rotWithShape="0">
            <a:gsLst>
              <a:gs pos="0">
                <a:srgbClr val="f0ffff"/>
              </a:gs>
              <a:gs pos="100000">
                <a:srgbClr val="cfffff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ll according to a series of stor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truc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093B-FE66-4AAE-82E7-ABB68A3AB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8480" cy="4525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 Extra Bold"/>
              </a:rPr>
              <a:t>Ad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Reli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nsist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Sto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2920" y="1356840"/>
            <a:ext cx="4038840" cy="471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 Extra Bold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Violation of Priv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Impact on Labor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Health Ri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D139-9F12-4A44-ADA0-7B827365C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747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Information Processing Cycle: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Data 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is a collection of unprocessed item, which can include text, numbers, images, audio and video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Information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 conveys meaning and useful to people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Processing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 Procedures that convert input data to output information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CD64-4F31-47B5-AF17-D28ACCD8F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 Extra Bold"/>
              </a:rPr>
              <a:t>Information Processing Cyc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 Condensed"/>
              </a:rPr>
              <a:t>Computers read incoming data called </a:t>
            </a:r>
            <a:r>
              <a:rPr b="1" lang="en-US" sz="3200" spc="-1" strike="noStrike">
                <a:solidFill>
                  <a:srgbClr val="99cc00"/>
                </a:solidFill>
                <a:latin typeface="Tw Cen MT Condensed"/>
              </a:rPr>
              <a:t>input , process</a:t>
            </a:r>
            <a:r>
              <a:rPr b="1" lang="en-US" sz="3200" spc="-1" strike="noStrike">
                <a:solidFill>
                  <a:srgbClr val="000000"/>
                </a:solidFill>
                <a:latin typeface="Tw Cen MT Condensed"/>
              </a:rPr>
              <a:t> the data, and display outgoing information called </a:t>
            </a:r>
            <a:r>
              <a:rPr b="1" lang="en-US" sz="3200" spc="-1" strike="noStrike">
                <a:solidFill>
                  <a:srgbClr val="99cc00"/>
                </a:solidFill>
                <a:latin typeface="Tw Cen MT Condensed"/>
              </a:rPr>
              <a:t>out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E696-866D-400E-AE9F-B5C875179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omponent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143000"/>
            <a:ext cx="87487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1-Hardware</a:t>
            </a: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- H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A group of machines in a compute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2-Software (programs) </a:t>
            </a: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– S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 instructions that tell the computer what to do and how to d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9F4E-7287-48A7-B5B8-7FA33CEDF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w Cen MT Condensed"/>
              </a:rPr>
              <a:t>2-Software</a:t>
            </a:r>
            <a:r>
              <a:rPr b="1" lang="en-US" sz="3600" spc="-1" strike="noStrike">
                <a:solidFill>
                  <a:srgbClr val="92d050"/>
                </a:solidFill>
                <a:latin typeface="Tw Cen MT Condensed"/>
              </a:rPr>
              <a:t>- S/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The Components of Softw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There are  two categories of softwa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Tw Cen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System Software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onsists of programs that control or maintain the operations of  the computer and its devices. It’s serves as interface between the user and the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Tw Cen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Application softwar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: consists of programs designed to assist users with personal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8038-BA3F-417E-A6B8-9308E33D3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 Extra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uper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ainfr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erv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Personal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obile Computer  And Mobile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Game Cons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Embedded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4ADA-CF98-4D28-85EE-DBC2ABD17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Supercompu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 the fastest, most powerful computers and the most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apable of processing more than 100 trillion instructions in a single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They are used mostly in scientific and industrial research, by the government, and by very large organizations for controlling their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Weather forecasting, oil exploration, telephone network desig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1-16"/>
          <p:cNvPicPr/>
          <p:nvPr/>
        </p:nvPicPr>
        <p:blipFill>
          <a:blip r:embed="rId1"/>
          <a:stretch/>
        </p:blipFill>
        <p:spPr>
          <a:xfrm>
            <a:off x="5522760" y="1071720"/>
            <a:ext cx="3049920" cy="194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2:25:02Z</dcterms:created>
  <dc:creator>N. AlJaffan</dc:creator>
  <dc:description/>
  <cp:keywords/>
  <dc:language>en-US</dc:language>
  <cp:lastModifiedBy>Toshiba</cp:lastModifiedBy>
  <dcterms:modified xsi:type="dcterms:W3CDTF">2016-09-25T19:19:18Z</dcterms:modified>
  <cp:revision>183</cp:revision>
  <dc:subject/>
  <dc:title>Introduction to Compu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ContentTypeId">
    <vt:lpwstr>0x010100CC6BB1F00AAFA34493B35981E2967FB1</vt:lpwstr>
  </property>
</Properties>
</file>