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F594-47EF-44BF-9933-BFAAF551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7BF-6651-4FD5-B0E2-DF9C184B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6AD-7885-413F-8A3A-38DEEB1E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45F-2B50-4943-95F1-E6317B08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C83-4E3B-4959-9B19-C6B7F68C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F87-AFE6-444A-85EA-24AC667F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0643-9F82-43CB-9401-9162DE58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4FE6-68C2-4DC0-BC59-BAA8E2B9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704-AEEC-4DEE-B185-5FD14CAA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B5F-DD59-4BB5-8A92-89A529D4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0EF-815B-479E-B42F-FE917F58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DD1-3281-4F3D-A6E1-51B34F82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29F-7168-4593-9433-37F1C8C5D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0ED-0F51-46EC-8391-6BC93589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5A74-3FA0-4A64-BD8F-58D57F91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3E1-25CD-494C-B3F2-15B8AAE3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E3D-4068-42E0-8419-69594381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0E2E-8651-4A59-B228-14FAE890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437-5544-4610-9B62-7527060E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274-7E06-4C14-8567-DDF87B2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8FF-9CA8-4513-A380-689AEEC7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308-2730-4042-B564-C605D17E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8AF-EF89-4C71-8479-3F52B0B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A7C-E90B-431B-9EF1-F0328251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455-98FC-4569-B18C-BC440DE8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E64-D590-4BA3-ACA2-C12520E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365-10A7-442E-AED6-3AA1E9F4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B74-E33C-4972-9FC0-9C475DB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FA0-F00E-41BC-B261-6C8CB83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B31-8B47-4088-AA3A-2434F517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19A-F7B0-4411-8113-DE1B7DF04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CEA-35E2-48A6-96E3-7E64245F6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D30-3FFD-42C1-8FCC-377056B75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5FAC-2B76-4763-9427-2EA4E0D3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009E-B99C-4B93-B39F-235D5CF1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8AA-3AB2-4EEC-8B9E-02518450E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F4B6-F2B4-40C4-9F48-E1E328CA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3D48-A153-4548-8C7C-CBD55B96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صورة 5" descr="Mobile computers.png"/>
          <p:cNvPicPr/>
          <p:nvPr/>
        </p:nvPicPr>
        <p:blipFill>
          <a:blip r:embed="rId1"/>
          <a:stretch/>
        </p:blipFill>
        <p:spPr>
          <a:xfrm>
            <a:off x="2700360" y="1700280"/>
            <a:ext cx="3241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201-5E1C-4FAD-9FC7-EC7A8AF3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2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40D-1A8A-4805-9ED2-C808F9D9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9CD-5770-4EA5-8C9D-FEA5B3EC5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9F47-E1ED-4842-AB6D-00954A90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39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9B8-B842-4AE4-8A96-118ECE575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BC9D-F76C-4B0D-A3B5-E924D0137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F5FC-79EF-478B-BA4B-024FC5DB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BCF-5B14-44B9-B7E3-09304FB0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34BC-CAFC-4C94-A06C-E4C63CDF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9EF-DF3E-4AF0-BF08-4F4E3742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BB4-61F5-4B5D-86F4-3BFABD215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6261-70D0-4786-9A18-69069CFF7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Toshiba</cp:lastModifiedBy>
  <dcterms:modified xsi:type="dcterms:W3CDTF">2016-09-25T19:19:18Z</dcterms:modified>
  <cp:revision>183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