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2A2-B5E9-4A38-A281-DDD376E3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4AE-85E1-43C2-9A9C-29F0ABB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283-FC75-4382-8B63-64A821B0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268-1B42-4F0D-8A5E-82C800BF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DE0-DDD4-4A4D-A397-83459E8E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7FE-EBB5-4A4F-A2A7-3AEFAECA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E391-5B62-4DFC-8B69-9B16B3E5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A86A-8298-465F-8240-1D9C6C3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90E2-3A6C-43A7-A5AB-2B8292A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1780-6AF3-4545-A21F-5207B397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E2AA-2721-4F21-80C3-DD4E43A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B92-AA31-4C11-9C5E-AE9F484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58E8-A7B3-4F89-B877-28C4E8C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24F-22FC-46B9-B758-963481F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C9E-3E1D-4903-AD53-225E2215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C4D7-EF6E-4776-8E33-8FDF42F8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0254-331B-448C-A67E-D6217625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F5E3-123E-4F23-A04B-BDE89153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7446-E357-463A-8A63-E85C959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E41D-F06D-4BE7-AC5A-339F46C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556A-A3B0-49AD-9E4A-E7F24B0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EC0C-113E-4CF8-80B6-029809D2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CEF-6063-4D5A-BE29-5EEB960B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5B49-9418-4905-A54D-0F0263A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EE7C-208A-49E9-B4C1-772AD9D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BAA4-654A-4CBF-8236-913B69D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D8AC-674C-4A99-95EB-0BC1B4B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4FC9-0038-4453-8B0C-E57FB40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4CA4-EA9B-42E5-89DA-B23E1793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6126-3E91-4B77-82CD-94677C0A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13EC-DFA3-4926-A011-A2CD6612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8A12-8D5F-4328-BD33-0F16A385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F02F-A599-440B-B8EC-C432416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9D6-59C6-4810-8DD4-C123A4D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5DFE-C91F-4A02-9B33-50C77B87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403B-CFF9-42CB-9B21-AE88DF2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AB21-B203-4B9F-AECE-BE11326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AE7A-2FBF-4924-9880-6C038E7C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0CE3-9388-444A-8D28-C9CF371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90EB-4FC4-466B-B1C5-11FDB22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61DD-DE4E-4B5D-AE7E-9F45A8A2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697F-C934-48DF-BDEB-EE7E210C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E6DE-3F17-43B3-B1D8-197F4A04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FA7-E9AD-47B6-8B46-F4677BC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D43-3280-42B3-9FAE-CD1CB8D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732-20C7-487C-A735-AA880EE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A3F-F9A5-40CA-926D-C6EC640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9A1-C12C-468B-912F-F173002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CF7-5AB7-4803-A84F-4A48A445863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814-0C04-43F5-BE78-07D02E6CFE5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B6CE-CD0E-4D7B-BF75-19C7DFD6E92A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4B1-BCEC-4830-AE51-66E91381B95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Ashraf Masha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B 14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6-7346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mashely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432400" y="229248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Dr. Ashraf Mashaly</cp:lastModifiedBy>
  <dcterms:modified xsi:type="dcterms:W3CDTF">2014-11-18T21:48:34Z</dcterms:modified>
  <cp:revision>39</cp:revision>
  <dc:subject/>
  <dc:title>Principals of General Zoology (Zoo-103)</dc:title>
</cp:coreProperties>
</file>