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071-7FE9-450D-BABE-96FA63A0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2B6-FAD7-4FA5-B685-DCBF405C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6C5-E2F6-4505-A1E9-0947DEB3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390-E6B6-48FC-BD71-6F2F9F74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914B-10BF-4ED7-BBEE-59A4A6DB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FCF4-4805-4CAD-A31C-56A11270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58C0-0045-4F95-B9FB-CD41F95F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CC3B-D3F6-4109-A4E2-5542C5D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5E03-F15B-44E4-A68A-CC72470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8A57-9947-40AE-9708-704C7CB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778A-EA94-47D1-8D0B-4156B397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477-3AF6-4F37-81B9-A91666A7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8AF7-70EC-4877-A3E9-9F0E07E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ADB4-C024-4804-9722-23C5305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D59-8AEE-496E-A0BF-C325F03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B035-CB7A-4040-8B7E-995D442C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ED09-A20E-4DE7-B015-9F490DDC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F8BC7-FDA4-4BBB-88A9-0B5C7D39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D143-DBEE-4CD3-BBC3-BE3931CA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80AA-261C-41C3-9FF3-2386A920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BECE-43C4-4CB4-ADDB-9486671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E864-E2EC-43BF-9D81-AC00BD4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FBE-69C5-46A7-80D3-0B96C85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FA68-2F1C-468A-8F6E-01686E12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B85C-8F64-40C8-8E3D-AE4F27E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4127-47C3-485F-8535-107F8A34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B9F5-69E4-4970-9856-EDD77BB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28E3-687D-4B76-906B-7D6EDBEE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C880-0105-44EC-8117-F842713E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5D10-9CDF-47F5-894C-147C23F7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4D6E-A18C-453F-876E-02D76F20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0992-93E5-439B-BF2A-02BD8A8F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474DB-47E2-429A-9E75-E52569FA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548-EA37-4F9D-B3B9-E3B7E70B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74F5-10AA-4652-AFD7-85A33627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97C7-7E47-4777-A276-9BADFF63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5BE89-AB00-48DA-852A-710898CC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CCE9-E86E-41D1-B1D5-E9ED6E2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7663-6D92-4D71-92D7-9098081A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047C-E041-4EA7-BA35-3548BD9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97F5-56F3-4240-9E1F-8621C706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B1CB-7CFE-4506-BDA5-3E80FEAF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A8DA-FE9B-468D-AC5A-EA012601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5E6-CAAB-4A6D-AAC1-1F48E0DD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23E-6856-4EA6-8977-F22EC6A9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A9A-AECA-487C-904B-57EDBC4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397-FA60-4924-8359-C6EA6AE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D6A-5233-4E5C-888D-F0E3298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EBB6-2F9A-4C0E-9973-28CF1E06AED0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4EFD-C5A3-496A-87C8-A384A524A4F5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AEDE-A73C-4DD5-858A-BF7FBDE1C3D1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8399-38DE-4029-853E-6D045711FE3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1000080" y="2652840"/>
            <a:ext cx="4616640" cy="262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651640" y="2544840"/>
            <a:ext cx="23158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2356920"/>
            <a:ext cx="43578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Ashraf Masha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B 14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6-7346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mashely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nday, 11am – 12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5432400" y="2292480"/>
            <a:ext cx="173196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967280" y="3225960"/>
            <a:ext cx="3852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5435640" y="2233440"/>
            <a:ext cx="3510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Dr. Ashraf Mashaly</cp:lastModifiedBy>
  <dcterms:modified xsi:type="dcterms:W3CDTF">2014-11-18T21:48:34Z</dcterms:modified>
  <cp:revision>39</cp:revision>
  <dc:subject/>
  <dc:title>Principals of General Zoology (Zoo-103)</dc:title>
</cp:coreProperties>
</file>