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13CF-FCEE-4C78-AE75-709A4563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9B19-A609-4468-9C81-DE44E39F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C6B7-E3C0-4733-8C56-7AFA1F80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E093-81F3-49EF-B833-C1C5C79B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D381-8A30-44AA-9468-7E737471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E5DE-94F8-413A-A9AE-9D67DF37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CCA8-F5F7-4901-93CC-CECD05FD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1967-54D5-4F10-A179-51B39AD6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18B3-2C2B-4A2B-8D6E-4CCDEEDD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B809-A33E-429E-BD57-1276C07E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69AD-2BA8-408D-B6FE-EEF39E09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722E-4B36-48E7-B87C-30E79AEF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6DDC-5BFF-4653-AC9D-799714EA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FF48-F1F1-4021-B811-6F4ABA95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A66C-3616-4DC2-9739-14EA6F14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294C-D2B3-4F51-9567-C7649F9B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287A-4901-49EB-94CA-18A13B34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DE5C3-1B5B-40E8-83DE-338B5CAA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A0654-BA48-47E7-9A85-4EE21A06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11648-53B0-4452-B6C9-C0D6FB13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6D295-02FB-4CA3-AAD9-FC26F239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2E77F-94A7-4EE3-9926-BF9C6E71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0DA6-314F-4B0E-9A1B-61491ED1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79656-9335-4501-8934-840621D3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8FF23-C095-4EA2-8C51-95E831B6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6289E-5B3C-4303-BBB1-D1F71D2E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467A5-2DA3-40ED-8EED-40BCBE44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E2311-F48B-4448-9B6D-1D6D8B6C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4EBE5-37E1-4917-9A33-AFD6CD34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BDD73-1554-4BBB-9449-06BAA77F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4D8BE-6599-4160-81BD-A4468DA5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2B451-D71A-452E-A18F-4AA6B020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93E20-480A-47B2-85D3-262036A0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485-4B7F-478C-8CAD-24924362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3A899-982D-4966-A6DA-A98228FA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0B4F6-C293-4559-9310-DEE6A940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258FE-0554-4225-864C-96A55620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B9DC0-16B5-42C7-A5FE-124D9841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5F5FF-5788-491D-A63F-C75D4383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0E0C1-B8EA-4B07-8F3A-00515D24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05E55-D78B-48D0-A110-03D86854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4CBB1-4189-4FD8-901D-8D3C98F85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EA81E-10CA-4215-B26A-D85CB4EF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E132-31A3-4915-B79F-154D5F93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3986-BB62-464E-8929-963E2C75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66B3-6908-45CB-A5A9-3D8A955D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EAFD-80D1-4EBD-B0C3-EE90C9FD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6FA1-13DB-4143-B6BA-7E8D3E49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724E-7DFA-4EA4-9588-2AE42B9332DE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9C15-AD81-46FC-9D63-E1678A109A31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7845-B913-4DE9-A903-F460FDE3BCC8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8698-0072-441F-B161-6069378FEDC7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ehavioral_ecology" TargetMode="External"/><Relationship Id="rId2" Type="http://schemas.openxmlformats.org/officeDocument/2006/relationships/hyperlink" Target="http://en.wikipedia.org/wiki/Ecology" TargetMode="External"/><Relationship Id="rId3" Type="http://schemas.openxmlformats.org/officeDocument/2006/relationships/hyperlink" Target="http://en.wikipedia.org/wiki/Evolution" TargetMode="External"/><Relationship Id="rId4" Type="http://schemas.openxmlformats.org/officeDocument/2006/relationships/hyperlink" Target="http://en.wikipedia.org/wiki/Animal_behavior" TargetMode="External"/><Relationship Id="rId5" Type="http://schemas.openxmlformats.org/officeDocument/2006/relationships/hyperlink" Target="http://en.wikipedia.org/wiki/Evolution" TargetMode="External"/><Relationship Id="rId6" Type="http://schemas.openxmlformats.org/officeDocument/2006/relationships/hyperlink" Target="http://en.wikipedia.org/wiki/Population_genetics" TargetMode="External"/><Relationship Id="rId7" Type="http://schemas.openxmlformats.org/officeDocument/2006/relationships/hyperlink" Target="http://en.wikipedia.org/wiki/Heredity" TargetMode="External"/><Relationship Id="rId8" Type="http://schemas.openxmlformats.org/officeDocument/2006/relationships/hyperlink" Target="http://en.wikipedia.org/wiki/Variation" TargetMode="External"/><Relationship Id="rId9" Type="http://schemas.openxmlformats.org/officeDocument/2006/relationships/hyperlink" Target="http://en.wikipedia.org/wiki/Mendelism" TargetMode="External"/><Relationship Id="rId10" Type="http://schemas.openxmlformats.org/officeDocument/2006/relationships/hyperlink" Target="http://en.wikipedia.org/wiki/Reproduction" TargetMode="External"/><Relationship Id="rId11" Type="http://schemas.openxmlformats.org/officeDocument/2006/relationships/hyperlink" Target="http://en.wikipedia.org/wiki/Systematics" TargetMode="External"/><Relationship Id="rId12" Type="http://schemas.openxmlformats.org/officeDocument/2006/relationships/hyperlink" Target="http://en.wikipedia.org/wiki/Taxonomy" TargetMode="Externa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d/Animal_diversity_October_2007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abitats" TargetMode="External"/><Relationship Id="rId2" Type="http://schemas.openxmlformats.org/officeDocument/2006/relationships/hyperlink" Target="http://en.wikipedia.org/wiki/Molecular_Biology" TargetMode="External"/><Relationship Id="rId3" Type="http://schemas.openxmlformats.org/officeDocument/2006/relationships/hyperlink" Target="http://en.wikipedia.org/wiki/Genetics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12"/>
          <p:cNvSpPr/>
          <p:nvPr/>
        </p:nvSpPr>
        <p:spPr>
          <a:xfrm>
            <a:off x="468360" y="5734080"/>
            <a:ext cx="6912000" cy="934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9" descr="biglogo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115964"/>
            </a:outerShdw>
          </a:effectLst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9720" y="1458720"/>
            <a:ext cx="6072120" cy="541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alibri"/>
              </a:rPr>
              <a:t>Principals of General Zoology (Zoo-103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690560" y="6114960"/>
            <a:ext cx="4537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ology Department, 1434-1435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2" descr="C:\Users\د أشرف مشالي\Downloads\1.jpg"/>
          <p:cNvPicPr/>
          <p:nvPr/>
        </p:nvPicPr>
        <p:blipFill>
          <a:blip r:embed="rId2"/>
          <a:stretch/>
        </p:blipFill>
        <p:spPr>
          <a:xfrm>
            <a:off x="1071720" y="2629080"/>
            <a:ext cx="4491000" cy="25146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115964"/>
            </a:outerShdw>
          </a:effectLst>
        </p:spPr>
      </p:pic>
      <p:pic>
        <p:nvPicPr>
          <p:cNvPr id="202" name="Picture 14" descr="C:\Users\د أشرف مشالي\Downloads\3.jpg"/>
          <p:cNvPicPr/>
          <p:nvPr/>
        </p:nvPicPr>
        <p:blipFill>
          <a:blip r:embed="rId3"/>
          <a:srcRect l="0" t="0" r="40464" b="0"/>
          <a:stretch/>
        </p:blipFill>
        <p:spPr>
          <a:xfrm>
            <a:off x="5786280" y="2571840"/>
            <a:ext cx="2214720" cy="2786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115964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ubfields of zoology</a:t>
            </a:r>
            <a:r>
              <a:rPr b="0" lang="en-GB" sz="4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28760" y="2428920"/>
            <a:ext cx="8286480" cy="392904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1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"/>
              </a:rPr>
              <a:t>Behavioral ecology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: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بيئة السلوكي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study of the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2"/>
              </a:rPr>
              <a:t>ecological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يئي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3"/>
              </a:rPr>
              <a:t>evolutionar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طوري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basis for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4"/>
              </a:rPr>
              <a:t>animal behavior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and the roles of behavior in enabling an animal to adapt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تكيف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to its environment (both intrinsic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داخليا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extrins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وخارجي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1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Evolutionary bi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بيولوجيا التطور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See of both animals and plants is considered in the articles on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5"/>
              </a:rPr>
              <a:t>evolu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6"/>
              </a:rPr>
              <a:t>population genetics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7"/>
              </a:rPr>
              <a:t>heredit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8"/>
              </a:rPr>
              <a:t>varia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9"/>
              </a:rPr>
              <a:t>Mendelism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0"/>
              </a:rPr>
              <a:t>reproduc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5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1"/>
              </a:rPr>
              <a:t>Systematics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تصنيف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and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2"/>
              </a:rPr>
              <a:t>taxonomy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تقيبم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classif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يصنف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group species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ويرتب الأنواع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i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via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common descent and regional associations.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1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ubfields of zoology</a:t>
            </a:r>
            <a:r>
              <a:rPr b="0" lang="en-GB" sz="4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79480" y="2500200"/>
            <a:ext cx="7693200" cy="378648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Entom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حشر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insects, the largest group of anim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Palaeont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حفريات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prehistoric life, including organisms' evolution and interactions with each other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فاعل الكائنات فيما بينه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and their environments. As a "historical science“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Eth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سلوك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animal behavi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42760" y="928440"/>
            <a:ext cx="52290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  <a:ea typeface="Traditional Arabic"/>
              </a:rPr>
              <a:t>Learning Objectiv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90200" y="2142720"/>
            <a:ext cx="6853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Structure,function and cytogenetics of the animal cel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Different animal tissu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Taxonom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Important Phyla, Classes, Genera, and Spec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Anatomy and physiolog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Interesting structu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Nutrition, digestion and metabolis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Blood composition and func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  <a:ea typeface="Traditional Arabic"/>
              </a:rPr>
              <a:t>Assessment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53056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Lec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2 Midterm exams (30%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Cumulative final exam (40%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70% of total gra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2 laboratory exa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Lab noteboo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Field trip or pap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30% of total gra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7" descr="Blue-ringed Octopus"/>
          <p:cNvPicPr/>
          <p:nvPr/>
        </p:nvPicPr>
        <p:blipFill>
          <a:blip r:embed="rId1"/>
          <a:stretch/>
        </p:blipFill>
        <p:spPr>
          <a:xfrm>
            <a:off x="5143680" y="2571840"/>
            <a:ext cx="385740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alibri"/>
                <a:ea typeface="Traditional Arabic"/>
              </a:rPr>
              <a:t>Tips for Succeeding in Lecture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1680" y="245700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Read assigned chapters before attending lecture (do the same for lab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Study at least 4 hrs per week, from no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See me with specific ques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Tests are combination of multiple-choice and short answer / fill-in ques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Test questions will be derived from both the lecture no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Traditional Arabic"/>
              </a:rPr>
              <a:t>Grading and “Will There Be a Curve?”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37720" y="2361960"/>
            <a:ext cx="38768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A = 90% or abo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B = 80% - 8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C = 70% - 7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Plus / Minu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A+ = 95% or abo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A   = 90% - 94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B+ = 85% - 8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  <a:ea typeface="Traditional Arabic"/>
              </a:rPr>
              <a:t>Missed / Late Exam Policy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229212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No make-up exams, except with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Medical documen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Legal documen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Make-up exams will be essay for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f you arrive late to an exam, and even one exam has already been turned in, you will be given an essay t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  <a:ea typeface="Traditional Arabic"/>
              </a:rPr>
              <a:t>The Biological Scien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00040" y="2143080"/>
            <a:ext cx="809136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Biology – study of lif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Many different fields (some exampl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Zoology – study of anim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Anatomy – study of morphological struc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Physiology – study of how body structures (cells, organs, organ systems, etc) func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Evolution – study of change over time (molecular level to ecosystem leve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Ecology – study of how organisms interact and affect their environments, or vice ver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214200" y="3011400"/>
            <a:ext cx="5072040" cy="27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19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80" indent="19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branch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فرع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of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Biology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that focuses on the structure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ركيب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functio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وظيفة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behavior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لوك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nd evolutio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طور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of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File:Animal diversity October 200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46720" y="2500200"/>
            <a:ext cx="3511440" cy="42148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1206360"/>
            <a:ext cx="7924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500" spc="-1" strike="noStrike">
                <a:solidFill>
                  <a:srgbClr val="000000"/>
                </a:solidFill>
                <a:latin typeface="Calibri"/>
                <a:ea typeface="Traditional Arabic"/>
              </a:rPr>
              <a:t>Zoology (Science of animal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ar-SA" sz="45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ubfields of zoology</a:t>
            </a:r>
            <a:r>
              <a:rPr b="0" lang="en-GB" sz="4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714240" y="2286000"/>
            <a:ext cx="7782120" cy="428616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Zoography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حيوان الوصفي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lso known as descriptive zoology: describ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ص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nimals and their </a:t>
            </a:r>
            <a:r>
              <a:rPr b="0" lang="ar-SA" sz="24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"/>
              </a:rPr>
              <a:t>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ماكن معيشته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Comparative anatom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تشريح المقار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studies the structure of animal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Animal physi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وظائف الأعضاء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study of the mechanical, physical, and biochemical functions of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nimal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Molecular Biology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لم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بيولوجيا الجزيئية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studies the common </a:t>
            </a:r>
            <a:r>
              <a:rPr b="0" lang="ar-SA" sz="24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genetic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راث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and developmental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تطور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mechanisms of animals and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WIN7</cp:lastModifiedBy>
  <dcterms:modified xsi:type="dcterms:W3CDTF">2016-10-15T21:08:07Z</dcterms:modified>
  <cp:revision>42</cp:revision>
  <dc:subject/>
  <dc:title>Principals of General Zoology (Zoo-103)</dc:title>
</cp:coreProperties>
</file>