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059-4D2D-4084-8514-38C7970D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85C-3086-4EB4-8E2B-FAF2BCD7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F4A-92E4-4894-B8F8-C9462ED5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EF6-3E6F-4066-9636-15E47C50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30DE-094D-493E-B5C6-2072E829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D812-E1FB-4475-B774-3AE68CA1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B749-74CE-4063-9362-F278C5E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664D-B53D-41CB-8A85-0B4FAF0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CF48-494C-42F7-8406-8D604F0C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0BC3-B7BE-4732-9BF3-71DA304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340D-8EE8-4C75-8197-740BDF2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D37-3583-4854-9E82-83B3065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1569-78CA-44A7-9190-CA23FB5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957-F835-4F8D-A8E0-7CA841B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6804-501E-43ED-BD7C-F36E5998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4C9-EDE5-451D-86E1-6F606551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8187-F474-4788-9FCF-880FDA70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0D1D-0084-4942-ADB6-3FC726B6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7924-5883-4C0D-B875-AEAEF1B7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CF43-8763-4667-B33F-BA6EB6D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CB64-EBD7-47A8-8DB6-5A1E5C8C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F596-9446-474B-A50F-A66DFFD9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2AC-7060-4BB2-A25D-E860AEB4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01EA-71A4-4B8A-B722-351737F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97F8-7A03-48BF-B77D-B5311C5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1D8A-ABE1-4B14-9CC5-582294F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AB48-39E4-4AE0-B418-82EB712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EAEA-D00E-4904-BC3E-7D425574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9769-809E-4D6D-B01A-9487013F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2D15-470A-4640-B824-EA0104AC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FB12-F7A2-4EB8-A083-EF154070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71E2-DCFF-4629-8BB6-ED45935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8F89-9E0E-4C1D-BF94-884F9380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673-D7A2-45D6-9286-59578715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B50A-9E77-499A-AD11-C18DE56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5C00A-C486-4E4B-BA80-74E4AD6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D108-CD32-48D1-8EB6-2E52866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148A-1594-4797-9498-3E5A265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8220-CB72-4F81-A31C-2119133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93FA-82F4-4B6F-92C7-5AC1705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F368-094E-4906-8253-0B2D87B2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E2BA-74CD-4628-AEA5-71B28CAC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53A9-88B4-454B-9C77-C887BD96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82E-FD8B-4ADA-B10B-8A9FC637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756-083F-43DE-91BE-8BAB939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DDC-8151-4CD4-8E36-8B0777C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BC1-982C-46BB-8D02-3018BF8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61A-F733-40A0-B7EC-2AA710DB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F50-E370-4240-874F-71589E7C3427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E22-4543-49AD-AFB7-F134CB8F47B6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5FA-C4D4-4639-AE13-DF1A4257868A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77C-4569-4C2A-AA47-2C1C10CDCA25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Animal_diversity_October_200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C:\Users\د أشرف مشالي\Downloads\1.jpg"/>
          <p:cNvPicPr/>
          <p:nvPr/>
        </p:nvPicPr>
        <p:blipFill>
          <a:blip r:embed="rId2"/>
          <a:stretch/>
        </p:blipFill>
        <p:spPr>
          <a:xfrm>
            <a:off x="1071720" y="2629080"/>
            <a:ext cx="4491000" cy="2514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pic>
        <p:nvPicPr>
          <p:cNvPr id="202" name="Picture 14" descr="C:\Users\د أشرف مشالي\Downloads\3.jpg"/>
          <p:cNvPicPr/>
          <p:nvPr/>
        </p:nvPicPr>
        <p:blipFill>
          <a:blip r:embed="rId3"/>
          <a:srcRect l="0" t="0" r="40464" b="0"/>
          <a:stretch/>
        </p:blipFill>
        <p:spPr>
          <a:xfrm>
            <a:off x="5786280" y="2571840"/>
            <a:ext cx="2214720" cy="2786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 Midterm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7" descr="Blue-ringed Octopus"/>
          <p:cNvPicPr/>
          <p:nvPr/>
        </p:nvPicPr>
        <p:blipFill>
          <a:blip r:embed="rId1"/>
          <a:stretch/>
        </p:blipFill>
        <p:spPr>
          <a:xfrm>
            <a:off x="5143680" y="2571840"/>
            <a:ext cx="38574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  <a:ea typeface="Traditional Arabic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Traditional Arabic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  <a:ea typeface="Traditional Arabic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File:Animal diversity October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46720" y="2500200"/>
            <a:ext cx="3511440" cy="4214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WIN7</cp:lastModifiedBy>
  <dcterms:modified xsi:type="dcterms:W3CDTF">2016-10-15T21:08:07Z</dcterms:modified>
  <cp:revision>42</cp:revision>
  <dc:subject/>
  <dc:title>Principals of General Zoology (Zoo-103)</dc:title>
</cp:coreProperties>
</file>