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media/image10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C4F6-F0D9-4D96-BA03-5EE1E1253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A5F3-37D9-491B-8454-EE6C59EAC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E556-ED39-4B2C-BE20-97133CB2B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55CE-8828-4130-A407-0A4DDE8AE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839B8-7608-494E-BA7D-3A5E720E8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D9665-9116-43C1-A26E-6FA97B8E0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6395B-3B74-4048-B42F-1BF9226BA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9ED40-A8C5-49C6-903C-6B6CD39E2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EFE09-E27E-4DAF-BFE1-151433ED3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5C5A7-D646-4543-8B54-3FDCEB665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52D74-BC16-4E5A-988A-E50079FED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556C-D44B-49F0-80EA-C82BD69AC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2BCAC-229E-4AFB-9E1B-6D60AE24C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C73C6-10FA-4ED1-8340-B11C91942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A3893-0E97-4292-8863-A9963B733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9BF24-6F11-4064-86DF-64C14FD80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73829-55D6-4A45-94E3-7226C7FCB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84CD7-7D0B-4D45-A210-B5A842D05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6BC40-845D-4047-8E15-E12CE53A1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21F0B-ED17-4DBB-95EF-25059B051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AB6CC-87CF-41AE-B291-745202244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04559-DC81-4647-9836-5092A8B65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D146-AA1D-4D3D-B730-BDBE31298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C0C84-77EE-4FCD-8904-FB17A2437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F746E-F9BD-4ACA-A938-F80D6D2DC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D90CA-72D6-4F76-9BFB-ABEE3D1CF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A5779-AEEC-43A0-A92B-F2DC806D4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32740-F6E9-405F-BD25-E454770D8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6C6CD-0250-4F40-8515-09E8CF6D1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BAB64-E5C3-4A12-AC59-703D9A50A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8ADC0-8697-460F-8127-AF33AE004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54B73-1BBB-4803-B831-00310AC67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D21A0-91A7-4F3F-917E-B49D4D4B1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3B1C-D1DF-4892-BDDA-0B9AACF6A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AC838-C97C-425C-ADB7-B999E39FA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F375A-75A7-4476-802D-E53A8FF5E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75B14-BCA6-4F3E-82C4-312D3B39B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BA554-D542-4093-852A-DFBF7890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54E48-0ED2-4546-864C-7AC4BECF9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3056C-E8C4-4F3A-9890-BC4A14144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C9446-E821-40AD-AB94-F83262262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8A51E-7127-4E2D-BE7D-C614395BF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33FCB-CD74-41D6-B94A-361DCCA27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EE67-5EE8-40B5-83C7-63545C8A9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9E9A-253A-4ED5-AFC2-0D7B028DC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FADB-17D9-409C-A8AD-5742F08EB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E6AF-3B19-4337-B1A5-40ED0115D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9E58-9344-49F5-896F-227DF978C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DAA3B-4267-4F10-9A95-FCD2C1A2BB25}" type="slidenum">
              <a:rPr b="0" lang="en-GB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42757-B5EA-47C1-BB50-562ABD38E6E3}" type="slidenum">
              <a:rPr b="0" lang="en-GB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35C91-FFFC-4D6D-9E40-BC6DE04CDFCE}" type="slidenum">
              <a:rPr b="0" lang="en-GB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7691A-4594-4145-AA30-9DD02BAF88D4}" type="slidenum">
              <a:rPr b="0" lang="en-GB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Habitats" TargetMode="External"/><Relationship Id="rId2" Type="http://schemas.openxmlformats.org/officeDocument/2006/relationships/hyperlink" Target="http://en.wikipedia.org/wiki/Molecular_Biology" TargetMode="External"/><Relationship Id="rId3" Type="http://schemas.openxmlformats.org/officeDocument/2006/relationships/hyperlink" Target="http://en.wikipedia.org/wiki/Genetics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Behavioral_ecology" TargetMode="External"/><Relationship Id="rId2" Type="http://schemas.openxmlformats.org/officeDocument/2006/relationships/hyperlink" Target="http://en.wikipedia.org/wiki/Ecology" TargetMode="External"/><Relationship Id="rId3" Type="http://schemas.openxmlformats.org/officeDocument/2006/relationships/hyperlink" Target="http://en.wikipedia.org/wiki/Evolution" TargetMode="External"/><Relationship Id="rId4" Type="http://schemas.openxmlformats.org/officeDocument/2006/relationships/hyperlink" Target="http://en.wikipedia.org/wiki/Animal_behavior" TargetMode="External"/><Relationship Id="rId5" Type="http://schemas.openxmlformats.org/officeDocument/2006/relationships/hyperlink" Target="http://en.wikipedia.org/wiki/Evolution" TargetMode="External"/><Relationship Id="rId6" Type="http://schemas.openxmlformats.org/officeDocument/2006/relationships/hyperlink" Target="http://en.wikipedia.org/wiki/Population_genetics" TargetMode="External"/><Relationship Id="rId7" Type="http://schemas.openxmlformats.org/officeDocument/2006/relationships/hyperlink" Target="http://en.wikipedia.org/wiki/Heredity" TargetMode="External"/><Relationship Id="rId8" Type="http://schemas.openxmlformats.org/officeDocument/2006/relationships/hyperlink" Target="http://en.wikipedia.org/wiki/Variation" TargetMode="External"/><Relationship Id="rId9" Type="http://schemas.openxmlformats.org/officeDocument/2006/relationships/hyperlink" Target="http://en.wikipedia.org/wiki/Mendelism" TargetMode="External"/><Relationship Id="rId10" Type="http://schemas.openxmlformats.org/officeDocument/2006/relationships/hyperlink" Target="http://en.wikipedia.org/wiki/Reproduction" TargetMode="External"/><Relationship Id="rId11" Type="http://schemas.openxmlformats.org/officeDocument/2006/relationships/hyperlink" Target="http://en.wikipedia.org/wiki/Systematics" TargetMode="External"/><Relationship Id="rId12" Type="http://schemas.openxmlformats.org/officeDocument/2006/relationships/hyperlink" Target="http://en.wikipedia.org/wiki/Taxonomy" TargetMode="External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AutoShape 12"/>
          <p:cNvSpPr/>
          <p:nvPr/>
        </p:nvSpPr>
        <p:spPr>
          <a:xfrm>
            <a:off x="468360" y="5734080"/>
            <a:ext cx="6912000" cy="9349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43570" dir="8100000" blurRad="0" rotWithShape="0">
              <a:srgbClr val="dbf5f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9" descr="biglogo"/>
          <p:cNvPicPr/>
          <p:nvPr/>
        </p:nvPicPr>
        <p:blipFill>
          <a:blip r:embed="rId1"/>
          <a:stretch/>
        </p:blipFill>
        <p:spPr>
          <a:xfrm>
            <a:off x="7236000" y="0"/>
            <a:ext cx="1908000" cy="190800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115964"/>
            </a:outerShdw>
          </a:effectLst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99720" y="1458720"/>
            <a:ext cx="6072120" cy="541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dbf5f9">
                <a:alpha val="50000"/>
              </a:srgbClr>
            </a:outerShdw>
          </a:effectLst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Calibri"/>
              </a:rPr>
              <a:t>Principals of General Zoology (Zoo-103)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1690560" y="6114960"/>
            <a:ext cx="45370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oology Department, 1435-1436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1" descr=""/>
          <p:cNvPicPr/>
          <p:nvPr/>
        </p:nvPicPr>
        <p:blipFill>
          <a:blip r:embed="rId2"/>
          <a:stretch/>
        </p:blipFill>
        <p:spPr>
          <a:xfrm>
            <a:off x="1000080" y="2652840"/>
            <a:ext cx="4616640" cy="26240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" descr=""/>
          <p:cNvPicPr/>
          <p:nvPr/>
        </p:nvPicPr>
        <p:blipFill>
          <a:blip r:embed="rId3"/>
          <a:stretch/>
        </p:blipFill>
        <p:spPr>
          <a:xfrm>
            <a:off x="5651640" y="2544840"/>
            <a:ext cx="2315880" cy="29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4617b"/>
                </a:solidFill>
                <a:latin typeface="Calibri"/>
                <a:ea typeface="Traditional Arabic"/>
              </a:rPr>
              <a:t>Subfields of zoology</a:t>
            </a:r>
            <a:r>
              <a:rPr b="0" lang="en-GB" sz="44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714240" y="2286000"/>
            <a:ext cx="7782120" cy="4286160"/>
          </a:xfrm>
          <a:prstGeom prst="rect">
            <a:avLst/>
          </a:prstGeom>
          <a:solidFill>
            <a:srgbClr val="089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Zoography</a:t>
            </a:r>
            <a:r>
              <a:rPr b="0" lang="ar-SA" sz="2000" spc="-1" strike="noStrike" u="sng">
                <a:solidFill>
                  <a:srgbClr val="000000"/>
                </a:solidFill>
                <a:uFillTx/>
                <a:latin typeface="Constantia"/>
                <a:cs typeface="Majalla UI"/>
              </a:rPr>
              <a:t>علم الحيوان الوصفي</a:t>
            </a:r>
            <a:r>
              <a:rPr b="0" lang="ar-SA" sz="20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also known as descriptive zoology: describe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يصف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0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animals and their </a:t>
            </a:r>
            <a:r>
              <a:rPr b="0" lang="ar-SA" sz="2400" spc="-1" strike="noStrike" u="sng">
                <a:solidFill>
                  <a:srgbClr val="e2d700"/>
                </a:solidFill>
                <a:uFillTx/>
                <a:latin typeface="Constantia"/>
                <a:ea typeface="Majalla UI"/>
                <a:hlinkClick r:id="rId1"/>
              </a:rPr>
              <a:t>habitat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أماكن معيشتها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Comparative anatomy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علم التشريح المقارن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: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studies the structure of animals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Animal physiology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علم وظائف الأعضاء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is the study of the mechanical, physical, and biochemical functions of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animals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e2d700"/>
                </a:solidFill>
                <a:uFillTx/>
                <a:latin typeface="Arial"/>
                <a:hlinkClick r:id="rId2"/>
              </a:rPr>
              <a:t>Molecular Biology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علم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بيولوجيا الجزيئية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: </a:t>
            </a:r>
            <a:r>
              <a:rPr b="0" lang="ar-SA" sz="2400" spc="-1" strike="noStrike">
                <a:solidFill>
                  <a:srgbClr val="0000ff"/>
                </a:solidFill>
                <a:latin typeface="Arial"/>
              </a:rPr>
              <a:t>studies the common </a:t>
            </a:r>
            <a:r>
              <a:rPr b="0" lang="ar-SA" sz="2400" spc="-1" strike="noStrike" u="sng">
                <a:solidFill>
                  <a:srgbClr val="e2d700"/>
                </a:solidFill>
                <a:uFillTx/>
                <a:latin typeface="Arial"/>
                <a:hlinkClick r:id="rId3"/>
              </a:rPr>
              <a:t>genetic</a:t>
            </a:r>
            <a:r>
              <a:rPr b="0" lang="ar-SA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وراثي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ff"/>
                </a:solidFill>
                <a:latin typeface="Arial"/>
              </a:rPr>
              <a:t>and developmental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تطوري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ff"/>
                </a:solidFill>
                <a:latin typeface="Arial"/>
              </a:rPr>
              <a:t>mechanisms of animals and pla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4617b"/>
                </a:solidFill>
                <a:latin typeface="Calibri"/>
                <a:ea typeface="Traditional Arabic"/>
              </a:rPr>
              <a:t>Subfields of zoology</a:t>
            </a:r>
            <a:r>
              <a:rPr b="0" lang="en-GB" sz="44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28760" y="2428920"/>
            <a:ext cx="8286480" cy="3929040"/>
          </a:xfrm>
          <a:prstGeom prst="rect">
            <a:avLst/>
          </a:prstGeom>
          <a:solidFill>
            <a:srgbClr val="089ca3"/>
          </a:solidFill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11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e2d700"/>
                </a:solidFill>
                <a:uFillTx/>
                <a:latin typeface="Constantia"/>
                <a:ea typeface="Majalla UI"/>
                <a:hlinkClick r:id="rId1"/>
              </a:rPr>
              <a:t>Behavioral ecology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: 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علم البيئة السلوكي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is the study of the </a:t>
            </a:r>
            <a:r>
              <a:rPr b="0" lang="ar-SA" sz="2000" spc="-1" strike="noStrike" u="sng">
                <a:solidFill>
                  <a:srgbClr val="e2d700"/>
                </a:solidFill>
                <a:uFillTx/>
                <a:latin typeface="Constantia"/>
                <a:ea typeface="Majalla UI"/>
                <a:hlinkClick r:id="rId2"/>
              </a:rPr>
              <a:t>ecological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بيئي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and </a:t>
            </a:r>
            <a:r>
              <a:rPr b="0" lang="ar-SA" sz="2000" spc="-1" strike="noStrike" u="sng">
                <a:solidFill>
                  <a:srgbClr val="e2d700"/>
                </a:solidFill>
                <a:uFillTx/>
                <a:latin typeface="Constantia"/>
                <a:ea typeface="Majalla UI"/>
                <a:hlinkClick r:id="rId3"/>
              </a:rPr>
              <a:t>evolutionary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تطوري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basis for </a:t>
            </a:r>
            <a:r>
              <a:rPr b="0" lang="ar-SA" sz="2000" spc="-1" strike="noStrike" u="sng">
                <a:solidFill>
                  <a:srgbClr val="e2d700"/>
                </a:solidFill>
                <a:uFillTx/>
                <a:latin typeface="Constantia"/>
                <a:ea typeface="Majalla UI"/>
                <a:hlinkClick r:id="rId4"/>
              </a:rPr>
              <a:t>animal behavior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, and the roles of behavior in enabling an animal to adapt 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يتكيف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to its environment (both intrinsic 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داخليا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and extrinsic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وخارجيا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1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Evolutionary biology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علم البيولوجيا التطوري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: 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See of both animals and plants is considered in the articles on </a:t>
            </a:r>
            <a:r>
              <a:rPr b="0" lang="ar-SA" sz="2000" spc="-1" strike="noStrike" u="sng">
                <a:solidFill>
                  <a:srgbClr val="e2d700"/>
                </a:solidFill>
                <a:uFillTx/>
                <a:latin typeface="Constantia"/>
                <a:ea typeface="Majalla UI"/>
                <a:hlinkClick r:id="rId5"/>
              </a:rPr>
              <a:t>evolution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, </a:t>
            </a:r>
            <a:r>
              <a:rPr b="0" lang="ar-SA" sz="2000" spc="-1" strike="noStrike" u="sng">
                <a:solidFill>
                  <a:srgbClr val="e2d700"/>
                </a:solidFill>
                <a:uFillTx/>
                <a:latin typeface="Constantia"/>
                <a:ea typeface="Majalla UI"/>
                <a:hlinkClick r:id="rId6"/>
              </a:rPr>
              <a:t>population genetics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, </a:t>
            </a:r>
            <a:r>
              <a:rPr b="0" lang="ar-SA" sz="2000" spc="-1" strike="noStrike" u="sng">
                <a:solidFill>
                  <a:srgbClr val="e2d700"/>
                </a:solidFill>
                <a:uFillTx/>
                <a:latin typeface="Constantia"/>
                <a:ea typeface="Majalla UI"/>
                <a:hlinkClick r:id="rId7"/>
              </a:rPr>
              <a:t>heredity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, </a:t>
            </a:r>
            <a:r>
              <a:rPr b="0" lang="ar-SA" sz="2000" spc="-1" strike="noStrike" u="sng">
                <a:solidFill>
                  <a:srgbClr val="e2d700"/>
                </a:solidFill>
                <a:uFillTx/>
                <a:latin typeface="Constantia"/>
                <a:ea typeface="Majalla UI"/>
                <a:hlinkClick r:id="rId8"/>
              </a:rPr>
              <a:t>variation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, </a:t>
            </a:r>
            <a:r>
              <a:rPr b="0" lang="ar-SA" sz="2000" spc="-1" strike="noStrike" u="sng">
                <a:solidFill>
                  <a:srgbClr val="e2d700"/>
                </a:solidFill>
                <a:uFillTx/>
                <a:latin typeface="Constantia"/>
                <a:ea typeface="Majalla UI"/>
                <a:hlinkClick r:id="rId9"/>
              </a:rPr>
              <a:t>Mendelism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, </a:t>
            </a:r>
            <a:r>
              <a:rPr b="0" lang="ar-SA" sz="2000" spc="-1" strike="noStrike" u="sng">
                <a:solidFill>
                  <a:srgbClr val="e2d700"/>
                </a:solidFill>
                <a:uFillTx/>
                <a:latin typeface="Constantia"/>
                <a:ea typeface="Majalla UI"/>
                <a:hlinkClick r:id="rId10"/>
              </a:rPr>
              <a:t>reproduction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75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 u="sng">
                <a:solidFill>
                  <a:srgbClr val="e2d700"/>
                </a:solidFill>
                <a:uFillTx/>
                <a:latin typeface="Constantia"/>
                <a:ea typeface="Majalla UI"/>
                <a:hlinkClick r:id="rId11"/>
              </a:rPr>
              <a:t>Systematics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onstantia"/>
                <a:cs typeface="Majalla UI"/>
              </a:rPr>
              <a:t>علم التصنيف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and </a:t>
            </a:r>
            <a:r>
              <a:rPr b="0" lang="ar-SA" sz="2000" spc="-1" strike="noStrike" u="sng">
                <a:solidFill>
                  <a:srgbClr val="e2d700"/>
                </a:solidFill>
                <a:uFillTx/>
                <a:latin typeface="Constantia"/>
                <a:ea typeface="Majalla UI"/>
                <a:hlinkClick r:id="rId12"/>
              </a:rPr>
              <a:t>taxonomy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onstantia"/>
                <a:cs typeface="Majalla UI"/>
              </a:rPr>
              <a:t>علم التقيبم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: 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classify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cs typeface="Majalla UI"/>
              </a:rPr>
              <a:t>يصنف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 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and group species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cs typeface="Majalla UI"/>
              </a:rPr>
              <a:t>ويرتب الأنواع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 </a:t>
            </a:r>
            <a:r>
              <a:rPr b="0" i="1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via</a:t>
            </a:r>
            <a:r>
              <a:rPr b="0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common descent and regional associations.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1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04617b"/>
                </a:solidFill>
                <a:latin typeface="Calibri"/>
                <a:ea typeface="Traditional Arabic"/>
              </a:rPr>
              <a:t>Subfields of zoology</a:t>
            </a: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879480" y="2500200"/>
            <a:ext cx="7693200" cy="3786480"/>
          </a:xfrm>
          <a:prstGeom prst="rect">
            <a:avLst/>
          </a:prstGeom>
          <a:solidFill>
            <a:srgbClr val="089ca3"/>
          </a:solidFill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Entomology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علم الحشرات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: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is the study of insects, the largest group of anima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Palaeontology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علم الحفريات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: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is the study of prehistoric life, including organisms' evolution and interactions with each other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فاعل الكائنات فيما بينها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and their environments. As a "historical science“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Ethology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علم السلوك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is the study of animal behavio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General Inform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56800" y="2356920"/>
            <a:ext cx="43578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r. Khalid Al-Ghani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B 68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46-96128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kghanim@ksu.edu.s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ffice hou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unday, 11am – 12am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lso by appointmen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Picture 1" descr=""/>
          <p:cNvPicPr/>
          <p:nvPr/>
        </p:nvPicPr>
        <p:blipFill>
          <a:blip r:embed="rId1"/>
          <a:stretch/>
        </p:blipFill>
        <p:spPr>
          <a:xfrm>
            <a:off x="5432400" y="2292480"/>
            <a:ext cx="1731960" cy="40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42760" y="928440"/>
            <a:ext cx="5229000" cy="928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alibri"/>
              </a:rPr>
              <a:t>Learning Objectiv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90200" y="2142720"/>
            <a:ext cx="68533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Structure,function and cytogenetics of the animal cell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Different animal tissu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axonomy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mportant Phyla, Classes, Genera, and Speci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Anatomy and physiology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nteresting structur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Nutrition, digestion and metabolism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Blood composition and functio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alibri"/>
              </a:rPr>
              <a:t>Assessment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530568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ectur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2 lecture exams (30%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umulative final exam (40%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70% of total grad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2 laboratory exam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Lab notebook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ield trip or pap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30% of total grad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4967280" y="3225960"/>
            <a:ext cx="3852720" cy="25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214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alibri"/>
              </a:rPr>
              <a:t>Tips for Succeeding in Lecture</a:t>
            </a:r>
            <a:endParaRPr b="0" lang="en-US" sz="3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571680" y="2457000"/>
            <a:ext cx="8229600" cy="39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Read assigned chapters before attending lecture (do the same for lab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tudy at least 4 hrs per week, from not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ee me with specific question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ests are combination of multiple-choice and short answer / fill-in question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est questions will be derived from both the lecture not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Grading and “Will There Be a Curve?”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837720" y="2361960"/>
            <a:ext cx="387684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tandar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 = 90% or abov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B = 80% - 89%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 = 70% - 79%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Etc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lus / Minu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+ = 95% or abov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   = 90% - 94%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B+ = 85% - 89%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Etc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alibri"/>
              </a:rPr>
              <a:t>Missed / Late Exam Policy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2292120"/>
            <a:ext cx="8229600" cy="349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o make-up exams, except with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edical documentati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Legal documentati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ke-up exams will be essay for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f you arrive late to an exam, and even one exam has already been turned in, you will be given an essay tes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ff"/>
                </a:solidFill>
                <a:latin typeface="Calibri"/>
              </a:rPr>
              <a:t>The Biological Scienc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500040" y="2143080"/>
            <a:ext cx="8091360" cy="43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iology – study of lif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ny different fields (some example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Zoology – study of anima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atomy – study of morphological structur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hysiology – study of how body structures (cells, organs, organ systems, etc) function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volution – study of change over time (molecular level to ecosystem leve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cology – study of how organisms interact and affect their environments, or vice vers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214200" y="3011400"/>
            <a:ext cx="5072040" cy="2774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80" indent="19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80" indent="19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Is the branch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فرع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of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nstantia"/>
              </a:rPr>
              <a:t>Biology</a:t>
            </a:r>
            <a:r>
              <a:rPr b="1" lang="ar-SA" sz="2400" spc="-1" strike="noStrike">
                <a:solidFill>
                  <a:srgbClr val="c00000"/>
                </a:solidFill>
                <a:latin typeface="Constantia"/>
                <a:ea typeface="Majalla UI"/>
              </a:rPr>
              <a:t> 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that focuses on the structure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تركيب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, function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وظيفة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, behavior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سلوك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,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and evolution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تطور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of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nstantia"/>
              </a:rPr>
              <a:t>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61760" y="1206360"/>
            <a:ext cx="79246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500" spc="-1" strike="noStrike">
                <a:solidFill>
                  <a:srgbClr val="000000"/>
                </a:solidFill>
                <a:latin typeface="Calibri"/>
                <a:ea typeface="Traditional Arabic"/>
              </a:rPr>
              <a:t>Zoology (Science of animal</a:t>
            </a: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ar-SA" sz="45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1" name="Picture 1" descr=""/>
          <p:cNvPicPr/>
          <p:nvPr/>
        </p:nvPicPr>
        <p:blipFill>
          <a:blip r:embed="rId1"/>
          <a:stretch/>
        </p:blipFill>
        <p:spPr>
          <a:xfrm>
            <a:off x="5435640" y="2233440"/>
            <a:ext cx="3510000" cy="42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8:13:50Z</dcterms:created>
  <dc:creator>Dr. A A</dc:creator>
  <dc:description/>
  <dc:language>en-US</dc:language>
  <cp:lastModifiedBy>User</cp:lastModifiedBy>
  <dcterms:modified xsi:type="dcterms:W3CDTF">2015-03-11T03:56:34Z</dcterms:modified>
  <cp:revision>40</cp:revision>
  <dc:subject/>
  <dc:title>Principals of General Zoology (Zoo-103)</dc:title>
</cp:coreProperties>
</file>