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D56-5715-4BD5-9DEB-F27637C9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D01-D8D9-4BB6-A5A4-C4D48A1F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FCB-B29A-419E-B435-00180BC1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641-7330-416D-A419-CDD3FDCA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203E-4790-41D1-A94E-67E73222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52B3-0881-4F77-A5BD-6AB59D5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FF50-8074-46EF-B82B-5D27CC8E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BAE5-0F2E-447D-B1BB-4B30FD8F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27D9-3E5D-423B-9929-6B511A3F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E348-C250-4CD9-AEDC-5069BB27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0D05-990B-47A9-B8AE-77EF8564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C14-87BD-4ADE-BB15-68C3AE1C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046C-2A8D-4958-A310-4B12B95A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8709-48E7-4212-B2B7-9074D86E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4BA0-E228-464C-A6D4-6CC1B55F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594A-6EC6-4CBE-AE45-C4E4B8E2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EFFA-3293-422B-B387-C623ED14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602B-428A-4C2E-B007-1A4AE82E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4698-CAE6-4D08-8062-2CE813B8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465C-21F1-4571-900A-79511BE6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C5F3-4F9F-4630-B9B8-AF93901F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DD88-F6DE-4590-9541-BAD4B73E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13D-F0ED-4565-BF6F-E807E1FF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E36C-8EE6-4480-8864-FA78D08B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5CAF-04B4-4B62-9FC8-B1F306B5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4599-9F6F-4F70-B182-F648C560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1678-AD0A-48EF-B8A2-7EFE94A7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673C-404F-4E9F-AE55-D1CA8771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AF71-C571-469A-93A3-8F9A5E35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419C-4DC8-4ACE-A10B-70A60364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42BE-C087-45CC-9D3B-087CECBF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07E54-86B7-445E-98E1-0FC2E046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3E2C-6C17-45D7-9AA9-26A24EC4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A8A-E88A-49F0-A4A5-56C0476F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FFDB1-FFEC-4E0E-8438-2AD54EAF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A326-6E13-44E1-B965-42FFB28C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58407-6E23-4226-AC8F-3D472E20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69197-5BDD-4157-9997-F9436DEF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6A32C-3ADB-4CA0-9D6F-FB22B016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C6DB7-2615-4D5E-8117-A3A62E5F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1038F-1843-4B8E-9D5F-7F6EEB94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F1A5-72C6-481A-B3CC-0CD244C1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B0CD4-28E1-4BD5-8005-7F6248A8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0E7-52F6-4BF3-981F-F295D22D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45D-2B3E-45D9-94F7-DEACBCF6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8FE-394D-4E0D-ADB9-34B103B3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A0E-ED5E-429D-A771-FE1C920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3BD-0B3B-4898-AB60-99EDFD38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B67B-C53F-4359-9AD8-E53D6D465631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C557-E8DF-4689-9079-923E61614A1F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1A28-7EF8-418D-8516-6CE0150A8734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13C1-018C-41F7-B3A8-90CD9A8A405B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Molecular_Biology" TargetMode="External"/><Relationship Id="rId3" Type="http://schemas.openxmlformats.org/officeDocument/2006/relationships/hyperlink" Target="http://en.wikipedia.org/wiki/Genetics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468360" y="5734080"/>
            <a:ext cx="691200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9720" y="1458720"/>
            <a:ext cx="607212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690560" y="611496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5-143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1000080" y="2652840"/>
            <a:ext cx="4616640" cy="2624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5651640" y="2544840"/>
            <a:ext cx="23158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714240" y="2286000"/>
            <a:ext cx="7782120" cy="428616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Comparative anatom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Molecular Biology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8760" y="2428920"/>
            <a:ext cx="8286480" cy="392904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Behavioral ecolog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: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ئة السلوك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2"/>
              </a:rPr>
              <a:t>ecological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3"/>
              </a:rPr>
              <a:t>evolutionar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and the roles of behavior in enabling an animal to adapt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o its environment (both intrinsic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صنيف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2"/>
              </a:rPr>
              <a:t>taxonomy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قيب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79480" y="2500200"/>
            <a:ext cx="7693200" cy="378648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Entom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insects, 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Palaeont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فر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prehistoric life, including organisms' evolution and interactions with each othe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فاعل الكائنات فيما بينه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d their environments. As a "historical science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th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سلوك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56800" y="2356920"/>
            <a:ext cx="43578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. Khalid Al-Ghani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 6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6-9612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ghanim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ice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nday, 11am – 12a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by appoint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5432400" y="2292480"/>
            <a:ext cx="173196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42760" y="928440"/>
            <a:ext cx="52290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90200" y="2142720"/>
            <a:ext cx="6853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ucture,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axonom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ortant Phyla, Classes, Genera, and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305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ecture exams (3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mulative final exam (4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967280" y="3225960"/>
            <a:ext cx="3852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Tips for Succeeding in Lectur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24570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e me with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s are combination of multiple-choice and short answer / fill-in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 questions will be derived from both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rading and “Will There Be a Curve?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37720" y="2361960"/>
            <a:ext cx="3876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= 90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 = 80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 = 70% - 7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us / Min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+ = 95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  = 90% - 9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+ = 85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Missed 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The Biologic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00040" y="214308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ology – study of how body structures (cells, organs, organ systems, etc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olution – study of change over time (molecular level to ecosystem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logy – study of how organisms interact and affect their environments, or vice ver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214200" y="3011400"/>
            <a:ext cx="5072040" cy="27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that focuses on the structure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fun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وظيفة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behavior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Zoology (Science of animal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5435640" y="2233440"/>
            <a:ext cx="35100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5-03-11T03:56:34Z</dcterms:modified>
  <cp:revision>40</cp:revision>
  <dc:subject/>
  <dc:title>Principals of General Zoology (Zoo-103)</dc:title>
</cp:coreProperties>
</file>