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1E6-66D8-4C14-B953-5B9F539C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3A5-4A06-432D-A450-04345066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9D9-A0D3-4818-B824-692E4BE8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B9E-02B6-4C3D-B016-CCD059D4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37B6-EA66-4FC8-9604-D06B2DFB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770-DCE2-4FDF-853A-4D69EDD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3B16-3667-4625-A3A8-D90CFF5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F0E5-4DA7-495A-9345-FE8A07B8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C96A-6CD2-4EB5-8DE9-AFC4D26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778-F546-4286-B2B0-758FD6B0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AE76-EE24-4D38-B421-E32A2E9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195-12BE-4C6B-993F-248313AA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E6A9-764F-4F6D-9285-DEEC5F0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622C-EF48-4A4F-AC0C-B98A52A4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C732-5D4A-4C5C-B387-ABA78299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A61B-7EC2-49D8-AC03-14752AC2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5E6F-598B-4C00-8D87-25CEA05A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E25D4-538F-4E95-9D21-77B5220D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15AF-B84F-4263-A9DC-26D0AC9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C56A-C06B-42D3-92D9-70C6723A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0640-C257-4B70-9625-86954F13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8860-379F-424F-B504-76540C3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0D9-F332-4CE2-B122-B6910E4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5935-34DA-44A0-8182-E72B999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1192-CFAE-4896-85BA-7A89E99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F928-1187-4663-A65E-A3224F8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0130-19FB-4DB5-9BE6-9A5357B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E490-F621-4DA6-A049-A4262607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F19D-7C67-4959-8A00-5C85670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9F32B-492D-46DD-A363-4D1D2A7A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9147-1B14-45B9-B80F-A257125B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A4C0-D37D-4FBB-9F7F-BE030571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0EE3-F33C-41D9-A960-9826A4F1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0E2-B235-46C9-9663-7ADC7EB2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7888-24A0-4435-A33B-E7EB5E2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E691-5B2D-4C96-896B-987B16EE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DD18-7D23-4B40-B87E-E3D61311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5289-85EA-4F9F-AE64-5C8163B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E322-0AD1-41C3-81F6-300B6E24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E88A-6893-41AF-93BD-CA27231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8647-4D04-474A-905F-24722DA0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DA71-2CE0-4BD0-9454-3C7ED8CB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D5B2-28B2-4A1C-9A44-9C44D994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985-9BB6-470C-A214-3C03430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344-D608-4E04-9802-496F0B26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CF8-BC09-463E-A502-9B37778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8A2-6FB9-4877-91B1-8EC1EF66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6AF-B1FF-41F7-9485-0345605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8F2-3EF3-4741-BCC6-80F8805B8A0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075-07D5-45C4-BAB4-A8C6B65429BC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773-D1E7-4908-95C2-370208F31EA5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0BB-7D21-4DF5-B4A9-799DD20146D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Comparative_anatomy" TargetMode="External"/><Relationship Id="rId3" Type="http://schemas.openxmlformats.org/officeDocument/2006/relationships/hyperlink" Target="http://en.wikipedia.org/wiki/Molecular_Biology" TargetMode="External"/><Relationship Id="rId4" Type="http://schemas.openxmlformats.org/officeDocument/2006/relationships/hyperlink" Target="http://en.wikipedia.org/wiki/Genetics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755640" y="537372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1015920"/>
            <a:ext cx="607212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906560" y="573264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29248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18448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1700280"/>
            <a:ext cx="8286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Behavioral ecology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بيئة السلوك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ecological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evolutionary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and the roles of behavior in enabling an animal to adap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its environment (both intrinsic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علم التصن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2"/>
              </a:rPr>
              <a:t>taxonom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علم التقيب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79480" y="1947960"/>
            <a:ext cx="76932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m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حشر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tudy of ins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شر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aeont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حفر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tudy of prehisto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اة ما قبل التاريخ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organisms' evolution and interactions with each oth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اعل الكائنات فيما بين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ir environments. As a "historical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تاري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th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سلو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492280"/>
            <a:ext cx="43578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Ibrahim Barak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1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ahb@yahoo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day, 10 am – 12 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5719680" y="2133720"/>
            <a:ext cx="17319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2760" y="476280"/>
            <a:ext cx="52290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0200" y="1557000"/>
            <a:ext cx="75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, 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onomy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تصنيف الأنوا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Phyla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ع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se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نا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nera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نا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pecie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واع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5305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ecture exams (30 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ulative final exam (40 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967280" y="27813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s </a:t>
            </a:r>
            <a:r>
              <a:rPr b="0" lang="ar-SA" sz="3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نصائح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245736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0040" y="184464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شؤ أو التطو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 change over time (molecular level to ecosystem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ظام البيئ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logy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بيئ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 how organisms interact and affect their environments, or vice vers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كس صحي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14200" y="3011400"/>
            <a:ext cx="507204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at focuses on the structure ,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ctio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يف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havi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14240" y="1700280"/>
            <a:ext cx="77821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mparative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anatomy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9-04T14:29:11Z</dcterms:modified>
  <cp:revision>47</cp:revision>
  <dc:subject/>
  <dc:title>Principals of General Zoology (Zoo-103)</dc:title>
</cp:coreProperties>
</file>