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5E1F-C53B-46CE-AEC5-8350B1AD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93AD-86CF-4636-B1C1-E8F296D6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75B-780F-4AC8-9BD2-3C480205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8ED9-0321-4F00-A066-B72E5102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2ECD-D5B8-4D18-8260-AEABC9DA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429D-CC36-41DF-AE14-1B5F361E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F1EF-6919-4CBF-97DF-946568EC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4AB1-CE85-40ED-A2D4-6381AA97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7AE8-058A-417E-9A21-45E741DD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796A-27A9-4046-B5BE-941D8CD6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4465-66C5-4400-9265-A0DCE764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E9B-7573-4DEA-AE8C-CA958942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EF0F-987E-485A-A788-F5758251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3E77-2C9C-4B7C-B568-FFD8B6FD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D633-FEAE-4C7B-BE7F-D6BF3F31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850F-048F-4B6F-83D4-4EDC76B4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4968-F9C9-435E-9561-2E406A33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ED1A0-023D-4E7A-8BD0-0FAB354B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FC836-B860-4016-A96D-3B160EBD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CD4BF-9E1C-465D-91EF-CA784FBA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045A2-5847-4C47-9C3B-987E724A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53C72-96B6-4B20-96A2-15E7F483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F51-8BDB-4F47-AC7C-88E380FF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79565-DF51-4C91-923A-8829E57C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00C7A-6C20-4A1F-BC1C-D7FD8DED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20C32-26F5-4192-B99C-CCE1CBD7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7B80E-8346-4971-A132-5CC3BED6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74765-D9F7-40E5-8914-90D3ACDA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3FCB0-ADDC-4BD4-8655-2B40D4EF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2CC17-B51F-4DFB-B15F-0DDD7755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21ED2-C2E2-4CD7-A3E8-92B44215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3B1ED-DB86-4859-A331-18CE7C5A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5BD52-AB2B-44FA-B3F5-EC3D1118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78A-C8D6-4619-B621-61851C9C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A87BD-EFA2-4556-869D-3BC2431C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54877-D5DC-4E0B-A469-83218B3E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174A8-E83C-4D6B-AC83-B07370D2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33F62-9968-4F24-8304-1D91059E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9013B-E7A5-4EC4-B033-5F2AF9CB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7679F-7214-4232-B51C-CDE88099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E4EF4-1A84-440E-9F3A-3C35980F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2022E-3B02-4074-9D95-0C1315F0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C049A-E5A8-496E-9EF6-E2A882D9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BE72-A7D9-4037-BE2A-53CD2470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5E09-8F4C-4D45-87E6-9975ABAC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0DB-F302-463D-B23D-474A2437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21F-BAA0-4E4A-9F9F-DB7EB189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6648-965D-4123-9667-319C5B94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8708-EEBD-4459-9D8D-7EABDDAE9C36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A8C3-DB55-4AD7-896D-0FDA85901FCF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FBBB-3F44-4BD4-AE2C-87AE255055C0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3761-5FA2-4666-90EC-50BF346D1E9E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ehavioral_ecology" TargetMode="External"/><Relationship Id="rId2" Type="http://schemas.openxmlformats.org/officeDocument/2006/relationships/hyperlink" Target="http://en.wikipedia.org/wiki/Ecology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hyperlink" Target="http://en.wikipedia.org/wiki/Animal_behavior" TargetMode="External"/><Relationship Id="rId5" Type="http://schemas.openxmlformats.org/officeDocument/2006/relationships/hyperlink" Target="http://en.wikipedia.org/wiki/Evolution" TargetMode="External"/><Relationship Id="rId6" Type="http://schemas.openxmlformats.org/officeDocument/2006/relationships/hyperlink" Target="http://en.wikipedia.org/wiki/Population_genetics" TargetMode="External"/><Relationship Id="rId7" Type="http://schemas.openxmlformats.org/officeDocument/2006/relationships/hyperlink" Target="http://en.wikipedia.org/wiki/Heredity" TargetMode="External"/><Relationship Id="rId8" Type="http://schemas.openxmlformats.org/officeDocument/2006/relationships/hyperlink" Target="http://en.wikipedia.org/wiki/Variation" TargetMode="External"/><Relationship Id="rId9" Type="http://schemas.openxmlformats.org/officeDocument/2006/relationships/hyperlink" Target="http://en.wikipedia.org/wiki/Mendelism" TargetMode="External"/><Relationship Id="rId10" Type="http://schemas.openxmlformats.org/officeDocument/2006/relationships/hyperlink" Target="http://en.wikipedia.org/wiki/Reproduction" TargetMode="External"/><Relationship Id="rId11" Type="http://schemas.openxmlformats.org/officeDocument/2006/relationships/hyperlink" Target="http://en.wikipedia.org/wiki/Systematics" TargetMode="External"/><Relationship Id="rId12" Type="http://schemas.openxmlformats.org/officeDocument/2006/relationships/hyperlink" Target="http://en.wikipedia.org/wiki/Taxonomy" TargetMode="Externa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abitats" TargetMode="External"/><Relationship Id="rId2" Type="http://schemas.openxmlformats.org/officeDocument/2006/relationships/hyperlink" Target="http://en.wikipedia.org/wiki/Comparative_anatomy" TargetMode="External"/><Relationship Id="rId3" Type="http://schemas.openxmlformats.org/officeDocument/2006/relationships/hyperlink" Target="http://en.wikipedia.org/wiki/Molecular_Biology" TargetMode="External"/><Relationship Id="rId4" Type="http://schemas.openxmlformats.org/officeDocument/2006/relationships/hyperlink" Target="http://en.wikipedia.org/wiki/Genetics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755640" y="5373720"/>
            <a:ext cx="6912000" cy="934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biglogo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280" y="1015920"/>
            <a:ext cx="6072120" cy="54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Principals of General Zoology (Zoo-103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906560" y="5732640"/>
            <a:ext cx="4537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, 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1000080" y="2292480"/>
            <a:ext cx="4616640" cy="2624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3"/>
          <a:stretch/>
        </p:blipFill>
        <p:spPr>
          <a:xfrm>
            <a:off x="5651640" y="2184480"/>
            <a:ext cx="231588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28760" y="1700280"/>
            <a:ext cx="8286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1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Behavioral ecology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البيئة السلوك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s the study of the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2"/>
              </a:rPr>
              <a:t>ecological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ئي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3"/>
              </a:rPr>
              <a:t>evolutionary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طور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asis for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4"/>
              </a:rPr>
              <a:t>animal behavior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and the roles of behavior in enabling an animal to adapt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كيف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 its environment (both intrinsic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خلي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d extrinsic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خارجيا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1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volutionary biology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البيولوجيا التطوري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e of both animals and plants is considered in the articles on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5"/>
              </a:rPr>
              <a:t>evolution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6"/>
              </a:rPr>
              <a:t>population genetics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7"/>
              </a:rPr>
              <a:t>heredity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8"/>
              </a:rPr>
              <a:t>variation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9"/>
              </a:rPr>
              <a:t>Mendelism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0"/>
              </a:rPr>
              <a:t>reproduction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1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1"/>
              </a:rPr>
              <a:t>Systematics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علم التصنيف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d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2"/>
              </a:rPr>
              <a:t>taxonomy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علم التقيبم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assify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يصنف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d group species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يرتب الأنواع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i="1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a</a:t>
            </a:r>
            <a:r>
              <a:rPr b="0" lang="ar-S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common descent and regional associations.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1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ubfields of zoology</a:t>
            </a:r>
            <a:r>
              <a:rPr b="0" lang="en-GB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79480" y="1947960"/>
            <a:ext cx="769320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mology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الحشر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study of ins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شر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rgest group of ani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laeontology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الحفر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study of prehisto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ياة ما قبل التاريخ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ing organisms' evolution and interactions with each othe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اعل الكائنات فيما بينه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ir environments. As a "historical 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التاري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thology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السلو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study of animal behavi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56800" y="2492280"/>
            <a:ext cx="43578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Ibrahim Barak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10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rahimahb@yahoo.c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 hou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day, 10 am – 12 am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ppoint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5719680" y="2133720"/>
            <a:ext cx="173196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42760" y="476280"/>
            <a:ext cx="52290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arning Objecti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90200" y="1557000"/>
            <a:ext cx="75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, function and cytogenetics of the animal ce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animal tissu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xonomy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تصنيف الأنوا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 Phyla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عب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asses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نا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enera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ناس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Species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واع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y and physiolog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ting structu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rition, digestion and metabolis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composition and fun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sessmen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53056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lecture exams (30 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mulative final exam (40 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laboratory exa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 noteboo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 trip or pa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967280" y="2781360"/>
            <a:ext cx="3852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ps </a:t>
            </a:r>
            <a:r>
              <a:rPr b="0" lang="ar-SA" sz="3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نصائح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Succeeding in Lecture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680" y="2457360"/>
            <a:ext cx="822960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ssigned chapters before attending lecture (do the same for lab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at least 4 hrs per week, from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me with specific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s are combination of multiple-choice and short answer / fill-in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questions will be derived from both the lecture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ssed / Late Exam Policy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29212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ake-up exams, except with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-up exams will be essay 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arrive late to an exam, and even one exam has already been turned in, you will be given an essay t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Biological Sci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00040" y="1844640"/>
            <a:ext cx="809136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y – study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different fields (some examp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ology – study of anim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y – study of morphological stru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ology – study of how body structures (cells, organs, organ systems, etc) func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ution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شؤ أو التطو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of change over time (molecular level to ecosystem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ظام البيئ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logy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البيئ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of how organisms interact and affect their environments, or vice versa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كس صحي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214200" y="3011400"/>
            <a:ext cx="507204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19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s the branch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ع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iology</a:t>
            </a:r>
            <a:r>
              <a:rPr b="1" lang="ar-S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at focuses on the structure ,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كيب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unctio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ظيف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havio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لوك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d evolution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طور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1206360"/>
            <a:ext cx="7924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ology (Science of animal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5435640" y="2233440"/>
            <a:ext cx="351000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714240" y="1700280"/>
            <a:ext cx="77821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oography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علم الحيوان الوصفي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so known as descriptive zoology: describ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صف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imals and their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habitat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ماكن معيشتها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mparative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2"/>
              </a:rPr>
              <a:t>anatomy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التشريح المقارن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udies the structure of animal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nimal physiology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وظائف الأعضاء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s the study of the mechanical, physical, and biochemical functions of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imal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3"/>
              </a:rPr>
              <a:t>Molecular Biology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ولوجيا الجزيئية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udies the common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4"/>
              </a:rPr>
              <a:t>genetic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راث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d developmental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طور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s of animals and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User</cp:lastModifiedBy>
  <dcterms:modified xsi:type="dcterms:W3CDTF">2015-09-04T14:29:11Z</dcterms:modified>
  <cp:revision>47</cp:revision>
  <dc:subject/>
  <dc:title>Principals of General Zoology (Zoo-103)</dc:title>
</cp:coreProperties>
</file>