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429-32B5-4E20-A8A5-79AEC46D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217C-2133-4F79-87B3-A8168E46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46CC-8DEF-4955-92B6-322BC59E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7EE1-EB96-46AA-B6D4-98E91E71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70A1-A7C3-4503-8E78-76193670B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840D-CE6A-4215-AAC8-E31CBEA1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E49F-1B03-4CD8-9F39-51D9854E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0DE8-24C4-4F08-A07C-755134BE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BE65-CEDD-40D7-ADD7-32A73B56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D47E-1692-45FF-A1AE-4713B0AA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F617-FF15-4090-81D6-38578A4D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34FD-C093-4157-9CCE-A3C4B3C4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6EAE-99CA-4F46-827B-D44AF177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848C-5FAD-4D3E-85BD-DE592931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B84A-5CD8-4A09-96CB-B2C8CDBC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2F5F-8067-43FE-B369-78129873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21A3-800E-47D2-A33B-F5F5AFF6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166C0-5098-4408-AA43-732CBD0D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9E394-01EC-4801-8AFE-74B3B79B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D2F9D-6BB3-442D-BABB-9E4AA29B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6A943-A7FD-4BC1-85CE-71A02920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F2B9F-CCD2-4675-AC44-0EB93978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7CF3-6A2C-4D5B-974B-156F7104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8F581-0CA2-40B5-A8B3-6B64430E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8E48F-86A9-4CFB-9196-13C4BBDF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C3879-0532-430A-872F-E7BC80FD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D3707-86BE-45ED-A36C-32BDEBF3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5A2BA-67DD-4CEB-BC3E-8B8AF7B4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3095D-DC55-4422-B4BF-08485D28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EC354-8B31-4066-BAE9-DB204E88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A8E92-ABFB-4DD3-8EFD-A5825D47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BE490-F7D1-485F-B037-C829B45B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D30C9-5D40-4BD2-AFF6-4E4A774C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2375-D2B7-4886-92DF-1C0D664E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6B55F-D3FF-4706-AD8D-9AC80166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63D4D-BCE5-4C0F-B24D-416FD21D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3F6DA-B5EC-4454-BBB3-BD366F0E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4DE95-320D-43FC-BE4E-BC055A60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186BD-1DC9-431B-A378-508F1175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8AB00-FB87-47F6-B213-8DF12FDE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87182-1C5A-4912-BA05-96CA261B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B35C7-7DDC-4836-8CEC-A82FCE43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02058-CF37-42BF-86AE-7F16BDD4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666B-EE42-4D40-86C9-AB0A6CC1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9585-D7FD-4E25-85D9-9F7A29C5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7ECF-C28E-4006-B450-BB81A689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8821-B8D9-45D2-9C7C-385963FC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64FA-9465-474B-9526-B0FAC5DA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8338-9955-4ED6-BCC2-4068AAE2ECD0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B15A-CEA0-4732-BE44-AE30D34E9564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DBA3-5AAA-4273-94B1-046B571A0FF3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E7D3-B7A6-4808-A594-186CB263A613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abitats" TargetMode="External"/><Relationship Id="rId2" Type="http://schemas.openxmlformats.org/officeDocument/2006/relationships/hyperlink" Target="http://en.wikipedia.org/wiki/Molecular_Biology" TargetMode="External"/><Relationship Id="rId3" Type="http://schemas.openxmlformats.org/officeDocument/2006/relationships/hyperlink" Target="http://en.wikipedia.org/wiki/Molecular_Biology" TargetMode="External"/><Relationship Id="rId4" Type="http://schemas.openxmlformats.org/officeDocument/2006/relationships/hyperlink" Target="http://en.wikipedia.org/wiki/Molecular_Biology" TargetMode="External"/><Relationship Id="rId5" Type="http://schemas.openxmlformats.org/officeDocument/2006/relationships/hyperlink" Target="http://en.wikipedia.org/wiki/Genetics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ehavioral_ecology" TargetMode="External"/><Relationship Id="rId2" Type="http://schemas.openxmlformats.org/officeDocument/2006/relationships/hyperlink" Target="http://en.wikipedia.org/wiki/Ecology" TargetMode="External"/><Relationship Id="rId3" Type="http://schemas.openxmlformats.org/officeDocument/2006/relationships/hyperlink" Target="http://en.wikipedia.org/wiki/Evolution" TargetMode="External"/><Relationship Id="rId4" Type="http://schemas.openxmlformats.org/officeDocument/2006/relationships/hyperlink" Target="http://en.wikipedia.org/wiki/Animal_behavior" TargetMode="External"/><Relationship Id="rId5" Type="http://schemas.openxmlformats.org/officeDocument/2006/relationships/hyperlink" Target="http://en.wikipedia.org/wiki/Evolution" TargetMode="External"/><Relationship Id="rId6" Type="http://schemas.openxmlformats.org/officeDocument/2006/relationships/hyperlink" Target="http://en.wikipedia.org/wiki/Population_genetics" TargetMode="External"/><Relationship Id="rId7" Type="http://schemas.openxmlformats.org/officeDocument/2006/relationships/hyperlink" Target="http://en.wikipedia.org/wiki/Heredity" TargetMode="External"/><Relationship Id="rId8" Type="http://schemas.openxmlformats.org/officeDocument/2006/relationships/hyperlink" Target="http://en.wikipedia.org/wiki/Variation" TargetMode="External"/><Relationship Id="rId9" Type="http://schemas.openxmlformats.org/officeDocument/2006/relationships/hyperlink" Target="http://en.wikipedia.org/wiki/Mendelism" TargetMode="External"/><Relationship Id="rId10" Type="http://schemas.openxmlformats.org/officeDocument/2006/relationships/hyperlink" Target="http://en.wikipedia.org/wiki/Reproduction" TargetMode="External"/><Relationship Id="rId11" Type="http://schemas.openxmlformats.org/officeDocument/2006/relationships/hyperlink" Target="http://en.wikipedia.org/wiki/Systematics" TargetMode="External"/><Relationship Id="rId12" Type="http://schemas.openxmlformats.org/officeDocument/2006/relationships/hyperlink" Target="http://en.wikipedia.org/wiki/Taxonomy" TargetMode="Externa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12"/>
          <p:cNvSpPr/>
          <p:nvPr/>
        </p:nvSpPr>
        <p:spPr>
          <a:xfrm>
            <a:off x="1690560" y="5734080"/>
            <a:ext cx="4394160" cy="934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9" descr="biglogo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115964"/>
            </a:outerShdw>
          </a:effectLst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9720" y="1458720"/>
            <a:ext cx="6072120" cy="541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alibri"/>
              </a:rPr>
              <a:t>Principals of General Zoology (Zoo-103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690560" y="6114960"/>
            <a:ext cx="4537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ology Department, 1436-1437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" descr=""/>
          <p:cNvPicPr/>
          <p:nvPr/>
        </p:nvPicPr>
        <p:blipFill>
          <a:blip r:embed="rId2"/>
          <a:stretch/>
        </p:blipFill>
        <p:spPr>
          <a:xfrm>
            <a:off x="1000080" y="2652840"/>
            <a:ext cx="4616640" cy="2624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"/>
          <p:cNvPicPr/>
          <p:nvPr/>
        </p:nvPicPr>
        <p:blipFill>
          <a:blip r:embed="rId3"/>
          <a:stretch/>
        </p:blipFill>
        <p:spPr>
          <a:xfrm>
            <a:off x="5651640" y="2544840"/>
            <a:ext cx="231588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Calibri"/>
                <a:ea typeface="Traditional Arabic"/>
              </a:rPr>
              <a:t>Subfields of zoology</a:t>
            </a:r>
            <a:r>
              <a:rPr b="1" lang="en-GB" sz="4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714240" y="2286000"/>
            <a:ext cx="7782120" cy="428616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Zoography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حيوان الوصفي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lso known as descriptive zoology: describ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ص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nimals and their </a:t>
            </a:r>
            <a:r>
              <a:rPr b="0" lang="ar-SA" sz="24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"/>
              </a:rPr>
              <a:t>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ماكن معيشته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Comparative anatom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تشريح المقار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studies the structure of animal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Animal physi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وظائف الأعضاء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study of the mechanical, physical, and biochemical functions of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nimal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Molecular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b</a:t>
            </a:r>
            <a:r>
              <a:rPr b="0" lang="ar-SA" sz="2400" spc="-1" strike="noStrike" u="sng">
                <a:solidFill>
                  <a:srgbClr val="e2d700"/>
                </a:solidFill>
                <a:uFillTx/>
                <a:latin typeface="Arial"/>
                <a:hlinkClick r:id="rId4"/>
              </a:rPr>
              <a:t>iology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لم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بيولوجيا الجزيئية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studies the common </a:t>
            </a:r>
            <a:r>
              <a:rPr b="0" lang="ar-SA" sz="2400" spc="-1" strike="noStrike" u="sng">
                <a:solidFill>
                  <a:srgbClr val="e2d700"/>
                </a:solidFill>
                <a:uFillTx/>
                <a:latin typeface="Arial"/>
                <a:hlinkClick r:id="rId5"/>
              </a:rPr>
              <a:t>genetic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راث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and developmental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تطور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mechanisms of animals and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Calibri"/>
                <a:ea typeface="Traditional Arabic"/>
              </a:rPr>
              <a:t>Subfields of zoology</a:t>
            </a:r>
            <a:r>
              <a:rPr b="1" lang="en-GB" sz="4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28760" y="2428920"/>
            <a:ext cx="8286480" cy="392904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1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"/>
              </a:rPr>
              <a:t>Behavioral ecology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: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بيئة السلوكي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study of the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2"/>
              </a:rPr>
              <a:t>ecological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يئي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3"/>
              </a:rPr>
              <a:t>evolutionar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طوري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basis for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4"/>
              </a:rPr>
              <a:t>animal behavior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and the roles of behavior in enabling an animal to adapt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تكيف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to its environment (both intrinsic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داخليا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extrins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وخارجي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1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Evolutionary bi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بيولوجيا التطور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See of both animals and plants is considered in the articles on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5"/>
              </a:rPr>
              <a:t>evolu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6"/>
              </a:rPr>
              <a:t>population genetics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7"/>
              </a:rPr>
              <a:t>heredit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8"/>
              </a:rPr>
              <a:t>varia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9"/>
              </a:rPr>
              <a:t>Mendelism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0"/>
              </a:rPr>
              <a:t>reproduc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5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1"/>
              </a:rPr>
              <a:t>Systematics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تصنيف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and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2"/>
              </a:rPr>
              <a:t>taxonomy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تقيبم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classif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يصنف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group species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ويرتب الأنواع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i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via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common descent and regional associations.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1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ff"/>
                </a:solidFill>
                <a:latin typeface="Calibri"/>
                <a:ea typeface="Traditional Arabic"/>
              </a:rPr>
              <a:t>Subfields of zoology</a:t>
            </a:r>
            <a:r>
              <a:rPr b="1" lang="en-GB" sz="5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79480" y="2500200"/>
            <a:ext cx="7693200" cy="378648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Entom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حشر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insects, the largest group of anim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Palaeont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حفريات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prehistoric life, including organisms' evolution and interactions with each other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فاعل الكائنات فيما بينه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and their environments. As a "historical science“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Eth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سلوك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animal behavi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980640"/>
            <a:ext cx="792468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General Inform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56800" y="1844280"/>
            <a:ext cx="47228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6960" indent="-24696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. Mikhlid Almutair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6960" indent="-24696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sistant  Profess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6960" indent="-24696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dical Molecular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enetic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6960" indent="-24696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B 67, ground flo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6960" indent="-24696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lmutari@ksu.edu.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6960" indent="-24696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fice hour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8080" indent="-415800">
              <a:lnSpc>
                <a:spcPct val="15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unday and Tuesday from 10 – 12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48080" indent="-415800">
              <a:lnSpc>
                <a:spcPct val="15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so by appointm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42760" y="928440"/>
            <a:ext cx="52290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Learning Objectiv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90200" y="2142720"/>
            <a:ext cx="7669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tructure, function and cytogenetics of the animal cel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ifferent animal tissu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axonom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mportant Phyla (plural of phylum), Classes, Genera (plural of genus), and Spec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natomy and physiolog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teresting structu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utrition, digestion and metabolis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lood composition and func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Assessment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53056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c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 lecture exams (30%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umulative final exam (40%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70% of total gra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 laboratory exa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b noteboo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eld trip or pap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0% of total gra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4967280" y="3225960"/>
            <a:ext cx="38527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Tips for Succeeding in Lecture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71680" y="2457000"/>
            <a:ext cx="857232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ad assigned chapters before attending lecture (do the same for lab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udy at least 4 hrs per week, from no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sk me any specific ques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sts are combination of multiple-choice and short answer / fill in blank ques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st questions will be derived from the lecture no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Grading: 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7720" y="2361960"/>
            <a:ext cx="38768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= 90% or abo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 = 80% - 8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 = 70% - 7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us / Minu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+ = 95% or abo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  = 90% - 94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+ = 85% - 8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Missed/ Late Exam Policy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29212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make-up exams, except with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dical documen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egal documen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-up exams will be essay for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you arrive late to an exam, and even one exam has already been turned in, you will be given an essay t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The Biological Scienc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00040" y="2143080"/>
            <a:ext cx="809136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iology – study of lif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y different fields (some exampl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Zoology – study of anim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tomy – study of morphological struc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ysiology – study of how body structures (cells, organs, organ systems, etc.) func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olution – study of change over time (molecular level to ecosystem leve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cology – study of how organisms interact and affect their environments, or vice ver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214200" y="3011400"/>
            <a:ext cx="5072040" cy="27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19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80" indent="19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branch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فرع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of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Biology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that focuses on the structure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ركيب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functio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وظيفة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behavior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لوك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nd evolutio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طور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of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1760" y="1206360"/>
            <a:ext cx="7924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Constantia"/>
                <a:ea typeface="Traditional Arabic"/>
              </a:rPr>
              <a:t>Zoology (Science of animal</a:t>
            </a:r>
            <a:r>
              <a:rPr b="1" lang="en-US" sz="4800" spc="-1" strike="noStrike">
                <a:solidFill>
                  <a:srgbClr val="0000ff"/>
                </a:solidFill>
                <a:latin typeface="Constantia"/>
              </a:rPr>
              <a:t>)</a:t>
            </a:r>
            <a:r>
              <a:rPr b="1" lang="ar-SA" sz="4800" spc="-1" strike="noStrike">
                <a:solidFill>
                  <a:srgbClr val="0000ff"/>
                </a:solidFill>
                <a:latin typeface="Constantia"/>
                <a:ea typeface="Traditional Arabic"/>
              </a:rPr>
              <a:t> 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Picture 1" descr=""/>
          <p:cNvPicPr/>
          <p:nvPr/>
        </p:nvPicPr>
        <p:blipFill>
          <a:blip r:embed="rId1"/>
          <a:stretch/>
        </p:blipFill>
        <p:spPr>
          <a:xfrm>
            <a:off x="5435640" y="2233440"/>
            <a:ext cx="3510000" cy="42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User</cp:lastModifiedBy>
  <dcterms:modified xsi:type="dcterms:W3CDTF">2015-09-07T10:43:13Z</dcterms:modified>
  <cp:revision>60</cp:revision>
  <dc:subject/>
  <dc:title>Principals of General Zoology (Zoo-103)</dc:title>
</cp:coreProperties>
</file>