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E4F-4A46-4C97-B6F6-DF4AF5F2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752-87F9-435A-B4C6-3A8909D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024-07A8-43CD-82FF-A5439979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C3F-8068-47FE-8E98-BCC58B20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903-6867-4AAC-932B-19DCDDD5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69E-CD03-46CA-BB99-605C468D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046F-D11C-41AC-B3BF-2396FAE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8E8F-1480-45F5-A0CF-5F26342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5410-C964-4DD7-9FA4-F6611F97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DAC4-6562-49F9-B3E5-674F38D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6C2D-45B4-4B6C-BC1F-CD55492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57A-4CBE-4924-A614-0F222FA2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F341-E08F-4E9D-9A50-661B5CF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109-C12A-46BA-85F8-07FF03B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4631-3220-4BE6-B389-5261C96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666-AE46-4D08-82F6-EF054391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B6BA-3627-48E8-BC94-D2D4BDB1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AF8A-623A-45C1-9A2B-5F3D6901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72F2-D5D5-487E-90E9-54009A85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A5B6-2FF5-4FFA-B332-C48F967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13DD-E202-46D3-9084-772C10A0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C137-0970-4854-8592-D11B8DD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3E3-EC25-4AEC-B742-F211D8EC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B038-ABBF-4492-90A2-AEF5EC9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8C9C-25F8-476A-9A74-4F40B96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B4B6-9A6C-41AC-915E-61BAA14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FA29-F444-4A26-9BB8-C142643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CBAB-2255-4F40-B4C3-793E1E6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4B7B-1924-4A16-97F6-54765392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B729-212A-41BA-AA48-DE05CCED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AD8D-C6EC-44A4-AD08-4E5B18CF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4FE9-C4CD-40B3-A344-EB1360A5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5224-BC02-4D9E-B621-8C7E14B1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53F-BFBF-4022-B046-343E4BDA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97F1-74E5-4B54-8D1F-51E7668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5EAA-F124-4538-B21A-2BEDD11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99B3-621A-4C9E-B982-75A1FEB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B23E-1B3B-4716-A57B-048427D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5B6EA-DEFD-4349-ADA5-D23FEE62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5524-486D-48C1-BB0B-3B1EDF2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68DA-A44F-45B3-A443-958B4B6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A7AE-C5EC-41FB-BC56-9BB86D1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93E9-0FC2-4474-847E-4CD7ECE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FBA-DA27-440B-965E-32D67960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A38-77EA-4D0D-9EF4-D3ADBB0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14D-F34A-4723-BB0D-D455465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C26-73EC-4F46-BAB0-29249D8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5CF-551F-4210-AFEB-9428A27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1DA-03B1-4D8F-B827-8677C0670AA3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6B59-07D5-44BF-8A92-B8683D27DF4C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6DFE-ACC7-4AF3-98E6-6FDD496D1B6B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1C5-56E7-429E-9A1A-59CF2814AA62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Molecular_Biology" TargetMode="External"/><Relationship Id="rId4" Type="http://schemas.openxmlformats.org/officeDocument/2006/relationships/hyperlink" Target="http://en.wikipedia.org/wiki/Molecular_Biology" TargetMode="External"/><Relationship Id="rId5" Type="http://schemas.openxmlformats.org/officeDocument/2006/relationships/hyperlink" Target="http://en.wikipedia.org/wiki/Genetic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1690560" y="5734080"/>
            <a:ext cx="439416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b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ff"/>
                </a:solidFill>
                <a:latin typeface="Calibri"/>
                <a:ea typeface="Traditional Arabic"/>
              </a:rPr>
              <a:t>Subfields of zoology</a:t>
            </a:r>
            <a:r>
              <a:rPr b="1" lang="en-GB" sz="5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980640"/>
            <a:ext cx="792468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1844280"/>
            <a:ext cx="4722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Mikhlid Almutai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istant  Profess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cal Molecular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 67, ground flo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lmutari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6960" indent="-246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8080" indent="-41580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 and Tuesday from 10 – 12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8080" indent="-41580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76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 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 (plural of phylum), Classes, Genera (plural of genus)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680" y="2457000"/>
            <a:ext cx="857232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k me any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 in blank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Grading: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Missed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.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Zoology (Science of animal</a:t>
            </a: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1" lang="ar-SA" sz="48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7T10:43:13Z</dcterms:modified>
  <cp:revision>60</cp:revision>
  <dc:subject/>
  <dc:title>Principals of General Zoology (Zoo-103)</dc:title>
</cp:coreProperties>
</file>