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B6FF-989A-4A8E-91F1-36432EEF5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09A6-4D64-4AEA-BC17-F5603682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377D-EE13-4240-BEDF-D34369B20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CEF6-93C6-41A8-99A1-A5D472BA1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B2BC-655D-4678-A89A-4F6AE97A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C355-0C04-440A-8AFF-98E1F81F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D153-B2F7-49BB-8E13-893DB3E7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0829-35A6-4F96-A23C-E10433AA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979C-3FB9-4336-9A99-06B8F6D4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3D21-78CF-4972-B7C0-18948478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E6C9-F9CF-44A8-91D1-191F4F9C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70B7-C10D-4A32-92EF-5728444A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A445-B14D-4949-9BA6-92960C24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9DB1-63A3-4972-81F7-E1D38189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F516-AD7A-42E1-A169-A9338F2E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9165-33E2-4DDB-A610-8FD50448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FF51-C187-46F8-98BE-E296ABA0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85D7D-DECA-4708-8441-CBA2336FF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858C6-42D9-480C-931E-4C08DF38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CCD1C-3C49-40EE-92C9-7E9BFB0F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98570-F0FE-4E87-83EF-06D7BB97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585D6-19AE-4CE5-8775-CA6D6B4C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2936-4AFD-4419-9E68-F48AD082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8A3DD-F169-457D-85F8-AB5C701E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B84BF-B86A-4F75-A8FE-BD156D16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B0B89-EA24-411D-89C3-0FEB7BB1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C4018-DEB7-432C-9440-C3453C2B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35924-3A86-4F59-98E1-90239E60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C6C41-F21B-4FC0-BC14-33FE4123D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EA0A3-3C19-4D97-9FE5-3A7D25BC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4B568-FD0C-41F8-82E6-976FB1C8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9B1DA-6CC4-428F-BF37-AF5D9AE0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811E6-BA86-4F28-A441-676178C0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94E9-72EA-4149-BD84-9F8C4AD7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9249B-0064-4EF6-9967-A04D554D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9D496-9C15-4197-AFE6-484FC2DB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FC15C-B883-4789-AA7D-45F94045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B90E6-CFAE-4D42-BEDA-0E9A9A67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44FDC-0AAF-4EB5-A4E2-8F76696E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76BB6-BA42-4F0F-8D6A-DF40A2E1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C683E-76C8-4D71-85F9-1DAFB510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84422-BE6E-4ED8-A067-7EC20317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85B69-2B94-44BA-B222-2555FD6B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4811-4E31-4411-BDEA-C84F7DF4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1F12-A1A5-4260-B12A-54732B23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CBAE-3D15-4FB0-9D10-0CB17A0F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6855-F454-413D-8DF3-969E0D08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79E3-912A-42FD-BD48-AF959FF4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AB7B-BBCB-44BF-89AE-4E6866FB7763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709A-3A43-4987-9046-8AC062E841FB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A5B8-C5F5-49C6-BE98-340DD78700A2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A43A-93B9-4634-B63F-6E5B957B7B33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abitats" TargetMode="External"/><Relationship Id="rId2" Type="http://schemas.openxmlformats.org/officeDocument/2006/relationships/hyperlink" Target="http://en.wikipedia.org/wiki/Molecular_Biology" TargetMode="External"/><Relationship Id="rId3" Type="http://schemas.openxmlformats.org/officeDocument/2006/relationships/hyperlink" Target="http://en.wikipedia.org/wiki/Genetics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ehavioral_ecology" TargetMode="External"/><Relationship Id="rId2" Type="http://schemas.openxmlformats.org/officeDocument/2006/relationships/hyperlink" Target="http://en.wikipedia.org/wiki/Ecology" TargetMode="External"/><Relationship Id="rId3" Type="http://schemas.openxmlformats.org/officeDocument/2006/relationships/hyperlink" Target="http://en.wikipedia.org/wiki/Evolution" TargetMode="External"/><Relationship Id="rId4" Type="http://schemas.openxmlformats.org/officeDocument/2006/relationships/hyperlink" Target="http://en.wikipedia.org/wiki/Animal_behavior" TargetMode="External"/><Relationship Id="rId5" Type="http://schemas.openxmlformats.org/officeDocument/2006/relationships/hyperlink" Target="http://en.wikipedia.org/wiki/Evolution" TargetMode="External"/><Relationship Id="rId6" Type="http://schemas.openxmlformats.org/officeDocument/2006/relationships/hyperlink" Target="http://en.wikipedia.org/wiki/Population_genetics" TargetMode="External"/><Relationship Id="rId7" Type="http://schemas.openxmlformats.org/officeDocument/2006/relationships/hyperlink" Target="http://en.wikipedia.org/wiki/Heredity" TargetMode="External"/><Relationship Id="rId8" Type="http://schemas.openxmlformats.org/officeDocument/2006/relationships/hyperlink" Target="http://en.wikipedia.org/wiki/Variation" TargetMode="External"/><Relationship Id="rId9" Type="http://schemas.openxmlformats.org/officeDocument/2006/relationships/hyperlink" Target="http://en.wikipedia.org/wiki/Mendelism" TargetMode="External"/><Relationship Id="rId10" Type="http://schemas.openxmlformats.org/officeDocument/2006/relationships/hyperlink" Target="http://en.wikipedia.org/wiki/Reproduction" TargetMode="External"/><Relationship Id="rId11" Type="http://schemas.openxmlformats.org/officeDocument/2006/relationships/hyperlink" Target="http://en.wikipedia.org/wiki/Systematics" TargetMode="External"/><Relationship Id="rId12" Type="http://schemas.openxmlformats.org/officeDocument/2006/relationships/hyperlink" Target="http://en.wikipedia.org/wiki/Taxonomy" TargetMode="External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halim.harrath@gmail.com" TargetMode="External"/><Relationship Id="rId2" Type="http://schemas.openxmlformats.org/officeDocument/2006/relationships/hyperlink" Target="mailto:hharrath@ksu.edu.sa" TargetMode="External"/><Relationship Id="rId3" Type="http://schemas.openxmlformats.org/officeDocument/2006/relationships/hyperlink" Target="mailto:hharrath@ksu.edu.sa" TargetMode="External"/><Relationship Id="rId4" Type="http://schemas.openxmlformats.org/officeDocument/2006/relationships/hyperlink" Target="http://staff.ksu.edu.sa/hharrath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d/Animal_diversity_October_2007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12"/>
          <p:cNvSpPr/>
          <p:nvPr/>
        </p:nvSpPr>
        <p:spPr>
          <a:xfrm>
            <a:off x="468360" y="5734080"/>
            <a:ext cx="6912000" cy="934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9" descr="biglogo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19080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115964"/>
            </a:outerShdw>
          </a:effectLst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9720" y="1458720"/>
            <a:ext cx="6072120" cy="541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dbf5f9">
                <a:alpha val="5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alibri"/>
              </a:rPr>
              <a:t>Principals of General Zoology (Zoo-103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1690560" y="6114960"/>
            <a:ext cx="4537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ology Department, 1434-1435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2" descr="C:\Users\د أشرف مشالي\Downloads\1.jpg"/>
          <p:cNvPicPr/>
          <p:nvPr/>
        </p:nvPicPr>
        <p:blipFill>
          <a:blip r:embed="rId2"/>
          <a:stretch/>
        </p:blipFill>
        <p:spPr>
          <a:xfrm>
            <a:off x="1071720" y="2629080"/>
            <a:ext cx="4491000" cy="25146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115964"/>
            </a:outerShdw>
          </a:effectLst>
        </p:spPr>
      </p:pic>
      <p:pic>
        <p:nvPicPr>
          <p:cNvPr id="202" name="Picture 14" descr="C:\Users\د أشرف مشالي\Downloads\3.jpg"/>
          <p:cNvPicPr/>
          <p:nvPr/>
        </p:nvPicPr>
        <p:blipFill>
          <a:blip r:embed="rId3"/>
          <a:srcRect l="0" t="0" r="40464" b="0"/>
          <a:stretch/>
        </p:blipFill>
        <p:spPr>
          <a:xfrm>
            <a:off x="5786280" y="2571840"/>
            <a:ext cx="2214720" cy="2786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115964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Subfields of zoology</a:t>
            </a:r>
            <a:r>
              <a:rPr b="0" lang="en-GB" sz="44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714240" y="2286000"/>
            <a:ext cx="7782120" cy="4286160"/>
          </a:xfrm>
          <a:prstGeom prst="rect">
            <a:avLst/>
          </a:prstGeom>
          <a:solidFill>
            <a:srgbClr val="089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Zoography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علم الحيوان الوصفي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also known as descriptive zoology: describ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صف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animals and their </a:t>
            </a:r>
            <a:r>
              <a:rPr b="0" lang="ar-SA" sz="24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"/>
              </a:rPr>
              <a:t>habita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ماكن معيشته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Comparative anatom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تشريح المقارن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: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studies the structure of animal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Animal physi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وظائف الأعضاء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is the study of the mechanical, physical, and biochemical functions of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nimal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Molecular Biology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علم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بيولوجيا الجزيئية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: 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studies the common </a:t>
            </a:r>
            <a:r>
              <a:rPr b="0" lang="ar-SA" sz="2400" spc="-1" strike="noStrike" u="sng">
                <a:solidFill>
                  <a:srgbClr val="e2d700"/>
                </a:solidFill>
                <a:uFillTx/>
                <a:latin typeface="Arial"/>
                <a:hlinkClick r:id="rId3"/>
              </a:rPr>
              <a:t>genetic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راثي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and developmental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تطوري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mechanisms of animals and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Subfields of zoology</a:t>
            </a:r>
            <a:r>
              <a:rPr b="0" lang="en-GB" sz="44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28760" y="2428920"/>
            <a:ext cx="8286480" cy="3929040"/>
          </a:xfrm>
          <a:prstGeom prst="rect">
            <a:avLst/>
          </a:prstGeom>
          <a:solidFill>
            <a:srgbClr val="089ca3"/>
          </a:solidFill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1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"/>
              </a:rPr>
              <a:t>Behavioral ecology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: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بيئة السلوكي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is the study of the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2"/>
              </a:rPr>
              <a:t>ecological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يئي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and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3"/>
              </a:rPr>
              <a:t>evolutionary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طوري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basis for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4"/>
              </a:rPr>
              <a:t>animal behavior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and the roles of behavior in enabling an animal to adapt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يتكيف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to its environment (both intrinsic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داخليا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and extrinsic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وخارجي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1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Evolutionary bi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بيولوجيا التطور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See of both animals and plants is considered in the articles on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5"/>
              </a:rPr>
              <a:t>evolution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6"/>
              </a:rPr>
              <a:t>population genetics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7"/>
              </a:rPr>
              <a:t>heredity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8"/>
              </a:rPr>
              <a:t>variation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9"/>
              </a:rPr>
              <a:t>Mendelism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0"/>
              </a:rPr>
              <a:t>reproduction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75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1"/>
              </a:rPr>
              <a:t>Systematics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علم التصنيف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and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2"/>
              </a:rPr>
              <a:t>taxonomy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علم التقيبم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classify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يصنف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and group species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ويرتب الأنواع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i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via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common descent and regional associations.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1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Subfields of zoology</a:t>
            </a: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79480" y="2500200"/>
            <a:ext cx="7693200" cy="3786480"/>
          </a:xfrm>
          <a:prstGeom prst="rect">
            <a:avLst/>
          </a:prstGeom>
          <a:solidFill>
            <a:srgbClr val="089ca3"/>
          </a:solidFill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Entom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حشر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is the study of insects, the largest group of anima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Palaeont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حفريات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is the study of prehistoric life, including organisms' evolution and interactions with each other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فاعل الكائنات فيما بينها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and their environments. As a "historical science“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Eth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سلوك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is the study of animal behavi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"/>
          <p:cNvSpPr/>
          <p:nvPr/>
        </p:nvSpPr>
        <p:spPr>
          <a:xfrm>
            <a:off x="1476360" y="1197000"/>
            <a:ext cx="6335640" cy="324000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1692360" y="1557360"/>
            <a:ext cx="554364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7030a0"/>
                </a:solidFill>
                <a:latin typeface="Constantia"/>
              </a:rPr>
              <a:t>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omic Sans MS"/>
              </a:rPr>
              <a:t>Dr A. Halim HARR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7030a0"/>
                </a:solidFill>
                <a:latin typeface="Constantia"/>
              </a:rPr>
              <a:t>Associate Prof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Zoology Department, College of Scienc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King Saud University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P.O.  Box  2455,  Riyadh  11451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Saudi  Arab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Emails: 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alim.harrath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3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ea typeface="Arial"/>
                <a:hlinkClick r:id="rId2"/>
              </a:rPr>
              <a:t> 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ea typeface="Arial"/>
                <a:hlinkClick r:id="rId3"/>
              </a:rPr>
              <a:t>    hharrath@ksu.edu.sa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Tel: +966 11 46 75 915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Cell phone: +966 535 862 799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1600"/>
            </a:b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http://staff.ksu.edu.sa/hharr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42760" y="928440"/>
            <a:ext cx="52290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alibri"/>
              </a:rPr>
              <a:t>Learning Objectiv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90200" y="2142720"/>
            <a:ext cx="6853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tructure,function and cytogenetics of the animal cel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ifferent animal tissu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axonom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mportant Phyla, Classes, Genera, and Speci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natomy and physiolog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teresting structur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utrition, digestion and metabolism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lood composition and func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alibri"/>
              </a:rPr>
              <a:t>Assessment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53056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c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 lecture exams (30%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umulative final exam (40%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70% of total grad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 laboratory exam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ab noteboo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eld trip or pap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30% of total grad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7" descr="Blue-ringed Octopus"/>
          <p:cNvPicPr/>
          <p:nvPr/>
        </p:nvPicPr>
        <p:blipFill>
          <a:blip r:embed="rId1"/>
          <a:stretch/>
        </p:blipFill>
        <p:spPr>
          <a:xfrm>
            <a:off x="5143680" y="2571840"/>
            <a:ext cx="385740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alibri"/>
              </a:rPr>
              <a:t>Tips for Succeeding in Lecture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71680" y="245700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ad assigned chapters before attending lecture (do the same for lab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udy at least 4 hrs per week, from no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e me with specific ques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ests are combination of multiple-choice and short answer / fill-in ques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est questions will be derived from both the lecture no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Grading and “Will There Be a Curve?”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37720" y="2361960"/>
            <a:ext cx="38768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= 90% or abo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 = 80% - 89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 = 70% - 79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us / Minu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+ = 95% or abo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  = 90% - 94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+ = 85% - 89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alibri"/>
              </a:rPr>
              <a:t>Missed / Late Exam Policy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29212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 make-up exams, except with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dical document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egal document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ke-up exams will be essay for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f you arrive late to an exam, and even one exam has already been turned in, you will be given an essay te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The Biological Scien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00040" y="2143080"/>
            <a:ext cx="809136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iology – study of lif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y different fields (some exampl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Zoology – study of anim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tomy – study of morphological struct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hysiology – study of how body structures (cells, organs, organ systems, etc) func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volution – study of change over time (molecular level to ecosystem leve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cology – study of how organisms interact and affect their environments, or vice ver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214200" y="3011400"/>
            <a:ext cx="5072040" cy="27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19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80" indent="19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Is the branch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فرع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of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Biology</a:t>
            </a:r>
            <a:r>
              <a:rPr b="1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that focuses on the structure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ركيب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, function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وظيفة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, behavior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لوك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and evolution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طور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of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File:Animal diversity October 200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46720" y="2500200"/>
            <a:ext cx="3511440" cy="42148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1760" y="1206360"/>
            <a:ext cx="7924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500" spc="-1" strike="noStrike">
                <a:solidFill>
                  <a:srgbClr val="000000"/>
                </a:solidFill>
                <a:latin typeface="Calibri"/>
                <a:ea typeface="Traditional Arabic"/>
              </a:rPr>
              <a:t>Zoology (Science of animal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ar-SA" sz="45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User</cp:lastModifiedBy>
  <dcterms:modified xsi:type="dcterms:W3CDTF">2014-02-12T12:14:20Z</dcterms:modified>
  <cp:revision>40</cp:revision>
  <dc:subject/>
  <dc:title>Principals of General Zoology (Zoo-103)</dc:title>
</cp:coreProperties>
</file>