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74B-F250-4632-AECB-62ED9154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59B-727B-40FD-A3AE-2B1DE433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E71-7DBB-451B-BFB5-9EC3874D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90F-B90E-457F-8B3D-306A4717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6EAB-F110-413E-94BE-38DA9BD4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70C6-5830-42C9-8B0E-489FB9B2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22C9-EED1-4D29-B834-0CEA7530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D438-6801-433E-916F-6976BA90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98E6-B961-4E9D-9AF2-C5BC9F13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BF61-FAA5-40F8-AE2D-FC1B06B0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1BEF-E4BD-46E3-A809-2928B976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32C-0EC5-4353-8B6A-B89059D2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3BAD-3556-4E02-A6FE-7975E581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5039-BCEF-40D1-8B0F-70E881F4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744A-2EC4-4AA4-8699-D36C8766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38AE-F389-4FD5-AF55-05B74FC5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63DD-0679-49F4-B9AF-E1320DF1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7D32A-3138-4101-B8C3-A08DBA22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95A8E-37FA-43D2-8D7E-1A296102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40667-64E9-4883-A575-E259834D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B9B4D-684E-41BD-AB7A-EA281092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1128F-F27C-4095-8A46-BA1B3C64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563-0C72-44A9-8170-BF713B4E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B7829-1575-4EEF-AB34-1831B0A7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3E84-A3FF-4A08-84CE-32A6EDA7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39A6-4C54-4717-B15F-BA58EAA0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75FF-7C8B-4767-8BDD-D1E4A5EE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FFF1-147C-4480-B306-C18CD880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8FAD0-CEF0-427E-8009-641E219E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834A-56B1-428A-82F0-40D4DB2B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1E9C-B7AA-41F2-BBD3-D89B80FE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D1106-07D5-4F7C-812D-020F3CA1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D22EC-6466-4CA2-8006-9D82FEFC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B8B-6E84-4A85-BDA6-F43E668D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E5DD2-5750-43C6-9CD2-5F3746E1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D8FE-B6F5-4D0B-A59B-21189C25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541D2-82F7-4525-81C9-83A19B25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3D807-BAC8-4450-B1FA-3AF72CA3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EB0E-10D9-4DDD-8784-74FC39EE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5EF97-CD7A-4056-8D73-5CAB3CD9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354C-58C1-436D-847B-787EC646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1ECF-22AC-4458-9B1C-A0E5261D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3A9C-45F4-4B3F-A22E-C4D92FDB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E6D-9EE3-408D-B13E-A4672416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1F6-D3AB-4433-92E7-548D7D01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AEC-6D5A-45D3-8644-707C1F01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F53-2718-4D8A-BA87-263D07D2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718-5038-495B-BD0F-48CF095B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D3B8-A4DE-4DF1-A9E6-7FA3CA1A19F2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03A2-8880-4062-9305-FFFB6AE7A307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9322-FA46-4949-8025-035F704737EB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87E9-0C54-45BB-85E6-28DF680AF59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bitats" TargetMode="External"/><Relationship Id="rId2" Type="http://schemas.openxmlformats.org/officeDocument/2006/relationships/hyperlink" Target="http://en.wikipedia.org/wiki/Molecular_Biology" TargetMode="External"/><Relationship Id="rId3" Type="http://schemas.openxmlformats.org/officeDocument/2006/relationships/hyperlink" Target="http://en.wikipedia.org/wiki/Genetics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havioral_ecology" TargetMode="External"/><Relationship Id="rId2" Type="http://schemas.openxmlformats.org/officeDocument/2006/relationships/hyperlink" Target="http://en.wikipedia.org/wiki/Ecology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Animal_behavior" TargetMode="External"/><Relationship Id="rId5" Type="http://schemas.openxmlformats.org/officeDocument/2006/relationships/hyperlink" Target="http://en.wikipedia.org/wiki/Evolution" TargetMode="External"/><Relationship Id="rId6" Type="http://schemas.openxmlformats.org/officeDocument/2006/relationships/hyperlink" Target="http://en.wikipedia.org/wiki/Population_genetics" TargetMode="External"/><Relationship Id="rId7" Type="http://schemas.openxmlformats.org/officeDocument/2006/relationships/hyperlink" Target="http://en.wikipedia.org/wiki/Heredity" TargetMode="External"/><Relationship Id="rId8" Type="http://schemas.openxmlformats.org/officeDocument/2006/relationships/hyperlink" Target="http://en.wikipedia.org/wiki/Variation" TargetMode="External"/><Relationship Id="rId9" Type="http://schemas.openxmlformats.org/officeDocument/2006/relationships/hyperlink" Target="http://en.wikipedia.org/wiki/Mendelism" TargetMode="External"/><Relationship Id="rId10" Type="http://schemas.openxmlformats.org/officeDocument/2006/relationships/hyperlink" Target="http://en.wikipedia.org/wiki/Reproduction" TargetMode="External"/><Relationship Id="rId11" Type="http://schemas.openxmlformats.org/officeDocument/2006/relationships/hyperlink" Target="http://en.wikipedia.org/wiki/Systematics" TargetMode="External"/><Relationship Id="rId12" Type="http://schemas.openxmlformats.org/officeDocument/2006/relationships/hyperlink" Target="http://en.wikipedia.org/wiki/Taxonomy" TargetMode="Externa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d/Animal_diversity_October_2007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468360" y="5734080"/>
            <a:ext cx="691200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biglogo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9720" y="1458720"/>
            <a:ext cx="6072120" cy="54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ncipals of General Zoology (Zoo-103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690560" y="6114960"/>
            <a:ext cx="453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, 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C:\Users\د أشرف مشالي\Downloads\1.jpg"/>
          <p:cNvPicPr/>
          <p:nvPr/>
        </p:nvPicPr>
        <p:blipFill>
          <a:blip r:embed="rId2"/>
          <a:stretch/>
        </p:blipFill>
        <p:spPr>
          <a:xfrm>
            <a:off x="1071720" y="2629080"/>
            <a:ext cx="4491000" cy="25146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pic>
        <p:nvPicPr>
          <p:cNvPr id="202" name="Picture 14" descr="C:\Users\د أشرف مشالي\Downloads\3.jpg"/>
          <p:cNvPicPr/>
          <p:nvPr/>
        </p:nvPicPr>
        <p:blipFill>
          <a:blip r:embed="rId3"/>
          <a:srcRect l="0" t="0" r="40464" b="0"/>
          <a:stretch/>
        </p:blipFill>
        <p:spPr>
          <a:xfrm>
            <a:off x="5786280" y="2571840"/>
            <a:ext cx="2214720" cy="2786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14240" y="2286000"/>
            <a:ext cx="7782120" cy="428616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Zoography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حيوان الوصف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lso known as descriptive zoology: describ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ص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imals and their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كن معيشت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Comparative anatom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تشريح المقار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studies the structure of 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imal phys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وظائف الأعض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mechanical, physical, and biochemical functions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Molecular Biology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يولوجيا الجزيئي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studies the common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genetic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راث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and developmental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طور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mechanisms of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2428920"/>
            <a:ext cx="8286480" cy="392904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Behavioral ecolog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: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ئة السلوك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2"/>
              </a:rPr>
              <a:t>ecological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3"/>
              </a:rPr>
              <a:t>evolutionar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basis for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4"/>
              </a:rPr>
              <a:t>animal behavior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and the roles of behavior in enabling an animal to adapt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كي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to its environment (both intrinsic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ا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extrins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خارج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volutionary b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ولوجيا التطور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See of both animals and plants is considered in the articles on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5"/>
              </a:rPr>
              <a:t>evolu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6"/>
              </a:rPr>
              <a:t>population genetic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7"/>
              </a:rPr>
              <a:t>heredit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8"/>
              </a:rPr>
              <a:t>varia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9"/>
              </a:rPr>
              <a:t>Mendelism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0"/>
              </a:rPr>
              <a:t>reproduc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1"/>
              </a:rPr>
              <a:t>Systematics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صنيف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2"/>
              </a:rPr>
              <a:t>taxonomy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قيبم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classif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يصن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group speci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ويرتب الأنواع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i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via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common descent and regional associations.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79480" y="2500200"/>
            <a:ext cx="7693200" cy="378648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Entom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insects, the largest group of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Palaeont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فر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prehistoric life, including organisms' evolution and interactions with each othe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فاعل الكائنات فيما بينه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d their environments. As a "historical science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th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سلوك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animal behavi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56800" y="2356920"/>
            <a:ext cx="43578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. Khalid Mash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B 1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mashely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fice 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nday, 11am – 12a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by appoint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5715000" y="2362320"/>
          <a:ext cx="173520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362320"/>
                    <a:ext cx="173520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42760" y="928440"/>
            <a:ext cx="52290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0200" y="2142720"/>
            <a:ext cx="6853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ructure,function and cytogenetics of the animal c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t animal tiss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axonom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ortant Phyla, Classes, Genera, and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atomy and physi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eresting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utrition, digestion and metabol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omposition and f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Assessmen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3056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ecture exams (3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umulative final exam (4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aboratory ex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b note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eld trip or pa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7" descr="Blue-ringed Octopus"/>
          <p:cNvPicPr/>
          <p:nvPr/>
        </p:nvPicPr>
        <p:blipFill>
          <a:blip r:embed="rId1"/>
          <a:stretch/>
        </p:blipFill>
        <p:spPr>
          <a:xfrm>
            <a:off x="5143680" y="2571840"/>
            <a:ext cx="38574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Tips for Succeeding in Lecture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24570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d assigned chapters before attending lecture (do the same for la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udy at least 4 hrs per week, from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e me with specific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s are combination of multiple-choice and short answer / fill-in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 questions will be derived from both the lecture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rading and “Will There Be a Curve?”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2361960"/>
            <a:ext cx="38768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= 90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 = 80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 = 70% - 7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us / Min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+ = 95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  = 90% - 9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+ = 85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Missed / Late Exam Polic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9212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make-up exams, except with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dic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g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-up exams will be essay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you arrive late to an exam, and even one exam has already been turned in, you will be given an essay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The Biological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00040" y="2143080"/>
            <a:ext cx="8091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ology – study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different fields (some examp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oology – study of ani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y – study of morphological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ology – study of how body structures (cells, organs, organ systems, etc) fun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olution – study of change over time (molecular level to ecosystem 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logy – study of how organisms interact and affect their environments, or vice ver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214200" y="3011400"/>
            <a:ext cx="5072040" cy="27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branch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رع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Biology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that focuses on the structure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ركيب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fun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وظيفة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behavior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وك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d evolu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File:Animal diversity October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46720" y="2500200"/>
            <a:ext cx="3511440" cy="4214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Zoology (Science of animal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KALANZI</cp:lastModifiedBy>
  <dcterms:modified xsi:type="dcterms:W3CDTF">2015-02-11T08:46:56Z</dcterms:modified>
  <cp:revision>39</cp:revision>
  <dc:subject/>
  <dc:title>Principals of General Zoology (Zoo-103)</dc:title>
</cp:coreProperties>
</file>