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CE4-6280-49A2-9917-57C3ECB1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9AF-1AAC-4BE8-A5F7-F538186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D4B-9A44-436A-85CF-5527BD33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7A9-7E97-47BD-98EE-BF5B405D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BB0B-D4A7-4B43-80B0-7C94BC2A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AB6-54E0-4269-90AF-E1DAEF3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252-A92F-4EC5-AAF5-5D23CAC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B894-FBFE-4058-B2BF-02936615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C58-FBB5-44B3-86BA-153F247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0896-5997-4802-B0B5-0E35DC19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F059-0952-487D-917F-8E54726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DCB-C84B-459B-A449-A7D6ED3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CE79-8F26-476F-B9AD-8EA4DF1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18D-EF86-432C-B9A8-93F7AF9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8D2-7320-4F0F-92EA-F1E2107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9B3-A972-4A86-AFEC-37C34ED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5ED8-EBC7-4880-8456-6F8BEE4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2F2F-A5E3-4319-B15E-1AF5AB14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A5C5-5DCB-4AAD-89D1-5819EB59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0A35-8AC6-44DA-8C51-F1DA242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EEDB-002E-432A-9DA6-7950E22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6309-B11F-4F68-B21C-5BACDA9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EBB-F5C1-4F96-8686-D0A2CFC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24EA-AF11-4731-BBAE-EC1D0BB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9048-C005-4284-9056-542AC8BE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1749-59E9-4F22-8FCC-9969ED9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3918-A2A8-4E5E-A6BB-7F2C51A8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8D9B-4D41-4C73-A443-FE7DFA0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441B-49C0-4627-9721-51AC9C7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8A7A-D033-4618-83ED-6AF05C9C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B5D5-0F36-465A-B97F-EF9F2DFF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B3B9-0954-457A-AC7E-B7D5733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5F4E-8ECE-45EE-9F1C-50BE67A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17D-0551-4807-A609-4A853BD6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0639-982A-4B73-96ED-F3B539F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203C-EA16-4854-97CB-D4250B2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929A-2524-4B7F-BD53-DB87EB3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E7DC-53B6-4101-B02D-ABBEB8B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E63E-5C0B-47AF-8DFC-2533A5A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2A3A-7C44-4FEC-9012-132274A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A682-5868-4D9C-9CDB-D7D468B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1045-5B52-4DE9-9C30-690A7801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9BC2-8CF1-43EA-9281-B4F49EFE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92B-A6E0-4F06-AEE9-B9D56BF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8F5-273B-49D3-9F9C-2EE3D0EA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C2F-D13B-4776-A9D8-D7D5FCC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7DF-4B36-4D1E-870B-4D9215F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E1F-FD90-4430-BE20-71BA0510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39B-EC00-4243-BCE0-677CA9212AFD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7B36-815E-4DA5-8D6C-CF4BD55A90A0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298-E398-45DD-B282-A19E50974ED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998C-347A-4A52-94FE-07A33259E16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Animal_diversity_October_200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C:\Users\د أشرف مشالي\Downloads\1.jpg"/>
          <p:cNvPicPr/>
          <p:nvPr/>
        </p:nvPicPr>
        <p:blipFill>
          <a:blip r:embed="rId2"/>
          <a:stretch/>
        </p:blipFill>
        <p:spPr>
          <a:xfrm>
            <a:off x="1071720" y="2629080"/>
            <a:ext cx="4491000" cy="2514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pic>
        <p:nvPicPr>
          <p:cNvPr id="202" name="Picture 14" descr="C:\Users\د أشرف مشالي\Downloads\3.jpg"/>
          <p:cNvPicPr/>
          <p:nvPr/>
        </p:nvPicPr>
        <p:blipFill>
          <a:blip r:embed="rId3"/>
          <a:srcRect l="0" t="0" r="40464" b="0"/>
          <a:stretch/>
        </p:blipFill>
        <p:spPr>
          <a:xfrm>
            <a:off x="5786280" y="2571840"/>
            <a:ext cx="2214720" cy="2786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Khalid Mash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B 1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mashely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5715000" y="2362320"/>
          <a:ext cx="173520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362320"/>
                    <a:ext cx="173520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Blue-ringed Octopus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File:Animal diversity October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46720" y="250020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KALANZI</cp:lastModifiedBy>
  <dcterms:modified xsi:type="dcterms:W3CDTF">2015-02-11T08:46:56Z</dcterms:modified>
  <cp:revision>39</cp:revision>
  <dc:subject/>
  <dc:title>Principals of General Zoology (Zoo-103)</dc:title>
</cp:coreProperties>
</file>