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153-D409-4EC4-B7BD-B9361C82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756-C139-4E62-82B9-A4C8F92C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239-565E-4A49-AAAC-1DD76229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342-22A9-44AA-BF21-9A10B9FB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2751-D4CF-47C3-8587-65D3065D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3F75-AF2D-4A60-9D1B-78A46BAB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0761-11C2-4315-B879-EE6B0DC7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AAE-3EB6-424F-9FA3-22360634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10AE-3162-48F0-B681-6AFC0202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4FBB-886E-4648-9FD7-F89FE629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7A4-375D-4D4B-9B59-43DEEC1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034-954E-4A20-82F7-E26FFB8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774-4825-4EDD-8E18-B72BA7D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591-9247-4857-B8A1-54CFC7B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7A53-DE3B-4392-9B5F-56BA9F8F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524B-F45F-4D69-9893-ED056761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5268-F92F-4FE2-AE77-B53B9711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747C-E8BE-4B03-A9E2-B06B7D30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2CC6-9747-4EF4-9BBC-86029A79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6E0E-FD7D-4D97-9549-320296FC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CC26-296E-470D-B746-8EAE8604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103B-457D-4312-8E6C-B27CC3B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F8B-2282-4629-9AE3-1C301042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7EC8-A873-4982-A6D9-BF841FA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4421-92AE-4232-B319-37A4CA9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A46B-7229-4BAD-82D6-35221E7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8C0A-74C6-424A-B9A6-155013E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7724-BA32-4AF6-BE2C-F098719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01B5-D9DB-4F63-A37A-2C9555A9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2818-4E1C-464C-95AA-D07C6F48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E905-12C2-4774-9285-E98CEDD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66CE-405D-4648-9C99-3B3B92F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632B-0128-490F-A9B9-C9C6392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F9A-65D4-4A5B-B0E5-6FF8CFE2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C425-1302-43DF-B405-6D5F05D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9A23-1585-4B3C-91B9-C02E1A4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758F-47F0-4CB1-AAAE-A31C1F26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A738-498C-4F2A-9797-6777574E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461C-6C3C-4DB9-B097-060478D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D343-D394-4091-A73C-36B7A11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2899-2AD6-4305-88B1-9804760B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EDF5-7ACC-4B8E-94FD-0A542738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2A68-3FA6-45AE-AE0F-4EBA1E83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BA842-0804-40AB-B108-F90BF1AA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5B5-CCE1-47A9-B1B1-DC64617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6ABF-389D-4CE5-A88E-34CDB614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4F081-0EB6-4C4A-BC00-10AE407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FC0F-F667-422B-A9E5-ADEF4CA1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BE1F-39ED-4985-8DF8-75B60D3D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9C0B-4358-4A4C-8241-DE5F437D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C031-D9C6-414C-9D15-A046E19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7420-D064-427F-BF9E-A7F6FD4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F81E-B2E1-4E4F-8E53-130AB98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40ED-3616-4534-842D-E2F7C9A7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9899-8FD8-4C5A-8661-ACBADDC9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486-A981-4870-A8F4-E2B98A7E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3BBB-3D39-4EC0-80B8-DD2ABEF3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7AF-9E45-459D-A6F3-0E81928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136-A65D-4286-A391-F4E5C92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40E-607A-4403-B38A-889652A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B29E-6B33-418C-8A78-B810BFA242BC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F765-2DB9-445E-BBDB-506820A2F585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ECC6-59EB-4E87-96D6-F43C572C404C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19D9-BFE8-4561-8820-14BCE1FDA2FA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7E3-F412-477B-9DD5-5323AB15DC42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596880"/>
            <a:ext cx="834372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 to Pharmacology</a:t>
            </a: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lang="en-GB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4" descr="knowrx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716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interac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ccur when administration of one drug before or after alter effect of one or both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is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Is the improper use of common medications in way that lead to acute and chronic toxicity for example laxative, antacid and vitamin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n inappropriate intake of substance either continually or periodic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persons reliance on or need to take drug or substance there are two type of dependenc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4475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ological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due to biochemical changes in the body tissue these tissue come to require substance for normal func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chological dependenc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motional reliance on a drug to maintain a since of wellbeing accompanied feeling of ne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habitua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enotes a mild form of psychological dependenc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llicit drug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lso called street drug are those sold illeg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7720" y="16002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e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:The aim to give patient a dose of the drug that achieves the desired effect with out causing with harmful side effec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index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measure of the danger of poisoning and the higher it is safer of drug i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pirin (3.5), digoxin (2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availability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Means that the drug has reached the circulation and is therefore available for all the tissues. (ex: aspirin 600 mg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ecreasing response to repetitive drug dos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11440"/>
          </a:xfrm>
          <a:prstGeom prst="rect">
            <a:avLst/>
          </a:prstGeom>
          <a:gradFill rotWithShape="0">
            <a:gsLst>
              <a:gs pos="0">
                <a:srgbClr val="475d1c"/>
              </a:gs>
              <a:gs pos="50000">
                <a:srgbClr val="99ca3c"/>
              </a:gs>
              <a:gs pos="100000">
                <a:srgbClr val="475d1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basic concepts of Pharmacology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240" y="1600200"/>
            <a:ext cx="8458200" cy="4456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bout how the body deal with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ffect of drug on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 a clinical using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study of natural (plant and animal) drug sourc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2f761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anches of Pharmac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2860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- Orig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Movement through Bod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Use/Purp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xicolog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26240" y="2230200"/>
            <a:ext cx="2586960" cy="194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90c226"/>
            </a:solidFill>
            <a:round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Scien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of Pharma</a:t>
            </a: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colo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0" name="Picture 5" descr="pharmara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0" y="2590920"/>
            <a:ext cx="228600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gnos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447920" y="5715000"/>
            <a:ext cx="20574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200400" y="228600"/>
            <a:ext cx="2666880" cy="838080"/>
          </a:xfrm>
          <a:prstGeom prst="rect">
            <a:avLst/>
          </a:prstGeom>
          <a:solidFill>
            <a:srgbClr val="90c22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248520" y="2743200"/>
            <a:ext cx="2590560" cy="838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34120" y="5715000"/>
            <a:ext cx="2895480" cy="838080"/>
          </a:xfrm>
          <a:prstGeom prst="rect">
            <a:avLst/>
          </a:prstGeom>
          <a:solidFill>
            <a:srgbClr val="54a021"/>
          </a:solidFill>
          <a:ln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therapeu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066680" y="5638680"/>
            <a:ext cx="2438640" cy="8384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xic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228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eneric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given for the drug to being official nam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fficial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name under which its listed in one in the official public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hemical nam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the name by which the chemist knows i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trade mark or brand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proprietary name) : is name given by the drug manufact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: hydrochlorothiazide (official name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sidrex    (brand name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46479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Learning Objectives</a:t>
            </a: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9810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fine the terms Pharmacology, Pharmacokinetics, Pharmacodynam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the various routes of administration of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factor effect on pharmacokinet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 some factors that dedicate of the dose. </a:t>
            </a:r>
            <a:r>
              <a:rPr b="0" lang="en-GB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Example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7200" y="1600200"/>
          <a:ext cx="8229600" cy="47642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ca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ic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de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chloro-1,3-dihydro-1-methyl-5 phenyl 2H-1, 4-benzodiazepin 2-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zep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u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yl 1-methyl 4-pheyli-sonipecotate hydro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perid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ero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tylsalicy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pi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tr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09120" y="13716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digitalis, vincrist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and anim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epinphrine, insulin and adrenocoticotrpoic hormo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r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iron, iodine and zin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and chemical subst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sodium bicarbonat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drug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36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Pharmacolog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aracteris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Penicillins, Beta Block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Therapeut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d for similar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not have 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Antihypertensives, Antibio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7040" y="15228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Classific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rug action across lifesp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9796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pregnanc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child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adult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371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balance risks vs benefits of drugs during 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ffect fetus more than mother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ther’s health affects fetus—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asthma is more dangerous to the fetus than the drugs used for treatment (mother’s who do not take medication for asthma the incidence of stillbirths is doubled!!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685800" y="2476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399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0880" y="1447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gnancy alters drug disposition and excretion proc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3rd trimester renal blood flow is doubled with an increase in glomerular filtration and elimination of drugs increases(therefore will need an increased dosage of drug to compens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e and motility of intestines (peristalsis) decrease in pregnancy(more time for drugs to be absorbe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68580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520" y="16765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drugs can cross the placen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cross more easi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onized, highly polar or protein bounds cross with difficul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icotine (smaller babi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cohol (depende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caine/heroine/morphine (addictive to fetu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and viral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3520" y="4176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8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process by which congenital malformations are produced in an embryo or fe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eft pala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drocephal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pina bifid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and biochemical anomal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5192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stages of embryonic developm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implantation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eption to week 20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bryogenic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3 to  week 8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tal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9 to  term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ring pre-implantation and embryonic stages the teratogen acts in an all-or-none response, i.e. , is dose is high enough the fetus will die, if dose is sub-lethal fetus will reco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oss malformations produced by exposure to teratogens during the embryonic period (1st trimes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posure during the 2nd and 3rd trimesters usually results in organ dysfunction rather than gross malform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04920" y="380520"/>
            <a:ext cx="8610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w drugs considered to be teratogenic: hard to prov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congenital anomalies is low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imal test may not be applicabl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longed exposure may be necessar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 may be delaye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effects are hard to docume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led experiments cannot be done in huma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 prove a drug is a teratoge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cause a characteristic set of malformatio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must act only during a specific window of vulnerabil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weeks 4 through 7 of gestatio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malformations should increase with increas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age and duration of exposur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of malformation with most teratogens is only ~10%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8288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nce the beginning people search to treat illness and cure disease the oldest known prescription found on a clay( 5000 years ago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mitive people through the Egyptian period believe that evil spirit living in the body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pocrates ( fifth century) advanced idea that disease resulted from natural caus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rabs’ interest of in medicine, pharmacy and chimistry was reflected in hospitals and school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herapy during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 get through breast milk and can affect inf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drugs are in higher concentr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ngs That Can Minimize Risk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e after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with short ½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that are not found in breast mil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drugs known to be hazardo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Pediatric Pati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who are young or old respond differently to drugs than do middle aged peop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diatrics- all patients under age 16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mature infants (&lt; 36 weeks gestatio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ull-term infants (36-40 weeks gestational ag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nates (1st 4 weeks post-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ants (5-32 weeks post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ildren (1-12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olescents (12-16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Young Pati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 risk for prolonged and intense respon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onse of Infants due to differences 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sorption- absorption of drugs IM is greater in inf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an neonates and adul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nal drug excretion (reduced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drug metabolism (low in new bor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tein binding of drugs (albumin lower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lusion of drugs from CNS by blood-brain barrier (not su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eloped in infancy making infant much more susceptible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one year- pharmacokinetic response similar to adul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Geriatric Pati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derly more sensitive to drugs and exhibit more variability in respon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tered pharmacokinetics (organ degener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and severe 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drug therapy and us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compli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dividualization of treatment is essential: each patient must be monitored for desired responses and adverse responses, and the regime must be adjusted accordingly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52280" y="68580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riatric patients will vary quite a lot from one patient to anoth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cally fit patients respond differently than out of sha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sorption- percentage of absorption DOES NOT usually change with age, but rate may be slowed (drug response may be delay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stric acidity may be increased in aged affecting absorption of certain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ribution- in aged there 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body fat- reduces plasma levels of lipid soluble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total body water- increases concentration of water soluble drugs and intensity of respon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d concentration of serum albumin- malnourishment decreases albumin and results in increased drug lev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taboli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functions decrease in elderly and drug levels increase (amount of dysfunction vari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retion: decline of renal function in elderly (variable) therefore increase drug levels in plas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renal function by creatinine clearance ra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dynamic Changes: alterations in receptor levels may change on a number of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affinity of recept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Oral is the most comm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st expensive and most convenient route for most client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fe, does not break the ski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oius, able to swallow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1066680" y="380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 of adminis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medica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Oral Rout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appropriate for client nausea and vomitin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have unpleasant tas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cause irritation of gastro intestinal trac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discolor teeth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can be aspirated by ill clien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37772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rug placed under the tongue, where it dissolv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me as oral p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administered for local eff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 into blood strea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potent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Sublingual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304920" y="1417680"/>
            <a:ext cx="4190760" cy="4038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800600" y="141768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0880" y="533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swallowed drug may be inactiv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remain under the tongue until dissolved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Bacc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ertaining to the cheek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Rect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an  be used when drug objectionable tast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lingual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on the tongu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286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bcutaneous (SC)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odermic into subcutaneous tissue, just below the sk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nset drug action faster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 S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involve sterile technique because 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expensive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only small dos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lower than intramuscular injec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me drug can irritate tissue and can cause pa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09120" y="1447560"/>
            <a:ext cx="634860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muscular (IM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o in the muscl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in from irritating drugs is minimiz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large volume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be anxiety produc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09120" y="609480"/>
            <a:ext cx="6348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dermal (ID)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s the administrating of a drug into the dermal layer of the skin just beneath the epidermis, usually small amount of liquid is used for example 0.1m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bsorption is slow (this advantage test for allerg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ount of drug administered must be smal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venous (IV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ow injection of drugs and another substance directly into bloodstream through the ve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halation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pply to drugs directly onto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440" y="12949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pical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(including transdermal patch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y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ngs (inha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09120" y="2160720"/>
            <a:ext cx="6348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?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17524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twenty first century, the emphasis on providing quality health ca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role which include administering medication in health care agency, community and home care setting, teaching client safe and effective self administration to better care for their clien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9343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2286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164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logy: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cience that studies the effect of the drugs on the bod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peias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are the total of all authorized drugs available within the countr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ubstance administered for diagnosis, cure, treatment, mitigation or preventio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scrip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he written direction for the preparation and the administration of the drug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therapeutic effec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primary effect intended that is the reason the drug is prescribed such as morphine sulfate is analges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de effect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secondary effect of the drug is one that unintended, side effects are usually predictable and may be either harml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15238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oxicit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harmful effect of the drug on an organism or tissue, result from overdose or external u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llerg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immunological reaction to a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1T06:45:35Z</cp:lastPrinted>
  <dcterms:modified xsi:type="dcterms:W3CDTF">2016-01-21T07:00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