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7DD7-4C6C-48F5-A80B-7F0A54A3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C65B-0F84-4269-8902-3DF30124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DE90-9BF5-45D7-8831-EFA9E3CE9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78D5-4368-45EA-A8CC-05D7EE252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FB44-CA09-4E00-9DC5-3A3D46B8A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CD0B-470F-4072-8F22-55E5DD95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17C0-341D-43BD-9BD2-E040C378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CDAE-B82D-4C1B-8107-7D30ABD1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C310-A846-4800-8D0C-CAE6DB3B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757B-EE40-47EE-9BF9-3AEF2269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7A57-C853-48A2-BD2F-640908D0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27BB-0154-435B-94FF-B491F52E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E1A4-0572-484F-8B5A-B301E759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DC79-369C-49D6-8243-34FE0130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1DF4-5DE9-4FB5-BB7E-174F868F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9D77-BF13-4D4E-A3D5-DD67B2A85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2B11-56B7-4370-9614-16BCF2687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2AE81-422F-493D-9E9E-63B0E643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A3AD5-2FBB-4DD8-87AC-7A6E75B9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D726E-60EA-45AE-B67A-F98631C8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0365E-742D-458B-9790-5AC200B6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33D36-A56E-4C22-8F01-86FEA5D0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9D7C-98EE-4B9F-9566-4380B87B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E2103-9B89-4780-8430-1D6FF329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FD8BE-1BFE-4A76-A060-80F9AF22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05906-22D5-47A8-A4B8-4FC77C66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F187D-E695-4C1F-B8BC-8D2A7517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41EF3-F5EB-48F6-BB11-E116275E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F2566-2895-4517-B8A6-64722A6B2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70455-24DD-4B96-B1CC-4EC2EB6D9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93F3A-B59A-42F3-915E-68951DF42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20C16-8EEA-48EF-B32D-3F7AEFAE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19B47-A167-4FC6-B999-56CA192E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20F6-4C13-4000-8424-FE400C3C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D0279-CC5C-457F-9B02-D733F415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42B3C-AE60-414F-8336-43741503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C95E1-67D3-4645-8E65-778D7BF2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BC301-C7E1-499D-ABEB-460BDD8A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2A4EC-D713-42DF-A4F5-D57BE2C4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EC272-4DB2-46FF-90D9-A1A57E3A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9EBAB-A9DE-419E-8B97-CF55FE93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6FD9E-5202-46BE-A406-052DB5E8A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33A15-C158-475E-85D6-0FF24F96C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BFB2C-2A26-45FA-ACC7-08319BA87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5D64-B0EB-4076-AFFB-9D5020C6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00EB0-8D42-4765-B273-341BE223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8D071-00AF-4CF5-AA74-52FEAEA0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21D9A-45C9-4138-8019-5CCC5FE8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DBBF9-802E-4AC2-B679-2174DFBF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CE18D-8507-41CF-BF10-75A3CFB3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FB567-1C2F-432B-8026-7538E85E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4604F-00BF-45C3-9238-C1F8D45D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607F5-BEF0-4021-B144-44A41D7B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06A63-211C-4612-8004-2ABF1DB2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BAE17-0F1A-4C92-8E6B-B6133DC82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B47A-A4AB-4BDF-930F-8768FB56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6D36A-5489-497F-AF2B-84D450328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D366-8379-445C-8EDB-C8B767F3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DC1E-7B37-4204-8DDE-38B2E206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C26E-F44D-41CB-8F6E-D488A17F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3787-3E87-4192-940A-B4B6A393AD56}" type="slidenum">
              <a:rPr b="0" lang="en-GB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6967-4DD3-4A36-8FC7-C521F56A2B94}" type="slidenum">
              <a:rPr b="0" lang="en-GB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ED6C-BE6C-49C7-8813-552F94DFED3A}" type="slidenum">
              <a:rPr b="0" lang="en-GB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A6E6-DFD7-485C-9DF9-1768B6151027}" type="slidenum">
              <a:rPr b="0" lang="en-GB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D234-D58C-46C9-A753-52B29977E0F9}" type="slidenum">
              <a:rPr b="0" lang="en-GB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560" y="596880"/>
            <a:ext cx="8343720" cy="3581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9336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roduction to Pharmacology</a:t>
            </a:r>
            <a:r>
              <a:rPr b="0" lang="en-GB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r>
              <a:rPr b="0" lang="en-GB" sz="54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5" name="Picture 4" descr="knowrx"/>
          <p:cNvPicPr/>
          <p:nvPr/>
        </p:nvPicPr>
        <p:blipFill>
          <a:blip r:embed="rId1"/>
          <a:stretch/>
        </p:blipFill>
        <p:spPr>
          <a:xfrm>
            <a:off x="4038480" y="0"/>
            <a:ext cx="5105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44000" cy="582480"/>
          </a:xfrm>
          <a:prstGeom prst="rect">
            <a:avLst/>
          </a:prstGeom>
          <a:gradFill rotWithShape="0">
            <a:gsLst>
              <a:gs pos="0">
                <a:srgbClr val="99ca3c"/>
              </a:gs>
              <a:gs pos="50000">
                <a:srgbClr val="475d1c"/>
              </a:gs>
              <a:gs pos="100000">
                <a:srgbClr val="99ca3c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Terminology</a:t>
            </a:r>
            <a:r>
              <a:rPr b="0" lang="en-GB" sz="3600" spc="-1" strike="noStrike">
                <a:solidFill>
                  <a:srgbClr val="ff0000"/>
                </a:solidFill>
                <a:latin typeface="Trebuchet MS"/>
              </a:rPr>
              <a:t> Cont</a:t>
            </a:r>
            <a:r>
              <a:rPr b="0" lang="en-GB" sz="3600" spc="-1" strike="noStrike">
                <a:solidFill>
                  <a:srgbClr val="ff0000"/>
                </a:solidFill>
                <a:latin typeface="Trebuchet MS"/>
              </a:rPr>
              <a:t> ….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371600"/>
            <a:ext cx="63482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interaction: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occur when administration of one drug before or after alter effect of one or both drug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misuse: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Is the improper use of common medications in way that lead to acute and chronic toxicity for example laxative, antacid and vitamin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44000" cy="582480"/>
          </a:xfrm>
          <a:prstGeom prst="rect">
            <a:avLst/>
          </a:prstGeom>
          <a:gradFill rotWithShape="0">
            <a:gsLst>
              <a:gs pos="0">
                <a:srgbClr val="99ca3c"/>
              </a:gs>
              <a:gs pos="50000">
                <a:srgbClr val="475d1c"/>
              </a:gs>
              <a:gs pos="100000">
                <a:srgbClr val="99ca3c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rminology</a:t>
            </a:r>
            <a:r>
              <a:rPr b="0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ont</a:t>
            </a:r>
            <a:r>
              <a:rPr b="0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….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09120" y="152388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abuse: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is an inappropriate intake of substance either continually or periodically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dependence: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is a persons reliance on or need to take drug or substance there are two type of dependence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44000" cy="582480"/>
          </a:xfrm>
          <a:prstGeom prst="rect">
            <a:avLst/>
          </a:prstGeom>
          <a:gradFill rotWithShape="0">
            <a:gsLst>
              <a:gs pos="0">
                <a:srgbClr val="99ca3c"/>
              </a:gs>
              <a:gs pos="50000">
                <a:srgbClr val="475d1c"/>
              </a:gs>
              <a:gs pos="100000">
                <a:srgbClr val="99ca3c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Terminology</a:t>
            </a:r>
            <a:r>
              <a:rPr b="0" lang="en-GB" sz="3600" spc="-1" strike="noStrike">
                <a:solidFill>
                  <a:srgbClr val="ff0000"/>
                </a:solidFill>
                <a:latin typeface="Trebuchet MS"/>
              </a:rPr>
              <a:t> Cont</a:t>
            </a:r>
            <a:r>
              <a:rPr b="0" lang="en-GB" sz="3600" spc="-1" strike="noStrike">
                <a:solidFill>
                  <a:srgbClr val="ff0000"/>
                </a:solidFill>
                <a:latin typeface="Trebuchet MS"/>
              </a:rPr>
              <a:t> ….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09120" y="14475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hysiological dependence: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is due to biochemical changes in the body tissue these tissue come to require substance for normal function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sychological dependence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is emotional reliance on a drug to maintain a since of wellbeing accompanied feeling of need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44000" cy="582480"/>
          </a:xfrm>
          <a:prstGeom prst="rect">
            <a:avLst/>
          </a:prstGeom>
          <a:gradFill rotWithShape="0">
            <a:gsLst>
              <a:gs pos="0">
                <a:srgbClr val="99ca3c"/>
              </a:gs>
              <a:gs pos="50000">
                <a:srgbClr val="475d1c"/>
              </a:gs>
              <a:gs pos="100000">
                <a:srgbClr val="99ca3c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Terminology</a:t>
            </a:r>
            <a:r>
              <a:rPr b="0" lang="en-GB" sz="3600" spc="-1" strike="noStrike">
                <a:solidFill>
                  <a:srgbClr val="ff0000"/>
                </a:solidFill>
                <a:latin typeface="Trebuchet MS"/>
              </a:rPr>
              <a:t> Cont</a:t>
            </a:r>
            <a:r>
              <a:rPr b="0" lang="en-GB" sz="3600" spc="-1" strike="noStrike">
                <a:solidFill>
                  <a:srgbClr val="ff0000"/>
                </a:solidFill>
                <a:latin typeface="Trebuchet MS"/>
              </a:rPr>
              <a:t> ….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habituation: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denotes a mild form of psychological dependence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llicit drug: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also called street drug are those sold illegally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44000" cy="582480"/>
          </a:xfrm>
          <a:prstGeom prst="rect">
            <a:avLst/>
          </a:prstGeom>
          <a:gradFill rotWithShape="0">
            <a:gsLst>
              <a:gs pos="0">
                <a:srgbClr val="99ca3c"/>
              </a:gs>
              <a:gs pos="50000">
                <a:srgbClr val="475d1c"/>
              </a:gs>
              <a:gs pos="100000">
                <a:srgbClr val="99ca3c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Terminology</a:t>
            </a:r>
            <a:r>
              <a:rPr b="0" lang="en-GB" sz="3200" spc="-1" strike="noStrike">
                <a:solidFill>
                  <a:srgbClr val="ff0000"/>
                </a:solidFill>
                <a:latin typeface="Trebuchet MS"/>
              </a:rPr>
              <a:t> Cont</a:t>
            </a:r>
            <a:r>
              <a:rPr b="0" lang="en-GB" sz="3200" spc="-1" strike="noStrike">
                <a:solidFill>
                  <a:srgbClr val="ff0000"/>
                </a:solidFill>
                <a:latin typeface="Trebuchet MS"/>
              </a:rPr>
              <a:t> …..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837720" y="160020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se</a:t>
            </a:r>
            <a:r>
              <a:rPr b="0" lang="en-GB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:The aim to give patient a dose of the drug that achieves the desired effect with out causing with harmful side effect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index</a:t>
            </a:r>
            <a:r>
              <a:rPr b="0" lang="en-GB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is a measure of the danger of poisoning and the higher it is safer of drug is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r>
              <a:rPr b="0" lang="en-GB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spirin (3.5), digoxin (2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44000" cy="582480"/>
          </a:xfrm>
          <a:prstGeom prst="rect">
            <a:avLst/>
          </a:prstGeom>
          <a:gradFill rotWithShape="0">
            <a:gsLst>
              <a:gs pos="0">
                <a:srgbClr val="99ca3c"/>
              </a:gs>
              <a:gs pos="50000">
                <a:srgbClr val="475d1c"/>
              </a:gs>
              <a:gs pos="100000">
                <a:srgbClr val="99ca3c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rminology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ont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…..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09120" y="152388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oavailability</a:t>
            </a:r>
            <a:r>
              <a:rPr b="0" lang="en-GB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Means that the drug has reached the circulation and is therefore available for all the tissues. (ex: aspirin 600 mg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lerance</a:t>
            </a:r>
            <a:r>
              <a:rPr b="0" lang="en-GB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 decreasing response to repetitive drug dose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811440"/>
          </a:xfrm>
          <a:prstGeom prst="rect">
            <a:avLst/>
          </a:prstGeom>
          <a:gradFill rotWithShape="0">
            <a:gsLst>
              <a:gs pos="0">
                <a:srgbClr val="475d1c"/>
              </a:gs>
              <a:gs pos="50000">
                <a:srgbClr val="99ca3c"/>
              </a:gs>
              <a:gs pos="100000">
                <a:srgbClr val="475d1c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Trebuchet MS"/>
              </a:rPr>
              <a:t>basic concepts of Pharmacology</a:t>
            </a:r>
            <a:r>
              <a:rPr b="0" lang="en-GB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28240" y="1600200"/>
            <a:ext cx="8458200" cy="44560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rmacokinetics</a:t>
            </a:r>
            <a:r>
              <a:rPr b="0" lang="en-GB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is a bout how the body deal with drug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rmacodynamics</a:t>
            </a:r>
            <a:r>
              <a:rPr b="0" lang="en-GB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is effect of drug on the body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rmacotherapeutics</a:t>
            </a:r>
            <a:r>
              <a:rPr b="0" lang="en-GB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is  a clinical using of drug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rmacognosy</a:t>
            </a:r>
            <a:r>
              <a:rPr b="1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he study of natural (plant and animal) drug source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100000">
                <a:srgbClr val="2f7618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Branches of Pharmacolog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28600" y="18284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rmacognosy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- Origi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rmacokinetics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- Movement through Bod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rmacodynamics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- Effec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rmacotherapeutics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- Use/Purpo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xicology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-Side Effect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3600" spc="-1" strike="noStrike">
              <a:solidFill>
                <a:srgbClr val="90c226"/>
              </a:solidFill>
              <a:latin typeface="Trebuchet MS"/>
              <a:ea typeface="Tahom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126240" y="2230200"/>
            <a:ext cx="2586960" cy="1940400"/>
          </a:xfrm>
          <a:prstGeom prst="rect">
            <a:avLst/>
          </a:prstGeom>
          <a:solidFill>
            <a:srgbClr val="33ccff"/>
          </a:solidFill>
          <a:ln w="12600">
            <a:solidFill>
              <a:srgbClr val="90c226"/>
            </a:solidFill>
            <a:round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Trebuchet MS"/>
              </a:rPr>
              <a:t>Scienc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Trebuchet MS"/>
              </a:rPr>
              <a:t>of Pharma</a:t>
            </a:r>
            <a:r>
              <a:rPr b="0" i="1" lang="en-US" sz="1800" spc="-1" strike="noStrike">
                <a:solidFill>
                  <a:srgbClr val="404040"/>
                </a:solidFill>
                <a:latin typeface="Trebuchet MS"/>
              </a:rPr>
              <a:t>-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Trebuchet MS"/>
              </a:rPr>
              <a:t>colog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00" name="Picture 5" descr="pharmara"/>
          <p:cNvPicPr/>
          <p:nvPr/>
        </p:nvPicPr>
        <p:blipFill>
          <a:blip r:embed="rId1"/>
          <a:stretch/>
        </p:blipFill>
        <p:spPr>
          <a:xfrm>
            <a:off x="0" y="95400"/>
            <a:ext cx="9144000" cy="67626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6"/>
          <p:cNvSpPr/>
          <p:nvPr/>
        </p:nvSpPr>
        <p:spPr>
          <a:xfrm>
            <a:off x="0" y="2590920"/>
            <a:ext cx="2286000" cy="8380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armacognos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1447920" y="5715000"/>
            <a:ext cx="205740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3200400" y="228600"/>
            <a:ext cx="2666880" cy="838080"/>
          </a:xfrm>
          <a:prstGeom prst="rect">
            <a:avLst/>
          </a:prstGeom>
          <a:solidFill>
            <a:srgbClr val="90c22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armacokine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6248520" y="2743200"/>
            <a:ext cx="2590560" cy="83808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armacodynam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Rectangle 10"/>
          <p:cNvSpPr/>
          <p:nvPr/>
        </p:nvSpPr>
        <p:spPr>
          <a:xfrm>
            <a:off x="5334120" y="5715000"/>
            <a:ext cx="2895480" cy="838080"/>
          </a:xfrm>
          <a:prstGeom prst="rect">
            <a:avLst/>
          </a:prstGeom>
          <a:solidFill>
            <a:srgbClr val="54a021"/>
          </a:solidFill>
          <a:ln w="12600">
            <a:solidFill>
              <a:srgbClr val="54a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armacotherapeu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11"/>
          <p:cNvSpPr/>
          <p:nvPr/>
        </p:nvSpPr>
        <p:spPr>
          <a:xfrm>
            <a:off x="1066680" y="5638680"/>
            <a:ext cx="2438640" cy="838440"/>
          </a:xfrm>
          <a:prstGeom prst="rect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xicolo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152280" y="1600200"/>
            <a:ext cx="86868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generic name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is given for the drug to being official nam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official name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is the name under which its listed in one in the official publicatio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chemical name: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is the name by which the chemist knows i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trade mark or brand name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proprietary name) : is name given by the drug manufactur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xample: hydrochlorothiazide (official name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sidrex    (brand name)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08" name="Picture 1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464796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90c226"/>
                </a:solidFill>
                <a:latin typeface="Rockwell"/>
              </a:rPr>
              <a:t>Learning Objectives</a:t>
            </a:r>
            <a:r>
              <a:rPr b="0" lang="en-GB" sz="3600" spc="-1" strike="noStrike">
                <a:solidFill>
                  <a:srgbClr val="90c226"/>
                </a:solidFill>
                <a:latin typeface="Rockwell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28600" y="198108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efine the terms Pharmacology, Pharmacokinetics, Pharmacodynamic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ist the various routes of administration of drug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ist factor effect on pharmacokinetic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escribe some factors that dedicate of the dose. </a:t>
            </a:r>
            <a:r>
              <a:rPr b="0" lang="en-GB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90c226"/>
                </a:solidFill>
                <a:latin typeface="Trebuchet MS"/>
              </a:rPr>
              <a:t>Examples</a:t>
            </a:r>
            <a:r>
              <a:rPr b="0" lang="en-GB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457200" y="1600200"/>
          <a:ext cx="8229600" cy="476424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emical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neric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de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-chloro-1,3-dihydro-1-methyl-5 phenyl 2H-1, 4-benzodiazepin 2-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azep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ium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thyl 1-methyl 4-pheyli-sonipecotate hydro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perid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mero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etylsalicycl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pir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cotri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09120" y="137160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t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uch as digitalis, vincristine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and animal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uch as epinphrine, insulin and adrenocoticotrpoic hormone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ral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s iron, iodine and zinc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hetic and chemical substanc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s sodium bicarbonate</a:t>
            </a:r>
            <a:r>
              <a:rPr b="0" lang="en-GB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Rectangle 1"/>
          <p:cNvSpPr/>
          <p:nvPr/>
        </p:nvSpPr>
        <p:spPr>
          <a:xfrm>
            <a:off x="609480" y="53352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urce of drug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336240" y="12193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c3c43"/>
                </a:solidFill>
                <a:latin typeface="Times New Roman"/>
                <a:ea typeface="Times New Roman"/>
              </a:rPr>
              <a:t>Pharmacologic Classific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imilar Characteristic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imilar Chemical Make up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xamples: Penicillins, Beta Blocker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c3c43"/>
                </a:solidFill>
                <a:latin typeface="Times New Roman"/>
                <a:ea typeface="Times New Roman"/>
              </a:rPr>
              <a:t>Therapeutic Classific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sed for similar effec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y not have similar chemical make up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xamples: Antihypertensives, Antibiotic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Rectangle 1"/>
          <p:cNvSpPr/>
          <p:nvPr/>
        </p:nvSpPr>
        <p:spPr>
          <a:xfrm>
            <a:off x="707040" y="152280"/>
            <a:ext cx="413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rug Classifica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Drug action across lifespa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597960" y="193032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administration during pregnancy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administration during childhood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administration during adulthood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80880" y="137160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ust balance risks vs benefits of drugs during pregnanc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ffect fetus more than mother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eratogenic effect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other’s health affects fetus—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hronic asthma is more dangerous to the fetus than the drugs used for treatment (mother’s who do not take medication for asthma the incidence of stillbirths is doubled!!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" name="Rectangle 1"/>
          <p:cNvSpPr/>
          <p:nvPr/>
        </p:nvSpPr>
        <p:spPr>
          <a:xfrm>
            <a:off x="685800" y="24768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rug therapy during Pregnancy and Breast-Fee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339912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0880" y="1447920"/>
            <a:ext cx="8229600" cy="57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egnancy alters drug disposition and excretion process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y 3rd trimester renal blood flow is doubled with an increase in glomerular filtration and elimination of drugs increases(therefore will need an increased dosage of drug to compensate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one and motility of intestines (peristalsis) decrease in pregnancy(more time for drugs to be absorbed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1" name="Rectangle 1"/>
          <p:cNvSpPr/>
          <p:nvPr/>
        </p:nvSpPr>
        <p:spPr>
          <a:xfrm>
            <a:off x="685800" y="4572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rug therapy during Pregnancy and Breast-Fee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0520" y="1676520"/>
            <a:ext cx="84582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ll drugs can cross the placent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ipid soluble cross more easil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onized, highly polar or protein bounds cross with difficult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icotine (smaller babies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lcohol (dependence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caine/heroine/morphine (addictive to fetus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acterial and viral infec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533520" y="4176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rug therapy during Pregnancy and Breast-Fee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ratogenesis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0880" y="152352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The process by which congenital malformations are produced in an embryo or fetu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left palat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ydrocephalu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pina bifida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ehavioral and biochemical anomalie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51920" y="304920"/>
            <a:ext cx="89154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ratogenesi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 stages of embryonic developmen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e-implantation (</a:t>
            </a:r>
            <a:r>
              <a:rPr b="0" i="1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nception to week 20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mbryogenic period (</a:t>
            </a:r>
            <a:r>
              <a:rPr b="0" i="1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week 3 to  week 8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Fetal period (</a:t>
            </a:r>
            <a:r>
              <a:rPr b="0" i="1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week 9 to  term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uring pre-implantation and embryonic stages the teratogen acts in an all-or-none response, i.e. , is dose is high enough the fetus will die, if dose is sub-lethal fetus will recov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Gross malformations produced by exposure to teratogens during the embryonic period (1st trimest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xposure during the 2nd and 3rd trimesters usually results in organ dysfunction rather than gross malforma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04920" y="380520"/>
            <a:ext cx="86104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Few drugs considered to be teratogenic: hard to prove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cidence of congenital anomalies is low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nimal test may not be applicable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olonged exposure may be necessary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eratogenic effects may be delayed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ehavioral effects are hard to document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ntrolled experiments cannot be done in human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• </a:t>
            </a: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o prove a drug is a teratogen: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must cause a characteristic set of malformation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t must act only during a specific window of vulnerability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weeks 4 through 7 of gestation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cidence of malformations should increase with increasing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osage and duration of exposure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• </a:t>
            </a:r>
            <a:r>
              <a:rPr b="0" lang="en-US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isk of malformation with most teratogens is only ~10%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90c226"/>
                </a:solidFill>
                <a:latin typeface="Trebuchet MS"/>
              </a:rPr>
              <a:t>Historical Trends</a:t>
            </a:r>
            <a:r>
              <a:rPr b="0" lang="en-GB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52280" y="1828800"/>
            <a:ext cx="86868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ince the beginning people search to treat illness and cure disease the oldest known prescription found on a clay( 5000 years ago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imitive people through the Egyptian period believe that evil spirit living in the body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ipocrates ( fifth century) advanced idea that disease resulted from natural causes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he arabs’ interest of in medicine, pharmacy and chimistry was reflected in hospitals and schools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Therapy during Breast Feed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s get through breast milk and can affect infan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ipid soluble drugs are in higher concentr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hings That Can Minimize Risk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ose after breast feed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ake drugs with short ½ lif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ake drugs that are not found in breast milk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void drugs known to be hazardou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152280"/>
            <a:ext cx="82296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rug Therapy in Pediatric Patient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ients who are young or old respond differently to drugs than do middle aged peopl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ediatrics- all patients under age 16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e-mature infants (&lt; 36 weeks gestation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Full-term infants (36-40 weeks gestational age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eonates (1st 4 weeks post-natal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fants (5-32 weeks postnatal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hildren (1-12 years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dolescents (12-16 years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ry Young Patien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t risk for prolonged and intense respons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sponse of Infants due to differences i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•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absorption- absorption of drugs IM is greater in infan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han neonates and adul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•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nal drug excretion (reduced in infant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•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epatic drug metabolism (low in new born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•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otein binding of drugs (albumin lower in infant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•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xclusion of drugs from CNS by blood-brain barrier (not sul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eveloped in infancy making infant much more susceptible to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y one year- pharmacokinetic response similar to adul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rug Therapy in Geriatric Patient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lderly more sensitive to drugs and exhibit more variability in respon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ltered pharmacokinetics (organ degeneration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ultiple and severe illness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ultiple drug therapy and usag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oor complianc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dividualization of treatment is essential: each patient must be monitored for desired responses and adverse responses, and the regime must be adjusted accordingly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152280" y="685800"/>
            <a:ext cx="838224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Geriatric patients will vary quite a lot from one patient to anoth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hysically fit patients respond differently than out of shap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bsorption- percentage of absorption DOES NOT usually change with age, but rate may be slowed (drug response may be delayed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Gastric acidity may be increased in aged affecting absorption of certain drug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stribution- in aged there is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creased body fat- reduces plasma levels of lipid soluble drug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ecreased total body water- increases concentration of water soluble drugs and intensity of respons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duced concentration of serum albumin- malnourishment decreases albumin and results in increased drug level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etabolism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epatic functions decrease in elderly and drug levels increase (amount of dysfunction variable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xcretion: decline of renal function in elderly (variable) therefore increase drug levels in plasm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etermine renal function by creatinine clearance rat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harmacodynamic Changes: alterations in receptor levels may change on a number of cell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ecreased affinity of receptor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8088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c42f1a"/>
                </a:solidFill>
                <a:latin typeface="Times New Roman"/>
                <a:ea typeface="Times New Roman"/>
              </a:rPr>
              <a:t>Oral is the most commo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Advantage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east expensive and most convenient route for most client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afe, does not break the skin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ncoius, able to swallow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5" name="Rectangle 1"/>
          <p:cNvSpPr/>
          <p:nvPr/>
        </p:nvSpPr>
        <p:spPr>
          <a:xfrm>
            <a:off x="1066680" y="3808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oute of administratio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Oral medication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37" name="Picture 5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rebuchet MS"/>
              </a:rPr>
              <a:t>Oral Route</a:t>
            </a:r>
            <a:r>
              <a:rPr b="0" lang="en-GB" sz="3600" spc="-1" strike="noStrike">
                <a:solidFill>
                  <a:srgbClr val="ff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09120" y="152388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Disadvantage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appropriate for client nausea and vomiting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may have unpleasant taste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y cause irritation of gastro intestinal tract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may discolor teeth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can be aspirated by ill client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457200" y="1377720"/>
            <a:ext cx="63482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 drug placed under the tongue, where it dissolve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Advantage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ame as oral plu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may administered for local effec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rapidly absorbed into blood stream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ore potent than oral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Sublingual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90c226"/>
                </a:solidFill>
                <a:latin typeface="Trebuchet MS"/>
              </a:rPr>
              <a:t>Historical Trend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1" name="Picture 1" descr=""/>
          <p:cNvPicPr/>
          <p:nvPr/>
        </p:nvPicPr>
        <p:blipFill>
          <a:blip r:embed="rId1"/>
          <a:stretch/>
        </p:blipFill>
        <p:spPr>
          <a:xfrm>
            <a:off x="304920" y="1417680"/>
            <a:ext cx="4190760" cy="40384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"/>
          <p:cNvPicPr/>
          <p:nvPr/>
        </p:nvPicPr>
        <p:blipFill>
          <a:blip r:embed="rId2"/>
          <a:stretch/>
        </p:blipFill>
        <p:spPr>
          <a:xfrm>
            <a:off x="4800600" y="1417680"/>
            <a:ext cx="4114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380880" y="5335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Disadvantage: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f swallowed drug may be inactive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must remain under the tongue until dissolved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Baccal</a:t>
            </a:r>
            <a:r>
              <a:rPr b="0" lang="en-US" sz="26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pertaining to the cheeks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 .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Rectal</a:t>
            </a:r>
            <a:r>
              <a:rPr b="0" lang="en-US" sz="26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can  be used when drug objectionable taste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0" lang="en-GB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</a:t>
            </a:r>
            <a:r>
              <a:rPr b="0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ranslingual</a:t>
            </a:r>
            <a:r>
              <a:rPr b="0" lang="en-GB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on the tongue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57200" y="228600"/>
            <a:ext cx="6858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ubcutaneous (SC)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ypodermic into subcutaneous tissue, just below the ski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Advantage: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onset drug action faster than oral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Disadvantage: SC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ust involve sterile technique because breaks skin barrier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ore expensive than oral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an administer only small dose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lower than intramuscular injectio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ome drug can irritate tissue and can cause pai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609120" y="1447560"/>
            <a:ext cx="6348600" cy="45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ramuscular (IM):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to in the muscl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Advantage: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in from irritating drugs is minimize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an administer large volume of drug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rapidly absorbe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Disadvantage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reaks skin barrier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an be anxiety producing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609120" y="609480"/>
            <a:ext cx="6348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radermal (ID)</a:t>
            </a:r>
            <a:r>
              <a:rPr b="0" lang="en-US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s the administrating of a drug into the dermal layer of the skin just beneath the epidermis, usually small amount of liquid is used for example 0.1ml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Advantage: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absorption is slow (this advantage test for allergy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Disadvantage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mount of drug administered must be small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reaks skin barri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8.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ravenous (IV):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llow injection of drugs and another substance directly into bloodstream through the vei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9.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halation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is apply to drugs directly onto lung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685440" y="129492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opical Rout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kin (including transdermal patches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y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ar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o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ungs (inhalation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609120" y="2160720"/>
            <a:ext cx="6348600" cy="20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uestion?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90c226"/>
                </a:solidFill>
                <a:latin typeface="Trebuchet MS"/>
              </a:rPr>
              <a:t>Historical Trend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09120" y="175248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 twenty first century, the emphasis on providing quality health car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rsing role which include administering medication in health care agency, community and home care setting, teaching client safe and effective self administration to better care for their client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6934320" cy="51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42800" y="228600"/>
            <a:ext cx="8244000" cy="582480"/>
          </a:xfrm>
          <a:prstGeom prst="rect">
            <a:avLst/>
          </a:prstGeom>
          <a:gradFill rotWithShape="0">
            <a:gsLst>
              <a:gs pos="0">
                <a:srgbClr val="99ca3c"/>
              </a:gs>
              <a:gs pos="50000">
                <a:srgbClr val="475d1c"/>
              </a:gs>
              <a:gs pos="100000">
                <a:srgbClr val="99ca3c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Terminolog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3164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harmacology:</a:t>
            </a:r>
            <a:r>
              <a:rPr b="0" lang="en-GB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is a science that studies the effect of the drugs on the body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harmacopeias</a:t>
            </a:r>
            <a:r>
              <a:rPr b="0" lang="en-GB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are the total of all authorized drugs available within the country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edication: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is a substance administered for diagnosis, cure, treatment, mitigation or prevention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escription: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the written direction for the preparation and the administration of the drug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44000" cy="582480"/>
          </a:xfrm>
          <a:prstGeom prst="rect">
            <a:avLst/>
          </a:prstGeom>
          <a:gradFill rotWithShape="0">
            <a:gsLst>
              <a:gs pos="0">
                <a:srgbClr val="99ca3c"/>
              </a:gs>
              <a:gs pos="50000">
                <a:srgbClr val="475d1c"/>
              </a:gs>
              <a:gs pos="100000">
                <a:srgbClr val="99ca3c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rminology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t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…..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09120" y="152388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he therapeutic effect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is the primary effect intended that is the reason the drug is prescribed such as morphine sulfate is analgesia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ide effect: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secondary effect of the drug is one that unintended, side effects are usually predictable and may be either harmles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44000" cy="582480"/>
          </a:xfrm>
          <a:prstGeom prst="rect">
            <a:avLst/>
          </a:prstGeom>
          <a:gradFill rotWithShape="0">
            <a:gsLst>
              <a:gs pos="0">
                <a:srgbClr val="99ca3c"/>
              </a:gs>
              <a:gs pos="50000">
                <a:srgbClr val="475d1c"/>
              </a:gs>
              <a:gs pos="100000">
                <a:srgbClr val="99ca3c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rminology</a:t>
            </a:r>
            <a:r>
              <a:rPr b="0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t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…..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33520" y="1523880"/>
            <a:ext cx="63482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toxicity: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harmful effect of the drug on an organism or tissue, result from overdose or external use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 allergy: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is immunological reaction to a drug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3:27:03Z</dcterms:created>
  <dc:creator>AHMAD RAWHI</dc:creator>
  <dc:description/>
  <dc:language>en-US</dc:language>
  <cp:lastModifiedBy>Alharbi</cp:lastModifiedBy>
  <cp:lastPrinted>2016-01-21T06:45:35Z</cp:lastPrinted>
  <dcterms:modified xsi:type="dcterms:W3CDTF">2016-01-21T07:00:08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