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B2E-65F8-4399-9F1A-B43AB694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CB6-F27D-463B-BB7A-0A4F40BF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EAF-68A0-4085-BF4F-512B0892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5CD-0AE4-4682-99E0-9FE5A6E4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EE78-8CA6-4FA9-922E-CAE57DFF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425-4BF6-4EE6-BCD6-8A5D16A6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D7AB-0E28-410B-8ABC-2F12352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0654-B71C-4AE4-8C6E-6EA2551F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EBCC-249D-4506-ABA8-9EDDD899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D75A-9EE6-4691-8ACC-ECD5FCB0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67FC-2760-4FEF-8111-813820F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66C-37E4-49B3-BF7B-B4B7BC0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978D-CDAF-466C-99E3-BA309391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E7D9-0AA3-4900-AB7A-D926B7B1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6035-28B4-4283-887F-D86EC378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F207-9121-4DDC-90B9-D2900846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DD3C-0894-4E91-A3C9-4D719117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E66D-E415-46A7-8469-8BFCEE80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9BE7-54F8-46D3-8D01-8071BFF2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BE979-B9A6-4779-B701-636F8A15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E649-8828-46EA-BC95-CAF8FA0F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B516-7175-48E4-8983-EA801320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294-7644-4FD4-A634-531FFA53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35A5-52FC-41C5-941C-D18BDFCE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AEAA-E884-4AC6-BB8E-8A075C75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279F-9DFB-4D81-9AF8-AE24535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22FD-05F8-4DCB-AE81-85B27924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49598-2E5F-4B0B-A252-C5045E69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E492-473C-4254-B429-144C1DC2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5970-CCEA-402D-BB68-DE2F0605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EEFC-BDC3-4EC7-82C4-7266EF92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6526-F152-4206-9D57-8ACEE7A2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C9CF-E511-4704-9C89-0CFA4148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7F5-C04D-4AF5-BD9A-E98D6FFF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4CD2-8EFC-47F6-A6A6-FE226F52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AEBC8-E9E4-4884-A735-08A11BDB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8E22-B1F6-49CF-ACD4-B65E15A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6ECD-B8AD-4ECF-A3C8-DF80629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28C1-7F76-4006-B5A2-F90F0126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246F-4509-4F85-A729-E0C456B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3B72-C4D0-43A0-95EC-E057FED4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27A7-066B-4327-9D81-FA91FEDD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1A2B4-C9DF-41E7-AAF5-0DC01540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1F02-50BA-47BC-BCC5-5E3A5575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EEB-9261-4889-8FDD-3B431EB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4E1DD-92CA-498E-A6FB-9A7C7292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CBBF-C289-48E5-AB96-CDBC0392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BF60-6E61-4067-8F11-00A21E1C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33D15-1F7F-479C-8176-28012992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0C13B-A2A7-4F7C-8F8D-36C9501F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3BC4-0E2E-4B65-BB38-8F8A51C5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982B-7ADF-4416-9A82-5A7AD8B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2A76-43A6-4004-B14B-90F9298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068E-8DD5-49FD-AC4E-4A398552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714EB-9FC7-4AC9-804F-2823FDD6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1F7-3E8C-4963-81D9-5CEF33A4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4297-6B28-4794-A448-4F08C87A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42A-EA68-4AF0-A843-D00B6806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A33-A5E3-40AF-AABE-041BAFB5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8C9-D361-4D5D-A480-E8AF38DA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29F8-EF3A-4902-BFA3-5AE096F2ADE9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3300-C544-4B8E-A404-B7B0F4E1F23B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B62E-4A5F-41D3-B6DD-2FB9192524BA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5857-28AF-4594-A20F-B71917AE0D76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6625-E258-4D11-99D9-4CF6239CCE81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596880"/>
            <a:ext cx="8343720" cy="358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 to Pharmacology</a:t>
            </a: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lang="en-GB" sz="5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4" descr="knowrx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37160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interaction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occur when administration of one drug before or after alter effect of one or both dru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isus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Is the improper use of common medications in way that lead to acute and chronic toxicity for example laxative, antacid and vitamin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bus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n inappropriate intake of substance either continually or periodic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dependenc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persons reliance on or need to take drug or substance there are two type of dependenc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14475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ological dependenc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due to biochemical changes in the body tissue these tissue come to require substance for normal functio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sychological dependenc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emotional reliance on a drug to maintain a since of wellbeing accompanied feeling of nee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habituation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enotes a mild form of psychological dependenc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llicit drug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also called street drug are those sold illeg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7720" y="16002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e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:The aim to give patient a dose of the drug that achieves the desired effect with out causing with harmful side effec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index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 measure of the danger of poisoning and the higher it is safer of drug i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pirin (3.5), digoxin (2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availability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Means that the drug has reached the circulation and is therefore available for all the tissues. (ex: aspirin 600 mg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ance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decreasing response to repetitive drug dos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11440"/>
          </a:xfrm>
          <a:prstGeom prst="rect">
            <a:avLst/>
          </a:prstGeom>
          <a:gradFill rotWithShape="0">
            <a:gsLst>
              <a:gs pos="0">
                <a:srgbClr val="475d1c"/>
              </a:gs>
              <a:gs pos="50000">
                <a:srgbClr val="99ca3c"/>
              </a:gs>
              <a:gs pos="100000">
                <a:srgbClr val="475d1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basic concepts of Pharmacology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240" y="1600200"/>
            <a:ext cx="8458200" cy="4456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 bout how the body deal with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dynam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effect of drug on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therapeut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 a clinical using of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gnosy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study of natural (plant and animal) drug sourc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2f7618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anches of Pharmac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28600" y="18284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gnosy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- Orig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Movement through Bod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dynam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therapeut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Use/Purp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xicology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Side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26240" y="2230200"/>
            <a:ext cx="2586960" cy="194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90c226"/>
            </a:solidFill>
            <a:round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Scien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of Pharma</a:t>
            </a: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colog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0" name="Picture 5" descr="pharmara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0" y="2590920"/>
            <a:ext cx="228600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gnos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447920" y="5715000"/>
            <a:ext cx="20574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200400" y="228600"/>
            <a:ext cx="2666880" cy="838080"/>
          </a:xfrm>
          <a:prstGeom prst="rect">
            <a:avLst/>
          </a:prstGeom>
          <a:solidFill>
            <a:srgbClr val="90c22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6248520" y="2743200"/>
            <a:ext cx="2590560" cy="8380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5334120" y="5715000"/>
            <a:ext cx="2895480" cy="838080"/>
          </a:xfrm>
          <a:prstGeom prst="rect">
            <a:avLst/>
          </a:prstGeom>
          <a:solidFill>
            <a:srgbClr val="54a021"/>
          </a:solidFill>
          <a:ln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therapeu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066680" y="5638680"/>
            <a:ext cx="2438640" cy="8384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xic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228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eneric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given for the drug to being official nam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fficial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the name under which its listed in one in the official public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chemical nam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the name by which the chemist knows i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trade mark or brand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proprietary name) : is name given by the drug manufactu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: hydrochlorothiazide (official name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sidrex    (brand name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8" name="Picture 1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46479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Rockwell"/>
              </a:rPr>
              <a:t>Learning Objectives</a:t>
            </a:r>
            <a:r>
              <a:rPr b="0" lang="en-GB" sz="3600" spc="-1" strike="noStrike">
                <a:solidFill>
                  <a:srgbClr val="90c226"/>
                </a:solidFill>
                <a:latin typeface="Rockwel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19810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fine the terms Pharmacology, Pharmacokinetics, Pharmacodynamic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st the various routes of administration of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st factor effect on pharmacokinetic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scribe some factors that dedicate of the dose. </a:t>
            </a:r>
            <a:r>
              <a:rPr b="0" lang="en-GB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Examples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57200" y="1600200"/>
          <a:ext cx="8229600" cy="476424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ical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ic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de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-chloro-1,3-dihydro-1-methyl-5 phenyl 2H-1, 4-benzodiazepin 2-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zep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u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yl 1-methyl 4-pheyli-sonipecotate hydro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perid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ero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etylsalicyc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pir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tri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09120" y="13716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ch as digitalis, vincristi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and anim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ch as epinphrine, insulin and adrenocoticotrpoic hormo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r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 iron, iodine and zin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and chemical subst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 sodium bicarbonate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609480" y="533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rce of drug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362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Pharmacologic Classif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Characterist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Chemical Mak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Penicillins, Beta Block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Therapeutic Classif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d for similar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not have similar chemical mak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Antihypertensives, Antibiot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7040" y="15228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Classific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rug action across lifesp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97960" y="1930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pregnanc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childhoo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adulthoo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0880" y="1371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t balance risks vs benefits of drugs during 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ffect fetus more than mother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ratogenic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ther’s health affects fetus—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ronic asthma is more dangerous to the fetus than the drugs used for treatment (mother’s who do not take medication for asthma the incidence of stillbirths is doubled!!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685800" y="2476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399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0880" y="1447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gnancy alters drug disposition and excretion proc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y 3rd trimester renal blood flow is doubled with an increase in glomerular filtration and elimination of drugs increases(therefore will need an increased dosage of drug to compens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ne and motility of intestines (peristalsis) decrease in pregnancy(more time for drugs to be absorbe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68580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520" y="16765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drugs can cross the placen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pid soluble cross more easi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onized, highly polar or protein bounds cross with difficul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icotine (smaller babi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cohol (dependenc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caine/heroine/morphine (addictive to fetu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l and viral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3520" y="4176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atogenesis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08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 process by which congenital malformations are produced in an embryo or fetu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eft pala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drocephal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pina bifid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havioral and biochemical anomal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5192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atogen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 stages of embryonic developme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-implantation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ception to week 20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bryogenic period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ek 3 to  week 8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tal period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ek 9 to  term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uring pre-implantation and embryonic stages the teratogen acts in an all-or-none response, i.e. , is dose is high enough the fetus will die, if dose is sub-lethal fetus will recov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oss malformations produced by exposure to teratogens during the embryonic period (1st trimes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posure during the 2nd and 3rd trimesters usually results in organ dysfunction rather than gross malform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04920" y="380520"/>
            <a:ext cx="8610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w drugs considered to be teratogenic: hard to prov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idence of congenital anomalies is low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imal test may not be applicabl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longed exposure may be necessar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ratogenic effects may be delayed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havioral effects are hard to documen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olled experiments cannot be done in huma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 prove a drug is a teratogen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ust cause a characteristic set of malformatio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t must act only during a specific window of vulnerabil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weeks 4 through 7 of gestatio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idence of malformations should increase with increas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sage and duration of exposur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of malformation with most teratogens is only ~10%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18288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nce the beginning people search to treat illness and cure disease the oldest known prescription found on a clay( 5000 years ago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mitive people through the Egyptian period believe that evil spirit living in the body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ipocrates ( fifth century) advanced idea that disease resulted from natural caus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arabs’ interest of in medicine, pharmacy and chimistry was reflected in hospitals and school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Therapy during Breast Feed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s get through breast milk and can affect infa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pid soluble drugs are in higher concentr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ngs That Can Minimize Risk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se after breast feed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ke drugs with short ½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ke drugs that are not found in breast mil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drugs known to be hazardo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in Pediatric Pati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who are young or old respond differently to drugs than do middle aged peopl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diatrics- all patients under age 16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-mature infants (&lt; 36 weeks gestatio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ull-term infants (36-40 weeks gestational ag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onates (1st 4 weeks post-nata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ants (5-32 weeks postnata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ildren (1-12 year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olescents (12-16 year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Young Pati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 risk for prolonged and intense respon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onse of Infants due to differences i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bsorption- absorption of drugs IM is greater in inf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an neonates and adul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nal drug excretion (reduced in infan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patic drug metabolism (low in new bor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tein binding of drugs (albumin lower in infan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clusion of drugs from CNS by blood-brain barrier (not su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veloped in infancy making infant much more susceptible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y one year- pharmacokinetic response similar to adul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in Geriatric Pati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lderly more sensitive to drugs and exhibit more variability in respon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tered pharmacokinetics (organ degener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ple and severe 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ple drug therapy and us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compli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dividualization of treatment is essential: each patient must be monitored for desired responses and adverse responses, and the regime must be adjusted accordingly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52280" y="685800"/>
            <a:ext cx="83822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eriatric patients will vary quite a lot from one patient to anoth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cally fit patients respond differently than out of shap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sorption- percentage of absorption DOES NOT usually change with age, but rate may be slowed (drug response may be delay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astric acidity may be increased in aged affecting absorption of certain dru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tribution- in aged there 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d body fat- reduces plasma levels of lipid soluble dru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total body water- increases concentration of water soluble drugs and intensity of respon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ed concentration of serum albumin- malnourishment decreases albumin and results in increased drug leve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taboli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patic functions decrease in elderly and drug levels increase (amount of dysfunction variabl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cretion: decline of renal function in elderly (variable) therefore increase drug levels in plas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termine renal function by creatinine clearance rat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dynamic Changes: alterations in receptor levels may change on a number of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affinity of recept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Oral is the most comm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st expensive and most convenient route for most client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fe, does not break the ski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coius, able to swallow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1066680" y="380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 of administr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ral medication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Oral Route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appropriate for client nausea and vomitin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have unpleasant tast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cause irritation of gastro intestinal trac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discolor teeth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can be aspirated by ill clien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377720"/>
            <a:ext cx="6348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drug placed under the tongue, where it dissolv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me as oral p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administered for local effe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rapidly absorbed into blood strea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potent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Sublingual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304920" y="1417680"/>
            <a:ext cx="4190760" cy="4038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800600" y="141768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0880" y="533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swallowed drug may be inactiv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ust remain under the tongue until dissolved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Baccal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ertaining to the cheek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.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Rectal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an  be used when drug objectionable tast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0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lingual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on the tongu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2286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bcutaneous (SC)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odermic into subcutaneous tissue, just below the sk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onset drug action faster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 S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t involve sterile technique because breaks skin barr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expensive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administer only small dos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lower than intramuscular injec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me drug can irritate tissue and can cause pa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09120" y="1447560"/>
            <a:ext cx="634860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muscular (IM)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o in the muscl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in from irritating drugs is minimiz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administer large volume of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rapidly absorb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eaks skin barr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be anxiety produc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09120" y="609480"/>
            <a:ext cx="6348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dermal (ID)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s the administrating of a drug into the dermal layer of the skin just beneath the epidermis, usually small amount of liquid is used for example 0.1m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absorption is slow (this advantage test for allerg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ount of drug administered must be smal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eaks skin barr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venous (IV)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ow injection of drugs and another substance directly into bloodstream through the ve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halation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pply to drugs directly onto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85440" y="12949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opical Rou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kin (including transdermal patch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y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ngs (inhal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09120" y="2160720"/>
            <a:ext cx="634860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?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17524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twenty first century, the emphasis on providing quality health ca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role which include administering medication in health care agency, community and home care setting, teaching client safe and effective self administration to better care for their clien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69343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2286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3164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logy: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science that studies the effect of the drugs on the bod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peias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are the total of all authorized drugs available within the countr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substance administered for diagnosis, cure, treatment, mitigation or preventio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scription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he written direction for the preparation and the administration of the drug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therapeutic effec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the primary effect intended that is the reason the drug is prescribed such as morphine sulfate is analges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de effect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secondary effect of the drug is one that unintended, side effects are usually predictable and may be either harml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3520" y="15238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toxicity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harmful effect of the drug on an organism or tissue, result from overdose or external us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llergy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immunological reaction to a dru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27:03Z</dcterms:created>
  <dc:creator>AHMAD RAWHI</dc:creator>
  <dc:description/>
  <dc:language>en-US</dc:language>
  <cp:lastModifiedBy>Alharbi</cp:lastModifiedBy>
  <cp:lastPrinted>2016-01-21T06:45:35Z</cp:lastPrinted>
  <dcterms:modified xsi:type="dcterms:W3CDTF">2016-01-21T07:00:0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