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7274-C0C1-4241-A7C3-A129C0F20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6271-2448-4A6F-A6E2-70EB4D535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F046-1130-41C5-9315-84C5B6ADD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E6CB-9298-4953-9A9A-F254680E5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2AAA1-CC13-4D74-9D37-F5ACECFC5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52474-5035-4200-ADC6-4F74D7396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C0734-46B6-4844-B7ED-ADF309EA0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C5B33-474F-415F-B769-EDD077790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AA398-32AD-45C4-804F-A75751132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053AB-7A16-4A88-8841-A1BB3FC23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0EAEB-F404-42A4-BDE1-0E04BE2A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2536-4CB7-4A3F-B093-5587A7D65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13F8E-488D-45BB-A10D-4615FA30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B43D5-A352-4406-A8AE-37D785B7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1E215-C013-4E36-BDEA-B3832EA9D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A7076-AC81-4592-A596-515F3600F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CDE30-36A2-43D1-9D19-C5FBA1A80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66E3C-A80E-457F-9C89-162789372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6CBF6-1D28-4441-830B-42EA959F4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64AB8-9580-4CF2-8E5F-022DDB02D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C7CCE-09F3-445C-83FC-EDA2BEF3B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A988E-191F-45B8-9AA8-99F13877A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0AD7-613A-4752-B2F7-ABD791EB5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2FE30-B7D7-4AA7-8F7E-647D84A3E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8BADC-B1DD-40CE-A24B-545CF30C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ABA79-86BC-41C0-8672-6F458ADA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A6355-DB73-43A5-A834-19AE1772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85EF6-BAE6-4344-A17D-A80735004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258BC-AF0B-441A-8228-6D8E0D9CF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234ED-68FA-49F2-A063-3E2747926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6AC29-0CAF-409F-BA6A-90A91C165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03CFA-C2EC-469B-9017-9B073F214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08E22-8E6C-40A2-9292-80B16603C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A9A7-B0E0-48EE-9CA8-A3A3087FE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7724E-CB57-407D-8FAB-5F53F9B5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D7E08-50D5-4DB9-A3F8-59D534DD0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65FA3-7603-4FB0-99AE-E2E1EB3A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C1FAE-164E-49FF-8ED9-B9EC746FD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448C1-05FB-436F-A900-65C7F996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0F3DD-4EBA-434A-9947-2B553BD6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65214-F5A9-41A3-83D8-1011B08D0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9314E-31DB-4CE9-AB78-5796F7612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E0778-68C7-4ACB-8DDE-547B1989B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110CF-2924-4411-972F-3C459D760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D9D9-649D-4322-9A1A-7C7B9ACCC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6C8D8-9628-40AB-A75E-5C08AA419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0510F-BCE8-4908-887C-67439B6A3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99ED2-2798-4018-A435-2F7EF54B8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18E1A-7DCF-4626-8388-36E22C714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A6A4F-066A-45A4-A4B0-6FEAAE269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1CAF8-AB25-4976-B501-5677A23D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60C43-9BE4-49A7-829E-105D7B50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0F835-3B59-4B14-9A41-E8025978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F7151-3DF3-42D5-8AC3-9099A082A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BD1A4-4208-4965-BC7E-377D29220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4EA2-A8DA-4FDF-BE24-5F030D4ED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50444-EE59-4BFA-9771-AA987832B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D37A-4C94-44EC-AF7A-BC3B8F8A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7A41-AB8C-4A39-9CB7-7ABA2D53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8B30-FEEA-4C4C-8F6E-9EE7FA50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F7235-80C1-43BE-8EB2-B76C81028C5F}" type="slidenum">
              <a:rPr b="0" lang="en-GB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7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8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Straight Connector 19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Freeform 20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Freeform 21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Freeform 22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Freeform 23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Freeform 24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Freeform 25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Freeform 26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6B9F0-E7B3-49AF-9C4B-69B68BCD8C50}" type="slidenum">
              <a:rPr b="0" lang="en-GB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F1A1E-0546-4A7A-BEB2-0B3D291841BE}" type="slidenum">
              <a:rPr b="0" lang="en-GB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9AD4E-75B6-4A28-894B-4D4EFB500243}" type="slidenum">
              <a:rPr b="0" lang="en-GB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1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8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E0CF-02EE-4310-B731-F9E8A6D8B383}" type="slidenum">
              <a:rPr b="0" lang="en-GB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560" y="596880"/>
            <a:ext cx="8343720" cy="3581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99336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troduction to Pharmacology</a:t>
            </a:r>
            <a:r>
              <a:rPr b="0" lang="en-GB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</a:t>
            </a:r>
            <a:r>
              <a:rPr b="0" lang="en-GB" sz="54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65" name="Picture 4" descr="knowrx"/>
          <p:cNvPicPr/>
          <p:nvPr/>
        </p:nvPicPr>
        <p:blipFill>
          <a:blip r:embed="rId1"/>
          <a:stretch/>
        </p:blipFill>
        <p:spPr>
          <a:xfrm>
            <a:off x="4038480" y="0"/>
            <a:ext cx="51055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44000" cy="582480"/>
          </a:xfrm>
          <a:prstGeom prst="rect">
            <a:avLst/>
          </a:prstGeom>
          <a:gradFill rotWithShape="0">
            <a:gsLst>
              <a:gs pos="0">
                <a:srgbClr val="99ca3c"/>
              </a:gs>
              <a:gs pos="50000">
                <a:srgbClr val="475d1c"/>
              </a:gs>
              <a:gs pos="100000">
                <a:srgbClr val="99ca3c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Terminology</a:t>
            </a:r>
            <a:r>
              <a:rPr b="0" lang="en-GB" sz="3600" spc="-1" strike="noStrike">
                <a:solidFill>
                  <a:srgbClr val="ff0000"/>
                </a:solidFill>
                <a:latin typeface="Trebuchet MS"/>
              </a:rPr>
              <a:t> Cont</a:t>
            </a:r>
            <a:r>
              <a:rPr b="0" lang="en-GB" sz="3600" spc="-1" strike="noStrike">
                <a:solidFill>
                  <a:srgbClr val="ff0000"/>
                </a:solidFill>
                <a:latin typeface="Trebuchet MS"/>
              </a:rPr>
              <a:t> …..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371600"/>
            <a:ext cx="634824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rug interaction: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occur when administration of one drug before or after alter effect of one or both drug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rug misuse: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Is the improper use of common medications in way that lead to acute and chronic toxicity for example laxative, antacid and vitamins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44000" cy="582480"/>
          </a:xfrm>
          <a:prstGeom prst="rect">
            <a:avLst/>
          </a:prstGeom>
          <a:gradFill rotWithShape="0">
            <a:gsLst>
              <a:gs pos="0">
                <a:srgbClr val="99ca3c"/>
              </a:gs>
              <a:gs pos="50000">
                <a:srgbClr val="475d1c"/>
              </a:gs>
              <a:gs pos="100000">
                <a:srgbClr val="99ca3c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rminology</a:t>
            </a:r>
            <a:r>
              <a:rPr b="0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Cont</a:t>
            </a:r>
            <a:r>
              <a:rPr b="0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…..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09120" y="1523880"/>
            <a:ext cx="6348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rug abuse: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is an inappropriate intake of substance either continually or periodically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rug dependence: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is a persons reliance on or need to take drug or substance there are two type of dependence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44000" cy="582480"/>
          </a:xfrm>
          <a:prstGeom prst="rect">
            <a:avLst/>
          </a:prstGeom>
          <a:gradFill rotWithShape="0">
            <a:gsLst>
              <a:gs pos="0">
                <a:srgbClr val="99ca3c"/>
              </a:gs>
              <a:gs pos="50000">
                <a:srgbClr val="475d1c"/>
              </a:gs>
              <a:gs pos="100000">
                <a:srgbClr val="99ca3c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Terminology</a:t>
            </a:r>
            <a:r>
              <a:rPr b="0" lang="en-GB" sz="3600" spc="-1" strike="noStrike">
                <a:solidFill>
                  <a:srgbClr val="ff0000"/>
                </a:solidFill>
                <a:latin typeface="Trebuchet MS"/>
              </a:rPr>
              <a:t> Cont</a:t>
            </a:r>
            <a:r>
              <a:rPr b="0" lang="en-GB" sz="3600" spc="-1" strike="noStrike">
                <a:solidFill>
                  <a:srgbClr val="ff0000"/>
                </a:solidFill>
                <a:latin typeface="Trebuchet MS"/>
              </a:rPr>
              <a:t> …..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09120" y="14475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hysiological dependence: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is due to biochemical changes in the body tissue these tissue come to require substance for normal function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sychological dependence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 is emotional reliance on a drug to maintain a since of wellbeing accompanied feeling of need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44000" cy="582480"/>
          </a:xfrm>
          <a:prstGeom prst="rect">
            <a:avLst/>
          </a:prstGeom>
          <a:gradFill rotWithShape="0">
            <a:gsLst>
              <a:gs pos="0">
                <a:srgbClr val="99ca3c"/>
              </a:gs>
              <a:gs pos="50000">
                <a:srgbClr val="475d1c"/>
              </a:gs>
              <a:gs pos="100000">
                <a:srgbClr val="99ca3c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Terminology</a:t>
            </a:r>
            <a:r>
              <a:rPr b="0" lang="en-GB" sz="3600" spc="-1" strike="noStrike">
                <a:solidFill>
                  <a:srgbClr val="ff0000"/>
                </a:solidFill>
                <a:latin typeface="Trebuchet MS"/>
              </a:rPr>
              <a:t> Cont</a:t>
            </a:r>
            <a:r>
              <a:rPr b="0" lang="en-GB" sz="3600" spc="-1" strike="noStrike">
                <a:solidFill>
                  <a:srgbClr val="ff0000"/>
                </a:solidFill>
                <a:latin typeface="Trebuchet MS"/>
              </a:rPr>
              <a:t> …..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rug habituation: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denotes a mild form of psychological dependence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llicit drug: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also called street drug are those sold illegally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44000" cy="582480"/>
          </a:xfrm>
          <a:prstGeom prst="rect">
            <a:avLst/>
          </a:prstGeom>
          <a:gradFill rotWithShape="0">
            <a:gsLst>
              <a:gs pos="0">
                <a:srgbClr val="99ca3c"/>
              </a:gs>
              <a:gs pos="50000">
                <a:srgbClr val="475d1c"/>
              </a:gs>
              <a:gs pos="100000">
                <a:srgbClr val="99ca3c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rebuchet MS"/>
              </a:rPr>
              <a:t>Terminology</a:t>
            </a:r>
            <a:r>
              <a:rPr b="0" lang="en-GB" sz="3200" spc="-1" strike="noStrike">
                <a:solidFill>
                  <a:srgbClr val="ff0000"/>
                </a:solidFill>
                <a:latin typeface="Trebuchet MS"/>
              </a:rPr>
              <a:t> Cont</a:t>
            </a:r>
            <a:r>
              <a:rPr b="0" lang="en-GB" sz="3200" spc="-1" strike="noStrike">
                <a:solidFill>
                  <a:srgbClr val="ff0000"/>
                </a:solidFill>
                <a:latin typeface="Trebuchet MS"/>
              </a:rPr>
              <a:t> …..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837720" y="1600200"/>
            <a:ext cx="6348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se</a:t>
            </a:r>
            <a:r>
              <a:rPr b="0" lang="en-GB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:The aim to give patient a dose of the drug that achieves the desired effect with out causing with harmful side effect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rapeutic index</a:t>
            </a:r>
            <a:r>
              <a:rPr b="0" lang="en-GB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 is a measure of the danger of poisoning and the higher it is safer of drug is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</a:t>
            </a:r>
            <a:r>
              <a:rPr b="0" lang="en-GB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spirin (3.5), digoxin (2)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44000" cy="582480"/>
          </a:xfrm>
          <a:prstGeom prst="rect">
            <a:avLst/>
          </a:prstGeom>
          <a:gradFill rotWithShape="0">
            <a:gsLst>
              <a:gs pos="0">
                <a:srgbClr val="99ca3c"/>
              </a:gs>
              <a:gs pos="50000">
                <a:srgbClr val="475d1c"/>
              </a:gs>
              <a:gs pos="100000">
                <a:srgbClr val="99ca3c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rminology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Cont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…..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09120" y="1523880"/>
            <a:ext cx="6348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ioavailability</a:t>
            </a:r>
            <a:r>
              <a:rPr b="0" lang="en-GB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 Means that the drug has reached the circulation and is therefore available for all the tissues. (ex: aspirin 600 mg)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lerance</a:t>
            </a:r>
            <a:r>
              <a:rPr b="0" lang="en-GB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 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 decreasing response to repetitive drug dose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811440"/>
          </a:xfrm>
          <a:prstGeom prst="rect">
            <a:avLst/>
          </a:prstGeom>
          <a:gradFill rotWithShape="0">
            <a:gsLst>
              <a:gs pos="0">
                <a:srgbClr val="475d1c"/>
              </a:gs>
              <a:gs pos="50000">
                <a:srgbClr val="99ca3c"/>
              </a:gs>
              <a:gs pos="100000">
                <a:srgbClr val="475d1c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Trebuchet MS"/>
              </a:rPr>
              <a:t>basic concepts of Pharmacology</a:t>
            </a:r>
            <a:r>
              <a:rPr b="0" lang="en-GB" sz="3600" spc="-1" strike="noStrike">
                <a:solidFill>
                  <a:srgbClr val="90c226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228240" y="1600200"/>
            <a:ext cx="8458200" cy="445608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armacokinetics</a:t>
            </a:r>
            <a:r>
              <a:rPr b="0" lang="en-GB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 is a bout how the body deal with drug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armacodynamics</a:t>
            </a:r>
            <a:r>
              <a:rPr b="0" lang="en-GB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 is effect of drug on the body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armacotherapeutics</a:t>
            </a:r>
            <a:r>
              <a:rPr b="0" lang="en-GB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 is  a clinical using of drug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armacognosy</a:t>
            </a:r>
            <a:r>
              <a:rPr b="1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he study of natural (plant and animal) drug source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gradFill rotWithShape="0">
            <a:gsLst>
              <a:gs pos="0">
                <a:srgbClr val="66ff33"/>
              </a:gs>
              <a:gs pos="100000">
                <a:srgbClr val="2f7618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Branches of Pharmacology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228600" y="18284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armacognosy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- Origi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armacokinetics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- Movement through Body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armacodynamics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- Effec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armacotherapeutics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- Use/Purpos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xicology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-Side Effect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3600" spc="-1" strike="noStrike">
              <a:solidFill>
                <a:srgbClr val="90c226"/>
              </a:solidFill>
              <a:latin typeface="Trebuchet MS"/>
              <a:ea typeface="Tahom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126240" y="2230200"/>
            <a:ext cx="2586960" cy="1940400"/>
          </a:xfrm>
          <a:prstGeom prst="rect">
            <a:avLst/>
          </a:prstGeom>
          <a:solidFill>
            <a:srgbClr val="33ccff"/>
          </a:solidFill>
          <a:ln w="12600">
            <a:solidFill>
              <a:srgbClr val="90c226"/>
            </a:solidFill>
            <a:round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404040"/>
                </a:solidFill>
                <a:latin typeface="Trebuchet MS"/>
              </a:rPr>
              <a:t>Scienc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404040"/>
                </a:solidFill>
                <a:latin typeface="Trebuchet MS"/>
              </a:rPr>
              <a:t>of Pharma</a:t>
            </a:r>
            <a:r>
              <a:rPr b="0" i="1" lang="en-US" sz="1800" spc="-1" strike="noStrike">
                <a:solidFill>
                  <a:srgbClr val="404040"/>
                </a:solidFill>
                <a:latin typeface="Trebuchet MS"/>
              </a:rPr>
              <a:t>-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404040"/>
                </a:solidFill>
                <a:latin typeface="Trebuchet MS"/>
              </a:rPr>
              <a:t>colog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00" name="Picture 5" descr="pharmara"/>
          <p:cNvPicPr/>
          <p:nvPr/>
        </p:nvPicPr>
        <p:blipFill>
          <a:blip r:embed="rId1"/>
          <a:stretch/>
        </p:blipFill>
        <p:spPr>
          <a:xfrm>
            <a:off x="0" y="95400"/>
            <a:ext cx="9144000" cy="676260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6"/>
          <p:cNvSpPr/>
          <p:nvPr/>
        </p:nvSpPr>
        <p:spPr>
          <a:xfrm>
            <a:off x="0" y="2590920"/>
            <a:ext cx="2286000" cy="8380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harmacognos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1447920" y="5715000"/>
            <a:ext cx="2057400" cy="7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3200400" y="228600"/>
            <a:ext cx="2666880" cy="838080"/>
          </a:xfrm>
          <a:prstGeom prst="rect">
            <a:avLst/>
          </a:prstGeom>
          <a:solidFill>
            <a:srgbClr val="90c22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harmacokinet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Rectangle 9"/>
          <p:cNvSpPr/>
          <p:nvPr/>
        </p:nvSpPr>
        <p:spPr>
          <a:xfrm>
            <a:off x="6248520" y="2743200"/>
            <a:ext cx="2590560" cy="83808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harmacodynam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Rectangle 10"/>
          <p:cNvSpPr/>
          <p:nvPr/>
        </p:nvSpPr>
        <p:spPr>
          <a:xfrm>
            <a:off x="5334120" y="5715000"/>
            <a:ext cx="2895480" cy="838080"/>
          </a:xfrm>
          <a:prstGeom prst="rect">
            <a:avLst/>
          </a:prstGeom>
          <a:solidFill>
            <a:srgbClr val="54a021"/>
          </a:solidFill>
          <a:ln w="12600">
            <a:solidFill>
              <a:srgbClr val="54a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harmacotherapeut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Rectangle 11"/>
          <p:cNvSpPr/>
          <p:nvPr/>
        </p:nvSpPr>
        <p:spPr>
          <a:xfrm>
            <a:off x="1066680" y="5638680"/>
            <a:ext cx="2438640" cy="838440"/>
          </a:xfrm>
          <a:prstGeom prst="rect">
            <a:avLst/>
          </a:prstGeom>
          <a:solidFill>
            <a:srgbClr val="ff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xicolog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152280" y="1600200"/>
            <a:ext cx="86868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generic name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 is given for the drug to being official name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official name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 is the name under which its listed in one in the official publicatio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chemical name: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is the name by which the chemist knows it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trade mark or brand name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(proprietary name) : is name given by the drug manufactur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xample: hydrochlorothiazide (official name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sidrex    (brand name)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08" name="Picture 1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464796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90c226"/>
                </a:solidFill>
                <a:latin typeface="Rockwell"/>
              </a:rPr>
              <a:t>Learning Objectives</a:t>
            </a:r>
            <a:r>
              <a:rPr b="0" lang="en-GB" sz="3600" spc="-1" strike="noStrike">
                <a:solidFill>
                  <a:srgbClr val="90c226"/>
                </a:solidFill>
                <a:latin typeface="Rockwell"/>
              </a:rPr>
              <a:t>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228600" y="1981080"/>
            <a:ext cx="8686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efine the terms Pharmacology, Pharmacokinetics, Pharmacodynamic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List the various routes of administration of drug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List factor effect on pharmacokinetic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escribe some factors that dedicate of the dose. </a:t>
            </a:r>
            <a:r>
              <a:rPr b="0" lang="en-GB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90c226"/>
                </a:solidFill>
                <a:latin typeface="Trebuchet MS"/>
              </a:rPr>
              <a:t>Examples</a:t>
            </a:r>
            <a:r>
              <a:rPr b="0" lang="en-GB" sz="3600" spc="-1" strike="noStrike">
                <a:solidFill>
                  <a:srgbClr val="90c226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457200" y="1600200"/>
          <a:ext cx="8229600" cy="4764240"/>
        </p:xfrm>
        <a:graphic>
          <a:graphicData uri="http://schemas.openxmlformats.org/drawingml/2006/table">
            <a:tbl>
              <a:tblPr/>
              <a:tblGrid>
                <a:gridCol w="2819520"/>
                <a:gridCol w="2666880"/>
                <a:gridCol w="27432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emical 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neric 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de 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-chloro-1,3-dihydro-1-methyl-5 phenyl 2H-1, 4-benzodiazepin 2-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azep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ium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thyl 1-methyl 4-pheyli-sonipecotate hydro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perid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mero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etylsalicycl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pir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cotri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09120" y="1371600"/>
            <a:ext cx="6348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t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uch as digitalis, vincristine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man and animal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uch as epinphrine, insulin and adrenocoticotrpoic hormone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ral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s iron, iodine and zinc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hetic and chemical substanc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s sodium bicarbonate</a:t>
            </a:r>
            <a:r>
              <a:rPr b="0" lang="en-GB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2" name="Rectangle 1"/>
          <p:cNvSpPr/>
          <p:nvPr/>
        </p:nvSpPr>
        <p:spPr>
          <a:xfrm>
            <a:off x="609480" y="533520"/>
            <a:ext cx="47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urce of drug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336240" y="12193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c3c43"/>
                </a:solidFill>
                <a:latin typeface="Times New Roman"/>
                <a:ea typeface="Times New Roman"/>
              </a:rPr>
              <a:t>Pharmacologic Classificatio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imilar Characteristic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imilar Chemical Make up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xamples: Penicillins, Beta Blocker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c3c43"/>
                </a:solidFill>
                <a:latin typeface="Times New Roman"/>
                <a:ea typeface="Times New Roman"/>
              </a:rPr>
              <a:t>Therapeutic Classificatio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Used for similar effec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ay not have similar chemical make up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xamples: Antihypertensives, Antibiotic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4" name="Rectangle 1"/>
          <p:cNvSpPr/>
          <p:nvPr/>
        </p:nvSpPr>
        <p:spPr>
          <a:xfrm>
            <a:off x="707040" y="152280"/>
            <a:ext cx="413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rug Classificatio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Drug action across lifespa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597960" y="1930320"/>
            <a:ext cx="6348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rug administration during pregnancy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rug administration during childhood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rug administration during adulthood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80880" y="137160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ust balance risks vs benefits of drugs during pregnancy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ffect fetus more than mother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eratogenic effect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other’s health affects fetus—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hronic asthma is more dangerous to the fetus than the drugs used for treatment (mother’s who do not take medication for asthma the incidence of stillbirths is doubled!!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8" name="Rectangle 1"/>
          <p:cNvSpPr/>
          <p:nvPr/>
        </p:nvSpPr>
        <p:spPr>
          <a:xfrm>
            <a:off x="685800" y="24768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rug therapy during Pregnancy and Breast-Fee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9" name="Picture 2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339912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80880" y="1447920"/>
            <a:ext cx="8229600" cy="57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regnancy alters drug disposition and excretion process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By 3rd trimester renal blood flow is doubled with an increase in glomerular filtration and elimination of drugs increases(therefore will need an increased dosage of drug to compensate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one and motility of intestines (peristalsis) decrease in pregnancy(more time for drugs to be absorbed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1" name="Rectangle 1"/>
          <p:cNvSpPr/>
          <p:nvPr/>
        </p:nvSpPr>
        <p:spPr>
          <a:xfrm>
            <a:off x="685800" y="45720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rug therapy during Pregnancy and Breast-Fee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80520" y="1676520"/>
            <a:ext cx="84582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ll drugs can cross the placent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Lipid soluble cross more easily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onized, highly polar or protein bounds cross with difficulty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icotine (smaller babies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lcohol (dependence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caine/heroine/morphine (addictive to fetus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Bacterial and viral infection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533520" y="41760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rug therapy during Pregnancy and Breast-Fee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ratogenesis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80880" y="152352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The process by which congenital malformations are produced in an embryo or fetus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left palate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Hydrocephalu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pina bifida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Behavioral and biochemical anomalie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151920" y="304920"/>
            <a:ext cx="89154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ratogenesi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 stages of embryonic developmen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re-implantation (</a:t>
            </a:r>
            <a:r>
              <a:rPr b="0" i="1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nception to week 20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mbryogenic period (</a:t>
            </a:r>
            <a:r>
              <a:rPr b="0" i="1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week 3 to  week 8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Fetal period (</a:t>
            </a:r>
            <a:r>
              <a:rPr b="0" i="1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week 9 to  term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uring pre-implantation and embryonic stages the teratogen acts in an all-or-none response, i.e. , is dose is high enough the fetus will die, if dose is sub-lethal fetus will recove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Gross malformations produced by exposure to teratogens during the embryonic period (1st trimester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xposure during the 2nd and 3rd trimesters usually results in organ dysfunction rather than gross malformation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304920" y="380520"/>
            <a:ext cx="861048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Few drugs considered to be teratogenic: hard to prove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</a:t>
            </a:r>
            <a:r>
              <a:rPr b="0" lang="en-US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ncidence of congenital anomalies is low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</a:t>
            </a:r>
            <a:r>
              <a:rPr b="0" lang="en-US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nimal test may not be applicable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</a:t>
            </a:r>
            <a:r>
              <a:rPr b="0" lang="en-US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rolonged exposure may be necessary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</a:t>
            </a:r>
            <a:r>
              <a:rPr b="0" lang="en-US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eratogenic effects may be delayed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</a:t>
            </a:r>
            <a:r>
              <a:rPr b="0" lang="en-US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Behavioral effects are hard to document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</a:t>
            </a:r>
            <a:r>
              <a:rPr b="0" lang="en-US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ntrolled experiments cannot be done in humans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• </a:t>
            </a:r>
            <a:r>
              <a:rPr b="0" lang="en-US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o prove a drug is a teratogen: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</a:t>
            </a:r>
            <a:r>
              <a:rPr b="0" lang="en-US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rug must cause a characteristic set of malformations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</a:t>
            </a:r>
            <a:r>
              <a:rPr b="0" lang="en-US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t must act only during a specific window of vulnerability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weeks 4 through 7 of gestation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</a:t>
            </a:r>
            <a:r>
              <a:rPr b="0" lang="en-US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ncidence of malformations should increase with increasing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osage and duration of exposure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• </a:t>
            </a:r>
            <a:r>
              <a:rPr b="0" lang="en-US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Risk of malformation with most teratogens is only ~10%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90c226"/>
                </a:solidFill>
                <a:latin typeface="Trebuchet MS"/>
              </a:rPr>
              <a:t>Historical Trends</a:t>
            </a:r>
            <a:r>
              <a:rPr b="0" lang="en-GB" sz="3600" spc="-1" strike="noStrike">
                <a:solidFill>
                  <a:srgbClr val="90c226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52280" y="1828800"/>
            <a:ext cx="86868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ince the beginning people search to treat illness and cure disease the oldest known prescription found on a clay( 5000 years ago)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rimitive people through the Egyptian period believe that evil spirit living in the body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Hipocrates ( fifth century) advanced idea that disease resulted from natural causes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he arabs’ interest of in medicine, pharmacy and chimistry was reflected in hospitals and schools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rug Therapy during Breast Feedin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rugs get through breast milk and can affect infan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Lipid soluble drugs are in higher concentratio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hings That Can Minimize Risk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ose after breast feedin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ake drugs with short ½ lif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ake drugs that are not found in breast milk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void drugs known to be hazardou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57200" y="152280"/>
            <a:ext cx="822960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rug Therapy in Pediatric Patient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atients who are young or old respond differently to drugs than do middle aged peopl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ediatrics- all patients under age 16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re-mature infants (&lt; 36 weeks gestation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Full-term infants (36-40 weeks gestational age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eonates (1st 4 weeks post-natal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nfants (5-32 weeks postnatal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hildren (1-12 years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dolescents (12-16 years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ery Young Patient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t risk for prolonged and intense response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Response of Infants due to differences in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• 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rug absorption- absorption of drugs IM is greater in infant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han neonates and adult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• 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Renal drug excretion (reduced in infants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• 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Hepatic drug metabolism (low in new born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• 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rotein binding of drugs (albumin lower in infants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• 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xclusion of drugs from CNS by blood-brain barrier (not sull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eveloped in infancy making infant much more susceptible to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rugs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By one year- pharmacokinetic response similar to adul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rug Therapy in Geriatric Patient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lderly more sensitive to drugs and exhibit more variability in respons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ltered pharmacokinetics (organ degeneration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ultiple and severe illness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ultiple drug therapy and usag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oor complianc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ndividualization of treatment is essential: each patient must be monitored for desired responses and adverse responses, and the regime must be adjusted accordingly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152280" y="685800"/>
            <a:ext cx="838224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Geriatric patients will vary quite a lot from one patient to anothe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hysically fit patients respond differently than out of shap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bsorption- percentage of absorption DOES NOT usually change with age, but rate may be slowed (drug response may be delayed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Gastric acidity may be increased in aged affecting absorption of certain drug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istribution- in aged there is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ncreased body fat- reduces plasma levels of lipid soluble drug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ecreased total body water- increases concentration of water soluble drugs and intensity of respons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Reduced concentration of serum albumin- malnourishment decreases albumin and results in increased drug level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etabolism: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hepatic functions decrease in elderly and drug levels increase (amount of dysfunction variable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xcretion: decline of renal function in elderly (variable) therefore increase drug levels in plasm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etermine renal function by creatinine clearance rat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harmacodynamic Changes: alterations in receptor levels may change on a number of cell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ecreased affinity of receptor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38088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c42f1a"/>
                </a:solidFill>
                <a:latin typeface="Times New Roman"/>
                <a:ea typeface="Times New Roman"/>
              </a:rPr>
              <a:t>Oral is the most common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Advantage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Least expensive and most convenient route for most clients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afe, does not break the skin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ncoius, able to swallow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5" name="Rectangle 1"/>
          <p:cNvSpPr/>
          <p:nvPr/>
        </p:nvSpPr>
        <p:spPr>
          <a:xfrm>
            <a:off x="1066680" y="38088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oute of administration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Oral medication</a:t>
            </a: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37" name="Picture 5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Trebuchet MS"/>
              </a:rPr>
              <a:t>Oral Route</a:t>
            </a:r>
            <a:r>
              <a:rPr b="0" lang="en-GB" sz="3600" spc="-1" strike="noStrike">
                <a:solidFill>
                  <a:srgbClr val="ff00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09120" y="1523880"/>
            <a:ext cx="6348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Disadvantage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nappropriate for client nausea and vomiting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rug may have unpleasant taste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ay cause irritation of gastro intestinal tract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rug may discolor teeth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rug can be aspirated by ill client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457200" y="1377720"/>
            <a:ext cx="63482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 drug placed under the tongue, where it dissolved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Advantage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ame as oral plu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rug may administered for local effect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rug rapidly absorbed into blood stream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ore potent than oral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ahoma"/>
              </a:rPr>
              <a:t>Sublingual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90c226"/>
                </a:solidFill>
                <a:latin typeface="Trebuchet MS"/>
              </a:rPr>
              <a:t>Historical Trend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71" name="Picture 1" descr=""/>
          <p:cNvPicPr/>
          <p:nvPr/>
        </p:nvPicPr>
        <p:blipFill>
          <a:blip r:embed="rId1"/>
          <a:stretch/>
        </p:blipFill>
        <p:spPr>
          <a:xfrm>
            <a:off x="304920" y="1417680"/>
            <a:ext cx="4190760" cy="40384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3" descr=""/>
          <p:cNvPicPr/>
          <p:nvPr/>
        </p:nvPicPr>
        <p:blipFill>
          <a:blip r:embed="rId2"/>
          <a:stretch/>
        </p:blipFill>
        <p:spPr>
          <a:xfrm>
            <a:off x="4800600" y="1417680"/>
            <a:ext cx="41148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380880" y="53352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Disadvantage: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f swallowed drug may be inactive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rug must remain under the tongue until dissolved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</a:t>
            </a:r>
            <a:r>
              <a:rPr b="0" lang="en-US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Baccal</a:t>
            </a:r>
            <a:r>
              <a:rPr b="0" lang="en-US" sz="26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pertaining to the cheeks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 .</a:t>
            </a:r>
            <a:r>
              <a:rPr b="0" lang="en-US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Rectal</a:t>
            </a:r>
            <a:r>
              <a:rPr b="0" lang="en-US" sz="26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can  be used when drug objectionable taste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r>
              <a:rPr b="0" lang="en-GB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 </a:t>
            </a:r>
            <a:r>
              <a:rPr b="0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Translingual</a:t>
            </a:r>
            <a:r>
              <a:rPr b="0" lang="en-GB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 on the tongue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457200" y="228600"/>
            <a:ext cx="6858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Subcutaneous (SC):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hypodermic into subcutaneous tissue, just below the ski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Advantage: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onset drug action faster than oral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Disadvantage: SC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ust involve sterile technique because breaks skin barrier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ore expensive than oral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an administer only small dose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lower than intramuscular injectio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ome drug can irritate tissue and can cause pai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609120" y="1447560"/>
            <a:ext cx="6348600" cy="459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ramuscular (IM):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nto in the muscle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Advantage: 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ain from irritating drugs is minimized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an administer large volume of drug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rug rapidly absorbed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Disadvantage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breaks skin barrier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an be anxiety producing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609120" y="609480"/>
            <a:ext cx="6348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radermal (ID)</a:t>
            </a:r>
            <a:r>
              <a:rPr b="0" lang="en-US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s the administrating of a drug into the dermal layer of the skin just beneath the epidermis, usually small amount of liquid is used for example 0.1ml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Advantage: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absorption is slow (this advantage test for allergy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Disadvantage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mount of drug administered must be small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Breaks skin barrie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457200" y="15998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8.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ravenous (IV):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llow injection of drugs and another substance directly into bloodstream through the vei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9.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halation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 is apply to drugs directly onto lung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685440" y="129492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Topical Rout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kin (including transdermal patches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y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ar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os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Lungs (inhalation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609120" y="2160720"/>
            <a:ext cx="6348600" cy="203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uestion?</a:t>
            </a:r>
            <a:endParaRPr b="0" lang="en-US" sz="6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90c226"/>
                </a:solidFill>
                <a:latin typeface="Trebuchet MS"/>
              </a:rPr>
              <a:t>Historical Trend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09120" y="1752480"/>
            <a:ext cx="6348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n twenty first century, the emphasis on providing quality health care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ursing role which include administering medication in health care agency, community and home care setting, teaching client safe and effective self administration to better care for their client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6934320" cy="512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42800" y="228600"/>
            <a:ext cx="8244000" cy="582480"/>
          </a:xfrm>
          <a:prstGeom prst="rect">
            <a:avLst/>
          </a:prstGeom>
          <a:gradFill rotWithShape="0">
            <a:gsLst>
              <a:gs pos="0">
                <a:srgbClr val="99ca3c"/>
              </a:gs>
              <a:gs pos="50000">
                <a:srgbClr val="475d1c"/>
              </a:gs>
              <a:gs pos="100000">
                <a:srgbClr val="99ca3c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Terminology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3164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harmacology:</a:t>
            </a:r>
            <a:r>
              <a:rPr b="0" lang="en-GB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is a science that studies the effect of the drugs on the body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harmacopeias</a:t>
            </a:r>
            <a:r>
              <a:rPr b="0" lang="en-GB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 are the total of all authorized drugs available within the country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edication:</a:t>
            </a:r>
            <a:r>
              <a:rPr b="0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is a substance administered for diagnosis, cure, treatment, mitigation or prevention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rescription:</a:t>
            </a:r>
            <a:r>
              <a:rPr b="0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the written direction for the preparation and the administration of the drug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44000" cy="582480"/>
          </a:xfrm>
          <a:prstGeom prst="rect">
            <a:avLst/>
          </a:prstGeom>
          <a:gradFill rotWithShape="0">
            <a:gsLst>
              <a:gs pos="0">
                <a:srgbClr val="99ca3c"/>
              </a:gs>
              <a:gs pos="50000">
                <a:srgbClr val="475d1c"/>
              </a:gs>
              <a:gs pos="100000">
                <a:srgbClr val="99ca3c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rminology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t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…..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09120" y="1523880"/>
            <a:ext cx="6348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he therapeutic effect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 is the primary effect intended that is the reason the drug is prescribed such as morphine sulfate is analgesia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ide effect: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secondary effect of the drug is one that unintended, side effects are usually predictable and may be either harmles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44000" cy="582480"/>
          </a:xfrm>
          <a:prstGeom prst="rect">
            <a:avLst/>
          </a:prstGeom>
          <a:gradFill rotWithShape="0">
            <a:gsLst>
              <a:gs pos="0">
                <a:srgbClr val="99ca3c"/>
              </a:gs>
              <a:gs pos="50000">
                <a:srgbClr val="475d1c"/>
              </a:gs>
              <a:gs pos="100000">
                <a:srgbClr val="99ca3c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rminology</a:t>
            </a:r>
            <a:r>
              <a:rPr b="0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t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…..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533520" y="1523880"/>
            <a:ext cx="634824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rug toxicity: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harmful effect of the drug on an organism or tissue, result from overdose or external use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rug allergy: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is immunological reaction to a drug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13:27:03Z</dcterms:created>
  <dc:creator>AHMAD RAWHI</dc:creator>
  <dc:description/>
  <dc:language>en-US</dc:language>
  <cp:lastModifiedBy>Alharbi</cp:lastModifiedBy>
  <cp:lastPrinted>2016-01-21T06:45:35Z</cp:lastPrinted>
  <dcterms:modified xsi:type="dcterms:W3CDTF">2016-01-21T07:00:08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