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8116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1"/>
          </p:nvPr>
        </p:nvSpPr>
        <p:spPr>
          <a:xfrm>
            <a:off x="3900240" y="0"/>
            <a:ext cx="298116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ftr" idx="2"/>
          </p:nvPr>
        </p:nvSpPr>
        <p:spPr>
          <a:xfrm>
            <a:off x="-360" y="8832600"/>
            <a:ext cx="2981160" cy="4633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 type="sldNum" idx="3"/>
          </p:nvPr>
        </p:nvSpPr>
        <p:spPr>
          <a:xfrm>
            <a:off x="3900240" y="8832600"/>
            <a:ext cx="2981160" cy="4633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9F211CE1-0A22-4E9D-BA64-AA8665C627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900600" y="8832960"/>
            <a:ext cx="298116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E9924A69-C995-4458-A2D4-7AAF7CF28A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900600" y="8832960"/>
            <a:ext cx="298116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41455049-3E39-4A40-BED8-7C75268E3A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900600" y="8832960"/>
            <a:ext cx="298116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5BD82BC0-3650-4BA9-9808-D1654CAD74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900600" y="8832960"/>
            <a:ext cx="298116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8E6CE8AE-B23E-4E02-A9F2-2D2FD5B3A0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900600" y="8832960"/>
            <a:ext cx="298116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6427968B-FA63-443D-8ABB-791BBD6B52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900600" y="8832960"/>
            <a:ext cx="298116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3E9B015C-EB3F-495D-ADE9-F4F8606A52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900600" y="8832960"/>
            <a:ext cx="298116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20CB1D96-ACF3-465F-B5E3-49043BD216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900600" y="8832960"/>
            <a:ext cx="298116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B8B6EBEF-D2CD-4F45-955D-96CFBEEEC1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900600" y="8832960"/>
            <a:ext cx="298116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776342B0-5641-4023-BE11-ED4B62495B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900600" y="8832960"/>
            <a:ext cx="298116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DADD8D92-FDBE-4467-804C-1A8404504B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900600" y="8832960"/>
            <a:ext cx="298116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30023AC4-0644-4897-A263-BCD68B8D5E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806400" y="360000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23440" y="12333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06400" y="360000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23440" y="360000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88840" y="123336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71280" y="123336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806400" y="360000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88840" y="360000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71280" y="360000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806400" y="12333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4015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23440" y="1233360"/>
            <a:ext cx="4015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267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23440" y="1233360"/>
            <a:ext cx="4015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06400" y="360000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806400" y="12333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4015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23440" y="12333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23440" y="360000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23440" y="12333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06400" y="360000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806400" y="360000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23440" y="12333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806400" y="360000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023440" y="360000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588840" y="123336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371280" y="123336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806400" y="360000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588840" y="360000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371280" y="360000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4015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23440" y="1233360"/>
            <a:ext cx="4015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267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23440" y="1233360"/>
            <a:ext cx="4015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806400" y="360000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4015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23440" y="12333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23440" y="360000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23440" y="12333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06400" y="360000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dino_3"/>
          <p:cNvPicPr/>
          <p:nvPr/>
        </p:nvPicPr>
        <p:blipFill>
          <a:blip r:embed="rId2"/>
          <a:stretch/>
        </p:blipFill>
        <p:spPr>
          <a:xfrm>
            <a:off x="285840" y="0"/>
            <a:ext cx="1195200" cy="9079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06400" y="12333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88"/>
              </a:spcBef>
              <a:buClr>
                <a:srgbClr val="ffcc00"/>
              </a:buClr>
              <a:buSzPct val="75000"/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788"/>
              </a:spcBef>
              <a:buClr>
                <a:srgbClr val="ff0066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788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788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Line 6"/>
          <p:cNvSpPr/>
          <p:nvPr/>
        </p:nvSpPr>
        <p:spPr>
          <a:xfrm>
            <a:off x="457200" y="860400"/>
            <a:ext cx="8077320" cy="0"/>
          </a:xfrm>
          <a:prstGeom prst="line">
            <a:avLst/>
          </a:prstGeom>
          <a:ln w="1908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Text Box 9"/>
          <p:cNvSpPr/>
          <p:nvPr/>
        </p:nvSpPr>
        <p:spPr>
          <a:xfrm>
            <a:off x="4031640" y="6613560"/>
            <a:ext cx="89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99"/>
                </a:solidFill>
                <a:latin typeface="Arial"/>
              </a:rPr>
              <a:t>2.</a:t>
            </a:r>
            <a:fld id="{84EA428D-01C0-4188-9C4D-2D2D9769A80D}" type="slidenum">
              <a:rPr b="1" lang="en-US" sz="10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Text Box 10"/>
          <p:cNvSpPr/>
          <p:nvPr/>
        </p:nvSpPr>
        <p:spPr>
          <a:xfrm>
            <a:off x="6489720" y="6588000"/>
            <a:ext cx="271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99"/>
                </a:solidFill>
                <a:latin typeface="Arial"/>
              </a:rPr>
              <a:t>Silberschatz, Galvin and Gagne ©2013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Text Box 11"/>
          <p:cNvSpPr/>
          <p:nvPr/>
        </p:nvSpPr>
        <p:spPr>
          <a:xfrm>
            <a:off x="253080" y="6621480"/>
            <a:ext cx="3300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99"/>
                </a:solidFill>
                <a:latin typeface="Arial"/>
              </a:rPr>
              <a:t>Operating System Concepts Essentials – 2</a:t>
            </a:r>
            <a:r>
              <a:rPr b="1" lang="en-US" sz="1000" spc="-1" strike="noStrike" baseline="30000">
                <a:solidFill>
                  <a:srgbClr val="006699"/>
                </a:solidFill>
                <a:latin typeface="Arial"/>
              </a:rPr>
              <a:t>nd</a:t>
            </a:r>
            <a:r>
              <a:rPr b="1" lang="en-US" sz="1000" spc="-1" strike="noStrike">
                <a:solidFill>
                  <a:srgbClr val="006699"/>
                </a:solidFill>
                <a:latin typeface="Arial"/>
              </a:rPr>
              <a:t> Edition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" name="Picture 12" descr="dino_6"/>
          <p:cNvPicPr/>
          <p:nvPr/>
        </p:nvPicPr>
        <p:blipFill>
          <a:blip r:embed="rId3"/>
          <a:stretch/>
        </p:blipFill>
        <p:spPr>
          <a:xfrm>
            <a:off x="7773840" y="5850000"/>
            <a:ext cx="1284480" cy="79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3"/>
          <p:cNvGrpSpPr/>
          <p:nvPr/>
        </p:nvGrpSpPr>
        <p:grpSpPr>
          <a:xfrm>
            <a:off x="198360" y="2960640"/>
            <a:ext cx="8610840" cy="201600"/>
            <a:chOff x="198360" y="2960640"/>
            <a:chExt cx="8610840" cy="201600"/>
          </a:xfrm>
        </p:grpSpPr>
        <p:sp>
          <p:nvSpPr>
            <p:cNvPr id="48" name="Rectangle 4"/>
            <p:cNvSpPr/>
            <p:nvPr/>
          </p:nvSpPr>
          <p:spPr>
            <a:xfrm>
              <a:off x="198360" y="2960640"/>
              <a:ext cx="2870280" cy="201600"/>
            </a:xfrm>
            <a:prstGeom prst="rect">
              <a:avLst/>
            </a:prstGeom>
            <a:solidFill>
              <a:srgbClr val="33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9" name="Rectangle 5"/>
            <p:cNvSpPr/>
            <p:nvPr/>
          </p:nvSpPr>
          <p:spPr>
            <a:xfrm>
              <a:off x="3068640" y="2960640"/>
              <a:ext cx="2870280" cy="2016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" name="Rectangle 6"/>
            <p:cNvSpPr/>
            <p:nvPr/>
          </p:nvSpPr>
          <p:spPr>
            <a:xfrm>
              <a:off x="5938920" y="2960640"/>
              <a:ext cx="2870280" cy="201600"/>
            </a:xfrm>
            <a:prstGeom prst="rect">
              <a:avLst/>
            </a:prstGeom>
            <a:solidFill>
              <a:srgbClr val="33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1" name="Text Box 7"/>
          <p:cNvSpPr/>
          <p:nvPr/>
        </p:nvSpPr>
        <p:spPr>
          <a:xfrm>
            <a:off x="6489720" y="6588000"/>
            <a:ext cx="271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6699"/>
                </a:solidFill>
                <a:latin typeface="Arial"/>
              </a:rPr>
              <a:t>Silberschatz, Galvin and Gagne ©2013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Text Box 8"/>
          <p:cNvSpPr/>
          <p:nvPr/>
        </p:nvSpPr>
        <p:spPr>
          <a:xfrm>
            <a:off x="94320" y="6613560"/>
            <a:ext cx="3300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6699"/>
                </a:solidFill>
                <a:latin typeface="Arial"/>
              </a:rPr>
              <a:t>Operating System Concepts Essentials – 2</a:t>
            </a:r>
            <a:r>
              <a:rPr b="1" lang="en-US" sz="1000" spc="-1" strike="noStrike" baseline="30000">
                <a:solidFill>
                  <a:srgbClr val="336699"/>
                </a:solidFill>
                <a:latin typeface="Arial"/>
              </a:rPr>
              <a:t>nd</a:t>
            </a:r>
            <a:r>
              <a:rPr b="1" lang="en-US" sz="1000" spc="-1" strike="noStrike">
                <a:solidFill>
                  <a:srgbClr val="336699"/>
                </a:solidFill>
                <a:latin typeface="Arial"/>
              </a:rPr>
              <a:t> Edition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3" name="Picture 9" descr="dino_4"/>
          <p:cNvPicPr/>
          <p:nvPr/>
        </p:nvPicPr>
        <p:blipFill>
          <a:blip r:embed="rId2"/>
          <a:stretch/>
        </p:blipFill>
        <p:spPr>
          <a:xfrm>
            <a:off x="3360600" y="4157640"/>
            <a:ext cx="2062440" cy="1593720"/>
          </a:xfrm>
          <a:prstGeom prst="rect">
            <a:avLst/>
          </a:prstGeom>
          <a:ln w="76320">
            <a:solidFill>
              <a:srgbClr val="336699"/>
            </a:solidFill>
            <a:miter/>
          </a:ln>
        </p:spPr>
      </p:pic>
      <p:sp>
        <p:nvSpPr>
          <p:cNvPr id="54" name="Rectangle 10"/>
          <p:cNvSpPr/>
          <p:nvPr/>
        </p:nvSpPr>
        <p:spPr>
          <a:xfrm>
            <a:off x="3224160" y="4006800"/>
            <a:ext cx="2336760" cy="1887480"/>
          </a:xfrm>
          <a:prstGeom prst="rect">
            <a:avLst/>
          </a:prstGeom>
          <a:noFill/>
          <a:ln w="5724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06400" y="12333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88"/>
              </a:spcBef>
              <a:buClr>
                <a:srgbClr val="ffcc00"/>
              </a:buClr>
              <a:buSzPct val="75000"/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788"/>
              </a:spcBef>
              <a:buClr>
                <a:srgbClr val="ff0066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788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788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71160" y="18997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006699"/>
                </a:solidFill>
                <a:latin typeface="Arial"/>
              </a:rPr>
              <a:t>Lecture 1-Part 2:  Operating-System Structures</a:t>
            </a:r>
            <a:endParaRPr b="1" lang="en-US" sz="43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198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Layered Approach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374976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operating system is divided into a number of layers (levels), each built on top of lower layers.  The bottom layer (layer 0), is the hardware; the highest (layer N) is the user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modularity, layers are selected such that each uses functions (operations) and services of only lower-level lay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5" descr=""/>
          <p:cNvPicPr/>
          <p:nvPr/>
        </p:nvPicPr>
        <p:blipFill>
          <a:blip r:embed="rId1"/>
          <a:stretch/>
        </p:blipFill>
        <p:spPr>
          <a:xfrm>
            <a:off x="5013360" y="1393920"/>
            <a:ext cx="3629160" cy="36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Simple Structure  -- MS-DOS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06040" y="1233360"/>
            <a:ext cx="77742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S (Disk Operating System) gained a reputation by supporting operating systems developed by IBM and Window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S was prominent in the industry up until support was terminated for Windows 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ough it's not as sophisticated as modern systems, DOS offers many advantages to the use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ystem is very stable and rarely endures crash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the system is still used, DOS has become more difficult to manage as support is limi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490760" y="255600"/>
            <a:ext cx="677376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Non Simple Structure  -- UNIX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98040" y="1155240"/>
            <a:ext cx="7782120" cy="49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X is an operating system which was first developed in the 1960s, and has been under constant development ever sinc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 operating system, we mean the suite of programs which make the computer work. It is a stable, multi-user, multi-tasking system for servers, desktops and laptop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X systems also have a graphical user interface (GUI) similar to Microsoft Windows which provides an easy to use environmen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re are many different versions of UNIX, although they share common similariti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ost popular varieties of UNIX are Sun Solaris, GNU/Linux, and MacOS X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Linux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06400" y="12333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Linux operating system is developed on a kernel based on Unix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is known as one of the most secure platforms, yet Linux is often viewed as more complex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ux is the result of an open-source project, allowing users and developers to access the source code for f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cause it requires less hardware, Linux is capable of providing exceptional performance even on a smaller hard dis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rge communities of users exist for this system, constantly contributing to the code and making improvemen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erver-based concept of Linux has resulted in fewer home users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57080" y="198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Mac OS X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853920" y="1108080"/>
            <a:ext cx="693432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c OS X is Apple's trademark operating system software for their line of Macintosh computer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ystem was based in part on Unix and mimics it's format with the administrative control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c OS X software requires a low level of maintenance with fewer occurrences of computers worms, viruses and spywa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Apple operating system does have some disadvantages, primarily in regard to software and hardware compatibili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Windows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806400" y="12333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icrosoft Windows operating system is the most popular choice and currently has a stronghold over the mark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platform has made significant advancements from version 1.0 all the way to the new Windows 7 syst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Windows system is highly compatible, feature-rich and has a much larger selection of software application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pite widespread usage, Windows has been heavily associated with the term "insecure" as a number of security vulnerabilities have made it the most targeted syst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quently exploited by hackers and malicious code writers, it is recommended that any Windows operating system with internet access be protected by some form of security softwar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50480" y="198000"/>
            <a:ext cx="763596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Operating System Services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46000" y="1143000"/>
            <a:ext cx="6863040" cy="486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erating systems provide an environment for execution of programs and services to programs and us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 set of operating-system services provides functions that are helpful to the user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ser interfac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Almost all operating systems have a user interface (</a:t>
            </a:r>
            <a:r>
              <a:rPr b="1" lang="en-US" sz="1600" spc="-1" strike="noStrike">
                <a:solidFill>
                  <a:srgbClr val="3366ff"/>
                </a:solidFill>
                <a:latin typeface="Arial"/>
              </a:rPr>
              <a:t>U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gram execu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The system must be able to load a program into memory and to run that program, end execution, either normally or abnormally (indicating err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/O operation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 A running program may require I/O, which may involve a file or an I/O dev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45720" y="182160"/>
            <a:ext cx="786924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Operating System Services (Cont.)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82280" y="891720"/>
            <a:ext cx="7542360" cy="57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 set of operating-system services provides functions that are helpful to the user (Cont.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le-system manipula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 The file system is of particular interest. Programs need to read and write files and directories, create and delete them, search them, list file Information, permission managemen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munication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Processes may exchange information, on the same computer or between computers over a net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rror dete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– OS needs to be constantly aware of possible err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00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y occur in the CPU and memory hardware, in I/O devices, in user progr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00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each type of error, OS should take the appropriate action to ensure correct and consistent compu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03320" y="182160"/>
            <a:ext cx="78120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Operating System Services (Cont.)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42680" y="1168560"/>
            <a:ext cx="7404120" cy="49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other set of OS functions exists for ensuring the efficient operation of the system itself via resource sha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source allocation -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en  multiple users or multiple jobs running concurrently, resources must be allocated to each of th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y types of resources -   CPU cycles, main memory, file storage, I/O devic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ccounting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To keep track of which users use how much and what kinds of computer resour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tection and security -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owners of information stored in a multiuser or networked computer system may want to control use of that inform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tec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nvolves ensuring that all access to system resources is control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the system from outsiders requires user authentication, extends to defending external I/O devices from invalid access attemp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92160" y="14076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A View of Operating System Services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08" name="Picture 4" descr="2"/>
          <p:cNvPicPr/>
          <p:nvPr/>
        </p:nvPicPr>
        <p:blipFill>
          <a:blip r:embed="rId1"/>
          <a:stretch/>
        </p:blipFill>
        <p:spPr>
          <a:xfrm>
            <a:off x="917640" y="1601640"/>
            <a:ext cx="7218360" cy="36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36800" y="16776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99"/>
                </a:solidFill>
                <a:latin typeface="Arial"/>
              </a:rPr>
              <a:t>User Operating System Interface - GUI</a:t>
            </a:r>
            <a:endParaRPr b="1" lang="en-US" sz="3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8080" y="1153800"/>
            <a:ext cx="73281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-friendly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deskto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ually mouse, keyboard, and moni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Icon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epresent files, programs, actions, et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rious mouse buttons over objects in the interface cause various actions (provide information, options, execute function, open directory (known as a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fold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 systems now include both CLI and GUI interf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crosoft Windows is GUI with CLI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h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e Mac OS X is GUI interfa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x and Linux have CLI with optional GUI interfac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22240" y="18216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99"/>
                </a:solidFill>
                <a:latin typeface="Arial"/>
              </a:rPr>
              <a:t>Touchscreen Interfaces</a:t>
            </a:r>
            <a:endParaRPr b="1" lang="en-US" sz="3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06400" y="1233360"/>
            <a:ext cx="412128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uchscreen devices require new interf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use not possible or not des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irtual keyboard for text ent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oice command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3" descr="ipad.pdf"/>
          <p:cNvPicPr/>
          <p:nvPr/>
        </p:nvPicPr>
        <p:blipFill>
          <a:blip r:embed="rId1"/>
          <a:stretch/>
        </p:blipFill>
        <p:spPr>
          <a:xfrm>
            <a:off x="5065560" y="1343160"/>
            <a:ext cx="3441960" cy="45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79640" y="64800"/>
            <a:ext cx="771192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User goals and System goals</a:t>
            </a:r>
            <a:endParaRPr b="1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38080" y="1108080"/>
            <a:ext cx="7375680" cy="50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goals – operating system should be convenient to use, easy to learn, reliable, safe, and fa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 goals – operating system should be easy to design, implement, and maintain, as well as flexible, reliable, error-free, and effic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6699"/>
                </a:solidFill>
                <a:latin typeface="Arial"/>
              </a:rPr>
              <a:t>The Classification of Operating systems</a:t>
            </a:r>
            <a:br>
              <a:rPr sz="2900"/>
            </a:br>
            <a:endParaRPr b="1" lang="en-US" sz="29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Multi-us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llows two or more users to run programs at the same time. Some operating systems permit hundreds or even thousands of concurrent us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Multiprocessin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upports running a program on more than one CP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Multitask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llows more than one program to run concurrent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Multithread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ows different parts of a single program to run concurrent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al tim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esponds to input instantl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3T23:43:38Z</dcterms:created>
  <dc:creator>Lucent End User</dc:creator>
  <dc:description/>
  <dc:language>en-US</dc:language>
  <cp:lastModifiedBy>USER</cp:lastModifiedBy>
  <cp:lastPrinted>2001-06-14T13:58:17Z</cp:lastPrinted>
  <dcterms:modified xsi:type="dcterms:W3CDTF">2017-09-26T07:25:37Z</dcterms:modified>
  <cp:revision>181</cp:revision>
  <dc:subject/>
  <dc:title>2.01</dc:title>
</cp:coreProperties>
</file>