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0024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832600"/>
            <a:ext cx="29811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00240" y="8832600"/>
            <a:ext cx="29811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31D3AB-F8B8-4579-A751-2D1061863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6C6E4C-B22A-40A4-B257-64A91A484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FA0C5B-EFFC-4FF9-B23B-2697E7F07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5B5EF6-7FB5-42AE-906B-3CE505E5E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E78698-5818-4FFD-BA86-99C25C823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296721-8741-49C5-8F9A-01B2EB2CA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F3DA51-155F-4D2F-85E2-4C5A575B4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4C50E4-F15A-4773-95B9-D19F9830C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48DF40-8C11-4939-B1A6-F4308E637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BE84C4-24FE-45FB-868A-697C1ADCB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F931EF-BB94-4C9E-991C-A240F878F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B4F1DA-298E-4199-89B3-0F4179096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64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2.</a:t>
            </a:r>
            <a:fld id="{E38281CD-7635-412D-8CEB-0E89E779757E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1160" y="18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Lecture 1-Part 2:  Operating-System Structure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yered Approac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3749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is divided into a number of layers (levels), each built on top of lower layers.  The bottom layer (layer 0), is the hardware; the highest (layer N) is the user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odularity, layers are selected such that each uses functions (operations) and services of only lower-level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5013360" y="1393920"/>
            <a:ext cx="362916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mple Structure  -- MS-DO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74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 (Disk Operating System) gained a reputation by supporting operating systems developed by IBM and Windo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 was prominent in the industry up until support was terminated for Windows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gh it's not as sophisticated as modern systems, DOS offers many advantages to the u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ystem is very stable and rarely endures crash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the system is still used, DOS has become more difficult to manage as support is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90760" y="255600"/>
            <a:ext cx="6773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n Simple Structure  -- UNI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040" y="1155240"/>
            <a:ext cx="778212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is an operating system which was first developed in the 1960s, and has been under constant development ever si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operating system, we mean the suite of programs which make the computer work. It is a stable, multi-user, multi-tasking system for servers, desktops and lapto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systems also have a graphical user interface (GUI) similar to Microsoft Windows which provides an easy to use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different versions of UNIX, although they share common similar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popular varieties of UNIX are Sun Solaris, GNU/Linux, and MacOS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u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operating system is developed on a kernel based on Un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known as one of the most secure platforms, yet Linux is often viewed as more compl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is the result of an open-source project, allowing users and developers to access the source code for 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requires less hardware, Linux is capable of providing exceptional performance even on a smaller hard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communities of users exist for this system, constantly contributing to the code and making improve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-based concept of Linux has resulted in fewer home user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708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c OS 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53920" y="1108080"/>
            <a:ext cx="693432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OS X is Apple's trademark operating system software for their line of Macintosh compu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was based in part on Unix and mimics it's format with the administrative contro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OS X software requires a low level of maintenance with fewer occurrences of computers worms, viruses and spy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e operating system does have some disadvantages, primarily in regard to software and hardware compat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crosoft Windows operating system is the most popular choice and currently has a stronghold over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latform has made significant advancements from version 1.0 all the way to the new Windows 7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ndows system is highly compatible, feature-rich and has a much larger selection of software appli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ite widespread usage, Windows has been heavily associated with the term "insecure" as a number of security vulnerabilities have made it the most targeted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ly exploited by hackers and malicious code writers, it is recommended that any Windows operating system with internet access be protected by some form of security softw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50480" y="198000"/>
            <a:ext cx="763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Servi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6000" y="1143000"/>
            <a:ext cx="68630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s provide an environment for execution of programs and services to programs and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et of operating-system services provides functions that are helpful to the us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terf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most all operating systems have a user interface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U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execu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he system must be able to load a program into memory and to run that program, end execution, either normally or abnormally (indicating err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opera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 running program may require I/O, which may involve a file or an I/O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45720" y="18216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Servic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82280" y="891720"/>
            <a:ext cx="754236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et of operating-system services provides functions that are helpful to the user (Cont.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-system manipu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The file system is of particular interest. Programs need to read and write files and directories, create and delete them, search them, list file Information, permissio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Processes may exchange information, on the same computer or between computers over a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 dete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OS needs to be constantly aware of possibl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occur in the CPU and memory hardware, in I/O devices, in us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type of error, OS should take the appropriate action to ensure correct and consistent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3320" y="182160"/>
            <a:ext cx="7812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Servic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1168560"/>
            <a:ext cx="74041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set of OS functions exists for ensuring the efficient operation of the system itself via resourc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 allocation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 multiple users or multiple jobs running concurrently, resources must be allocated to each of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types of resources -   CPU cycles, main memory, file storage, I/O devi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keep track of which users use how much and what kinds of computer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 and security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wners of information stored in a multiuser or networked computer system may want to control use of tha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volves ensuring that all access to system resources is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system from outsiders requires user authentication, extends to defending external I/O devices from invalid access attem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216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View of Operating System Servi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8" name="Picture 4" descr="2"/>
          <p:cNvPicPr/>
          <p:nvPr/>
        </p:nvPicPr>
        <p:blipFill>
          <a:blip r:embed="rId1"/>
          <a:stretch/>
        </p:blipFill>
        <p:spPr>
          <a:xfrm>
            <a:off x="917640" y="1601640"/>
            <a:ext cx="72183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368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User Operating System Interface - GUI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153800"/>
            <a:ext cx="7328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sk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mouse, keyboard, and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c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 files, programs, action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mouse buttons over objects in the interface cause various actions (provide information, options, execute function, open directory (known a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ol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ystems now include both CLI and GUI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indows is GUI with CLI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 OS X is GUI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and Linux have CLI with optional GUI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Touchscreen Interfaces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121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chscreen devices require new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e not possible or not des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keyboard for text e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 comm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ipad.pdf"/>
          <p:cNvPicPr/>
          <p:nvPr/>
        </p:nvPicPr>
        <p:blipFill>
          <a:blip r:embed="rId1"/>
          <a:stretch/>
        </p:blipFill>
        <p:spPr>
          <a:xfrm>
            <a:off x="5065560" y="1343160"/>
            <a:ext cx="344196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64800"/>
            <a:ext cx="7711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r goals and System goa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108080"/>
            <a:ext cx="73756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goals – operating system should be convenient to use, easy to learn, reliable, safe, and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goals – operating system should be easy to design, implement, and maintain, as well as flexible, reliable, error-free, and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99"/>
                </a:solidFill>
                <a:latin typeface="Arial"/>
              </a:rPr>
              <a:t>The Classification of Operating systems</a:t>
            </a:r>
            <a:br>
              <a:rPr sz="2900"/>
            </a:b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lti-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wo or more users to run programs at the same time. Some operating systems permit hundreds or even thousands of concurrent u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ltiproce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orts running a program on more than one CP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ltitas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more than one program to run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ltith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fferent parts of a single program to run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onds to input instant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USER</cp:lastModifiedBy>
  <cp:lastPrinted>2001-06-14T13:58:17Z</cp:lastPrinted>
  <dcterms:modified xsi:type="dcterms:W3CDTF">2017-09-26T07:25:37Z</dcterms:modified>
  <cp:revision>181</cp:revision>
  <dc:subject/>
  <dc:title>2.01</dc:title>
</cp:coreProperties>
</file>