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3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0.jpeg" ContentType="image/jpeg"/>
  <Override PartName="/ppt/media/image49.gif" ContentType="image/gi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0.png" ContentType="image/png"/>
  <Override PartName="/ppt/media/image57.png" ContentType="image/png"/>
  <Override PartName="/ppt/media/image28.jpeg" ContentType="image/jpeg"/>
  <Override PartName="/ppt/media/image62.png" ContentType="image/png"/>
  <Override PartName="/ppt/media/image51.jpeg" ContentType="image/jpe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9CF1-9F06-45EB-BC2B-832739DC1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DA50-D372-4131-8EA6-644BA342B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6C69-E044-4AF4-96CE-BE2CC63B0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24E3-002C-4F94-A2B7-F79A6B153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8A0F-6F8C-4673-9B64-9CC0D8A45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D64B-6599-4F83-B457-629ECEA7A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02F6-55C4-4F9B-893A-93C6B1065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C07C-EBAF-4654-B2E9-BB2C5816E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1C5B-C5CB-441C-A2AD-731FC3127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9C03-0A9C-46ED-B35E-D4001DD4B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CB03-202C-404B-86C1-2330EBAC0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D3E7-D283-4421-966D-066B77A68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789A-995D-4935-8606-E5F2B117C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564C-2AE2-4655-B901-9A5CF956C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637F-DEEA-49A9-9126-6B62F1C5837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6C01-548A-4A7C-9DB8-9C4C1F946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3AD7-4945-48E9-8DB1-7659996BD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45C5-D32F-4ACF-9467-2F83387D0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755F-C71C-4815-81D7-45DF51030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127D-2379-4949-B77A-577805720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3BEB-A969-4FEE-87BB-7ADA7F73C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D571-E06C-4C30-A315-86EA51B38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9EC2-B792-4728-8F1E-0952105C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56A9-025A-4664-9F72-E113066AA61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F37B-DA77-4651-A68F-8D770F6CEA9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A4D9-8C98-4CD5-8A7F-251F0892A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F036-84C8-4D91-92FD-0AF093418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C3C-28C7-4354-BF07-9059A62E8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63C0-B2D9-4679-AF98-6B9372CD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65F-B0B6-441A-89DF-1C667708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B37-60FD-435D-AF0B-F1D9845C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467D-34DA-498D-9716-F062040E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4E49-DBD2-45A0-9FDA-05B55694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82FA-C941-4CB8-A53E-D2F93640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88CD-B971-4CF9-A0CF-1532E84E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2D93-7BB6-42D0-9835-7C915AEF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51FA-44E0-4DD4-8C42-E452E50A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3EBD-7B0C-4220-A5B8-C9E7A52B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DAA-6680-4515-98CF-8B91AAF1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D864-C7D9-44EA-9995-029FC293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843D-3C1B-4EB7-BEBE-060D8409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6F45-7305-4415-B0A3-407B7342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C394-20A9-41AE-A94B-60ADE825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3B5C-C669-40AD-9546-CA626169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73E2E-8E60-4E5D-B9DD-21DAEA51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EDAB0-6CD2-40C0-9884-5A868D02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FB78-147F-4294-B346-801D29C5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E2E39-0D51-4C19-A372-0EFAFCB8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FF6F-E11D-4A86-B061-3A41E894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989-6451-4FCF-A4AC-E3835E7F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CFEEB-07D3-4423-95DC-9B29992E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DC88-AF89-4B6B-A8D4-2E3CE5D8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F560A-D67F-46E7-B68F-98EB8E92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6A7B1-6589-4BDA-BA91-560A86B5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541C-284F-478F-AA5C-761B3952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25B0A-8BCF-4AB7-9869-1C72AA18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27CDB-6A10-4112-86AF-7D36297D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ED1AB-9CF1-421F-9CF2-E6551773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7AF68-BD9F-41CE-AA4A-56AB3366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4B3C3-AFCF-445E-B8D4-6C9C43BC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1666-C0DF-4E57-BB44-2B4A16EF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95DEF-B420-4520-9E1F-277CAFC4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8F754-8F93-4C1F-853C-B7E3AF5F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389E1-7AB7-44A5-AA85-9462E221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6583B-5415-4A18-9362-9D820D30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065AF-1211-4E8D-8268-CDC370B7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CCF8F-D278-4CA1-BD35-64AABAF1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CD662-B107-447C-AEC1-82C6F3C5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794CC-101E-4241-B486-05E15A16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19521-19F0-4BE8-BAD0-0A9478DB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98B2D-2109-42F8-B0F0-94220D8E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88B-9B7B-4BED-A370-C2EA7A04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5271F-3C0C-49A3-93F6-FE39583C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7662B-58BB-481B-B597-519CF876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04E63-DFEB-4817-899A-8BC74649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005BE-8944-41C1-B5C0-01C93383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D1EDF-91B1-46B4-8FF9-02357C0C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13E88-184C-4CF8-9C05-73D9548F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A7D3B-9358-4AEF-9467-32E640F9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9832A-4C61-43E4-8384-C873AC7C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1C423-5DFB-4F36-B79F-A5504610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0885F-7EFD-4943-8EFE-72B54FD1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822-11B1-4E5E-8C02-AB679942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16AAB-DF76-4365-91B3-16C95AF3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E05ED-328C-41F0-B685-88BE24DF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7ABD7-8217-4B0F-B3CE-9677774A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B473D-4232-4C19-87EB-06D104DF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C3BE6-FB1D-4FF5-B7DC-54D0B37C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E86F5-3C65-4431-9FE6-70B71ACC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818CE-39A9-4F01-8EAF-088AD5BF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D6B15-E7A7-437B-81B5-7986F9B7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300F4-B046-4BCE-9B2F-8C30983A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A45C9-8627-4160-824C-D29DAB30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0A9-EF57-45E9-B5B2-DFDCA42C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7D1AD-6FC2-475C-A0A6-C030E909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B2ED2-7DC1-42BD-89BA-DB6A42C8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F93C1-264A-452D-9EC0-10F78744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A00-2F4D-46B8-BD3A-161F9E87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115-7DC5-4C0B-984D-AD20E3E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740D-128A-40AF-925D-9604F2DBB8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FE84-B4A9-4EE3-9E93-62ED3A10ED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D89F-9F54-42C9-B838-4A3CB9F94F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F598-4C57-4B75-B3A4-A99913A2B0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682C-2FE6-474D-908A-F6B04635EA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C91A-07B2-4DED-B658-541879B229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png"/><Relationship Id="rId1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7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8.png"/><Relationship Id="rId1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3"/>
          <p:cNvSpPr/>
          <p:nvPr/>
        </p:nvSpPr>
        <p:spPr>
          <a:xfrm>
            <a:off x="1295280" y="990720"/>
            <a:ext cx="67820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OLYMERASE CHAIN REACTION (PCR): PRINCIPLES AN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1e25"/>
                </a:solidFill>
                <a:latin typeface="Calibri"/>
              </a:rPr>
              <a:t>DR. IRAM SIDD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015bb"/>
                </a:solidFill>
                <a:latin typeface="Calibri"/>
              </a:rPr>
              <a:t>ASSISTANT PROF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These four bases are linked in a repeated pattern by hydrogen bonding between the nitrogen bas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The linking of the two complementary strands is called hybridiza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 of bonding patter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mary str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G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CCC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lementary str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08" name="Object 3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3276720" cy="5105520"/>
          </a:xfrm>
          <a:prstGeom prst="rect">
            <a:avLst/>
          </a:prstGeom>
          <a:ln w="0">
            <a:noFill/>
          </a:ln>
        </p:spPr>
      </p:pic>
      <p:sp>
        <p:nvSpPr>
          <p:cNvPr id="309" name="Line 6"/>
          <p:cNvSpPr/>
          <p:nvPr/>
        </p:nvSpPr>
        <p:spPr>
          <a:xfrm>
            <a:off x="6781680" y="2057400"/>
            <a:ext cx="76212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7"/>
          <p:cNvSpPr/>
          <p:nvPr/>
        </p:nvSpPr>
        <p:spPr>
          <a:xfrm>
            <a:off x="6781680" y="3124080"/>
            <a:ext cx="762120" cy="0"/>
          </a:xfrm>
          <a:prstGeom prst="line">
            <a:avLst/>
          </a:prstGeom>
          <a:ln w="76320">
            <a:solidFill>
              <a:srgbClr val="5015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6781680" y="4191120"/>
            <a:ext cx="762120" cy="0"/>
          </a:xfrm>
          <a:prstGeom prst="line">
            <a:avLst/>
          </a:prstGeom>
          <a:ln w="76320">
            <a:solidFill>
              <a:srgbClr val="63c9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6781680" y="5181480"/>
            <a:ext cx="762120" cy="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51814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9"/>
          <p:cNvSpPr/>
          <p:nvPr/>
        </p:nvSpPr>
        <p:spPr>
          <a:xfrm>
            <a:off x="5029200" y="2895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y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1"/>
          <p:cNvSpPr/>
          <p:nvPr/>
        </p:nvSpPr>
        <p:spPr>
          <a:xfrm>
            <a:off x="50292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2"/>
          <p:cNvSpPr/>
          <p:nvPr/>
        </p:nvSpPr>
        <p:spPr>
          <a:xfrm>
            <a:off x="5105520" y="502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d3c4a"/>
                </a:solidFill>
                <a:latin typeface="Lucida Sans Unicode"/>
              </a:rPr>
              <a:t>PCR is a technique that takes a specific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d3c4a"/>
                </a:solidFill>
                <a:latin typeface="Lucida Sans Unicode"/>
              </a:rPr>
              <a:t>sequence of DNA of small amounts a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d3c4a"/>
                </a:solidFill>
                <a:latin typeface="Lucida Sans Unicode"/>
              </a:rPr>
              <a:t>amplifies it to be used for further testing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PCR Targe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015bb"/>
                </a:solidFill>
                <a:latin typeface="Lucida Sans Unicode"/>
              </a:rPr>
              <a:t>The targets in PCR are the sequences of DN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015bb"/>
                </a:solidFill>
                <a:latin typeface="Lucida Sans Unicode"/>
              </a:rPr>
              <a:t>on each end of the region of interest, whic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015bb"/>
                </a:solidFill>
                <a:latin typeface="Lucida Sans Unicode"/>
              </a:rPr>
              <a:t>can be a complete gene or small sequen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number of bases in the targets can va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. . . .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. . . . Represents the middle DNA sequ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Magnesium chloride: 0.5-2.5m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Buffer: pH 8.3-8.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dNTPs: 20-200µ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Primers: 0.1-0.5µ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DNA Polymerase: 1-2.5 un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2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Target DNA: </a:t>
            </a:r>
            <a:r>
              <a:rPr b="1" lang="en-US" sz="2700" spc="-1" strike="noStrike">
                <a:solidFill>
                  <a:srgbClr val="993366"/>
                </a:solidFill>
                <a:latin typeface="Symbol"/>
                <a:ea typeface="Symbol"/>
              </a:rPr>
              <a:t></a:t>
            </a:r>
            <a:r>
              <a:rPr b="1" lang="en-US" sz="2700" spc="-1" strike="noStrike">
                <a:solidFill>
                  <a:srgbClr val="993366"/>
                </a:solidFill>
                <a:latin typeface="Lucida Sans Unicode"/>
              </a:rPr>
              <a:t> 1 µ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naturalization: 94°- 95°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mer Annealing: 50°- 65°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tension of DNA: 72° 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umber of Cycles: 25-4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A primer for each target sequence on the en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of your DNA is needed.  This allows bo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strands to be copied simultaneously in bo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direc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. . .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A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. . . . . . . . . .&gt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&lt;. . . . . . . . . .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A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T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. . .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T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AA</a:t>
            </a:r>
            <a:r>
              <a:rPr b="0" lang="en-US" sz="2700" spc="-1" strike="noStrike">
                <a:solidFill>
                  <a:srgbClr val="ffff99"/>
                </a:solidFill>
                <a:latin typeface="Lucida Sans Unicode"/>
              </a:rPr>
              <a:t>CC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GG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T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Lucida Sans Unicode"/>
              </a:rPr>
              <a:t>The primers are added in excess so they wi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Lucida Sans Unicode"/>
              </a:rPr>
              <a:t>bind to the target DNA instead of the tw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27a8f"/>
                </a:solidFill>
                <a:latin typeface="Lucida Sans Unicode"/>
              </a:rPr>
              <a:t>strands binding back to each o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146160" y="249120"/>
            <a:ext cx="8547120" cy="11779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1143000" y="1752480"/>
            <a:ext cx="7391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15bb"/>
                </a:solidFill>
                <a:latin typeface="Arial"/>
              </a:rPr>
              <a:t>The polymerase chain reaction (PCR) is a technique to amplify a piece of DNA very rapidly outside of a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Starting with a single molecule of DNA, 25 rounds or cycles of PCR will produce about 10 million identical DNA molecule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q stands for Thermus aquaticus, which is 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crobe found in 176°F hot springs in Yellow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one National For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q produces an enzyme called DN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lymerase, that amplifies the DNA from th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mers by the polymerase chain reaction, 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esence of M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Denaturing is the first step in PCR, in whi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the DNA strands are separated by heating 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95°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cc"/>
                </a:solidFill>
                <a:latin typeface="Lucida Sans Unicode"/>
              </a:rPr>
              <a:t>Annealing is the process of allowing two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cc"/>
                </a:solidFill>
                <a:latin typeface="Lucida Sans Unicode"/>
              </a:rPr>
              <a:t>sequences of DNA to form hydrogen bo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cc"/>
                </a:solidFill>
                <a:latin typeface="Lucida Sans Unicode"/>
              </a:rPr>
              <a:t>The annealing of the target sequences 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cc"/>
                </a:solidFill>
                <a:latin typeface="Lucida Sans Unicode"/>
              </a:rPr>
              <a:t>primers is done by cooling the DNA to 55°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polymerization by a thermostable DNA polymerase at 72 degrees 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050" descr=""/>
          <p:cNvPicPr/>
          <p:nvPr/>
        </p:nvPicPr>
        <p:blipFill>
          <a:blip r:embed="rId1"/>
          <a:stretch/>
        </p:blipFill>
        <p:spPr>
          <a:xfrm>
            <a:off x="433440" y="378000"/>
            <a:ext cx="8021520" cy="1152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051" descr=""/>
          <p:cNvPicPr/>
          <p:nvPr/>
        </p:nvPicPr>
        <p:blipFill>
          <a:blip r:embed="rId2"/>
          <a:stretch/>
        </p:blipFill>
        <p:spPr>
          <a:xfrm>
            <a:off x="5961240" y="2209680"/>
            <a:ext cx="2008080" cy="25322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052" descr=""/>
          <p:cNvPicPr/>
          <p:nvPr/>
        </p:nvPicPr>
        <p:blipFill>
          <a:blip r:embed="rId3"/>
          <a:stretch/>
        </p:blipFill>
        <p:spPr>
          <a:xfrm>
            <a:off x="1625760" y="2819520"/>
            <a:ext cx="8125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2" name="Object 2053"/>
          <p:cNvGraphicFramePr/>
          <p:nvPr/>
        </p:nvGraphicFramePr>
        <p:xfrm>
          <a:off x="3792600" y="3095640"/>
          <a:ext cx="855720" cy="71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3" name="Object 205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92600" y="3095640"/>
                    <a:ext cx="85572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2054"/>
          <p:cNvSpPr/>
          <p:nvPr/>
        </p:nvSpPr>
        <p:spPr>
          <a:xfrm>
            <a:off x="5773320" y="495288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055"/>
          <p:cNvSpPr/>
          <p:nvPr/>
        </p:nvSpPr>
        <p:spPr>
          <a:xfrm>
            <a:off x="1486800" y="487692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PCR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pcr-tubes.png"/>
          <p:cNvPicPr/>
          <p:nvPr/>
        </p:nvPicPr>
        <p:blipFill>
          <a:blip r:embed="rId6"/>
          <a:stretch/>
        </p:blipFill>
        <p:spPr>
          <a:xfrm>
            <a:off x="990720" y="1419120"/>
            <a:ext cx="2286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pcr-machine"/>
          <p:cNvPicPr/>
          <p:nvPr/>
        </p:nvPicPr>
        <p:blipFill>
          <a:blip r:embed="rId1"/>
          <a:stretch/>
        </p:blipFill>
        <p:spPr>
          <a:xfrm>
            <a:off x="1533600" y="704880"/>
            <a:ext cx="50958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3"/>
          <p:cNvSpPr/>
          <p:nvPr/>
        </p:nvSpPr>
        <p:spPr>
          <a:xfrm>
            <a:off x="3019320" y="990720"/>
            <a:ext cx="27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nature (heat to 95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5"/>
          <p:cNvSpPr/>
          <p:nvPr/>
        </p:nvSpPr>
        <p:spPr>
          <a:xfrm>
            <a:off x="3019320" y="2498760"/>
            <a:ext cx="33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Lower temperature to 56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 Anneal with pr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3019320" y="4495680"/>
            <a:ext cx="331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crease temperature to 72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 DNA polymerase + d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2048"/>
          <p:cNvGraphicFramePr/>
          <p:nvPr/>
        </p:nvGraphicFramePr>
        <p:xfrm>
          <a:off x="1852560" y="380880"/>
          <a:ext cx="51735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380880"/>
                    <a:ext cx="5173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2049"/>
          <p:cNvGraphicFramePr/>
          <p:nvPr/>
        </p:nvGraphicFramePr>
        <p:xfrm>
          <a:off x="1852560" y="1600200"/>
          <a:ext cx="517356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Object 20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2560" y="1600200"/>
                    <a:ext cx="51735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2050"/>
          <p:cNvGraphicFramePr/>
          <p:nvPr/>
        </p:nvGraphicFramePr>
        <p:xfrm>
          <a:off x="1852560" y="3352680"/>
          <a:ext cx="516564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6" name="Object 20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52560" y="3352680"/>
                    <a:ext cx="5165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2051"/>
          <p:cNvGraphicFramePr/>
          <p:nvPr/>
        </p:nvGraphicFramePr>
        <p:xfrm>
          <a:off x="1852560" y="5629320"/>
          <a:ext cx="519120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8" name="Object 20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52560" y="5629320"/>
                    <a:ext cx="5191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1024"/>
          <p:cNvGraphicFramePr/>
          <p:nvPr/>
        </p:nvGraphicFramePr>
        <p:xfrm>
          <a:off x="2438280" y="2374920"/>
          <a:ext cx="318312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74920"/>
                    <a:ext cx="31831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025"/>
          <p:cNvGraphicFramePr/>
          <p:nvPr/>
        </p:nvGraphicFramePr>
        <p:xfrm>
          <a:off x="6637320" y="3276720"/>
          <a:ext cx="101592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37320" y="3276720"/>
                    <a:ext cx="1015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026"/>
          <p:cNvGraphicFramePr/>
          <p:nvPr/>
        </p:nvGraphicFramePr>
        <p:xfrm>
          <a:off x="3386160" y="4876920"/>
          <a:ext cx="203184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Object 10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86160" y="4876920"/>
                    <a:ext cx="20318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27"/>
          <p:cNvGraphicFramePr/>
          <p:nvPr/>
        </p:nvGraphicFramePr>
        <p:xfrm>
          <a:off x="812880" y="838080"/>
          <a:ext cx="895320" cy="10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6" name="Object 10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12880" y="838080"/>
                    <a:ext cx="8953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028"/>
          <p:cNvGraphicFramePr/>
          <p:nvPr/>
        </p:nvGraphicFramePr>
        <p:xfrm>
          <a:off x="812880" y="228600"/>
          <a:ext cx="2100240" cy="573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8" name="Object 10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12880" y="228600"/>
                    <a:ext cx="210024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029"/>
          <p:cNvGraphicFramePr/>
          <p:nvPr/>
        </p:nvGraphicFramePr>
        <p:xfrm>
          <a:off x="744480" y="2057400"/>
          <a:ext cx="1422360" cy="13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0" name="Object 10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4480" y="2057400"/>
                    <a:ext cx="14223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1030"/>
          <p:cNvGraphicFramePr/>
          <p:nvPr/>
        </p:nvGraphicFramePr>
        <p:xfrm>
          <a:off x="5824440" y="523800"/>
          <a:ext cx="1881360" cy="275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2" name="Object 10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24440" y="523800"/>
                    <a:ext cx="1881360" cy="27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031"/>
          <p:cNvGraphicFramePr/>
          <p:nvPr/>
        </p:nvGraphicFramePr>
        <p:xfrm>
          <a:off x="5486400" y="4172040"/>
          <a:ext cx="2776680" cy="234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4" name="Object 10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86400" y="4172040"/>
                    <a:ext cx="27766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1032"/>
          <p:cNvGraphicFramePr/>
          <p:nvPr/>
        </p:nvGraphicFramePr>
        <p:xfrm>
          <a:off x="68400" y="4923000"/>
          <a:ext cx="3386160" cy="56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6" name="Object 103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400" y="4923000"/>
                    <a:ext cx="33861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pcr"/>
          <p:cNvPicPr/>
          <p:nvPr/>
        </p:nvPicPr>
        <p:blipFill>
          <a:blip r:embed="rId2"/>
          <a:stretch/>
        </p:blipFill>
        <p:spPr>
          <a:xfrm>
            <a:off x="1878120" y="1981080"/>
            <a:ext cx="660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pcr2"/>
          <p:cNvPicPr/>
          <p:nvPr/>
        </p:nvPicPr>
        <p:blipFill>
          <a:blip r:embed="rId2"/>
          <a:stretch/>
        </p:blipFill>
        <p:spPr>
          <a:xfrm>
            <a:off x="1830240" y="1981080"/>
            <a:ext cx="670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Impact"/>
              </a:rPr>
              <a:t>It was invented in 1983 by Dr. Kary Mullis, for which he received the Nobel Prize in Chemistry in 1993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pcr3"/>
          <p:cNvPicPr/>
          <p:nvPr/>
        </p:nvPicPr>
        <p:blipFill>
          <a:blip r:embed="rId2"/>
          <a:stretch/>
        </p:blipFill>
        <p:spPr>
          <a:xfrm>
            <a:off x="1830240" y="1981080"/>
            <a:ext cx="670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pcr4"/>
          <p:cNvPicPr/>
          <p:nvPr/>
        </p:nvPicPr>
        <p:blipFill>
          <a:blip r:embed="rId2"/>
          <a:stretch/>
        </p:blipFill>
        <p:spPr>
          <a:xfrm>
            <a:off x="1830240" y="1981080"/>
            <a:ext cx="670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p5"/>
          <p:cNvPicPr/>
          <p:nvPr/>
        </p:nvPicPr>
        <p:blipFill>
          <a:blip r:embed="rId2"/>
          <a:stretch/>
        </p:blipFill>
        <p:spPr>
          <a:xfrm>
            <a:off x="1782720" y="1981080"/>
            <a:ext cx="6797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PCR steps"/>
          <p:cNvPicPr/>
          <p:nvPr/>
        </p:nvPicPr>
        <p:blipFill>
          <a:blip r:embed="rId1"/>
          <a:stretch/>
        </p:blipFill>
        <p:spPr>
          <a:xfrm>
            <a:off x="1476360" y="581040"/>
            <a:ext cx="568656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http://users.ugent.be/~avierstr/principles/pcranimatie.gif"/>
          <p:cNvPicPr/>
          <p:nvPr/>
        </p:nvPicPr>
        <p:blipFill>
          <a:blip r:embed="rId1"/>
          <a:stretch/>
        </p:blipFill>
        <p:spPr>
          <a:xfrm>
            <a:off x="1676520" y="1552680"/>
            <a:ext cx="5715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electrophoresis"/>
          <p:cNvPicPr/>
          <p:nvPr/>
        </p:nvPicPr>
        <p:blipFill>
          <a:blip r:embed="rId1"/>
          <a:stretch/>
        </p:blipFill>
        <p:spPr>
          <a:xfrm>
            <a:off x="1905120" y="3390840"/>
            <a:ext cx="4495680" cy="2781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Gel electrophoresis apparatus.JPG"/>
          <p:cNvPicPr/>
          <p:nvPr/>
        </p:nvPicPr>
        <p:blipFill>
          <a:blip r:embed="rId2"/>
          <a:stretch/>
        </p:blipFill>
        <p:spPr>
          <a:xfrm>
            <a:off x="1981080" y="295200"/>
            <a:ext cx="41148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6" descr=""/>
          <p:cNvPicPr/>
          <p:nvPr/>
        </p:nvPicPr>
        <p:blipFill>
          <a:blip r:embed="rId1"/>
          <a:stretch/>
        </p:blipFill>
        <p:spPr>
          <a:xfrm>
            <a:off x="438120" y="225360"/>
            <a:ext cx="8029440" cy="1152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lassification of organism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Genotyp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olecular archaeolog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utagene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Mutation dete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equenc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ancer researc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etection of pathoge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NA fingerprin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rug discover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Genetic match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Genetic engineering</a:t>
            </a:r>
            <a:r>
              <a:rPr b="1" lang="ru-RU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Pre-natal diagnosi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1878120" y="450720"/>
            <a:ext cx="6815160" cy="13114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ensic medici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implantation Genetic Diagnosis (PGD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cheolog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ernity tes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CR can be used to amplify DNA from a small amount of cells (about 1000 cell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mplified DNA from cells can be used in DNA fingerprinting analysis to determine who was at the crime scen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957240" y="755640"/>
            <a:ext cx="842472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A is isolated from blood at a crime scene and amplified by PC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mplified DNA is digested with restriction enzymes and resolved on an agarose ge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uthern blot analysis is performed to give a DNA fingerpr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Lucida Sans Unicode"/>
              </a:rPr>
              <a:t>P: POLYMERAS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015bb"/>
                </a:solidFill>
                <a:latin typeface="Lucida Sans Unicode"/>
              </a:rPr>
              <a:t>C: CHAI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a1f28"/>
                </a:solidFill>
                <a:latin typeface="Lucida Sans Unicode"/>
              </a:rPr>
              <a:t>R: REAC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Object 0"/>
          <p:cNvGraphicFramePr/>
          <p:nvPr/>
        </p:nvGraphicFramePr>
        <p:xfrm>
          <a:off x="677880" y="1600200"/>
          <a:ext cx="340344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600200"/>
                    <a:ext cx="340344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1"/>
          <p:cNvGraphicFramePr/>
          <p:nvPr/>
        </p:nvGraphicFramePr>
        <p:xfrm>
          <a:off x="5386320" y="1676520"/>
          <a:ext cx="30528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6320" y="1676520"/>
                    <a:ext cx="30528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Object 2"/>
          <p:cNvGraphicFramePr/>
          <p:nvPr/>
        </p:nvGraphicFramePr>
        <p:xfrm>
          <a:off x="2438280" y="3276720"/>
          <a:ext cx="4335480" cy="15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3276720"/>
                    <a:ext cx="4335480" cy="15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3"/>
          <p:cNvGraphicFramePr/>
          <p:nvPr/>
        </p:nvGraphicFramePr>
        <p:xfrm>
          <a:off x="4267080" y="1905120"/>
          <a:ext cx="88128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Object 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1905120"/>
                    <a:ext cx="88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4"/>
          <p:cNvGraphicFramePr/>
          <p:nvPr/>
        </p:nvGraphicFramePr>
        <p:xfrm>
          <a:off x="2776680" y="5083200"/>
          <a:ext cx="3590640" cy="169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9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6680" y="5083200"/>
                    <a:ext cx="3590640" cy="16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7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AU" sz="4000" spc="-1" strike="noStrike">
                <a:solidFill>
                  <a:srgbClr val="ff0000"/>
                </a:solidFill>
                <a:latin typeface="Arial"/>
              </a:rPr>
              <a:t>OLECULAR</a:t>
            </a:r>
            <a:r>
              <a:rPr b="0" lang="en-A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AU" sz="5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AU" sz="4000" spc="-1" strike="noStrike">
                <a:solidFill>
                  <a:srgbClr val="ff0000"/>
                </a:solidFill>
                <a:latin typeface="Arial"/>
              </a:rPr>
              <a:t>DENTIFICA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4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Object 1024"/>
          <p:cNvGraphicFramePr/>
          <p:nvPr/>
        </p:nvGraphicFramePr>
        <p:xfrm>
          <a:off x="406440" y="1600200"/>
          <a:ext cx="135396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440" y="1600200"/>
                    <a:ext cx="13539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1025"/>
          <p:cNvGraphicFramePr/>
          <p:nvPr/>
        </p:nvGraphicFramePr>
        <p:xfrm>
          <a:off x="3929040" y="2362320"/>
          <a:ext cx="1638360" cy="793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6" name="Object 10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9040" y="2362320"/>
                    <a:ext cx="163836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1026"/>
          <p:cNvGraphicFramePr/>
          <p:nvPr/>
        </p:nvGraphicFramePr>
        <p:xfrm>
          <a:off x="3929040" y="4987800"/>
          <a:ext cx="1625760" cy="72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8" name="Object 10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29040" y="4987800"/>
                    <a:ext cx="16257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1027"/>
          <p:cNvGraphicFramePr/>
          <p:nvPr/>
        </p:nvGraphicFramePr>
        <p:xfrm>
          <a:off x="2844720" y="3124080"/>
          <a:ext cx="1897200" cy="18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0" name="Object 10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844720" y="3124080"/>
                    <a:ext cx="1897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1028"/>
          <p:cNvGraphicFramePr/>
          <p:nvPr/>
        </p:nvGraphicFramePr>
        <p:xfrm>
          <a:off x="0" y="3276720"/>
          <a:ext cx="2979720" cy="1455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2" name="Object 10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3276720"/>
                    <a:ext cx="297972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1029"/>
          <p:cNvGraphicFramePr/>
          <p:nvPr/>
        </p:nvGraphicFramePr>
        <p:xfrm>
          <a:off x="5557680" y="4952880"/>
          <a:ext cx="3579840" cy="914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24" name="Object 10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57680" y="4952880"/>
                    <a:ext cx="35798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1030"/>
          <p:cNvGraphicFramePr/>
          <p:nvPr/>
        </p:nvGraphicFramePr>
        <p:xfrm>
          <a:off x="5557680" y="2286000"/>
          <a:ext cx="3579840" cy="884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26" name="Object 103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57680" y="2286000"/>
                    <a:ext cx="357984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12"/>
          <p:cNvSpPr/>
          <p:nvPr/>
        </p:nvSpPr>
        <p:spPr>
          <a:xfrm>
            <a:off x="10440" y="60480"/>
            <a:ext cx="285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Molecular Ident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38120" y="378000"/>
            <a:ext cx="802944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9" name="Object 0"/>
          <p:cNvGraphicFramePr/>
          <p:nvPr/>
        </p:nvGraphicFramePr>
        <p:xfrm>
          <a:off x="744480" y="1432080"/>
          <a:ext cx="7669440" cy="44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0" name="Object 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4480" y="1432080"/>
                    <a:ext cx="766944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Text Box 10"/>
          <p:cNvSpPr/>
          <p:nvPr/>
        </p:nvSpPr>
        <p:spPr>
          <a:xfrm>
            <a:off x="111240" y="60199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Sensitivity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of detection of PCR-amplified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D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Kaul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10440" y="60480"/>
            <a:ext cx="285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Molecular Identif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ct 0"/>
          <p:cNvGraphicFramePr/>
          <p:nvPr/>
        </p:nvGraphicFramePr>
        <p:xfrm>
          <a:off x="812880" y="1371600"/>
          <a:ext cx="766764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371600"/>
                    <a:ext cx="76676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Rectangle 6"/>
          <p:cNvSpPr/>
          <p:nvPr/>
        </p:nvSpPr>
        <p:spPr>
          <a:xfrm>
            <a:off x="111240" y="609588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00"/>
                </a:solidFill>
                <a:latin typeface="Arial"/>
              </a:rPr>
              <a:t>Sensitivity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of detection of PCR-amplified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D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(Kaul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.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448840" cy="1341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4"/>
          <p:cNvSpPr/>
          <p:nvPr/>
        </p:nvSpPr>
        <p:spPr>
          <a:xfrm>
            <a:off x="1353960" y="2438280"/>
            <a:ext cx="745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Impact"/>
              </a:rPr>
              <a:t>It is called “polymerase” because the only enzyme used in this reaction is DNA polymer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Rectang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448840" cy="13413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5"/>
          <p:cNvSpPr/>
          <p:nvPr/>
        </p:nvSpPr>
        <p:spPr>
          <a:xfrm>
            <a:off x="1422360" y="2286000"/>
            <a:ext cx="718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Impact"/>
              </a:rPr>
              <a:t>It is called “chain” because the products of the first reaction become substrates of the following one, and so 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890640" y="92160"/>
            <a:ext cx="7991280" cy="13096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476280" y="1676520"/>
            <a:ext cx="81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1) Target DNA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- contains the sequence to be amplified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04920" y="2286000"/>
            <a:ext cx="91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2) Pair of Primers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- oligonucleotides that define the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o be ampl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488880" y="320040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3) dNTPs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- deoxynucleotidetriphosphates: DNA buil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457200" y="397044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4) Thermostable DNA Polymerase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- enzyme that catalyzes the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457200" y="488484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5) Mg</a:t>
            </a:r>
            <a:r>
              <a:rPr b="1" lang="en-AU" sz="2400" spc="-1" strike="noStrike" baseline="30000">
                <a:solidFill>
                  <a:srgbClr val="3333cc"/>
                </a:solidFill>
                <a:latin typeface="Arial"/>
              </a:rPr>
              <a:t>++</a:t>
            </a: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 ions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– cofactor of the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457200" y="5349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"/>
              </a:rPr>
              <a:t>6) Buffer solution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 – maintains pH and ionic strength of the reaction solution suitable for the activity of the enzy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cc"/>
                </a:solidFill>
                <a:latin typeface="Lucida Sans Unicode"/>
              </a:rPr>
              <a:t>DNA Sug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33cc"/>
                </a:solidFill>
                <a:latin typeface="Lucida Sans Unicode"/>
              </a:rPr>
              <a:t>Deoxyribonucleic aci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33cc"/>
                </a:solidFill>
                <a:latin typeface="Lucida Sans Unicode"/>
              </a:rPr>
              <a:t>DNA has four nitrogen bas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are purines ( 2 ringed base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enine (</a:t>
            </a:r>
            <a:r>
              <a:rPr b="0" lang="en-US" sz="2300" spc="-1" strike="noStrike">
                <a:solidFill>
                  <a:srgbClr val="2da2bf"/>
                </a:solidFill>
                <a:latin typeface="Lucida Sans Unicode"/>
              </a:rPr>
              <a:t> A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), Guanine (</a:t>
            </a:r>
            <a:r>
              <a:rPr b="0" lang="en-US" sz="2300" spc="-1" strike="noStrike">
                <a:solidFill>
                  <a:srgbClr val="da1f28"/>
                </a:solidFill>
                <a:latin typeface="Lucida Sans Unicode"/>
              </a:rPr>
              <a:t> G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wo are pyrimidines ( 1 ringed base 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ytosine (</a:t>
            </a:r>
            <a:r>
              <a:rPr b="0" lang="en-US" sz="2300" spc="-1" strike="noStrike">
                <a:solidFill>
                  <a:srgbClr val="ffff00"/>
                </a:solidFill>
                <a:latin typeface="Lucida Sans Unicode"/>
              </a:rPr>
              <a:t> C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), Thymine (</a:t>
            </a:r>
            <a:r>
              <a:rPr b="0" lang="en-US" sz="2300" spc="-1" strike="noStrike">
                <a:solidFill>
                  <a:srgbClr val="ff0066"/>
                </a:solidFill>
                <a:latin typeface="Lucida Sans Unicode"/>
              </a:rPr>
              <a:t> T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3171e"/>
                </a:solidFill>
                <a:latin typeface="Lucida Sans Unicode"/>
              </a:rPr>
              <a:t>A purine always links with a pyrimidine base to maintain the structure of DN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enine (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) binds to Thymine ( </a:t>
            </a:r>
            <a:r>
              <a:rPr b="0" lang="en-US" sz="2700" spc="-1" strike="noStrike">
                <a:solidFill>
                  <a:srgbClr val="da1f28"/>
                </a:solidFill>
                <a:latin typeface="Lucida Sans Unicode"/>
              </a:rPr>
              <a:t>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), with two hydrogen bonds between th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uanine ( 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G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) binds to Cytosine (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), with three hydrogen bonds between the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04:35:53Z</dcterms:created>
  <dc:creator>iram</dc:creator>
  <dc:description/>
  <dc:language>en-US</dc:language>
  <cp:lastModifiedBy>Miss</cp:lastModifiedBy>
  <dcterms:modified xsi:type="dcterms:W3CDTF">2017-11-26T13:04:24Z</dcterms:modified>
  <cp:revision>73</cp:revision>
  <dc:subject/>
  <dc:title>Slide 1</dc:title>
</cp:coreProperties>
</file>