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7405-600C-4399-AD3A-7A9F9FE0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3B10-B38A-4E59-8AEF-7AE82FE5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6165-71AB-45A4-8C94-3AF0C11D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D1E-1211-43BF-9E66-CF10C4F77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847-F703-460D-9C1D-02D6DE87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569E-8F36-4DC2-9D72-91A86254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188-2AC7-4450-9215-48EF217A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E57-6C26-4C82-9A63-D0394898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66B-A215-43F6-8F3C-12466C24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D4A-0D19-4BBD-885F-CB5CD4E4C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538-7578-4E88-AC4B-54081152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7B0C-0A05-4C09-B05B-E6343900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C89-7FF7-45F7-933C-84634145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3A5E-7521-49F7-8953-3C8EEE03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8DF5-AF9C-4CA5-B55A-5BF08A4730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6C19-E6B0-4D93-897B-6D389080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13F-F0C1-4315-8225-17E9A0C9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FC84-4BCE-46C0-BD69-0386A97B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AC4A-E68F-4680-895C-2A6B97A0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7ADB-AF45-4EDB-96A1-AACDE156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D12-C257-4E6B-A095-4CA414EF0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160-3D7A-43F8-8FE7-D007BD67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320-57AA-42E1-A8EE-D5D530D3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E02-D866-4F3D-88D9-42FCA02271B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1E88-8099-4B45-A0BA-8BF89854C4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C8B-0CBC-43BF-A33D-A8730489F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684B-A0A4-4398-A0B7-93DC6BCB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F3D-3DC6-4887-8FC1-9CDE1B16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D3B-6041-4BF2-B6A6-80293FF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BE3-EF2B-4C36-AD1F-27D2CF9F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483-63F5-46D0-A930-83E73B74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EECA-9A69-4DF9-81AC-65A12F64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5D87-DC8B-4548-9A51-09E07A5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E450-623D-4B01-BF1D-C69526F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8948-E9B3-49D0-9AEA-2C63387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EF9-3F8F-4AC8-9E85-5295D2B1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B3EE-CA8E-4BEB-A267-51DD32A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5CE1-FC45-4219-8CEF-D14A01A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85D-CF6C-4FB3-BC25-F71B901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B48-F671-4929-9106-5F34187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58B9-3CEC-4287-866B-8AD6218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10E-C672-4907-98AB-CD0B6FD4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0F2-7873-45DF-9E18-A0DB79CC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013A-D340-4902-98C8-1DED3646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492A-9E39-4A65-AC52-4444DBEB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6FFB-BC7C-4269-ABA1-C937456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4057-A6B6-4FCD-A2E1-ACECE6B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7129-CB89-4206-8CDF-A5F34B5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28A1-47D8-4FCB-9701-8BA43FE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6BB-354F-4281-A0A5-84804DAD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6029-E139-4D8F-83AB-FA806050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84C5-1473-4CD1-B718-31A95FB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5E12-6E81-4B84-BC07-05CAFD54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29CE-D0EF-4D80-B67F-7A926F8A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EA7A-5D6E-492E-AC54-7A5F4B0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2B30-B373-4F64-BE1D-26D4B2C2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24B7-0C6F-48CF-BA12-710C3BAF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0715-67F1-4180-B6D3-C1E98CB2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6BD8-D219-4FE6-B79A-CA16D3C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E2F3-8258-4C1C-9558-823CB397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B49-82F9-4417-A90B-289A2063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197C-BB32-4D9A-99D7-E81E541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43D7-D906-4C94-A148-634949B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64D2-F807-447A-A45F-9D08762D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A1D8-E673-48F6-9CBB-BAE1219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BE2BF-2F48-4E38-9C5D-7F37FC8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F86A-42CB-47E4-93DC-A611E5FC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644F-3DBD-4C17-B39D-84240F0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1970-3B59-4DA2-884E-03525E96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137B-41E0-4AC1-90F9-98856879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7E80-B8C4-4063-82CE-5213F265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413-2926-4989-9DA3-42D7920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52EF4-37D3-49F0-A10E-BFB8E25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6E30-9EFB-45A4-91CA-402A98B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6902-8F94-4D3D-95AA-3F664C08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D11F-494A-466B-B008-83DF4474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1E5F-0043-4230-A79D-A35FF915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5716-3286-4859-B216-697E566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7931E-753E-4CA2-BF42-EC5010D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182C-39AE-46C3-B6EC-2A39233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A2F6-25DB-4150-B240-2BF909F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A7AD-03C7-4079-A638-362049B4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A3A-4054-42F2-8777-75596AF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B0AD-0227-40DB-A740-7FF93D2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A194-F2ED-4867-BF0B-81C200D5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B6ED-302F-4DA8-8680-401BF814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DFF7D-39AE-4433-81DE-D1391C7D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6A6B-90EF-4657-8DDD-0157C4B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9CF2B-D3C5-4B56-AF4B-CD8BF89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03B7-0671-4FBD-8057-9F62D025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53603-6A4B-4E44-A6A6-840CD1C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9AD8-08E3-454B-BA51-4CAC486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0471-A09B-47AE-902C-88FA82B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12F-86B7-4D43-A4B4-F4ABBF7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47E9-92E4-42EC-9479-F24EEC0A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951A-AB25-47D8-AE1D-EDF3ABE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0DCA-E3D5-4AED-A141-A7F89926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7E6-7BE1-44BC-8264-2BCC106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807-5ED7-4777-AAE8-F8859B1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E37-AFAD-4DBC-9087-F851D5C113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542-3B7C-4455-A255-604841A77A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8C6C-4A50-4E59-8F73-F7AECFCF3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15E-0F73-4426-8CB9-D1A2D761D0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F7D-4466-4572-AFB5-BDBFBF991E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D686-22FE-414D-9E2E-888A3527B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8.png"/><Relationship Id="rId1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1295280" y="990720"/>
            <a:ext cx="67820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LYMERASE CHAIN REACTION (PCR): PRINCIPLE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1e25"/>
                </a:solidFill>
                <a:latin typeface="Calibri"/>
              </a:rPr>
              <a:t>DR. IRAM SIDD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15bb"/>
                </a:solidFill>
                <a:latin typeface="Calibri"/>
              </a:rPr>
              <a:t>ASSISTANT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These four bases are linked in a repeated pattern by hydrogen bonding between the nitrogen ba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The linking of the two complementary strands is called hybridiz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of bonding patter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ry str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ary str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3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327672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Line 6"/>
          <p:cNvSpPr/>
          <p:nvPr/>
        </p:nvSpPr>
        <p:spPr>
          <a:xfrm>
            <a:off x="6781680" y="20574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781680" y="3124080"/>
            <a:ext cx="762120" cy="0"/>
          </a:xfrm>
          <a:prstGeom prst="line">
            <a:avLst/>
          </a:prstGeom>
          <a:ln w="76320">
            <a:solidFill>
              <a:srgbClr val="5015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6781680" y="4191120"/>
            <a:ext cx="762120" cy="0"/>
          </a:xfrm>
          <a:prstGeom prst="line">
            <a:avLst/>
          </a:prstGeom>
          <a:ln w="76320">
            <a:solidFill>
              <a:srgbClr val="63c9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6781680" y="5181480"/>
            <a:ext cx="76212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51814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5029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50292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51055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PCR is a technique that takes a specifi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sequence of DNA of small amounts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amplifies it to be used for further testin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PCR Targe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The targets in PCR are the sequences of D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on each end of the region of interest, whic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can be a complete gene or small sequ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umber of bases in the targets can va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.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. . . . Represents the middle DNA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Magnesium chloride: 0.5-2.5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Buffer: pH 8.3-8.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dNTPs: 20-200µ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Primers: 0.1-0.5µ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DNA Polymerase: 1-2.5 un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Target DNA: </a:t>
            </a:r>
            <a:r>
              <a:rPr b="1" lang="en-US" sz="2700" spc="-1" strike="noStrike">
                <a:solidFill>
                  <a:srgbClr val="993366"/>
                </a:solidFill>
                <a:latin typeface="Symbol"/>
                <a:ea typeface="Symbol"/>
              </a:rPr>
              <a:t></a:t>
            </a: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 1 µ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naturalization: 94°- 95°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er Annealing: 50°- 65°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sion of DNA: 72°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Cycles: 25-4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A primer for each target sequence on the e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of your DNA is needed.  This allows bo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strands to be copied simultaneously in bo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dir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. . . . . . .&g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lt;. . . . . . . . . .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The primers are added in excess so they wi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bind to the target DNA instead of the tw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strands binding back to each o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46160" y="249120"/>
            <a:ext cx="8547120" cy="1177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43000" y="175248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5bb"/>
                </a:solidFill>
                <a:latin typeface="Arial"/>
              </a:rPr>
              <a:t>The polymerase chain reaction (PCR) is a technique to amplify a piece of DNA very rapidly outside of a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Starting with a single molecule of DNA, 25 rounds or cycles of PCR will produce about 10 million identical DNA molecule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q stands for Thermus aquaticus, which is 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be found in 176°F hot springs in Yell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ne National Fo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q produces an enzyme called D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merase, that amplifies the DNA from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ers by the polymerase chain reaction,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esence of M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enaturing is the first step in PCR, in whi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the DNA strands are separated by heating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95°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Annealing is the process of allowing tw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sequences of DNA to form hydrogen bo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The annealing of the target sequences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primers is done by cooling the DNA to 55°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ymerization by a thermostable DNA polymerase at 72 degrees 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050" descr=""/>
          <p:cNvPicPr/>
          <p:nvPr/>
        </p:nvPicPr>
        <p:blipFill>
          <a:blip r:embed="rId1"/>
          <a:stretch/>
        </p:blipFill>
        <p:spPr>
          <a:xfrm>
            <a:off x="433440" y="378000"/>
            <a:ext cx="8021520" cy="115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1" descr=""/>
          <p:cNvPicPr/>
          <p:nvPr/>
        </p:nvPicPr>
        <p:blipFill>
          <a:blip r:embed="rId2"/>
          <a:stretch/>
        </p:blipFill>
        <p:spPr>
          <a:xfrm>
            <a:off x="5961240" y="2209680"/>
            <a:ext cx="2008080" cy="2532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2" descr=""/>
          <p:cNvPicPr/>
          <p:nvPr/>
        </p:nvPicPr>
        <p:blipFill>
          <a:blip r:embed="rId3"/>
          <a:stretch/>
        </p:blipFill>
        <p:spPr>
          <a:xfrm>
            <a:off x="1625760" y="2819520"/>
            <a:ext cx="812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Object 2053"/>
          <p:cNvGraphicFramePr/>
          <p:nvPr/>
        </p:nvGraphicFramePr>
        <p:xfrm>
          <a:off x="3792600" y="3095640"/>
          <a:ext cx="855720" cy="71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205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2600" y="3095640"/>
                    <a:ext cx="8557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054"/>
          <p:cNvSpPr/>
          <p:nvPr/>
        </p:nvSpPr>
        <p:spPr>
          <a:xfrm>
            <a:off x="5773320" y="49528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55"/>
          <p:cNvSpPr/>
          <p:nvPr/>
        </p:nvSpPr>
        <p:spPr>
          <a:xfrm>
            <a:off x="1486800" y="48769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CR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pcr-tubes.png"/>
          <p:cNvPicPr/>
          <p:nvPr/>
        </p:nvPicPr>
        <p:blipFill>
          <a:blip r:embed="rId6"/>
          <a:stretch/>
        </p:blipFill>
        <p:spPr>
          <a:xfrm>
            <a:off x="990720" y="141912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pcr-machine"/>
          <p:cNvPicPr/>
          <p:nvPr/>
        </p:nvPicPr>
        <p:blipFill>
          <a:blip r:embed="rId1"/>
          <a:stretch/>
        </p:blipFill>
        <p:spPr>
          <a:xfrm>
            <a:off x="1533600" y="704880"/>
            <a:ext cx="5095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3"/>
          <p:cNvSpPr/>
          <p:nvPr/>
        </p:nvSpPr>
        <p:spPr>
          <a:xfrm>
            <a:off x="3019320" y="990720"/>
            <a:ext cx="27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nature (heat to 95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019320" y="2498760"/>
            <a:ext cx="33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ower temperature to 56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 Anneal with pr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3019320" y="4495680"/>
            <a:ext cx="33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crease temperature to 72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 DNA polymerase + d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048"/>
          <p:cNvGraphicFramePr/>
          <p:nvPr/>
        </p:nvGraphicFramePr>
        <p:xfrm>
          <a:off x="1852560" y="380880"/>
          <a:ext cx="5173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380880"/>
                    <a:ext cx="5173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2049"/>
          <p:cNvGraphicFramePr/>
          <p:nvPr/>
        </p:nvGraphicFramePr>
        <p:xfrm>
          <a:off x="1852560" y="1600200"/>
          <a:ext cx="517356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2560" y="1600200"/>
                    <a:ext cx="5173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2050"/>
          <p:cNvGraphicFramePr/>
          <p:nvPr/>
        </p:nvGraphicFramePr>
        <p:xfrm>
          <a:off x="1852560" y="3352680"/>
          <a:ext cx="51656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2560" y="3352680"/>
                    <a:ext cx="5165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2051"/>
          <p:cNvGraphicFramePr/>
          <p:nvPr/>
        </p:nvGraphicFramePr>
        <p:xfrm>
          <a:off x="1852560" y="5629320"/>
          <a:ext cx="519120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Object 20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2560" y="5629320"/>
                    <a:ext cx="5191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1024"/>
          <p:cNvGraphicFramePr/>
          <p:nvPr/>
        </p:nvGraphicFramePr>
        <p:xfrm>
          <a:off x="2438280" y="2374920"/>
          <a:ext cx="3183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74920"/>
                    <a:ext cx="3183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025"/>
          <p:cNvGraphicFramePr/>
          <p:nvPr/>
        </p:nvGraphicFramePr>
        <p:xfrm>
          <a:off x="6637320" y="3276720"/>
          <a:ext cx="101592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37320" y="3276720"/>
                    <a:ext cx="1015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26"/>
          <p:cNvGraphicFramePr/>
          <p:nvPr/>
        </p:nvGraphicFramePr>
        <p:xfrm>
          <a:off x="3386160" y="4876920"/>
          <a:ext cx="2031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6160" y="4876920"/>
                    <a:ext cx="2031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27"/>
          <p:cNvGraphicFramePr/>
          <p:nvPr/>
        </p:nvGraphicFramePr>
        <p:xfrm>
          <a:off x="812880" y="838080"/>
          <a:ext cx="89532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2880" y="838080"/>
                    <a:ext cx="895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028"/>
          <p:cNvGraphicFramePr/>
          <p:nvPr/>
        </p:nvGraphicFramePr>
        <p:xfrm>
          <a:off x="812880" y="228600"/>
          <a:ext cx="21002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2880" y="228600"/>
                    <a:ext cx="2100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029"/>
          <p:cNvGraphicFramePr/>
          <p:nvPr/>
        </p:nvGraphicFramePr>
        <p:xfrm>
          <a:off x="744480" y="2057400"/>
          <a:ext cx="1422360" cy="13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4480" y="2057400"/>
                    <a:ext cx="14223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030"/>
          <p:cNvGraphicFramePr/>
          <p:nvPr/>
        </p:nvGraphicFramePr>
        <p:xfrm>
          <a:off x="5824440" y="523800"/>
          <a:ext cx="1881360" cy="275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4440" y="523800"/>
                    <a:ext cx="188136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031"/>
          <p:cNvGraphicFramePr/>
          <p:nvPr/>
        </p:nvGraphicFramePr>
        <p:xfrm>
          <a:off x="5486400" y="4172040"/>
          <a:ext cx="2776680" cy="23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4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6400" y="4172040"/>
                    <a:ext cx="2776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032"/>
          <p:cNvGraphicFramePr/>
          <p:nvPr/>
        </p:nvGraphicFramePr>
        <p:xfrm>
          <a:off x="68400" y="4923000"/>
          <a:ext cx="338616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6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400" y="4923000"/>
                    <a:ext cx="33861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pcr"/>
          <p:cNvPicPr/>
          <p:nvPr/>
        </p:nvPicPr>
        <p:blipFill>
          <a:blip r:embed="rId2"/>
          <a:stretch/>
        </p:blipFill>
        <p:spPr>
          <a:xfrm>
            <a:off x="1878120" y="1981080"/>
            <a:ext cx="660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pcr2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was invented in 1983 by Dr. Kary Mullis, for which he received the Nobel Prize in Chemistry in 1993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pcr3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pcr4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p5"/>
          <p:cNvPicPr/>
          <p:nvPr/>
        </p:nvPicPr>
        <p:blipFill>
          <a:blip r:embed="rId2"/>
          <a:stretch/>
        </p:blipFill>
        <p:spPr>
          <a:xfrm>
            <a:off x="1782720" y="1981080"/>
            <a:ext cx="679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PCR steps"/>
          <p:cNvPicPr/>
          <p:nvPr/>
        </p:nvPicPr>
        <p:blipFill>
          <a:blip r:embed="rId1"/>
          <a:stretch/>
        </p:blipFill>
        <p:spPr>
          <a:xfrm>
            <a:off x="1476360" y="581040"/>
            <a:ext cx="568656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http://users.ugent.be/~avierstr/principles/pcranimatie.gif"/>
          <p:cNvPicPr/>
          <p:nvPr/>
        </p:nvPicPr>
        <p:blipFill>
          <a:blip r:embed="rId1"/>
          <a:stretch/>
        </p:blipFill>
        <p:spPr>
          <a:xfrm>
            <a:off x="1676520" y="155268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electrophoresis"/>
          <p:cNvPicPr/>
          <p:nvPr/>
        </p:nvPicPr>
        <p:blipFill>
          <a:blip r:embed="rId1"/>
          <a:stretch/>
        </p:blipFill>
        <p:spPr>
          <a:xfrm>
            <a:off x="1905120" y="3390840"/>
            <a:ext cx="4495680" cy="2781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Gel electrophoresis apparatus.JPG"/>
          <p:cNvPicPr/>
          <p:nvPr/>
        </p:nvPicPr>
        <p:blipFill>
          <a:blip r:embed="rId2"/>
          <a:stretch/>
        </p:blipFill>
        <p:spPr>
          <a:xfrm>
            <a:off x="1981080" y="295200"/>
            <a:ext cx="4114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6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029440" cy="1152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ification of organis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otyp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olecular archaeolog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gene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tion dete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ancer 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etection of pathoge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NA fingerprin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rug discove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match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engineering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re-natal 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878120" y="450720"/>
            <a:ext cx="6815160" cy="1311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ensic medic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implantation Genetic Diagnosis (PG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cheolog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ernity tes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CR can be used to amplify DNA from a small amount of cells (about 1000 cell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mplified DNA from cells can be used in DNA fingerprinting analysis to determine who was at the crime sce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957240" y="755640"/>
            <a:ext cx="842472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isolated from blood at a crime scene and amplified by PC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mplified DNA is digested with restriction enzymes and resolved on an agarose 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thern blot analysis is performed to give a DNA fingerpr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Lucida Sans Unicode"/>
              </a:rPr>
              <a:t>P: POLYMERA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015bb"/>
                </a:solidFill>
                <a:latin typeface="Lucida Sans Unicode"/>
              </a:rPr>
              <a:t>C: CHAI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a1f28"/>
                </a:solidFill>
                <a:latin typeface="Lucida Sans Unicode"/>
              </a:rPr>
              <a:t>R: REA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0"/>
          <p:cNvGraphicFramePr/>
          <p:nvPr/>
        </p:nvGraphicFramePr>
        <p:xfrm>
          <a:off x="677880" y="1600200"/>
          <a:ext cx="34034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600200"/>
                    <a:ext cx="34034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"/>
          <p:cNvGraphicFramePr/>
          <p:nvPr/>
        </p:nvGraphicFramePr>
        <p:xfrm>
          <a:off x="5386320" y="1676520"/>
          <a:ext cx="30528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6320" y="1676520"/>
                    <a:ext cx="30528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2"/>
          <p:cNvGraphicFramePr/>
          <p:nvPr/>
        </p:nvGraphicFramePr>
        <p:xfrm>
          <a:off x="2438280" y="3276720"/>
          <a:ext cx="4335480" cy="15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276720"/>
                    <a:ext cx="433548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3"/>
          <p:cNvGraphicFramePr/>
          <p:nvPr/>
        </p:nvGraphicFramePr>
        <p:xfrm>
          <a:off x="4267080" y="1905120"/>
          <a:ext cx="881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905120"/>
                    <a:ext cx="88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4"/>
          <p:cNvGraphicFramePr/>
          <p:nvPr/>
        </p:nvGraphicFramePr>
        <p:xfrm>
          <a:off x="2776680" y="5083200"/>
          <a:ext cx="3590640" cy="16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6680" y="5083200"/>
                    <a:ext cx="359064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7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OLECULAR</a:t>
            </a: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AU" sz="5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DENTIFIC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4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1024"/>
          <p:cNvGraphicFramePr/>
          <p:nvPr/>
        </p:nvGraphicFramePr>
        <p:xfrm>
          <a:off x="406440" y="1600200"/>
          <a:ext cx="13539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1600200"/>
                    <a:ext cx="13539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025"/>
          <p:cNvGraphicFramePr/>
          <p:nvPr/>
        </p:nvGraphicFramePr>
        <p:xfrm>
          <a:off x="3929040" y="2362320"/>
          <a:ext cx="1638360" cy="79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6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2362320"/>
                    <a:ext cx="1638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1026"/>
          <p:cNvGraphicFramePr/>
          <p:nvPr/>
        </p:nvGraphicFramePr>
        <p:xfrm>
          <a:off x="3929040" y="4987800"/>
          <a:ext cx="1625760" cy="72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29040" y="4987800"/>
                    <a:ext cx="1625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027"/>
          <p:cNvGraphicFramePr/>
          <p:nvPr/>
        </p:nvGraphicFramePr>
        <p:xfrm>
          <a:off x="2844720" y="3124080"/>
          <a:ext cx="18972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0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4720" y="3124080"/>
                    <a:ext cx="1897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28"/>
          <p:cNvGraphicFramePr/>
          <p:nvPr/>
        </p:nvGraphicFramePr>
        <p:xfrm>
          <a:off x="0" y="3276720"/>
          <a:ext cx="2979720" cy="14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2" name="Object 10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3276720"/>
                    <a:ext cx="29797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029"/>
          <p:cNvGraphicFramePr/>
          <p:nvPr/>
        </p:nvGraphicFramePr>
        <p:xfrm>
          <a:off x="5557680" y="4952880"/>
          <a:ext cx="357984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4" name="Object 10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57680" y="4952880"/>
                    <a:ext cx="3579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1030"/>
          <p:cNvGraphicFramePr/>
          <p:nvPr/>
        </p:nvGraphicFramePr>
        <p:xfrm>
          <a:off x="5557680" y="2286000"/>
          <a:ext cx="3579840" cy="884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6" name="Object 10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57680" y="2286000"/>
                    <a:ext cx="35798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2"/>
          <p:cNvSpPr/>
          <p:nvPr/>
        </p:nvSpPr>
        <p:spPr>
          <a:xfrm>
            <a:off x="10440" y="6048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38120" y="378000"/>
            <a:ext cx="80294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0"/>
          <p:cNvGraphicFramePr/>
          <p:nvPr/>
        </p:nvGraphicFramePr>
        <p:xfrm>
          <a:off x="744480" y="1432080"/>
          <a:ext cx="7669440" cy="44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4480" y="1432080"/>
                    <a:ext cx="766944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10"/>
          <p:cNvSpPr/>
          <p:nvPr/>
        </p:nvSpPr>
        <p:spPr>
          <a:xfrm>
            <a:off x="111240" y="6019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Kau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10440" y="6048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0"/>
          <p:cNvGraphicFramePr/>
          <p:nvPr/>
        </p:nvGraphicFramePr>
        <p:xfrm>
          <a:off x="812880" y="1371600"/>
          <a:ext cx="766764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371600"/>
                    <a:ext cx="76676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6"/>
          <p:cNvSpPr/>
          <p:nvPr/>
        </p:nvSpPr>
        <p:spPr>
          <a:xfrm>
            <a:off x="111240" y="609588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Kau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353960" y="2438280"/>
            <a:ext cx="74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polymerase” because the only enzyme used in this reaction is DNA polymer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22360" y="2286000"/>
            <a:ext cx="718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chain” because the products of the first reaction become substrates of the following one, and so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890640" y="92160"/>
            <a:ext cx="7991280" cy="1309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476280" y="1676520"/>
            <a:ext cx="81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1) Target DNA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contains the sequence to be amplified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4920" y="2286000"/>
            <a:ext cx="91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2) Pair of Primer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oligonucleotides that define the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o be amp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488880" y="32004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3) dNTP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deoxynucleotidetriphosphates: DNA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57200" y="39704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4) Thermostable DNA Polymerase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enzyme that catalyzes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57200" y="48848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5) Mg</a:t>
            </a:r>
            <a:r>
              <a:rPr b="1" lang="en-AU" sz="2400" spc="-1" strike="noStrike" baseline="30000">
                <a:solidFill>
                  <a:srgbClr val="3333cc"/>
                </a:solidFill>
                <a:latin typeface="Arial"/>
              </a:rPr>
              <a:t>++</a:t>
            </a: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 ion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– cofactor of the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57200" y="5349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6) Buffer solution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– maintains pH and ionic strength of the reaction solution suitable for the activity of the enzy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DNA Sug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cc"/>
                </a:solidFill>
                <a:latin typeface="Lucida Sans Unicode"/>
              </a:rPr>
              <a:t>Deoxyribonucleic aci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DNA has four nitrogen ba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are purines ( 2 ringed base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enine (</a:t>
            </a:r>
            <a:r>
              <a:rPr b="0" lang="en-US" sz="2300" spc="-1" strike="noStrike">
                <a:solidFill>
                  <a:srgbClr val="2da2bf"/>
                </a:solidFill>
                <a:latin typeface="Lucida Sans Unicode"/>
              </a:rPr>
              <a:t> 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), Guanine (</a:t>
            </a:r>
            <a:r>
              <a:rPr b="0" lang="en-US" sz="2300" spc="-1" strike="noStrike">
                <a:solidFill>
                  <a:srgbClr val="da1f28"/>
                </a:solidFill>
                <a:latin typeface="Lucida Sans Unicode"/>
              </a:rPr>
              <a:t> G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are pyrimidines ( 1 ringed base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ytosine (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C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), Thymine (</a:t>
            </a:r>
            <a:r>
              <a:rPr b="0" lang="en-US" sz="2300" spc="-1" strike="noStrike">
                <a:solidFill>
                  <a:srgbClr val="ff0066"/>
                </a:solidFill>
                <a:latin typeface="Lucida Sans Unicode"/>
              </a:rPr>
              <a:t> 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171e"/>
                </a:solidFill>
                <a:latin typeface="Lucida Sans Unicode"/>
              </a:rPr>
              <a:t>A purine always links with a pyrimidine base to maintain the structure of D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(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 binds to Thymine (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, with two hydrogen bonds between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anine ( 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 binds to Cytosine (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, with three hydrogen bonds between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4:35:53Z</dcterms:created>
  <dc:creator>iram</dc:creator>
  <dc:description/>
  <dc:language>en-US</dc:language>
  <cp:lastModifiedBy>Miss</cp:lastModifiedBy>
  <dcterms:modified xsi:type="dcterms:W3CDTF">2017-11-26T13:04:24Z</dcterms:modified>
  <cp:revision>73</cp:revision>
  <dc:subject/>
  <dc:title>Slide 1</dc:title>
</cp:coreProperties>
</file>