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7B01-EDB0-4E7C-B556-32B6B3E08287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5363-97C1-409C-A6AD-277503C8CD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5134-71FC-45FC-9075-0E57915F5D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D5B-442C-41AF-B8F7-35F34DB1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DA54-7B3C-4D5F-BE3B-B389C902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6B7-B95B-4F8D-B3DF-EEC2BED7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BA1-32C8-4E44-95C1-A4C202DE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5D72-3425-43CB-A3F8-34C973A3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B039-42F9-4555-845F-A8E0F5C9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C90-B4B4-4B37-8362-1E90628B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C3A-24BE-4AB1-B1FD-3D5568E4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FA08-19D5-46C4-AAEB-8E05F81D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9B1-2B29-4935-9692-27C8165F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ECC-7A6C-4BF3-A3B4-FDAD447F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684-3057-45B5-A31D-70C121D8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C692-0C73-4D0E-9360-617557EEE2F5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ksu.edu.sa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F599-BA7D-44B7-8DE9-31C563B027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63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125960" y="421020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1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and Function of Large Biological Molecu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F9BE-FC4A-40C9-93C5-90A18AFD3D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9186-9CF9-4A6A-806A-6FB0821A46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" descr=""/>
          <p:cNvPicPr/>
          <p:nvPr/>
        </p:nvPicPr>
        <p:blipFill>
          <a:blip r:embed="rId2"/>
          <a:stretch/>
        </p:blipFill>
        <p:spPr>
          <a:xfrm>
            <a:off x="7315200" y="1204920"/>
            <a:ext cx="1523880" cy="1476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58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" descr=""/>
          <p:cNvPicPr/>
          <p:nvPr/>
        </p:nvPicPr>
        <p:blipFill>
          <a:blip r:embed="rId2"/>
          <a:stretch/>
        </p:blipFill>
        <p:spPr>
          <a:xfrm>
            <a:off x="7272360" y="1276200"/>
            <a:ext cx="1719360" cy="1756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67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2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78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4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0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395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0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3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09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3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Content Placeholder 4" descr=""/>
          <p:cNvPicPr/>
          <p:nvPr/>
        </p:nvPicPr>
        <p:blipFill>
          <a:blip r:embed="rId1"/>
          <a:stretch/>
        </p:blipFill>
        <p:spPr>
          <a:xfrm>
            <a:off x="4087800" y="1398600"/>
            <a:ext cx="4889520" cy="3249720"/>
          </a:xfrm>
          <a:prstGeom prst="rect">
            <a:avLst/>
          </a:prstGeom>
          <a:ln w="0">
            <a:noFill/>
          </a:ln>
        </p:spPr>
      </p:pic>
      <p:sp>
        <p:nvSpPr>
          <p:cNvPr id="4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C16F-D811-462D-95A5-3AD82FA99D4D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2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8FD8-A0F1-40A4-B8C3-BBFAF9BEC3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671C-0D4F-439B-BDC1-90D2046879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80880" y="2727360"/>
            <a:ext cx="830592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King Saud Universit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9400" y="0"/>
            <a:ext cx="1614600" cy="1127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120" y="1362240"/>
            <a:ext cx="89154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mers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 synthesis and breakdown of polymer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sacchar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lassifications of Monosaccharid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saccharide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- Storage Polysacchar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- Structural Poly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A288-F382-4013-B692-4C32FC8D68D1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F8C0-F8D0-446B-BFBA-354EA82982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0435-30B9-4623-9895-695D330681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synthesis and breakdown of poly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880" y="960480"/>
            <a:ext cx="502920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533376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410080" y="1027080"/>
            <a:ext cx="3733920" cy="244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3429000" cy="2752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717120"/>
            <a:chOff x="1219320" y="3625920"/>
            <a:chExt cx="6858000" cy="71712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0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5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1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3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4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0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5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0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5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0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5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58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7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0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5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08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7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0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1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3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4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09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2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5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mohamed</cp:lastModifiedBy>
  <dcterms:modified xsi:type="dcterms:W3CDTF">2016-01-22T15:25:25Z</dcterms:modified>
  <cp:revision>625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